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13FC85-9480-46A0-9CB3-E93B2E5C2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320" cy="3674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3200" y="4654440"/>
            <a:ext cx="5389200" cy="440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31"/>
          </p:nvPr>
        </p:nvSpPr>
        <p:spPr>
          <a:xfrm>
            <a:off x="3814920" y="9307440"/>
            <a:ext cx="2918880" cy="490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4D542F1-8C55-4EF7-8CB1-8655E48908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7DB-CAA5-4BF2-9DA7-32BE8DCF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16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E57-8A59-436D-89F2-7D0A260D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16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16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1B9-3B86-4EF3-8798-F76E52D8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16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16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16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C74-D05F-4614-99DC-AE0910BE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3DE-A140-469B-950B-E4E094BE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F2E-C655-49E9-9953-7DC252A8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019-33E5-4A62-BE81-9D8C9E61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3DB-B60C-4CB5-B410-70138634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8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D68-4FA4-45FB-8230-CE6CB259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16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D12-4DC5-41FA-9F1F-DD54EF4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16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04A-C521-470E-936F-BF1338F7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16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577-6DCA-46F7-90C5-192147A1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040" cy="6857640"/>
            <a:chOff x="0" y="0"/>
            <a:chExt cx="8915040" cy="685764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4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0640" cy="6171840"/>
            </a:xfrm>
            <a:prstGeom prst="rect">
              <a:avLst/>
            </a:prstGeom>
            <a:solidFill>
              <a:schemeClr val="bg1"/>
            </a:solidFill>
            <a:ln w="762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Образец заголовка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4"/>
              </a:buBlip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зец текста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торой уровень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pl-PL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pl-PL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900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ADE67EB-E97A-4012-9BB7-DBED33AA0A9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6" descr=""/>
          <p:cNvPicPr/>
          <p:nvPr/>
        </p:nvPicPr>
        <p:blipFill>
          <a:blip r:embed="rId1"/>
          <a:stretch/>
        </p:blipFill>
        <p:spPr>
          <a:xfrm>
            <a:off x="0" y="1139760"/>
            <a:ext cx="6300360" cy="48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380880"/>
            <a:ext cx="7722720" cy="21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482400"/>
                </a:solidFill>
                <a:latin typeface="Times New Roman"/>
                <a:ea typeface="Arial"/>
              </a:rPr>
              <a:t>Работа с одаренными детьми.</a:t>
            </a:r>
            <a:br>
              <a:rPr sz="4000"/>
            </a:br>
            <a:r>
              <a:rPr b="0" i="1" lang="ru-RU" sz="4000" spc="-1" strike="noStrike">
                <a:solidFill>
                  <a:srgbClr val="482400"/>
                </a:solidFill>
                <a:latin typeface="Times New Roman"/>
                <a:ea typeface="Arial"/>
              </a:rPr>
              <a:t>Развитие одаренности через ансамбль барабанщиков «Марш».</a:t>
            </a:r>
            <a:endParaRPr b="0" lang="pl-PL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Объект 7" descr=""/>
          <p:cNvPicPr/>
          <p:nvPr/>
        </p:nvPicPr>
        <p:blipFill>
          <a:blip r:embed="rId2"/>
          <a:stretch/>
        </p:blipFill>
        <p:spPr>
          <a:xfrm>
            <a:off x="1714680" y="2500200"/>
            <a:ext cx="6513120" cy="3663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ldNum" idx="7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E339A0F-2EEC-4338-8BE5-7724F978F86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04640"/>
            <a:ext cx="777204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82400"/>
                </a:solidFill>
                <a:latin typeface="Times New Roman"/>
                <a:ea typeface="Arial"/>
              </a:rPr>
              <a:t>В сентябре 2019 года ансамбль пополнился второй подготовительной группой 3 а (кадетского класса) занимаются 6 мальчиков. </a:t>
            </a:r>
            <a:br>
              <a:rPr sz="3200"/>
            </a:br>
            <a:r>
              <a:rPr b="0" i="1" lang="ru-RU" sz="3200" spc="-1" strike="noStrike">
                <a:solidFill>
                  <a:srgbClr val="482400"/>
                </a:solidFill>
                <a:latin typeface="Times New Roman"/>
                <a:ea typeface="Arial"/>
              </a:rPr>
              <a:t>Классный руководитель Зан С. А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Объект 1" descr=""/>
          <p:cNvPicPr/>
          <p:nvPr/>
        </p:nvPicPr>
        <p:blipFill>
          <a:blip r:embed="rId1"/>
          <a:stretch/>
        </p:blipFill>
        <p:spPr>
          <a:xfrm>
            <a:off x="2987640" y="2936880"/>
            <a:ext cx="3671640" cy="3328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sldNum" idx="16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6936075-326E-4CB7-B650-368FA6EEE536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23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82400"/>
                </a:solidFill>
                <a:latin typeface="Times New Roman"/>
                <a:ea typeface="Arial"/>
              </a:rPr>
              <a:t>В сентябре 2020 года ансамбль пополнился третьей подготовительной группой 3 а (кадетского класса) занимаются 3 мальчика и 3 девочки.</a:t>
            </a:r>
            <a:br>
              <a:rPr sz="3200"/>
            </a:br>
            <a:r>
              <a:rPr b="0" i="1" lang="ru-RU" sz="3200" spc="-1" strike="noStrike">
                <a:solidFill>
                  <a:srgbClr val="482400"/>
                </a:solidFill>
                <a:latin typeface="Times New Roman"/>
                <a:ea typeface="Arial"/>
              </a:rPr>
              <a:t>Классный руководитель Бурмакина Т. Д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Объект 1" descr=""/>
          <p:cNvPicPr/>
          <p:nvPr/>
        </p:nvPicPr>
        <p:blipFill>
          <a:blip r:embed="rId1"/>
          <a:stretch/>
        </p:blipFill>
        <p:spPr>
          <a:xfrm>
            <a:off x="2771640" y="2849400"/>
            <a:ext cx="4238280" cy="3335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sldNum" idx="17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FF874D8-BF30-4DC0-8EA0-819807EE61FC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21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482400"/>
                </a:solidFill>
                <a:latin typeface="Times New Roman"/>
                <a:ea typeface="Arial"/>
              </a:rPr>
              <a:t>На сегодняшний день в ансамбле барабанщиков «Марш» занимается 21 человек. </a:t>
            </a:r>
            <a:br>
              <a:rPr sz="3600"/>
            </a:br>
            <a:r>
              <a:rPr b="0" i="1" lang="ru-RU" sz="3600" spc="-1" strike="noStrike">
                <a:solidFill>
                  <a:srgbClr val="482400"/>
                </a:solidFill>
                <a:latin typeface="Times New Roman"/>
                <a:ea typeface="Arial"/>
              </a:rPr>
              <a:t>Ансамбль состоит из трех групп. </a:t>
            </a:r>
            <a:endParaRPr b="0" lang="pl-P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708280"/>
            <a:ext cx="77720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1"/>
              </a:buBlip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. Основной состав - 9 человек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. 4 «а» кадетский класс – 6 человек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3"/>
              </a:buBlip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. 3 «а» кадетский класс – 6 человек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18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5A64425-D929-4B81-93C9-0B01023BA744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4"/>
          <a:stretch/>
        </p:blipFill>
        <p:spPr>
          <a:xfrm>
            <a:off x="2844720" y="5126040"/>
            <a:ext cx="4215960" cy="11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Первый год обучения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ятия проходят 2 раза в неделю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занятиях изучаем теорию музыки (длительности нот, паузы) и закрепляем эти знания на практике (индивидуально, ансамблем)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граем упражнения и этюды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19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C402934-0A52-4662-BCB0-41324CFACB5E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Второй год обучения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ятия проходят 2 раза в неделю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чинается работа над концертными произведениями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Этот материал мы разбираем индивидуально, затем группами собираем в единое целое. Группами – это отдельно малые барабаны, большие барабаны, тарелки (шумовые инструменты)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0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1682337-5249-40C6-9A56-17BA410A780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Третий и последующие года обучения…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ная форма работы ансамблевая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Комплекс упражнений (на исполнение ритмических рисунков требующих особой проработки), для изучения концертных произведений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21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21571AC-A908-4E94-9E48-FA6F42CB0A1E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44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482400"/>
                </a:solidFill>
                <a:latin typeface="Times New Roman"/>
                <a:ea typeface="Arial"/>
              </a:rPr>
              <a:t>Игра на барабанах способствует развитию подвижности пальцев, развитию ритмичности и координации движений рук, развивает интеллект, расслабляет, снимает напряжение, тренирует головной мозг.</a:t>
            </a:r>
            <a:endParaRPr b="0" lang="pl-P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Объект 4" descr=""/>
          <p:cNvPicPr/>
          <p:nvPr/>
        </p:nvPicPr>
        <p:blipFill>
          <a:blip r:embed="rId1"/>
          <a:stretch/>
        </p:blipFill>
        <p:spPr>
          <a:xfrm>
            <a:off x="2701800" y="4986360"/>
            <a:ext cx="4320720" cy="1223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sldNum" idx="22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7653926-F619-4088-B73E-6453B64BD5E4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Num" idx="23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CF2020D-7213-4C15-B74D-EE176A48FE13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Рисунок 5" descr=""/>
          <p:cNvPicPr/>
          <p:nvPr/>
        </p:nvPicPr>
        <p:blipFill>
          <a:blip r:embed="rId1"/>
          <a:stretch/>
        </p:blipFill>
        <p:spPr>
          <a:xfrm>
            <a:off x="971640" y="277920"/>
            <a:ext cx="3816000" cy="61401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2"/>
          <a:stretch/>
        </p:blipFill>
        <p:spPr>
          <a:xfrm>
            <a:off x="4932360" y="272880"/>
            <a:ext cx="398268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   </a:t>
            </a: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Февральский ветер 2018 год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Объект 1" descr=""/>
          <p:cNvPicPr/>
          <p:nvPr/>
        </p:nvPicPr>
        <p:blipFill>
          <a:blip r:embed="rId1"/>
          <a:stretch/>
        </p:blipFill>
        <p:spPr>
          <a:xfrm>
            <a:off x="1619280" y="1523880"/>
            <a:ext cx="6703560" cy="4700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sldNum" idx="24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3A08D55-6FF0-4689-BCEE-AA49D428B1AC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900000" y="271440"/>
            <a:ext cx="3887280" cy="6103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ldNum" idx="25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3E2B61B-900D-4AC4-A551-19ACFB945783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Рисунок 5" descr=""/>
          <p:cNvPicPr/>
          <p:nvPr/>
        </p:nvPicPr>
        <p:blipFill>
          <a:blip r:embed="rId2"/>
          <a:stretch/>
        </p:blipFill>
        <p:spPr>
          <a:xfrm>
            <a:off x="4932360" y="252360"/>
            <a:ext cx="3976200" cy="61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42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Одаренность – это уровень развития общих способностей, определяющий диапазон деятельности, в которых обучающийся может достичь больших успехов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1908000" y="4676760"/>
            <a:ext cx="5846400" cy="1655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sldNum" idx="8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031C573-6968-4A17-93CA-1E038AF2C46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Жемчужина города Братска 2019 год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Объект 4" descr=""/>
          <p:cNvPicPr/>
          <p:nvPr/>
        </p:nvPicPr>
        <p:blipFill>
          <a:blip r:embed="rId1"/>
          <a:stretch/>
        </p:blipFill>
        <p:spPr>
          <a:xfrm>
            <a:off x="1595520" y="1523880"/>
            <a:ext cx="6714720" cy="4816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sldNum" idx="26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30D50CD-816A-4885-87ED-2ADF58C3A33F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Объект 4" descr=""/>
          <p:cNvPicPr/>
          <p:nvPr/>
        </p:nvPicPr>
        <p:blipFill>
          <a:blip r:embed="rId1"/>
          <a:stretch/>
        </p:blipFill>
        <p:spPr>
          <a:xfrm>
            <a:off x="2838600" y="328680"/>
            <a:ext cx="4171680" cy="6051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ldNum" idx="27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9FCBEB2-F60E-4852-B3EE-516D53759122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Объект 4" descr=""/>
          <p:cNvPicPr/>
          <p:nvPr/>
        </p:nvPicPr>
        <p:blipFill>
          <a:blip r:embed="rId1"/>
          <a:stretch/>
        </p:blipFill>
        <p:spPr>
          <a:xfrm>
            <a:off x="971640" y="268200"/>
            <a:ext cx="3744720" cy="6105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ldNum" idx="28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8BC159D-20E6-4EB2-8DBE-5D3D6B4162AD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Рисунок 1" descr=""/>
          <p:cNvPicPr/>
          <p:nvPr/>
        </p:nvPicPr>
        <p:blipFill>
          <a:blip r:embed="rId2"/>
          <a:stretch/>
        </p:blipFill>
        <p:spPr>
          <a:xfrm>
            <a:off x="4859280" y="295200"/>
            <a:ext cx="3995280" cy="60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333360"/>
            <a:ext cx="7772040" cy="60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витию одаренности, способностей, способствуют высокие познавательные интересы родителей. Поддержка родителями своего ребенка и система работы по развитию его способностей.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ятия в ансамбле воспитывают такие личностные качества: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Эмоциональная отзывчивость в жизни;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дежность, ответственность за коллективную деятельность;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ство сопричастности к творческой деятельности.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29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B4BDD64-AB36-4F71-A543-D95E6CCCDF5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Ярким примером развития способностей является: 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3840" y="18493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олубович Никита. Выпускник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школы №16 2018 года. 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имался в инструментальном 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нсамбле с 7 класса по 11 класс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2013 – 2018 год). Служба. 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 декабря 2018 по 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декабрь 2019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pl-PL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30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F7CB3FF-258E-4201-8F0E-154F96434853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4" descr=""/>
          <p:cNvPicPr/>
          <p:nvPr/>
        </p:nvPicPr>
        <p:blipFill>
          <a:blip r:embed="rId1"/>
          <a:stretch/>
        </p:blipFill>
        <p:spPr>
          <a:xfrm>
            <a:off x="5364000" y="1536840"/>
            <a:ext cx="3526920" cy="48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В</a:t>
            </a:r>
            <a:r>
              <a:rPr b="0" i="1" lang="en-US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.</a:t>
            </a: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 А. Сухомлинский отмечал: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66C1D20-B646-4725-9E50-98EABE6D6BE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«Без музыкального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оспитания невозможно 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ноценное воспитание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бенка». 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5570640" y="1752480"/>
            <a:ext cx="31968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 u="sng">
                <a:solidFill>
                  <a:srgbClr val="482400"/>
                </a:solidFill>
                <a:uFillTx/>
                <a:latin typeface="Times New Roman"/>
                <a:ea typeface="Arial"/>
              </a:rPr>
              <a:t>Воспитательный компонент</a:t>
            </a:r>
            <a:r>
              <a:rPr b="0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, как обязательный компонент ФГОС общего образования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В деятельности школы воспитательная компонента должна являться неотъемлемой частью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10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7A51199-4F13-47B8-809A-462EEA951AE1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5800" cy="61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482400"/>
                </a:solidFill>
                <a:latin typeface="Times New Roman"/>
                <a:ea typeface="Arial"/>
              </a:rPr>
              <a:t>Во внеурочной деятельности воспитательный компонент ориентирует учащихся на ценности гражданского общества, общечеловеческие нравственные приоритеты, гармонизацию взаимоотношений с окружающим социумом, природой и самим собой. </a:t>
            </a:r>
            <a:endParaRPr b="0" lang="pl-PL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11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0102B67-A171-459E-BD7A-3083535DADFD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3 типа музыкальных способностей у детей: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Чувство рит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умение не только слышать и воспроизводить ритм, но и пропускать его через себя;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Музыкально-слуховые представл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умение слышать и запоминать мелодию, воспроизвести её голосом или с помощью инструмента.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Ладовое чувст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способность воспринимать музыку, эмоционально реагировать. Ладовое чувство предполагает понимание настроения, выраженное в музыкальном произведении, ощущение высоты звуков, их различие и порядок.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12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E6FBE57-409F-4578-BDEA-19C75C54014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39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В сентябре 2015 года из учащихся 5 а (кадетского класса) был набран первый состав ансамбля барабанщиков «Марш». Шесть мальчиков. 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2301840" y="4797360"/>
            <a:ext cx="5301720" cy="1294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sldNum" idx="13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5AC01B7-060C-4260-95CB-81A90E31FE1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476280"/>
            <a:ext cx="7772040" cy="45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В сентябре 2016 года так же из учащихся 5 а (кадетского класса) был набран второй состав ансамбля барабанщиков «Марш». Пять мальчиков. А через полгода состав пополнили три девочки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Объект 6" descr=""/>
          <p:cNvPicPr/>
          <p:nvPr/>
        </p:nvPicPr>
        <p:blipFill>
          <a:blip r:embed="rId1"/>
          <a:stretch/>
        </p:blipFill>
        <p:spPr>
          <a:xfrm>
            <a:off x="3009960" y="5300640"/>
            <a:ext cx="3885840" cy="864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sldNum" idx="14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E20CEC4-EA89-471C-A74D-17401E89CD60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Объект 4" descr=""/>
          <p:cNvPicPr/>
          <p:nvPr/>
        </p:nvPicPr>
        <p:blipFill>
          <a:blip r:embed="rId1"/>
          <a:stretch/>
        </p:blipFill>
        <p:spPr>
          <a:xfrm>
            <a:off x="914400" y="285840"/>
            <a:ext cx="7967160" cy="6081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ldNum" idx="15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2126FEF-1C16-4D23-AECE-E05CD8854A3F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Шаблон оформления «Судовой журнал»">
  <a:themeElements>
    <a:clrScheme name="Шаблон оформления «Судовой журнал» 2">
      <a:dk1>
        <a:srgbClr val="000000"/>
      </a:dk1>
      <a:lt1>
        <a:srgbClr val="ffffff"/>
      </a:lt1>
      <a:dk2>
        <a:srgbClr val="482400"/>
      </a:dk2>
      <a:lt2>
        <a:srgbClr val="808080"/>
      </a:lt2>
      <a:accent1>
        <a:srgbClr val="dfd6c3"/>
      </a:accent1>
      <a:accent2>
        <a:srgbClr val="d69b80"/>
      </a:accent2>
      <a:accent3>
        <a:srgbClr val="ffffff"/>
      </a:accent3>
      <a:accent4>
        <a:srgbClr val="000000"/>
      </a:accent4>
      <a:accent5>
        <a:srgbClr val="ece8de"/>
      </a:accent5>
      <a:accent6>
        <a:srgbClr val="c28c73"/>
      </a:accent6>
      <a:hlink>
        <a:srgbClr val="caa96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82400"/>
      </a:dk2>
      <a:lt2>
        <a:srgbClr val="808080"/>
      </a:lt2>
      <a:accent1>
        <a:srgbClr val="dfd6c3"/>
      </a:accent1>
      <a:accent2>
        <a:srgbClr val="d69b80"/>
      </a:accent2>
      <a:accent3>
        <a:srgbClr val="ffffff"/>
      </a:accent3>
      <a:accent4>
        <a:srgbClr val="000000"/>
      </a:accent4>
      <a:accent5>
        <a:srgbClr val="ece8de"/>
      </a:accent5>
      <a:accent6>
        <a:srgbClr val="c28c73"/>
      </a:accent6>
      <a:hlink>
        <a:srgbClr val="caa96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Шаблон оформления «Судовой журнал»</Template>
  <TotalTime>557</TotalTime>
  <Application>LibreOffice/7.4.7.2$Linux_X86_64 LibreOffice_project/40$Build-2</Application>
  <AppVersion>15.0000</AppVersion>
  <Paragraphs>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0:06:22Z</dcterms:created>
  <dc:creator>инна</dc:creator>
  <dc:description/>
  <dc:language>en-US</dc:language>
  <cp:lastModifiedBy>Пользователь Gigabyte</cp:lastModifiedBy>
  <dcterms:modified xsi:type="dcterms:W3CDTF">2023-02-19T12:55:57Z</dcterms:modified>
  <cp:revision>8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4</vt:r8>
  </property>
  <property fmtid="{D5CDD505-2E9C-101B-9397-08002B2CF9AE}" pid="5" name="_TemplateID">
    <vt:lpwstr>TC010690171049</vt:lpwstr>
  </property>
</Properties>
</file>