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735763" cy="9799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pl-PL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E3B8BFF-5B88-4ACD-BA0C-C48B7E5F1D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320" cy="367488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73200" y="4654440"/>
            <a:ext cx="5389200" cy="4409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Num" idx="31"/>
          </p:nvPr>
        </p:nvSpPr>
        <p:spPr>
          <a:xfrm>
            <a:off x="3814920" y="9307440"/>
            <a:ext cx="2918880" cy="4903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D83415B9-98B3-44CB-9264-4C180B7B8B8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1253-A85F-412F-BB8F-98E21B1C9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01680"/>
            <a:ext cx="777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DCE7-EB93-4F8A-B081-B89D2BDF0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016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49360" y="39016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A7D9-8998-47BC-B362-E29334DF8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94680" y="175248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22320" y="175248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0168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94680" y="390168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22320" y="390168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C7F1-B5EA-4688-8D3C-DC5CD5D0A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B11E-E116-4330-81FD-10D66C18A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9A99-A671-494A-8CBB-146E2193C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40C3-1D49-490A-AB8A-9F95129E6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2F16-38F0-4E21-8759-4A220234E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680" y="380880"/>
            <a:ext cx="777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F458-4C2C-4603-9B3E-73F7D4338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016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A601-7763-45CE-B30A-AFC0474A0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49360" y="39016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10C2-AD23-4BF7-B33A-E5C59A56C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01680"/>
            <a:ext cx="777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CE21-7915-44E6-9AFE-D6C41687A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"/>
          <p:cNvGrpSpPr/>
          <p:nvPr/>
        </p:nvGrpSpPr>
        <p:grpSpPr>
          <a:xfrm>
            <a:off x="0" y="0"/>
            <a:ext cx="8915040" cy="6857640"/>
            <a:chOff x="0" y="0"/>
            <a:chExt cx="8915040" cy="6857640"/>
          </a:xfrm>
        </p:grpSpPr>
        <p:pic>
          <p:nvPicPr>
            <p:cNvPr id="1" name="Picture 2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440" cy="68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Rectangle 3"/>
            <p:cNvSpPr/>
            <p:nvPr/>
          </p:nvSpPr>
          <p:spPr>
            <a:xfrm>
              <a:off x="914400" y="228600"/>
              <a:ext cx="8000640" cy="6171840"/>
            </a:xfrm>
            <a:prstGeom prst="rect">
              <a:avLst/>
            </a:prstGeom>
            <a:solidFill>
              <a:schemeClr val="bg1"/>
            </a:solidFill>
            <a:ln w="762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ru-RU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482400"/>
                </a:solidFill>
                <a:latin typeface="Times New Roman"/>
                <a:ea typeface="Arial"/>
              </a:rPr>
              <a:t>Образец заголовка</a:t>
            </a:r>
            <a:endParaRPr b="0" lang="pl-P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680" y="175248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SzPct val="100000"/>
              <a:buBlip>
                <a:blip r:embed="rId4"/>
              </a:buBlip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Образец текста</a:t>
            </a:r>
            <a:endParaRPr b="0" lang="pl-PL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Второй уровень</a:t>
            </a:r>
            <a:endParaRPr b="0" lang="pl-PL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Третий уровень</a:t>
            </a:r>
            <a:endParaRPr b="0" lang="pl-PL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Четвертый уровень</a:t>
            </a:r>
            <a:endParaRPr b="0" lang="pl-PL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Пятый уровень</a:t>
            </a:r>
            <a:endParaRPr b="0" lang="pl-PL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429000" y="640080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F8E666A7-8816-46D3-B205-30B815F3B725}" type="slidenum">
              <a:rPr b="0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6" descr=""/>
          <p:cNvPicPr/>
          <p:nvPr/>
        </p:nvPicPr>
        <p:blipFill>
          <a:blip r:embed="rId1"/>
          <a:stretch/>
        </p:blipFill>
        <p:spPr>
          <a:xfrm>
            <a:off x="0" y="1139760"/>
            <a:ext cx="6300360" cy="48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16000" y="380880"/>
            <a:ext cx="7722720" cy="21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ru-RU" sz="4000" spc="-1" strike="noStrike">
                <a:solidFill>
                  <a:srgbClr val="482400"/>
                </a:solidFill>
                <a:latin typeface="Times New Roman"/>
                <a:ea typeface="Arial"/>
              </a:rPr>
              <a:t>Работа с одаренными детьми.</a:t>
            </a:r>
            <a:br>
              <a:rPr sz="4000"/>
            </a:br>
            <a:r>
              <a:rPr b="0" i="1" lang="ru-RU" sz="4000" spc="-1" strike="noStrike">
                <a:solidFill>
                  <a:srgbClr val="482400"/>
                </a:solidFill>
                <a:latin typeface="Times New Roman"/>
                <a:ea typeface="Arial"/>
              </a:rPr>
              <a:t>Развитие одаренности через ансамбль барабанщиков «Марш».</a:t>
            </a:r>
            <a:endParaRPr b="0" lang="pl-PL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Объект 7" descr=""/>
          <p:cNvPicPr/>
          <p:nvPr/>
        </p:nvPicPr>
        <p:blipFill>
          <a:blip r:embed="rId2"/>
          <a:stretch/>
        </p:blipFill>
        <p:spPr>
          <a:xfrm>
            <a:off x="1714680" y="2500200"/>
            <a:ext cx="6513120" cy="36637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2"/>
          <p:cNvSpPr>
            <a:spLocks noGrp="1"/>
          </p:cNvSpPr>
          <p:nvPr>
            <p:ph type="sldNum" idx="7"/>
          </p:nvPr>
        </p:nvSpPr>
        <p:spPr>
          <a:xfrm>
            <a:off x="7010280" y="640080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193D850E-D698-43D5-8391-1CE30F4D911C}" type="slidenum">
              <a:rPr b="0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404640"/>
            <a:ext cx="7772040" cy="24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482400"/>
                </a:solidFill>
                <a:latin typeface="Times New Roman"/>
                <a:ea typeface="Arial"/>
              </a:rPr>
              <a:t>В сентябре 2019 года ансамбль пополнился второй подготовительной группой 3 а (кадетского класса) занимаются 6 мальчиков. </a:t>
            </a:r>
            <a:br>
              <a:rPr sz="3200"/>
            </a:br>
            <a:r>
              <a:rPr b="0" i="1" lang="ru-RU" sz="3200" spc="-1" strike="noStrike">
                <a:solidFill>
                  <a:srgbClr val="482400"/>
                </a:solidFill>
                <a:latin typeface="Times New Roman"/>
                <a:ea typeface="Arial"/>
              </a:rPr>
              <a:t>Классный руководитель Зан С. А.</a:t>
            </a:r>
            <a:endParaRPr b="0" lang="pl-P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Объект 1" descr=""/>
          <p:cNvPicPr/>
          <p:nvPr/>
        </p:nvPicPr>
        <p:blipFill>
          <a:blip r:embed="rId1"/>
          <a:stretch/>
        </p:blipFill>
        <p:spPr>
          <a:xfrm>
            <a:off x="2987640" y="2936880"/>
            <a:ext cx="3671640" cy="332856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2"/>
          <p:cNvSpPr>
            <a:spLocks noGrp="1"/>
          </p:cNvSpPr>
          <p:nvPr>
            <p:ph type="sldNum" idx="16"/>
          </p:nvPr>
        </p:nvSpPr>
        <p:spPr>
          <a:xfrm>
            <a:off x="7010280" y="640080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091FE02D-D361-4F33-9D8D-074D3A54C099}" type="slidenum">
              <a:rPr b="0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040" cy="23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482400"/>
                </a:solidFill>
                <a:latin typeface="Times New Roman"/>
                <a:ea typeface="Arial"/>
              </a:rPr>
              <a:t>В сентябре 2020 года ансамбль пополнился третьей подготовительной группой 3 а (кадетского класса) занимаются 3 мальчика и 3 девочки.</a:t>
            </a:r>
            <a:br>
              <a:rPr sz="3200"/>
            </a:br>
            <a:r>
              <a:rPr b="0" i="1" lang="ru-RU" sz="3200" spc="-1" strike="noStrike">
                <a:solidFill>
                  <a:srgbClr val="482400"/>
                </a:solidFill>
                <a:latin typeface="Times New Roman"/>
                <a:ea typeface="Arial"/>
              </a:rPr>
              <a:t>Классный руководитель Бурмакина Т. Д.</a:t>
            </a:r>
            <a:endParaRPr b="0" lang="pl-P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Объект 1" descr=""/>
          <p:cNvPicPr/>
          <p:nvPr/>
        </p:nvPicPr>
        <p:blipFill>
          <a:blip r:embed="rId1"/>
          <a:stretch/>
        </p:blipFill>
        <p:spPr>
          <a:xfrm>
            <a:off x="2771640" y="2849400"/>
            <a:ext cx="4238280" cy="33350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2"/>
          <p:cNvSpPr>
            <a:spLocks noGrp="1"/>
          </p:cNvSpPr>
          <p:nvPr>
            <p:ph type="sldNum" idx="17"/>
          </p:nvPr>
        </p:nvSpPr>
        <p:spPr>
          <a:xfrm>
            <a:off x="7010280" y="640080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8CA1C8BA-B3E8-4430-A817-9A0BE70EC39A}" type="slidenum">
              <a:rPr b="0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040" cy="216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ru-RU" sz="3600" spc="-1" strike="noStrike">
                <a:solidFill>
                  <a:srgbClr val="482400"/>
                </a:solidFill>
                <a:latin typeface="Times New Roman"/>
                <a:ea typeface="Arial"/>
              </a:rPr>
              <a:t>На сегодняшний день в ансамбле барабанщиков «Марш» занимается 21 человек. </a:t>
            </a:r>
            <a:br>
              <a:rPr sz="3600"/>
            </a:br>
            <a:r>
              <a:rPr b="0" i="1" lang="ru-RU" sz="3600" spc="-1" strike="noStrike">
                <a:solidFill>
                  <a:srgbClr val="482400"/>
                </a:solidFill>
                <a:latin typeface="Times New Roman"/>
                <a:ea typeface="Arial"/>
              </a:rPr>
              <a:t>Ансамбль состоит из трех групп. </a:t>
            </a:r>
            <a:endParaRPr b="0" lang="pl-P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2708280"/>
            <a:ext cx="777204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SzPct val="100000"/>
              <a:buBlip>
                <a:blip r:embed="rId1"/>
              </a:buBlip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1. Основной состав - 9 человек.</a:t>
            </a:r>
            <a:endParaRPr b="0" lang="pl-PL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SzPct val="100000"/>
              <a:buBlip>
                <a:blip r:embed="rId2"/>
              </a:buBlip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2. 4 «а» кадетский класс – 6 человек.</a:t>
            </a:r>
            <a:endParaRPr b="0" lang="pl-PL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SzPct val="100000"/>
              <a:buBlip>
                <a:blip r:embed="rId3"/>
              </a:buBlip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3. 3 «а» кадетский класс – 6 человек.</a:t>
            </a:r>
            <a:endParaRPr b="0" lang="pl-PL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pl-PL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pl-PL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pl-P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18"/>
          </p:nvPr>
        </p:nvSpPr>
        <p:spPr>
          <a:xfrm>
            <a:off x="7010280" y="640080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4BB66866-DFCC-43C2-9039-68E6B3C64520}" type="slidenum">
              <a:rPr b="0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" name="Рисунок 4" descr=""/>
          <p:cNvPicPr/>
          <p:nvPr/>
        </p:nvPicPr>
        <p:blipFill>
          <a:blip r:embed="rId4"/>
          <a:stretch/>
        </p:blipFill>
        <p:spPr>
          <a:xfrm>
            <a:off x="2844720" y="5126040"/>
            <a:ext cx="4215960" cy="119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pl-PL" sz="4400" spc="-1" strike="noStrike">
                <a:solidFill>
                  <a:srgbClr val="482400"/>
                </a:solidFill>
                <a:latin typeface="Times New Roman"/>
                <a:ea typeface="Arial"/>
              </a:rPr>
              <a:t>Первый год обучения.</a:t>
            </a:r>
            <a:endParaRPr b="0" lang="pl-P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Занятия проходят 2 раза в неделю.</a:t>
            </a:r>
            <a:endParaRPr b="0" lang="pl-PL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На занятиях изучаем теорию музыки (длительности нот, паузы) и закрепляем эти знания на практике (индивидуально, ансамблем).</a:t>
            </a:r>
            <a:endParaRPr b="0" lang="pl-PL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Играем упражнения и этюды.</a:t>
            </a:r>
            <a:endParaRPr b="0" lang="pl-P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19"/>
          </p:nvPr>
        </p:nvSpPr>
        <p:spPr>
          <a:xfrm>
            <a:off x="7010280" y="640080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B70E3D89-489F-4CA5-B473-32975314275D}" type="slidenum">
              <a:rPr b="0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pl-PL" sz="4400" spc="-1" strike="noStrike">
                <a:solidFill>
                  <a:srgbClr val="482400"/>
                </a:solidFill>
                <a:latin typeface="Times New Roman"/>
                <a:ea typeface="Arial"/>
              </a:rPr>
              <a:t>Второй год обучения.</a:t>
            </a:r>
            <a:endParaRPr b="0" lang="pl-P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Занятия проходят 2 раза в неделю.</a:t>
            </a:r>
            <a:endParaRPr b="0" lang="pl-PL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Начинается работа над концертными произведениями.</a:t>
            </a:r>
            <a:endParaRPr b="0" lang="pl-PL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Этот материал мы разбираем индивидуально, затем группами собираем в единое целое. Группами – это отдельно малые барабаны, большие барабаны, тарелки (шумовые инструменты).</a:t>
            </a:r>
            <a:endParaRPr b="0" lang="pl-P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20"/>
          </p:nvPr>
        </p:nvSpPr>
        <p:spPr>
          <a:xfrm>
            <a:off x="7010280" y="640080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50D7FB2D-705B-46D6-954E-91C040307619}" type="slidenum">
              <a:rPr b="0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pl-PL" sz="4400" spc="-1" strike="noStrike">
                <a:solidFill>
                  <a:srgbClr val="482400"/>
                </a:solidFill>
                <a:latin typeface="Times New Roman"/>
                <a:ea typeface="Arial"/>
              </a:rPr>
              <a:t>Третий и последующие года обучения….</a:t>
            </a:r>
            <a:endParaRPr b="0" lang="pl-P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Основная форма работы ансамблевая.</a:t>
            </a:r>
            <a:endParaRPr b="0" lang="pl-PL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pl-PL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Комплекс упражнений (на исполнение ритмических рисунков требующих особой проработки), для изучения концертных произведений.</a:t>
            </a:r>
            <a:endParaRPr b="0" lang="pl-P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Num" idx="21"/>
          </p:nvPr>
        </p:nvSpPr>
        <p:spPr>
          <a:xfrm>
            <a:off x="7010280" y="640080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99D5711B-9302-4AF5-925B-80A597E9365F}" type="slidenum">
              <a:rPr b="0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040" cy="44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ru-RU" sz="3600" spc="-1" strike="noStrike">
                <a:solidFill>
                  <a:srgbClr val="482400"/>
                </a:solidFill>
                <a:latin typeface="Times New Roman"/>
                <a:ea typeface="Arial"/>
              </a:rPr>
              <a:t>Игра на барабанах способствует развитию подвижности пальцев, развитию ритмичности и координации движений рук, развивает интеллект, расслабляет, снимает напряжение, тренирует головной мозг.</a:t>
            </a:r>
            <a:endParaRPr b="0" lang="pl-P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Объект 4" descr=""/>
          <p:cNvPicPr/>
          <p:nvPr/>
        </p:nvPicPr>
        <p:blipFill>
          <a:blip r:embed="rId1"/>
          <a:stretch/>
        </p:blipFill>
        <p:spPr>
          <a:xfrm>
            <a:off x="2701800" y="4986360"/>
            <a:ext cx="4320720" cy="12236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2"/>
          <p:cNvSpPr>
            <a:spLocks noGrp="1"/>
          </p:cNvSpPr>
          <p:nvPr>
            <p:ph type="sldNum" idx="22"/>
          </p:nvPr>
        </p:nvSpPr>
        <p:spPr>
          <a:xfrm>
            <a:off x="7010280" y="640080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E2F29D5B-0525-42B9-8EAD-D0D6536A6D11}" type="slidenum">
              <a:rPr b="0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Num" idx="23"/>
          </p:nvPr>
        </p:nvSpPr>
        <p:spPr>
          <a:xfrm>
            <a:off x="7010280" y="640080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A52D3C33-1F91-462F-BCFE-A81ABC5DE2D9}" type="slidenum">
              <a:rPr b="0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Рисунок 5" descr=""/>
          <p:cNvPicPr/>
          <p:nvPr/>
        </p:nvPicPr>
        <p:blipFill>
          <a:blip r:embed="rId1"/>
          <a:stretch/>
        </p:blipFill>
        <p:spPr>
          <a:xfrm>
            <a:off x="971640" y="277920"/>
            <a:ext cx="3816000" cy="614016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6" descr=""/>
          <p:cNvPicPr/>
          <p:nvPr/>
        </p:nvPicPr>
        <p:blipFill>
          <a:blip r:embed="rId2"/>
          <a:stretch/>
        </p:blipFill>
        <p:spPr>
          <a:xfrm>
            <a:off x="4932360" y="272880"/>
            <a:ext cx="3982680" cy="61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pl-PL" sz="4400" spc="-1" strike="noStrike">
                <a:solidFill>
                  <a:srgbClr val="482400"/>
                </a:solidFill>
                <a:latin typeface="Times New Roman"/>
                <a:ea typeface="Arial"/>
              </a:rPr>
              <a:t>   </a:t>
            </a:r>
            <a:r>
              <a:rPr b="0" i="1" lang="pl-PL" sz="4400" spc="-1" strike="noStrike">
                <a:solidFill>
                  <a:srgbClr val="482400"/>
                </a:solidFill>
                <a:latin typeface="Times New Roman"/>
                <a:ea typeface="Arial"/>
              </a:rPr>
              <a:t>Февральский ветер 2018 год</a:t>
            </a:r>
            <a:endParaRPr b="0" lang="pl-P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Объект 1" descr=""/>
          <p:cNvPicPr/>
          <p:nvPr/>
        </p:nvPicPr>
        <p:blipFill>
          <a:blip r:embed="rId1"/>
          <a:stretch/>
        </p:blipFill>
        <p:spPr>
          <a:xfrm>
            <a:off x="1619280" y="1523880"/>
            <a:ext cx="6703560" cy="470016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2"/>
          <p:cNvSpPr>
            <a:spLocks noGrp="1"/>
          </p:cNvSpPr>
          <p:nvPr>
            <p:ph type="sldNum" idx="24"/>
          </p:nvPr>
        </p:nvSpPr>
        <p:spPr>
          <a:xfrm>
            <a:off x="7010280" y="640080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48035B89-691F-4BDA-8308-F7971CB5E0EF}" type="slidenum">
              <a:rPr b="0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Объект 4" descr=""/>
          <p:cNvPicPr/>
          <p:nvPr/>
        </p:nvPicPr>
        <p:blipFill>
          <a:blip r:embed="rId1"/>
          <a:stretch/>
        </p:blipFill>
        <p:spPr>
          <a:xfrm>
            <a:off x="900000" y="271440"/>
            <a:ext cx="3887280" cy="610344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sldNum" idx="25"/>
          </p:nvPr>
        </p:nvSpPr>
        <p:spPr>
          <a:xfrm>
            <a:off x="7010280" y="640080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D8F6CF2D-AB92-4B52-80AD-A87A590960AC}" type="slidenum">
              <a:rPr b="0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Рисунок 5" descr=""/>
          <p:cNvPicPr/>
          <p:nvPr/>
        </p:nvPicPr>
        <p:blipFill>
          <a:blip r:embed="rId2"/>
          <a:stretch/>
        </p:blipFill>
        <p:spPr>
          <a:xfrm>
            <a:off x="4932360" y="252360"/>
            <a:ext cx="3976200" cy="61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040" cy="42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482400"/>
                </a:solidFill>
                <a:latin typeface="Times New Roman"/>
                <a:ea typeface="Arial"/>
              </a:rPr>
              <a:t>Одаренность – это уровень развития общих способностей, определяющий диапазон деятельности, в которых обучающийся может достичь больших успехов.</a:t>
            </a:r>
            <a:endParaRPr b="0" lang="pl-P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Объект 4" descr=""/>
          <p:cNvPicPr/>
          <p:nvPr/>
        </p:nvPicPr>
        <p:blipFill>
          <a:blip r:embed="rId1"/>
          <a:stretch/>
        </p:blipFill>
        <p:spPr>
          <a:xfrm>
            <a:off x="1908000" y="4676760"/>
            <a:ext cx="5846400" cy="16552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 type="sldNum" idx="8"/>
          </p:nvPr>
        </p:nvSpPr>
        <p:spPr>
          <a:xfrm>
            <a:off x="7010280" y="640080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6761183D-4375-4027-BC61-8DC7D0132407}" type="slidenum">
              <a:rPr b="0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482400"/>
                </a:solidFill>
                <a:latin typeface="Times New Roman"/>
                <a:ea typeface="Arial"/>
              </a:rPr>
              <a:t>Жемчужина города Братска 2019 год</a:t>
            </a:r>
            <a:endParaRPr b="0" lang="pl-P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Объект 4" descr=""/>
          <p:cNvPicPr/>
          <p:nvPr/>
        </p:nvPicPr>
        <p:blipFill>
          <a:blip r:embed="rId1"/>
          <a:stretch/>
        </p:blipFill>
        <p:spPr>
          <a:xfrm>
            <a:off x="1595520" y="1523880"/>
            <a:ext cx="6714720" cy="481608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2"/>
          <p:cNvSpPr>
            <a:spLocks noGrp="1"/>
          </p:cNvSpPr>
          <p:nvPr>
            <p:ph type="sldNum" idx="26"/>
          </p:nvPr>
        </p:nvSpPr>
        <p:spPr>
          <a:xfrm>
            <a:off x="7010280" y="640080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4850C283-1EB9-4ECA-94C9-C38454F8BC84}" type="slidenum">
              <a:rPr b="0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Объект 4" descr=""/>
          <p:cNvPicPr/>
          <p:nvPr/>
        </p:nvPicPr>
        <p:blipFill>
          <a:blip r:embed="rId1"/>
          <a:stretch/>
        </p:blipFill>
        <p:spPr>
          <a:xfrm>
            <a:off x="2838600" y="328680"/>
            <a:ext cx="4171680" cy="605124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sldNum" idx="27"/>
          </p:nvPr>
        </p:nvSpPr>
        <p:spPr>
          <a:xfrm>
            <a:off x="7010280" y="640080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0B7BB391-F82A-49E8-A8F2-E35C12033A8E}" type="slidenum">
              <a:rPr b="0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Объект 4" descr=""/>
          <p:cNvPicPr/>
          <p:nvPr/>
        </p:nvPicPr>
        <p:blipFill>
          <a:blip r:embed="rId1"/>
          <a:stretch/>
        </p:blipFill>
        <p:spPr>
          <a:xfrm>
            <a:off x="971640" y="268200"/>
            <a:ext cx="3744720" cy="610524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sldNum" idx="28"/>
          </p:nvPr>
        </p:nvSpPr>
        <p:spPr>
          <a:xfrm>
            <a:off x="7010280" y="640080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343F51A7-74F6-48CB-A577-07B4726407AE}" type="slidenum">
              <a:rPr b="0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Рисунок 1" descr=""/>
          <p:cNvPicPr/>
          <p:nvPr/>
        </p:nvPicPr>
        <p:blipFill>
          <a:blip r:embed="rId2"/>
          <a:stretch/>
        </p:blipFill>
        <p:spPr>
          <a:xfrm>
            <a:off x="4859280" y="295200"/>
            <a:ext cx="3995280" cy="60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066680" y="333360"/>
            <a:ext cx="7772040" cy="60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Развитию одаренности, способностей, способствуют высокие познавательные интересы родителей. Поддержка родителями своего ребенка и система работы по развитию его способностей.</a:t>
            </a:r>
            <a:endParaRPr b="0" lang="pl-PL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Занятия в ансамбле воспитывают такие личностные качества:</a:t>
            </a:r>
            <a:endParaRPr b="0" lang="pl-PL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•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Эмоциональная отзывчивость в жизни;</a:t>
            </a:r>
            <a:endParaRPr b="0" lang="pl-PL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•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Надежность, ответственность за коллективную деятельность;</a:t>
            </a:r>
            <a:endParaRPr b="0" lang="pl-PL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•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Чувство сопричастности к творческой деятельности.</a:t>
            </a:r>
            <a:endParaRPr b="0" lang="pl-PL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pl-P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ldNum" idx="29"/>
          </p:nvPr>
        </p:nvSpPr>
        <p:spPr>
          <a:xfrm>
            <a:off x="7010280" y="640080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E89B5452-8D52-44B5-8A9A-2582E8F08BD7}" type="slidenum">
              <a:rPr b="0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pl-PL" sz="4400" spc="-1" strike="noStrike">
                <a:solidFill>
                  <a:srgbClr val="482400"/>
                </a:solidFill>
                <a:latin typeface="Times New Roman"/>
                <a:ea typeface="Arial"/>
              </a:rPr>
              <a:t>Ярким примером развития способностей является: </a:t>
            </a:r>
            <a:endParaRPr b="0" lang="pl-P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23840" y="184932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Голубович Никита. Выпускник</a:t>
            </a:r>
            <a:endParaRPr b="0" lang="pl-PL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школы №16 2018 года. </a:t>
            </a:r>
            <a:endParaRPr b="0" lang="pl-PL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Занимался в инструментальном </a:t>
            </a:r>
            <a:endParaRPr b="0" lang="pl-PL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ансамбле с 7 класса по 11 класс</a:t>
            </a:r>
            <a:endParaRPr b="0" lang="pl-PL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2013 – 2018 год). Служба. </a:t>
            </a:r>
            <a:endParaRPr b="0" lang="pl-PL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С декабря 2018 по </a:t>
            </a:r>
            <a:endParaRPr b="0" lang="pl-PL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декабрь 2019 год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lang="pl-PL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30"/>
          </p:nvPr>
        </p:nvSpPr>
        <p:spPr>
          <a:xfrm>
            <a:off x="7010280" y="640080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394C7625-4B0E-47F9-8905-2F75DA2152D8}" type="slidenum">
              <a:rPr b="0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Рисунок 4" descr=""/>
          <p:cNvPicPr/>
          <p:nvPr/>
        </p:nvPicPr>
        <p:blipFill>
          <a:blip r:embed="rId1"/>
          <a:stretch/>
        </p:blipFill>
        <p:spPr>
          <a:xfrm>
            <a:off x="5364000" y="1536840"/>
            <a:ext cx="3526920" cy="48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482400"/>
                </a:solidFill>
                <a:latin typeface="Times New Roman"/>
                <a:ea typeface="Arial"/>
              </a:rPr>
              <a:t>В</a:t>
            </a:r>
            <a:r>
              <a:rPr b="0" i="1" lang="en-US" sz="4400" spc="-1" strike="noStrike">
                <a:solidFill>
                  <a:srgbClr val="482400"/>
                </a:solidFill>
                <a:latin typeface="Times New Roman"/>
                <a:ea typeface="Arial"/>
              </a:rPr>
              <a:t>.</a:t>
            </a:r>
            <a:r>
              <a:rPr b="0" i="1" lang="ru-RU" sz="4400" spc="-1" strike="noStrike">
                <a:solidFill>
                  <a:srgbClr val="482400"/>
                </a:solidFill>
                <a:latin typeface="Times New Roman"/>
                <a:ea typeface="Arial"/>
              </a:rPr>
              <a:t> А. Сухомлинский отмечал:</a:t>
            </a:r>
            <a:endParaRPr b="0" lang="pl-P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ldNum" idx="9"/>
          </p:nvPr>
        </p:nvSpPr>
        <p:spPr>
          <a:xfrm>
            <a:off x="7010280" y="640080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6CD74D04-6BD2-4ED8-92DC-E3E8FDB55D3D}" type="slidenum">
              <a:rPr b="0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1066680" y="175248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«Без музыкального</a:t>
            </a:r>
            <a:endParaRPr b="0" lang="pl-PL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воспитания невозможно </a:t>
            </a:r>
            <a:endParaRPr b="0" lang="pl-PL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полноценное воспитание</a:t>
            </a:r>
            <a:endParaRPr b="0" lang="pl-PL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ребенка». </a:t>
            </a:r>
            <a:endParaRPr b="0" lang="pl-P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Рисунок 6" descr=""/>
          <p:cNvPicPr/>
          <p:nvPr/>
        </p:nvPicPr>
        <p:blipFill>
          <a:blip r:embed="rId1"/>
          <a:stretch/>
        </p:blipFill>
        <p:spPr>
          <a:xfrm>
            <a:off x="5570640" y="1752480"/>
            <a:ext cx="3196800" cy="45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040" cy="61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4400" spc="-1" strike="noStrike" u="sng">
                <a:solidFill>
                  <a:srgbClr val="482400"/>
                </a:solidFill>
                <a:uFillTx/>
                <a:latin typeface="Times New Roman"/>
                <a:ea typeface="Arial"/>
              </a:rPr>
              <a:t>Воспитательный компонент</a:t>
            </a:r>
            <a:r>
              <a:rPr b="0" lang="ru-RU" sz="4400" spc="-1" strike="noStrike">
                <a:solidFill>
                  <a:srgbClr val="482400"/>
                </a:solidFill>
                <a:latin typeface="Times New Roman"/>
                <a:ea typeface="Arial"/>
              </a:rPr>
              <a:t>, как обязательный компонент ФГОС общего образования.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482400"/>
                </a:solidFill>
                <a:latin typeface="Times New Roman"/>
                <a:ea typeface="Arial"/>
              </a:rPr>
              <a:t>В деятельности школы воспитательная компонента должна являться неотъемлемой частью.</a:t>
            </a:r>
            <a:endParaRPr b="0" lang="pl-P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ldNum" idx="10"/>
          </p:nvPr>
        </p:nvSpPr>
        <p:spPr>
          <a:xfrm>
            <a:off x="7010280" y="640080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21846BB6-D257-4BB1-B774-D9413E79B1C5}" type="slidenum">
              <a:rPr b="0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2920" y="260280"/>
            <a:ext cx="7795800" cy="614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ru-RU" sz="4000" spc="-1" strike="noStrike">
                <a:solidFill>
                  <a:srgbClr val="482400"/>
                </a:solidFill>
                <a:latin typeface="Times New Roman"/>
                <a:ea typeface="Arial"/>
              </a:rPr>
              <a:t>Во внеурочной деятельности воспитательный компонент ориентирует учащихся на ценности гражданского общества, общечеловеческие нравственные приоритеты, гармонизацию взаимоотношений с окружающим социумом, природой и самим собой. </a:t>
            </a:r>
            <a:endParaRPr b="0" lang="pl-PL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ldNum" idx="11"/>
          </p:nvPr>
        </p:nvSpPr>
        <p:spPr>
          <a:xfrm>
            <a:off x="7010280" y="640080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B9C5E241-28EB-4917-9D76-08C0F847172D}" type="slidenum">
              <a:rPr b="0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pl-PL" sz="4400" spc="-1" strike="noStrike">
                <a:solidFill>
                  <a:srgbClr val="482400"/>
                </a:solidFill>
                <a:latin typeface="Times New Roman"/>
                <a:ea typeface="Arial"/>
              </a:rPr>
              <a:t>3 типа музыкальных способностей у детей:</a:t>
            </a:r>
            <a:endParaRPr b="0" lang="pl-P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.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Чувство ритм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– умение не только слышать и воспроизводить ритм, но и пропускать его через себя;</a:t>
            </a:r>
            <a:endParaRPr b="0" lang="pl-PL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2.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Музыкально-слуховые представлени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– умение слышать и запоминать мелодию, воспроизвести её голосом или с помощью инструмента.</a:t>
            </a:r>
            <a:endParaRPr b="0" lang="pl-PL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3.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Ладовое чувство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– способность воспринимать музыку, эмоционально реагировать. Ладовое чувство предполагает понимание настроения, выраженное в музыкальном произведении, ощущение высоты звуков, их различие и порядок.</a:t>
            </a:r>
            <a:endParaRPr b="0" lang="pl-PL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pl-PL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12"/>
          </p:nvPr>
        </p:nvSpPr>
        <p:spPr>
          <a:xfrm>
            <a:off x="7010280" y="640080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2D188483-2D5E-4AAF-AC4E-328164A60CE6}" type="slidenum">
              <a:rPr b="0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040" cy="39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482400"/>
                </a:solidFill>
                <a:latin typeface="Times New Roman"/>
                <a:ea typeface="Arial"/>
              </a:rPr>
              <a:t>В сентябре 2015 года из учащихся 5 а (кадетского класса) был набран первый состав ансамбля барабанщиков «Марш». Шесть мальчиков. </a:t>
            </a:r>
            <a:endParaRPr b="0" lang="pl-P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Объект 4" descr=""/>
          <p:cNvPicPr/>
          <p:nvPr/>
        </p:nvPicPr>
        <p:blipFill>
          <a:blip r:embed="rId1"/>
          <a:stretch/>
        </p:blipFill>
        <p:spPr>
          <a:xfrm>
            <a:off x="2301840" y="4797360"/>
            <a:ext cx="5301720" cy="1294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2"/>
          <p:cNvSpPr>
            <a:spLocks noGrp="1"/>
          </p:cNvSpPr>
          <p:nvPr>
            <p:ph type="sldNum" idx="13"/>
          </p:nvPr>
        </p:nvSpPr>
        <p:spPr>
          <a:xfrm>
            <a:off x="7010280" y="640080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0AFE8043-2F9C-430E-8354-C76E68D115B0}" type="slidenum">
              <a:rPr b="0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476280"/>
            <a:ext cx="7772040" cy="45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482400"/>
                </a:solidFill>
                <a:latin typeface="Times New Roman"/>
                <a:ea typeface="Arial"/>
              </a:rPr>
              <a:t>В сентябре 2016 года так же из учащихся 5 а (кадетского класса) был набран второй состав ансамбля барабанщиков «Марш». Пять мальчиков. А через полгода состав пополнили три девочки.</a:t>
            </a:r>
            <a:endParaRPr b="0" lang="pl-P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Объект 6" descr=""/>
          <p:cNvPicPr/>
          <p:nvPr/>
        </p:nvPicPr>
        <p:blipFill>
          <a:blip r:embed="rId1"/>
          <a:stretch/>
        </p:blipFill>
        <p:spPr>
          <a:xfrm>
            <a:off x="3009960" y="5300640"/>
            <a:ext cx="3885840" cy="86472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2"/>
          <p:cNvSpPr>
            <a:spLocks noGrp="1"/>
          </p:cNvSpPr>
          <p:nvPr>
            <p:ph type="sldNum" idx="14"/>
          </p:nvPr>
        </p:nvSpPr>
        <p:spPr>
          <a:xfrm>
            <a:off x="7010280" y="640080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A94C679D-2202-42EE-8B44-36146B15B2AA}" type="slidenum">
              <a:rPr b="0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Объект 4" descr=""/>
          <p:cNvPicPr/>
          <p:nvPr/>
        </p:nvPicPr>
        <p:blipFill>
          <a:blip r:embed="rId1"/>
          <a:stretch/>
        </p:blipFill>
        <p:spPr>
          <a:xfrm>
            <a:off x="914400" y="285840"/>
            <a:ext cx="7967160" cy="608148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sldNum" idx="15"/>
          </p:nvPr>
        </p:nvSpPr>
        <p:spPr>
          <a:xfrm>
            <a:off x="7010280" y="640080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66A6E8D1-CF90-4302-9621-4BCEF7E3DFC0}" type="slidenum">
              <a:rPr b="0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theme/theme1.xml><?xml version="1.0" encoding="utf-8"?>
<a:theme xmlns:a="http://schemas.openxmlformats.org/drawingml/2006/main" name="Шаблон оформления «Судовой журнал»">
  <a:themeElements>
    <a:clrScheme name="Шаблон оформления «Судовой журнал» 2">
      <a:dk1>
        <a:srgbClr val="000000"/>
      </a:dk1>
      <a:lt1>
        <a:srgbClr val="ffffff"/>
      </a:lt1>
      <a:dk2>
        <a:srgbClr val="482400"/>
      </a:dk2>
      <a:lt2>
        <a:srgbClr val="808080"/>
      </a:lt2>
      <a:accent1>
        <a:srgbClr val="dfd6c3"/>
      </a:accent1>
      <a:accent2>
        <a:srgbClr val="d69b80"/>
      </a:accent2>
      <a:accent3>
        <a:srgbClr val="ffffff"/>
      </a:accent3>
      <a:accent4>
        <a:srgbClr val="000000"/>
      </a:accent4>
      <a:accent5>
        <a:srgbClr val="ece8de"/>
      </a:accent5>
      <a:accent6>
        <a:srgbClr val="c28c73"/>
      </a:accent6>
      <a:hlink>
        <a:srgbClr val="caa966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82400"/>
      </a:dk2>
      <a:lt2>
        <a:srgbClr val="808080"/>
      </a:lt2>
      <a:accent1>
        <a:srgbClr val="dfd6c3"/>
      </a:accent1>
      <a:accent2>
        <a:srgbClr val="d69b80"/>
      </a:accent2>
      <a:accent3>
        <a:srgbClr val="ffffff"/>
      </a:accent3>
      <a:accent4>
        <a:srgbClr val="000000"/>
      </a:accent4>
      <a:accent5>
        <a:srgbClr val="ece8de"/>
      </a:accent5>
      <a:accent6>
        <a:srgbClr val="c28c73"/>
      </a:accent6>
      <a:hlink>
        <a:srgbClr val="caa966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Шаблон оформления «Судовой журнал»</Template>
  <TotalTime>557</TotalTime>
  <Application>LibreOffice/7.4.7.2$Linux_X86_64 LibreOffice_project/40$Build-2</Application>
  <AppVersion>15.0000</AppVersion>
  <Paragraphs>7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0:06:22Z</dcterms:created>
  <dc:creator>инна</dc:creator>
  <dc:description/>
  <dc:language>en-US</dc:language>
  <cp:lastModifiedBy>Пользователь Gigabyte</cp:lastModifiedBy>
  <dcterms:modified xsi:type="dcterms:W3CDTF">2023-02-19T12:55:57Z</dcterms:modified>
  <cp:revision>8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On-screen Show (4:3)</vt:lpwstr>
  </property>
  <property fmtid="{D5CDD505-2E9C-101B-9397-08002B2CF9AE}" pid="4" name="Slides">
    <vt:r8>24</vt:r8>
  </property>
  <property fmtid="{D5CDD505-2E9C-101B-9397-08002B2CF9AE}" pid="5" name="_TemplateID">
    <vt:lpwstr>TC010690171049</vt:lpwstr>
  </property>
</Properties>
</file>