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68F-5FA7-4E66-A0BB-BE1B8B6C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B81-887A-4D34-B2EA-CF080E8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B88-8ED5-4220-81A7-3F79E40A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E20-D440-4023-8EE0-81435D8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CF60-C7A3-4A1A-B4BC-3B4388B4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A3D-5EA4-41AB-B5A8-B8947FD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C430-F21A-4C9F-892B-7D9AF9D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D479-3BEE-4E44-B4D2-979E830D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DE71-8F71-4093-A463-B6A45425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2ED-DA97-424A-9456-E13AC890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84B7-0A06-42C3-8377-94585A9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5AF-F92D-4893-9D99-8CC74A5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E322-7FE8-4B2A-AEA2-C76D9A5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0EC-C848-4B6B-A494-1920FCA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DCC-481A-46C8-949E-75D8BC8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36B9-6A9E-4607-856E-8CA3F8AD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39B5-6C72-4B42-9B79-DDD3E816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278-EC7D-46BB-BD65-1995D72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ADF-8B6F-4FF6-8FE0-E132F45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2B3-2E82-44F1-A15C-0541D80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DAC-2EBB-4B92-84C5-EDE749B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CD9-65B4-4056-9723-73E4C24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80F-3073-4218-8DE8-98CD512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AFA-CA33-4F25-BC75-B53CA47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D3CA-00A9-44E9-BD13-BCEE21E801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44EE-D448-42B8-B1B3-2A4E1D2D51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520" y="198864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ы внедрения методики В.Ф. Базарного в образовательный процесс школы-интерна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кладчик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лиева Э.Ф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2"/>
          <p:cNvSpPr/>
          <p:nvPr/>
        </p:nvSpPr>
        <p:spPr>
          <a:xfrm>
            <a:off x="835812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2571840" y="32148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 rot="5400000">
            <a:off x="4950720" y="23367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857920" y="3143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0"/>
          <p:cNvSpPr/>
          <p:nvPr/>
        </p:nvSpPr>
        <p:spPr>
          <a:xfrm rot="1068600">
            <a:off x="6404040" y="2731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5"/>
          <p:cNvGrpSpPr/>
          <p:nvPr/>
        </p:nvGrpSpPr>
        <p:grpSpPr>
          <a:xfrm>
            <a:off x="714240" y="1785600"/>
            <a:ext cx="7715520" cy="4286520"/>
            <a:chOff x="714240" y="1785600"/>
            <a:chExt cx="7715520" cy="4286520"/>
          </a:xfrm>
        </p:grpSpPr>
        <p:sp>
          <p:nvSpPr>
            <p:cNvPr id="116" name="Овал 6"/>
            <p:cNvSpPr/>
            <p:nvPr/>
          </p:nvSpPr>
          <p:spPr>
            <a:xfrm>
              <a:off x="1020600" y="2476440"/>
              <a:ext cx="6766200" cy="26906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Овал 5"/>
            <p:cNvSpPr/>
            <p:nvPr/>
          </p:nvSpPr>
          <p:spPr>
            <a:xfrm>
              <a:off x="1385640" y="2933640"/>
              <a:ext cx="5924880" cy="1930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67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Овал 3"/>
            <p:cNvSpPr/>
            <p:nvPr/>
          </p:nvSpPr>
          <p:spPr>
            <a:xfrm>
              <a:off x="1742760" y="3376440"/>
              <a:ext cx="2575080" cy="966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4"/>
            <p:cNvSpPr/>
            <p:nvPr/>
          </p:nvSpPr>
          <p:spPr>
            <a:xfrm>
              <a:off x="4379760" y="3306600"/>
              <a:ext cx="2443320" cy="10141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Двойная стрелка влево/вправо 7"/>
            <p:cNvSpPr/>
            <p:nvPr/>
          </p:nvSpPr>
          <p:spPr>
            <a:xfrm>
              <a:off x="714240" y="3597120"/>
              <a:ext cx="7329960" cy="603000"/>
            </a:xfrm>
            <a:prstGeom prst="leftRightArrow">
              <a:avLst>
                <a:gd name="adj1" fmla="val 50000"/>
                <a:gd name="adj2" fmla="val 4654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Двойная стрелка влево/вправо 9"/>
            <p:cNvSpPr/>
            <p:nvPr/>
          </p:nvSpPr>
          <p:spPr>
            <a:xfrm rot="5400000">
              <a:off x="2235240" y="3623400"/>
              <a:ext cx="4286160" cy="610920"/>
            </a:xfrm>
            <a:prstGeom prst="leftRightArrow">
              <a:avLst>
                <a:gd name="adj1" fmla="val 50000"/>
                <a:gd name="adj2" fmla="val 53789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Прямая со стрелкой 17"/>
            <p:cNvCxnSpPr/>
            <p:nvPr/>
          </p:nvCxnSpPr>
          <p:spPr>
            <a:xfrm flipH="1">
              <a:off x="4763880" y="1785600"/>
              <a:ext cx="2160" cy="624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3" name="Прямая со стрелкой 22"/>
            <p:cNvCxnSpPr/>
            <p:nvPr/>
          </p:nvCxnSpPr>
          <p:spPr>
            <a:xfrm>
              <a:off x="5600520" y="2407680"/>
              <a:ext cx="1415160" cy="415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4" name="Прямая со стрелкой 23"/>
            <p:cNvCxnSpPr/>
            <p:nvPr/>
          </p:nvCxnSpPr>
          <p:spPr>
            <a:xfrm>
              <a:off x="5343120" y="2754000"/>
              <a:ext cx="1415160" cy="415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5" name="Прямая со стрелкой 25"/>
            <p:cNvCxnSpPr/>
            <p:nvPr/>
          </p:nvCxnSpPr>
          <p:spPr>
            <a:xfrm>
              <a:off x="7851600" y="3583080"/>
              <a:ext cx="5785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6" name="Прямая со стрелкой 27"/>
            <p:cNvCxnSpPr/>
            <p:nvPr/>
          </p:nvCxnSpPr>
          <p:spPr>
            <a:xfrm flipH="1" flipV="1">
              <a:off x="5086080" y="351432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" name="Прямая со стрелкой 28"/>
            <p:cNvCxnSpPr/>
            <p:nvPr/>
          </p:nvCxnSpPr>
          <p:spPr>
            <a:xfrm flipH="1" flipV="1">
              <a:off x="2579040" y="4204800"/>
              <a:ext cx="4500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8" name="Прямая со стрелкой 30"/>
            <p:cNvCxnSpPr/>
            <p:nvPr/>
          </p:nvCxnSpPr>
          <p:spPr>
            <a:xfrm>
              <a:off x="5472360" y="413712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9" name="Прямая со стрелкой 32"/>
            <p:cNvCxnSpPr/>
            <p:nvPr/>
          </p:nvCxnSpPr>
          <p:spPr>
            <a:xfrm>
              <a:off x="3157560" y="351468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аблицы для выполнения глазодвигательной гимнастики</a:t>
            </a:r>
            <a:br>
              <a:rPr sz="38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 rot="754800">
            <a:off x="6036840" y="3065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5857920" y="3786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2428920" y="3786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Содержимое 3"/>
          <p:cNvGraphicFramePr/>
          <p:nvPr/>
        </p:nvGraphicFramePr>
        <p:xfrm>
          <a:off x="1590840" y="1832040"/>
          <a:ext cx="628632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832040"/>
                    <a:ext cx="6286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Заголовок 2" descr=""/>
          <p:cNvPicPr/>
          <p:nvPr/>
        </p:nvPicPr>
        <p:blipFill>
          <a:blip r:embed="rId3"/>
          <a:stretch/>
        </p:blipFill>
        <p:spPr>
          <a:xfrm>
            <a:off x="639720" y="5121360"/>
            <a:ext cx="8016840" cy="123660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2" descr=""/>
          <p:cNvPicPr/>
          <p:nvPr/>
        </p:nvPicPr>
        <p:blipFill>
          <a:blip r:embed="rId4"/>
          <a:stretch/>
        </p:blipFill>
        <p:spPr>
          <a:xfrm>
            <a:off x="712800" y="139680"/>
            <a:ext cx="7729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зультаты самоэкспертиз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повышения личного 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по внедрению методики В.Ф. База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годия состав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000160" y="3000240"/>
            <a:ext cx="5429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А.Г-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.С. С.– 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В.Б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Н.М –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А.С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ешить проблему перегрузки и переутомления детей на уро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еплять и развивать внимание,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ить  и укрепить здоровь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лены временно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кой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.А.Г,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Е.С.,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.В.Б, воспитат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Н.М,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А.С, воспитат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лан мероприятий на 2019 – 2020 учебный год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внедрен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дагогики Монтессор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образовательный процесс школы – интерн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413000"/>
          <a:ext cx="7925040" cy="4535280"/>
        </p:xfrm>
        <a:graphic>
          <a:graphicData uri="http://schemas.openxmlformats.org/drawingml/2006/table">
            <a:tbl>
              <a:tblPr/>
              <a:tblGrid>
                <a:gridCol w="506520"/>
                <a:gridCol w="4464000"/>
                <a:gridCol w="936720"/>
                <a:gridCol w="2017800"/>
              </a:tblGrid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едание временной творческой группы (Тема: «Составление календарно-тематического планирования интегрированных занятий на базе кабинета Монтессор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е заседание координационной группы (Тема: «Планирование работы на 2014-2015 учебный год по внедрению методики Монтессор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педагогическая диагностика уровня актуального развития обучающихся, воспитанников на начало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психолого-педагогическом лектории «Школа для родителей», «Взаимодействие семьи и школы в реализации ИОМ обучающихся, воспитанников», тема выступления «Реализация ИОМ обучающихся, воспитанников посредством внедрения метода Монтессор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484280"/>
          <a:ext cx="7921440" cy="4052880"/>
        </p:xfrm>
        <a:graphic>
          <a:graphicData uri="http://schemas.openxmlformats.org/drawingml/2006/table">
            <a:tbl>
              <a:tblPr/>
              <a:tblGrid>
                <a:gridCol w="600120"/>
                <a:gridCol w="4224240"/>
                <a:gridCol w="1081080"/>
                <a:gridCol w="2016000"/>
              </a:tblGrid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ее практическ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ное занятие с элементами метод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ый урок с элементами метод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ля психологии и логопе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Н. 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членов группы на педагогическом совете, тема выступления: «Результаты внедрения метода Монтессори в образовательный процесс школы-интерна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членов группы на семинаре «Содержание работы учителя по реализации индивидуального образовательного маршрута обучающегося, воспитанни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для педагогов начальной школы по внедрению метода Монтессори в образовательный процесс школы-интерн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844640"/>
          <a:ext cx="7921440" cy="3237120"/>
        </p:xfrm>
        <a:graphic>
          <a:graphicData uri="http://schemas.openxmlformats.org/drawingml/2006/table">
            <a:tbl>
              <a:tblPr/>
              <a:tblGrid>
                <a:gridCol w="600120"/>
                <a:gridCol w="4224240"/>
                <a:gridCol w="1081080"/>
                <a:gridCol w="2016000"/>
              </a:tblGrid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методических рекомендаций по планированию работы в образовательной среде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ое воспитательн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ый урок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педагогическая диагностика уровня актуального развития обучающихся, воспитанников по итогам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едание временной творческой группы (Тема: «Подведение итогов работы по внедрению метода Монтессори в образовательный процессшколы-интерната в 2008-2009 учебном году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72080" y="2214720"/>
            <a:ext cx="2903760" cy="3857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держание рабо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880" y="1599840"/>
            <a:ext cx="78202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мая нами технология В.Ф.Базарного предусматривает следующие эле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учащихся в режи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намических поз. Для че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специ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бель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орки. Часть урока учени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т за конторкой, другу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дит за партой, тем сам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ется и укрепляется оса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2960" y="178560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уроков в режиме движения материала, постоянн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ительного поиска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ирующих дет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й. Для эт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заданиями, котор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кладываю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любой точке  кла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PICT0617.JPG"/>
          <p:cNvPicPr/>
          <p:nvPr/>
        </p:nvPicPr>
        <p:blipFill>
          <a:blip r:embed="rId1"/>
          <a:stretch/>
        </p:blipFill>
        <p:spPr>
          <a:xfrm>
            <a:off x="4924440" y="2571840"/>
            <a:ext cx="31701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712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ка сенсорно – координаторных тренажей с помощью меняющихся  зрительно – сигнальных сю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PICT0616.JPG"/>
          <p:cNvPicPr/>
          <p:nvPr/>
        </p:nvPicPr>
        <p:blipFill>
          <a:blip r:embed="rId1"/>
          <a:stretch/>
        </p:blipFill>
        <p:spPr>
          <a:xfrm>
            <a:off x="1643040" y="1714680"/>
            <a:ext cx="5619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57:10Z</dcterms:created>
  <dc:creator>Натусик</dc:creator>
  <dc:description/>
  <dc:language>en-US</dc:language>
  <cp:lastModifiedBy>Yamschikov</cp:lastModifiedBy>
  <dcterms:modified xsi:type="dcterms:W3CDTF">2023-02-19T09:05:34Z</dcterms:modified>
  <cp:revision>38</cp:revision>
  <dc:subject/>
  <dc:title>Результаты творческой группы внедрения метода Монтессори в образовательный процесс школы – интерната в 2008 – 2009 учебном году)</dc:title>
</cp:coreProperties>
</file>