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7FF-0779-4DC1-ADA6-E72240E9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CA3-7B87-47E1-AB81-89E20669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5CD-31C9-4817-BF2F-B8A23F7E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ED7-6BCF-4C23-9DB5-A2279045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2CB7-9286-4B14-8A38-702CEBA1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7B54-3D38-4EB5-BF28-8C0BB26E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816A-E50C-4CDD-8D00-71753120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6E1E-4C19-494A-A32F-E0DE5ED7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46DA-5730-443B-B233-2F0AD462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9FD8-F49A-4F08-A994-77BAC8DB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CCB8-8745-4367-883E-7F08C850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DE0-C15C-4EC8-BE1F-1B170974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65F3-D436-4D94-8550-221BDA93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D6F8-00BF-4C1A-A571-D75AA55A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8FF6-F735-41D3-BA09-5B29B5E2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74C7-3002-489C-953D-DAB349A0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AC57-6F1F-4E56-AE24-12C2A456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D858-52FD-4639-A8A6-7AFFFAF3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F45-018F-4192-B993-9D14FDC1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23E-EE83-47BE-AE15-FC36455E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0F3-E7C4-46C0-98A2-5A9511AC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AC6-44E9-4A69-BF54-6542E086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163-3324-4752-B66C-0FBE5D77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E30-3D80-41FB-AE3E-55568346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121C-135E-49F5-B889-DCCF1383EC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14D2-AF91-40CA-8B11-43F318B525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5520" y="1988640"/>
            <a:ext cx="776916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ы внедрения методики В.Ф. Базарного в образовательный процесс школы-интерна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окладчик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алиева Э.Ф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2"/>
          <p:cNvSpPr/>
          <p:nvPr/>
        </p:nvSpPr>
        <p:spPr>
          <a:xfrm>
            <a:off x="8358120" y="36432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2571840" y="32148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5"/>
          <p:cNvSpPr/>
          <p:nvPr/>
        </p:nvSpPr>
        <p:spPr>
          <a:xfrm rot="5400000">
            <a:off x="4950720" y="233676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5857920" y="314316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0"/>
          <p:cNvSpPr/>
          <p:nvPr/>
        </p:nvSpPr>
        <p:spPr>
          <a:xfrm rot="1068600">
            <a:off x="6404040" y="2731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35"/>
          <p:cNvGrpSpPr/>
          <p:nvPr/>
        </p:nvGrpSpPr>
        <p:grpSpPr>
          <a:xfrm>
            <a:off x="714240" y="1785600"/>
            <a:ext cx="7715520" cy="4286520"/>
            <a:chOff x="714240" y="1785600"/>
            <a:chExt cx="7715520" cy="4286520"/>
          </a:xfrm>
        </p:grpSpPr>
        <p:sp>
          <p:nvSpPr>
            <p:cNvPr id="116" name="Овал 6"/>
            <p:cNvSpPr/>
            <p:nvPr/>
          </p:nvSpPr>
          <p:spPr>
            <a:xfrm>
              <a:off x="1020600" y="2476440"/>
              <a:ext cx="6766200" cy="26906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Овал 5"/>
            <p:cNvSpPr/>
            <p:nvPr/>
          </p:nvSpPr>
          <p:spPr>
            <a:xfrm>
              <a:off x="1385640" y="2933640"/>
              <a:ext cx="5924880" cy="1930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67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Овал 3"/>
            <p:cNvSpPr/>
            <p:nvPr/>
          </p:nvSpPr>
          <p:spPr>
            <a:xfrm>
              <a:off x="1742760" y="3376440"/>
              <a:ext cx="2575080" cy="966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Овал 4"/>
            <p:cNvSpPr/>
            <p:nvPr/>
          </p:nvSpPr>
          <p:spPr>
            <a:xfrm>
              <a:off x="4379760" y="3306600"/>
              <a:ext cx="2443320" cy="10141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Двойная стрелка влево/вправо 7"/>
            <p:cNvSpPr/>
            <p:nvPr/>
          </p:nvSpPr>
          <p:spPr>
            <a:xfrm>
              <a:off x="714240" y="3597120"/>
              <a:ext cx="7329960" cy="603000"/>
            </a:xfrm>
            <a:prstGeom prst="leftRightArrow">
              <a:avLst>
                <a:gd name="adj1" fmla="val 50000"/>
                <a:gd name="adj2" fmla="val 46541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Двойная стрелка влево/вправо 9"/>
            <p:cNvSpPr/>
            <p:nvPr/>
          </p:nvSpPr>
          <p:spPr>
            <a:xfrm rot="5400000">
              <a:off x="2235240" y="3623400"/>
              <a:ext cx="4286160" cy="610920"/>
            </a:xfrm>
            <a:prstGeom prst="leftRightArrow">
              <a:avLst>
                <a:gd name="adj1" fmla="val 50000"/>
                <a:gd name="adj2" fmla="val 53789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Прямая со стрелкой 17"/>
            <p:cNvCxnSpPr/>
            <p:nvPr/>
          </p:nvCxnSpPr>
          <p:spPr>
            <a:xfrm flipH="1">
              <a:off x="4763880" y="1785600"/>
              <a:ext cx="2160" cy="624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23" name="Прямая со стрелкой 22"/>
            <p:cNvCxnSpPr/>
            <p:nvPr/>
          </p:nvCxnSpPr>
          <p:spPr>
            <a:xfrm>
              <a:off x="5600520" y="2407680"/>
              <a:ext cx="1415160" cy="415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24" name="Прямая со стрелкой 23"/>
            <p:cNvCxnSpPr/>
            <p:nvPr/>
          </p:nvCxnSpPr>
          <p:spPr>
            <a:xfrm>
              <a:off x="5343120" y="2754000"/>
              <a:ext cx="1415160" cy="415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25" name="Прямая со стрелкой 25"/>
            <p:cNvCxnSpPr/>
            <p:nvPr/>
          </p:nvCxnSpPr>
          <p:spPr>
            <a:xfrm>
              <a:off x="7851600" y="3583080"/>
              <a:ext cx="57852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26" name="Прямая со стрелкой 27"/>
            <p:cNvCxnSpPr/>
            <p:nvPr/>
          </p:nvCxnSpPr>
          <p:spPr>
            <a:xfrm flipH="1" flipV="1">
              <a:off x="5086080" y="3514320"/>
              <a:ext cx="45144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7" name="Прямая со стрелкой 28"/>
            <p:cNvCxnSpPr/>
            <p:nvPr/>
          </p:nvCxnSpPr>
          <p:spPr>
            <a:xfrm flipH="1" flipV="1">
              <a:off x="2579040" y="4204800"/>
              <a:ext cx="4500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8" name="Прямая со стрелкой 30"/>
            <p:cNvCxnSpPr/>
            <p:nvPr/>
          </p:nvCxnSpPr>
          <p:spPr>
            <a:xfrm>
              <a:off x="5472360" y="4137120"/>
              <a:ext cx="45144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9" name="Прямая со стрелкой 32"/>
            <p:cNvCxnSpPr/>
            <p:nvPr/>
          </p:nvCxnSpPr>
          <p:spPr>
            <a:xfrm>
              <a:off x="3157560" y="3514680"/>
              <a:ext cx="45144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3581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Таблицы для выполнения глазодвигательной гимнастики</a:t>
            </a:r>
            <a:br>
              <a:rPr sz="38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19"/>
          <p:cNvSpPr/>
          <p:nvPr/>
        </p:nvSpPr>
        <p:spPr>
          <a:xfrm rot="754800">
            <a:off x="6036840" y="30654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4"/>
          <p:cNvSpPr/>
          <p:nvPr/>
        </p:nvSpPr>
        <p:spPr>
          <a:xfrm>
            <a:off x="5857920" y="3786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6"/>
          <p:cNvSpPr/>
          <p:nvPr/>
        </p:nvSpPr>
        <p:spPr>
          <a:xfrm>
            <a:off x="2428920" y="3786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Содержимое 3"/>
          <p:cNvGraphicFramePr/>
          <p:nvPr/>
        </p:nvGraphicFramePr>
        <p:xfrm>
          <a:off x="1590840" y="1832040"/>
          <a:ext cx="6286320" cy="286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0840" y="1832040"/>
                    <a:ext cx="62863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Заголовок 2" descr=""/>
          <p:cNvPicPr/>
          <p:nvPr/>
        </p:nvPicPr>
        <p:blipFill>
          <a:blip r:embed="rId3"/>
          <a:stretch/>
        </p:blipFill>
        <p:spPr>
          <a:xfrm>
            <a:off x="639720" y="5121360"/>
            <a:ext cx="8016840" cy="1236600"/>
          </a:xfrm>
          <a:prstGeom prst="rect">
            <a:avLst/>
          </a:prstGeom>
          <a:ln w="0">
            <a:noFill/>
          </a:ln>
        </p:spPr>
      </p:pic>
      <p:pic>
        <p:nvPicPr>
          <p:cNvPr id="137" name="Заголовок 2" descr=""/>
          <p:cNvPicPr/>
          <p:nvPr/>
        </p:nvPicPr>
        <p:blipFill>
          <a:blip r:embed="rId4"/>
          <a:stretch/>
        </p:blipFill>
        <p:spPr>
          <a:xfrm>
            <a:off x="712800" y="139680"/>
            <a:ext cx="77295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езультаты самоэкспертиз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4240" y="149976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повышения личного профессион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я по внедрению методики В.Ф. Базар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годия составл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одержимое 2"/>
          <p:cNvSpPr/>
          <p:nvPr/>
        </p:nvSpPr>
        <p:spPr>
          <a:xfrm>
            <a:off x="2000160" y="3000240"/>
            <a:ext cx="5429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.А.Г- 5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Е.С. С.– 4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.В.Б – 3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Н.М – 5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А.С – 3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решить проблему перегрузки и переутомления детей на уро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креплять и развивать внимание, пам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хранить  и укрепить здоровье обучаю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лены временной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ворческой групп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71320" y="157176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.А.Г, уч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Е.С., уч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.В.Б, воспитател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Н.М, 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А.С, воспитател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лан мероприятий на 2019 – 2020 учебный год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 внедрению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едагогики Монтессори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образовательный процесс школы – интерна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1413000"/>
          <a:ext cx="7925040" cy="4535280"/>
        </p:xfrm>
        <a:graphic>
          <a:graphicData uri="http://schemas.openxmlformats.org/drawingml/2006/table">
            <a:tbl>
              <a:tblPr/>
              <a:tblGrid>
                <a:gridCol w="506520"/>
                <a:gridCol w="4464000"/>
                <a:gridCol w="936720"/>
                <a:gridCol w="2017800"/>
              </a:tblGrid>
              <a:tr h="49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седание временной творческой группы (Тема: «Составление календарно-тематического планирования интегрированных занятий на базе кабинета Монтессори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ю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.Е.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онное заседание координационной группы (Тема: «Планирование работы на 2014-2015 учебный год по внедрению методики Монтессори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.Е.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лого-педагогическая диагностика уровня актуального развития обучающихся, воспитанников на начало учеб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.Е.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ированное занятие на базе кабинета Монтесс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.Е.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ление на психолого-педагогическом лектории «Школа для родителей», «Взаимодействие семьи и школы в реализации ИОМ обучающихся, воспитанников», тема выступления «Реализация ИОМ обучающихся, воспитанников посредством внедрения метода Монтессор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1280" y="1484280"/>
          <a:ext cx="7921440" cy="4052880"/>
        </p:xfrm>
        <a:graphic>
          <a:graphicData uri="http://schemas.openxmlformats.org/drawingml/2006/table">
            <a:tbl>
              <a:tblPr/>
              <a:tblGrid>
                <a:gridCol w="600120"/>
                <a:gridCol w="4224240"/>
                <a:gridCol w="1081080"/>
                <a:gridCol w="2016000"/>
              </a:tblGrid>
              <a:tr h="49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ее практическое занятие на базе кабинета Монтесс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ьное занятие с элементами метода Монтесс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ированный урок с элементами метода Монтесс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.Е.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еля психологии и логопе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.Н. 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ление членов группы на педагогическом совете, тема выступления: «Результаты внедрения метода Монтессори в образовательный процесс школы-интернат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.Е.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ление членов группы на семинаре «Содержание работы учителя по реализации индивидуального образовательного маршрута обучающегося, воспитанни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.Е.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тер-класс для педагогов начальной школы по внедрению метода Монтессори в образовательный процесс школы-интерн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1844640"/>
          <a:ext cx="7921440" cy="3237120"/>
        </p:xfrm>
        <a:graphic>
          <a:graphicData uri="http://schemas.openxmlformats.org/drawingml/2006/table">
            <a:tbl>
              <a:tblPr/>
              <a:tblGrid>
                <a:gridCol w="600120"/>
                <a:gridCol w="4224240"/>
                <a:gridCol w="1081080"/>
                <a:gridCol w="2016000"/>
              </a:tblGrid>
              <a:tr h="71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ка методических рекомендаций по планированию работы в образовательной среде Монтесс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.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ированное воспитательное занятие на базе кабинета Монтесс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ированный урок на базе кабинета Монтесс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.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лого-педагогическая диагностика уровня актуального развития обучающихся, воспитанников по итогам учеб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.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седание временной творческой группы (Тема: «Подведение итогов работы по внедрению метода Монтессори в образовательный процессшколы-интерната в 2008-2009 учебном году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Ю.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.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К.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572080" y="2214720"/>
            <a:ext cx="2903760" cy="3857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одержание рабо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3880" y="1599840"/>
            <a:ext cx="78202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4160" indent="-2541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емая нами технология В.Ф.Базарного предусматривает следующие элемен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учение учащихся в режим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намических поз. Для чег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ется специа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бель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орки. Часть урока учени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оит за конторкой, другу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дит за партой, тем сам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храняется и укрепляется осан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42960" y="1785600"/>
            <a:ext cx="75722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дение уроков в режиме движения материала, постоянног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рительного поиска 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полн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ктивизирующих дете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аний. Для эт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уют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рточ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заданиями, котор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кладываютс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любой точке  клас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5" descr="PICT0617.JPG"/>
          <p:cNvPicPr/>
          <p:nvPr/>
        </p:nvPicPr>
        <p:blipFill>
          <a:blip r:embed="rId1"/>
          <a:stretch/>
        </p:blipFill>
        <p:spPr>
          <a:xfrm>
            <a:off x="4924440" y="2571840"/>
            <a:ext cx="31701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57120" y="21420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ка сенсорно – координаторных тренажей с помощью меняющихся  зрительно – сигнальных сю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PICT0616.JPG"/>
          <p:cNvPicPr/>
          <p:nvPr/>
        </p:nvPicPr>
        <p:blipFill>
          <a:blip r:embed="rId1"/>
          <a:stretch/>
        </p:blipFill>
        <p:spPr>
          <a:xfrm>
            <a:off x="1643040" y="1714680"/>
            <a:ext cx="5619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4:57:10Z</dcterms:created>
  <dc:creator>Натусик</dc:creator>
  <dc:description/>
  <dc:language>en-US</dc:language>
  <cp:lastModifiedBy>Yamschikov</cp:lastModifiedBy>
  <dcterms:modified xsi:type="dcterms:W3CDTF">2023-02-19T09:05:34Z</dcterms:modified>
  <cp:revision>38</cp:revision>
  <dc:subject/>
  <dc:title>Результаты творческой группы внедрения метода Монтессори в образовательный процесс школы – интерната в 2008 – 2009 учебном году)</dc:title>
</cp:coreProperties>
</file>