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DFBE-E807-4717-9B62-8443C28D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391C-7FB3-4781-9FE1-A1EBB9FB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3065-4FDC-4807-A073-21BDF543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4941-6AEC-46DD-966C-CE97FA2D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2B3D-B907-4B25-8E8B-FE877335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65CE-E931-4120-9380-54275C98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0571-6DBC-4988-A315-CA5530B5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AF55-A1FD-48CB-A68F-5BF9ABE0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065B-558B-4D7F-9189-821D7A5B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E174-7F26-40F1-8E62-75D9BD62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0077-163C-4B3D-8A9C-568507E5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1883-A78D-4318-A82F-B9B931A5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7C11-3967-4C51-8C35-EC933C1664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33240" y="2158920"/>
            <a:ext cx="798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Игра  «Скажи наоборо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Цель: развивать навык подбора антонимов-прилагате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617920" y="1685880"/>
            <a:ext cx="1828800" cy="1638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4952880" y="2505240"/>
            <a:ext cx="914400" cy="8204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1667160" y="514980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 снежинка большая, а другая … (маленька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rcRect l="8854" t="0" r="63575" b="17938"/>
          <a:stretch/>
        </p:blipFill>
        <p:spPr>
          <a:xfrm>
            <a:off x="3809880" y="1143000"/>
            <a:ext cx="1646280" cy="3505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1661760" y="5186520"/>
            <a:ext cx="525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 сосулька короткая, а другая … (длинна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2765520" y="603360"/>
            <a:ext cx="2760480" cy="4871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5632560" y="3429000"/>
            <a:ext cx="1171440" cy="2066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1870560" y="5899320"/>
            <a:ext cx="45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 елка высокая, а другая … (низка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743200" y="1523880"/>
            <a:ext cx="3803760" cy="3657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674000" y="5454720"/>
            <a:ext cx="52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ин снеговик весёлый, а другой … (грустны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>
            <a:biLevel thresh="50000"/>
          </a:blip>
          <a:srcRect l="45187" t="47157" r="9269" b="5311"/>
          <a:stretch/>
        </p:blipFill>
        <p:spPr>
          <a:xfrm>
            <a:off x="2743200" y="1295280"/>
            <a:ext cx="6400800" cy="3807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52280" y="1322280"/>
            <a:ext cx="1974960" cy="24116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1700640" y="5410080"/>
            <a:ext cx="485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 дорожка широкая, а другая … (узка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5T04:26:07Z</dcterms:created>
  <dc:creator>Лена</dc:creator>
  <dc:description/>
  <dc:language>en-US</dc:language>
  <cp:lastModifiedBy>user</cp:lastModifiedBy>
  <dcterms:modified xsi:type="dcterms:W3CDTF">2019-12-21T07:57:5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