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F56-3D84-44CC-A7A1-6AAB7DE6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7D8-0F60-4439-BE90-71F84874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82E-FD58-4552-B799-E1CD9E76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31A-45DF-40E8-9B25-A5B39669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B53-13F5-496F-AB4F-E7E86F79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CBF-55D6-4FC9-8B4D-536FE800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F3E-2C92-4EC2-A4E3-815A7C2F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D8C-123D-41EB-BF11-512BFD01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9DD-5047-4F45-A463-299EE1BB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45B-794E-4791-A43E-75F6AC4F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55B-5A5C-4DA1-A385-948B2AD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C94-5EC9-4F3E-97AB-FEBF3E43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25BE-B0A5-4C13-A3E3-5D0D2917B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33240" y="2158920"/>
            <a:ext cx="79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гра  «Скажи наоборо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Цель: развивать навык подбора антонимов-прилаг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617920" y="168588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952880" y="2505240"/>
            <a:ext cx="914400" cy="82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1667160" y="51498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снежинка большая, а другая … (маленьк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rcRect l="8854" t="0" r="63575" b="17938"/>
          <a:stretch/>
        </p:blipFill>
        <p:spPr>
          <a:xfrm>
            <a:off x="3809880" y="1143000"/>
            <a:ext cx="1646280" cy="3505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661760" y="5186520"/>
            <a:ext cx="52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сосулька короткая, а другая … (длинн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765520" y="603360"/>
            <a:ext cx="2760480" cy="487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632560" y="3429000"/>
            <a:ext cx="1171440" cy="2066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870560" y="5899320"/>
            <a:ext cx="45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елка высокая, а другая … (низк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43200" y="1523880"/>
            <a:ext cx="3803760" cy="3657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674000" y="5454720"/>
            <a:ext cx="52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снеговик весёлый, а другой … (грустны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>
            <a:biLevel thresh="50000"/>
          </a:blip>
          <a:srcRect l="45187" t="47157" r="9269" b="5311"/>
          <a:stretch/>
        </p:blipFill>
        <p:spPr>
          <a:xfrm>
            <a:off x="2743200" y="1295280"/>
            <a:ext cx="6400800" cy="380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52280" y="1322280"/>
            <a:ext cx="1974960" cy="2411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700640" y="5410080"/>
            <a:ext cx="48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дорожка широкая, а другая … (узк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04:26:07Z</dcterms:created>
  <dc:creator>Лена</dc:creator>
  <dc:description/>
  <dc:language>en-US</dc:language>
  <cp:lastModifiedBy>user</cp:lastModifiedBy>
  <dcterms:modified xsi:type="dcterms:W3CDTF">2019-12-21T07:57:5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