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5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58F-B07E-4E66-B28B-0EC3CE16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FAD-7AEC-4430-B752-9FBF4A03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E6C-CB4D-498F-8E07-E400ADFC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AD2-FD1F-47A0-9048-B682E1F9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5BD-7E4A-47B1-B8DA-F614BC36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7E1-C30C-4532-8EEC-643FAA7A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2ED-4BF4-4B29-95A9-FD7CCA73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BE8-5E6E-4358-94F4-CD8B985C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97B-4512-423E-961E-B040100E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39B-293C-4E1F-A275-8ADEF7F0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A6D-293C-447B-BD09-3E04E2FE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570-611F-4B6E-82B6-D334EF5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16B6-4A57-4880-B9F8-BB3687244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МЕТОДИКА </a:t>
            </a:r>
            <a:br>
              <a:rPr sz="3600"/>
            </a:b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ЭКОЛОГИЧЕСКОГО ВОСПИТАНИЯ ДО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4365720"/>
            <a:ext cx="5040000" cy="22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Старший воспитатель МБДОУ № 3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Пекмен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Татья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100_2283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796000" y="2421000"/>
            <a:ext cx="2598840" cy="42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http://www.i-russia.ru/media/photos/medium/41d3ecdb8768e5006f05.jpg"/>
          <p:cNvPicPr/>
          <p:nvPr/>
        </p:nvPicPr>
        <p:blipFill>
          <a:blip r:embed="rId3"/>
          <a:stretch/>
        </p:blipFill>
        <p:spPr>
          <a:xfrm>
            <a:off x="179280" y="2276640"/>
            <a:ext cx="295272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99880" y="2560680"/>
            <a:ext cx="854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ень детских писателей, которые   писали  о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ушкин “ Чтение – вот лучшее учение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Бианки, М.Пришвин, Э.Сетон-Томпсон, К.Чуковский, С.Марш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Михалков, А. Барто, Н.Сладков, Л.Толстой, К.Паустовский, Г.Снегирев и д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арские писатели - А.Алиш, Г.Тукай, Х.Ха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0011-011-CHtenie-vot-luchshee-uchenie"/>
          <p:cNvPicPr/>
          <p:nvPr/>
        </p:nvPicPr>
        <p:blipFill>
          <a:blip r:embed="rId2"/>
          <a:stretch/>
        </p:blipFill>
        <p:spPr>
          <a:xfrm>
            <a:off x="250920" y="260280"/>
            <a:ext cx="2736720" cy="20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0002-002-Bianki-v"/>
          <p:cNvPicPr/>
          <p:nvPr/>
        </p:nvPicPr>
        <p:blipFill>
          <a:blip r:embed="rId3"/>
          <a:stretch/>
        </p:blipFill>
        <p:spPr>
          <a:xfrm>
            <a:off x="250920" y="4581360"/>
            <a:ext cx="2808360" cy="2046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0003-003-Mikhail-Mikhajlovich-Prishvin-1873-1954"/>
          <p:cNvPicPr/>
          <p:nvPr/>
        </p:nvPicPr>
        <p:blipFill>
          <a:blip r:embed="rId4"/>
          <a:stretch/>
        </p:blipFill>
        <p:spPr>
          <a:xfrm>
            <a:off x="6012000" y="260280"/>
            <a:ext cx="2806560" cy="1982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2"/>
          <p:cNvSpPr/>
          <p:nvPr/>
        </p:nvSpPr>
        <p:spPr>
          <a:xfrm>
            <a:off x="6300720" y="4653000"/>
            <a:ext cx="2592360" cy="1944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115284-004-BB9F5D76"/>
          <p:cNvPicPr/>
          <p:nvPr/>
        </p:nvPicPr>
        <p:blipFill>
          <a:blip r:embed="rId5"/>
          <a:stretch/>
        </p:blipFill>
        <p:spPr>
          <a:xfrm>
            <a:off x="6372360" y="4941720"/>
            <a:ext cx="1065240" cy="151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1002308781"/>
          <p:cNvPicPr/>
          <p:nvPr/>
        </p:nvPicPr>
        <p:blipFill>
          <a:blip r:embed="rId6"/>
          <a:stretch/>
        </p:blipFill>
        <p:spPr>
          <a:xfrm>
            <a:off x="7524720" y="4941720"/>
            <a:ext cx="1220760" cy="1513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6"/>
          <p:cNvSpPr/>
          <p:nvPr/>
        </p:nvSpPr>
        <p:spPr>
          <a:xfrm>
            <a:off x="2700360" y="907920"/>
            <a:ext cx="3384360" cy="914400"/>
          </a:xfrm>
          <a:custGeom>
            <a:avLst/>
            <a:gdLst>
              <a:gd name="textAreaLeft" fmla="*/ 107640 w 3384360"/>
              <a:gd name="textAreaRight" fmla="*/ 3276720 w 33843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799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323" y="21600"/>
                </a:lnTo>
                <a:arcTo wR="3600" hR="3600" stAng="10800000" swAng="5400000"/>
                <a:lnTo>
                  <a:pt x="79923" y="3600"/>
                </a:lnTo>
                <a:arcTo wR="3600" hR="3600" stAng="5400000" swAng="5400000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художе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 формир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 к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2987640" y="4149720"/>
            <a:ext cx="3384720" cy="244800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2" descr="http://www.ruscenter.ru/i/kalen/foto/mart/snegirev.jpg"/>
          <p:cNvPicPr/>
          <p:nvPr/>
        </p:nvPicPr>
        <p:blipFill>
          <a:blip r:embed="rId7"/>
          <a:stretch/>
        </p:blipFill>
        <p:spPr>
          <a:xfrm>
            <a:off x="3348000" y="4581360"/>
            <a:ext cx="115272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image"/>
          <p:cNvPicPr/>
          <p:nvPr/>
        </p:nvPicPr>
        <p:blipFill>
          <a:blip r:embed="rId8"/>
          <a:stretch/>
        </p:blipFill>
        <p:spPr>
          <a:xfrm>
            <a:off x="4859280" y="4581360"/>
            <a:ext cx="104796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179280" y="-16560"/>
            <a:ext cx="87408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Й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мага оставленная в лесу разлагается в течение 5 л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овая бутылка более 15 лет, автопокрышка через 15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из семени ландыша выросло цветущее растение необходимо не менее 7–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появления всходов черники до образования первых плодов проходит  более 1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 муравьиное семейство за год уничтожает до 2 млн. насекомых, из которых большинство – вредители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трономы считают началом весны день весеннего равноденствия – 21 марта,  когда ночь и день делят сутки попо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й распространенный овощ в мире – л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остатки находили даже в гробницах египетских фарао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иптяне считали лук большим лакомством и ели его только по празд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7"/>
          <p:cNvSpPr/>
          <p:nvPr/>
        </p:nvSpPr>
        <p:spPr>
          <a:xfrm>
            <a:off x="1187280" y="333360"/>
            <a:ext cx="6913800" cy="280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8"/>
          <p:cNvSpPr txBox="1"/>
          <p:nvPr/>
        </p:nvSpPr>
        <p:spPr>
          <a:xfrm>
            <a:off x="3276720" y="692280"/>
            <a:ext cx="273672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13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PubBanner"/>
          <p:cNvSpPr/>
          <p:nvPr/>
        </p:nvSpPr>
        <p:spPr>
          <a:xfrm>
            <a:off x="250920" y="1628640"/>
            <a:ext cx="8713800" cy="1584360"/>
          </a:xfrm>
          <a:prstGeom prst="pi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оворить сегодня об … – это говор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б изменении … , как прежде, а о ее… 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Распу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ubBanner"/>
          <p:cNvSpPr/>
          <p:nvPr/>
        </p:nvSpPr>
        <p:spPr>
          <a:xfrm>
            <a:off x="179280" y="3213000"/>
            <a:ext cx="8785440" cy="1584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…к природе, впрочем, как и вся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ая …, несомненно, закладывается у нас с 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 Соколов- Микит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ubBanner"/>
          <p:cNvSpPr/>
          <p:nvPr/>
        </p:nvSpPr>
        <p:spPr>
          <a:xfrm>
            <a:off x="468360" y="4869000"/>
            <a:ext cx="8028000" cy="1584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ирода является  … фактором …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пок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ubBanner"/>
          <p:cNvSpPr/>
          <p:nvPr/>
        </p:nvSpPr>
        <p:spPr>
          <a:xfrm>
            <a:off x="179280" y="189000"/>
            <a:ext cx="8713800" cy="15843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природы всего четыре больших декорации - …, вечно одни и те же актеры-солнце,…и прочие светила, зато она меняет… 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Рива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ubBanner"/>
          <p:cNvSpPr/>
          <p:nvPr/>
        </p:nvSpPr>
        <p:spPr>
          <a:xfrm>
            <a:off x="250920" y="1557360"/>
            <a:ext cx="8713800" cy="158436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как воздух и солнце достояние всех и не может быть предметом…».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ий русский писатель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ubBanner"/>
          <p:cNvSpPr/>
          <p:nvPr/>
        </p:nvSpPr>
        <p:spPr>
          <a:xfrm>
            <a:off x="179280" y="2781360"/>
            <a:ext cx="8713800" cy="21589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не признаёт шуток, она всегда правдива, всегда серьёзна: она всегда…, ошибки же и заблуждения исходят от…»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мецкий поэ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ubBanner"/>
          <p:cNvSpPr/>
          <p:nvPr/>
        </p:nvSpPr>
        <p:spPr>
          <a:xfrm>
            <a:off x="179280" y="4508640"/>
            <a:ext cx="8713800" cy="2160360"/>
          </a:xfrm>
          <a:prstGeom prst="pi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е следует насиловать…, следует…ей, необходимые желания…, а также естественные, если они не вредят, а вредные сурово…».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греческий философ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GE096_350A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ubBanner"/>
          <p:cNvSpPr/>
          <p:nvPr/>
        </p:nvSpPr>
        <p:spPr>
          <a:xfrm>
            <a:off x="250920" y="260280"/>
            <a:ext cx="8713800" cy="2305080"/>
          </a:xfrm>
          <a:prstGeom prst="pi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дь не может же быть никем прочитана вся книга…от начала до конца. Вот цель бытия:…её как можно больше, …как можно дальш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ёный, основатель российской космонавтик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Banner"/>
          <p:cNvSpPr/>
          <p:nvPr/>
        </p:nvSpPr>
        <p:spPr>
          <a:xfrm>
            <a:off x="250920" y="2060640"/>
            <a:ext cx="8713800" cy="1584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роде все …продумано и устроено, всяк должен заниматься своим …, и в этой мудрости - высшая…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bBanner"/>
          <p:cNvSpPr/>
          <p:nvPr/>
        </p:nvSpPr>
        <p:spPr>
          <a:xfrm>
            <a:off x="179280" y="3429000"/>
            <a:ext cx="8713800" cy="172872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то, что мните вы, природа: Не слепок, не бездушный… В ней есть…, в ней есть свобода, В ней есть любовь, в ней есть.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.И. Тют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Banner"/>
          <p:cNvSpPr/>
          <p:nvPr/>
        </p:nvSpPr>
        <p:spPr>
          <a:xfrm>
            <a:off x="250920" y="4653000"/>
            <a:ext cx="8713800" cy="2060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егите эти земли, эти…, Даже малую былиночку любя,Берегите всех …внутри природы, Убивайте лишь … внутри себ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6"/>
          <p:cNvSpPr/>
          <p:nvPr/>
        </p:nvSpPr>
        <p:spPr>
          <a:xfrm>
            <a:off x="1285920" y="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ubBanner"/>
          <p:cNvSpPr/>
          <p:nvPr/>
        </p:nvSpPr>
        <p:spPr>
          <a:xfrm>
            <a:off x="179280" y="0"/>
            <a:ext cx="8964720" cy="256536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ценивать…только по стоимости её материальных богатств – это всё равно, что оценивать…великих художников по их метражу или по затратам на холст, краски и раму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йский натуралист, детский писател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ubBanner"/>
          <p:cNvSpPr/>
          <p:nvPr/>
        </p:nvSpPr>
        <p:spPr>
          <a:xfrm>
            <a:off x="0" y="1700280"/>
            <a:ext cx="9144000" cy="432108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е будем, однако, слишком обольщаться наши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природой. За каждую такую … она нам мстит. Каждая из этих…имеет, правда , в первую очередь те…, на которые мы рассчитывали, но во вторую и третью очередь совсем другие, непредвиденные…, которые очень часто уничтожают значение первых 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мецкий идеолог коммунизм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ubBanner"/>
          <p:cNvSpPr/>
          <p:nvPr/>
        </p:nvSpPr>
        <p:spPr>
          <a:xfrm>
            <a:off x="0" y="5273640"/>
            <a:ext cx="9144000" cy="1584360"/>
          </a:xfrm>
          <a:prstGeom prst="pi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3276720" y="5445000"/>
            <a:ext cx="2971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ОЛОДЦЫ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37396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должны приветствовать свет и справедливо разоблачать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дную тьму. Мы должны внимательно различать предрассудо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уеверие от скрытых символов древнего знания. Будем приветствовать все стремления к творчеству и созиданию и оплакивать варварское разрушение ценностей природы и дух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0_3a875_e890ecfc_L"/>
          <p:cNvPicPr/>
          <p:nvPr/>
        </p:nvPicPr>
        <p:blipFill>
          <a:blip r:embed="rId2"/>
          <a:stretch/>
        </p:blipFill>
        <p:spPr>
          <a:xfrm>
            <a:off x="3851280" y="4005360"/>
            <a:ext cx="1908000" cy="183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azaliya"/>
          <p:cNvPicPr/>
          <p:nvPr/>
        </p:nvPicPr>
        <p:blipFill>
          <a:blip r:embed="rId3"/>
          <a:stretch/>
        </p:blipFill>
        <p:spPr>
          <a:xfrm>
            <a:off x="395280" y="260280"/>
            <a:ext cx="1968480" cy="207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vol_31rasteniya15"/>
          <p:cNvPicPr/>
          <p:nvPr/>
        </p:nvPicPr>
        <p:blipFill>
          <a:blip r:embed="rId4"/>
          <a:stretch/>
        </p:blipFill>
        <p:spPr>
          <a:xfrm>
            <a:off x="4498920" y="2492280"/>
            <a:ext cx="4645080" cy="436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i?id=466960233-45-72&amp;n=21"/>
          <p:cNvPicPr/>
          <p:nvPr/>
        </p:nvPicPr>
        <p:blipFill>
          <a:blip r:embed="rId5"/>
          <a:stretch/>
        </p:blipFill>
        <p:spPr>
          <a:xfrm>
            <a:off x="7715160" y="4941720"/>
            <a:ext cx="1428840" cy="15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7" descr="558855826035141952"/>
          <p:cNvPicPr/>
          <p:nvPr/>
        </p:nvPicPr>
        <p:blipFill>
          <a:blip r:embed="rId6"/>
          <a:stretch/>
        </p:blipFill>
        <p:spPr>
          <a:xfrm>
            <a:off x="6767640" y="0"/>
            <a:ext cx="2376360" cy="2343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8" descr="1"/>
          <p:cNvPicPr/>
          <p:nvPr/>
        </p:nvPicPr>
        <p:blipFill>
          <a:blip r:embed="rId7"/>
          <a:stretch/>
        </p:blipFill>
        <p:spPr>
          <a:xfrm>
            <a:off x="3780000" y="333360"/>
            <a:ext cx="1871640" cy="171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2" descr="0b1d4ec2d4d808be2137edf6993eeebd"/>
          <p:cNvPicPr/>
          <p:nvPr/>
        </p:nvPicPr>
        <p:blipFill>
          <a:blip r:embed="rId8"/>
          <a:stretch/>
        </p:blipFill>
        <p:spPr>
          <a:xfrm rot="1475400">
            <a:off x="-181080" y="-171360"/>
            <a:ext cx="1260720" cy="11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4" descr="panda_bebe_new"/>
          <p:cNvPicPr/>
          <p:nvPr/>
        </p:nvPicPr>
        <p:blipFill>
          <a:blip r:embed="rId9"/>
          <a:stretch/>
        </p:blipFill>
        <p:spPr>
          <a:xfrm>
            <a:off x="0" y="4373640"/>
            <a:ext cx="3238560" cy="24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5" descr="http://www.i-russia.ru/media/photos/medium/41d3ecdb8768e5006f05.jpg"/>
          <p:cNvPicPr/>
          <p:nvPr/>
        </p:nvPicPr>
        <p:blipFill>
          <a:blip r:embed="rId10"/>
          <a:stretch/>
        </p:blipFill>
        <p:spPr>
          <a:xfrm>
            <a:off x="1258920" y="5326200"/>
            <a:ext cx="2303280" cy="1531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6"/>
          <p:cNvSpPr/>
          <p:nvPr/>
        </p:nvSpPr>
        <p:spPr>
          <a:xfrm>
            <a:off x="395280" y="2205000"/>
            <a:ext cx="8291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Муниципальное бюджетное дошкольное образовательное учреждение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«Детский сад  №338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комбинированного вида»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 Ново-Савиновского  района г.Каз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5473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Экология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греч. экое - дом, логос - учени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3429000"/>
            <a:ext cx="511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Наука о среде обит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или наука о взаимоотношениях организмов и окруж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Ernst_Haeckel_2"/>
          <p:cNvPicPr/>
          <p:nvPr/>
        </p:nvPicPr>
        <p:blipFill>
          <a:blip r:embed="rId2"/>
          <a:stretch/>
        </p:blipFill>
        <p:spPr>
          <a:xfrm>
            <a:off x="5292720" y="2276640"/>
            <a:ext cx="310500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5076720" y="5661000"/>
            <a:ext cx="3780000" cy="914400"/>
          </a:xfrm>
          <a:custGeom>
            <a:avLst/>
            <a:gdLst>
              <a:gd name="textAreaLeft" fmla="*/ 0 w 3780000"/>
              <a:gd name="textAreaRight" fmla="*/ 3780360 w 37800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рнест Геккель, немецкий би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probudka2012.ucoz.ru/Foto_kollektiv/akhr.jpg"/>
          <p:cNvPicPr/>
          <p:nvPr/>
        </p:nvPicPr>
        <p:blipFill>
          <a:blip r:embed="rId2"/>
          <a:stretch/>
        </p:blipFill>
        <p:spPr>
          <a:xfrm>
            <a:off x="6443640" y="404640"/>
            <a:ext cx="1679760" cy="215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xxlbook.ru/imgh1443365.png"/>
          <p:cNvPicPr/>
          <p:nvPr/>
        </p:nvPicPr>
        <p:blipFill>
          <a:blip r:embed="rId3"/>
          <a:stretch/>
        </p:blipFill>
        <p:spPr>
          <a:xfrm>
            <a:off x="5508720" y="765000"/>
            <a:ext cx="979560" cy="136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100016x_enl"/>
          <p:cNvPicPr/>
          <p:nvPr/>
        </p:nvPicPr>
        <p:blipFill>
          <a:blip r:embed="rId4"/>
          <a:stretch/>
        </p:blipFill>
        <p:spPr>
          <a:xfrm>
            <a:off x="8028000" y="1628640"/>
            <a:ext cx="905040" cy="12956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8"/>
          <p:cNvSpPr/>
          <p:nvPr/>
        </p:nvSpPr>
        <p:spPr>
          <a:xfrm>
            <a:off x="5580000" y="0"/>
            <a:ext cx="3311640" cy="836640"/>
          </a:xfrm>
          <a:custGeom>
            <a:avLst/>
            <a:gdLst>
              <a:gd name="textAreaLeft" fmla="*/ 0 w 3311640"/>
              <a:gd name="textAreaRight" fmla="*/ 3312000 w 3311640"/>
              <a:gd name="textAreaTop" fmla="*/ 108360 h 836640"/>
              <a:gd name="textAreaBottom" fmla="*/ 72828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атьяна Михайловна Бондар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51134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Формирование человека нового типа с новым экологическим мышлением, способного осознавать последствия своих действий по отношению к окружающей   среде и умеющего жить в относительной гармонии с прир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23640" y="4653000"/>
            <a:ext cx="658836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"Птицы и звери, цветы и деревья взывают к человеку: сбереги,  сохрани,  где  стоишь,  где  живешь – на расстоянии взгляда  и  голоса, хотя  бы  на  расстоянии  вытянутой руки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И   твое   активное   личное   пространство,  помноженное  на миллионы, станет охраняемым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остранством Отечества…”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Из «Экологического манифест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Manifestos on the Future of Food and Seed (Paperback) ~ Vandana ... Cover Art"/>
          <p:cNvPicPr/>
          <p:nvPr/>
        </p:nvPicPr>
        <p:blipFill>
          <a:blip r:embed="rId5"/>
          <a:stretch/>
        </p:blipFill>
        <p:spPr>
          <a:xfrm>
            <a:off x="324000" y="4365720"/>
            <a:ext cx="1617480" cy="223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moiseev3"/>
          <p:cNvPicPr/>
          <p:nvPr/>
        </p:nvPicPr>
        <p:blipFill>
          <a:blip r:embed="rId6"/>
          <a:stretch/>
        </p:blipFill>
        <p:spPr>
          <a:xfrm>
            <a:off x="3708360" y="3284640"/>
            <a:ext cx="2994120" cy="1017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5"/>
          <p:cNvSpPr/>
          <p:nvPr/>
        </p:nvSpPr>
        <p:spPr>
          <a:xfrm>
            <a:off x="190440" y="2421000"/>
            <a:ext cx="6159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«У всех людей возникает всё больше общих интерес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главный из которых - сохранить на Земле человечество»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6"/>
          <p:cNvSpPr/>
          <p:nvPr/>
        </p:nvSpPr>
        <p:spPr>
          <a:xfrm>
            <a:off x="539640" y="115920"/>
            <a:ext cx="4969080" cy="676080"/>
          </a:xfrm>
          <a:custGeom>
            <a:avLst/>
            <a:gdLst>
              <a:gd name="textAreaLeft" fmla="*/ 1134360 w 4969080"/>
              <a:gd name="textAreaRight" fmla="*/ 3834720 w 4969080"/>
              <a:gd name="textAreaTop" fmla="*/ 154080 h 676080"/>
              <a:gd name="textAreaBottom" fmla="*/ 522000 h 67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3"/>
          <p:cNvSpPr/>
          <p:nvPr/>
        </p:nvSpPr>
        <p:spPr>
          <a:xfrm>
            <a:off x="179280" y="1197000"/>
            <a:ext cx="3168720" cy="27860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35760 h 2786040"/>
              <a:gd name="textAreaBottom" fmla="*/ 21502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Воспитание люб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к родной природ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способности восприним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и глубоко чувствов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ее красоту, ум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бережно относи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к растения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животны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1332000" y="333360"/>
            <a:ext cx="7127640" cy="914400"/>
          </a:xfrm>
          <a:custGeom>
            <a:avLst/>
            <a:gdLst>
              <a:gd name="textAreaLeft" fmla="*/ 1627200 w 7127640"/>
              <a:gd name="textAreaRight" fmla="*/ 5500440 w 71276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2843280" y="2060640"/>
            <a:ext cx="3313080" cy="2786040"/>
          </a:xfrm>
          <a:custGeom>
            <a:avLst/>
            <a:gdLst>
              <a:gd name="textAreaLeft" fmla="*/ 756360 w 3313080"/>
              <a:gd name="textAreaRight" fmla="*/ 2556720 w 3313080"/>
              <a:gd name="textAreaTop" fmla="*/ 635760 h 2786040"/>
              <a:gd name="textAreaBottom" fmla="*/ 21502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элементар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знаний о природе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формирование на эт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основе конкрет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представлений о явлени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живой и нежи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прир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5796000" y="1268280"/>
            <a:ext cx="3168720" cy="27860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35760 h 2786040"/>
              <a:gd name="textAreaBottom" fmla="*/ 21502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Овладение умен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ухода за раст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и живыми существа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2771640" y="4798440"/>
            <a:ext cx="215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ирода не терп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неточ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и не прощ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ошиб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399600" y="4006080"/>
            <a:ext cx="221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«Я не знаю нич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более прекрасно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чем наша Земля»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6019560" y="4007160"/>
            <a:ext cx="2904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«Мы так много говор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о любви к природ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что забываем: любовь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это прежде всего знание»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5" descr="0006-006-K"/>
          <p:cNvPicPr/>
          <p:nvPr/>
        </p:nvPicPr>
        <p:blipFill>
          <a:blip r:embed="rId2"/>
          <a:stretch/>
        </p:blipFill>
        <p:spPr>
          <a:xfrm>
            <a:off x="611280" y="5273640"/>
            <a:ext cx="1244520" cy="158436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6"/>
          <p:cNvSpPr/>
          <p:nvPr/>
        </p:nvSpPr>
        <p:spPr>
          <a:xfrm>
            <a:off x="179280" y="4797360"/>
            <a:ext cx="2303640" cy="863640"/>
          </a:xfrm>
          <a:custGeom>
            <a:avLst/>
            <a:gdLst>
              <a:gd name="textAreaLeft" fmla="*/ 0 w 2303640"/>
              <a:gd name="textAreaRight" fmla="*/ 2304000 w 230364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стантин Георги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аустовский, пис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1" descr="&amp;Bcy;&amp;icy;&amp;ocy;&amp;gcy;&amp;rcy;&amp;acy;&amp;fcy;&amp;icy;&amp;yacy; &amp;Rcy;&amp;acy;&amp;lcy;&amp;softcy;&amp;fcy; &amp;Ucy;&amp;ocy;&amp;lcy;&amp;dcy;&amp;ocy; &amp;Ecy;&amp;mcy;&amp;iecy;&amp;rcy;&amp;scy;&amp;ocy;&amp;ncy;. &amp;Dcy;&amp;ocy;&amp;vcy;&amp;iecy;&amp;rcy;&amp;icy;&amp;iecy; &amp;kcy; &amp;scy;&amp;iecy;&amp;bcy;&amp;iecy;. &amp;TScy;&amp;icy;&amp;tcy;&amp;acy;&amp;tcy;&amp;ycy;, &amp;acy;&amp;fcy;&amp;ocy;&amp;rcy;&amp;icy;&amp;zcy;&amp;mcy;&amp;ycy;"/>
          <p:cNvPicPr/>
          <p:nvPr/>
        </p:nvPicPr>
        <p:blipFill>
          <a:blip r:embed="rId3"/>
          <a:stretch/>
        </p:blipFill>
        <p:spPr>
          <a:xfrm>
            <a:off x="4284720" y="4869000"/>
            <a:ext cx="1320840" cy="1989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2"/>
          <p:cNvSpPr/>
          <p:nvPr/>
        </p:nvSpPr>
        <p:spPr>
          <a:xfrm>
            <a:off x="2411280" y="5805360"/>
            <a:ext cx="2303640" cy="863640"/>
          </a:xfrm>
          <a:custGeom>
            <a:avLst/>
            <a:gdLst>
              <a:gd name="textAreaLeft" fmla="*/ 0 w 2303640"/>
              <a:gd name="textAreaRight" fmla="*/ 2304000 w 230364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Ральф Уолдо Эмерсо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исатель, филосо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4" descr="&amp;Vcy;&amp;acy;&amp;scy;&amp;icy;&amp;lcy;&amp;softcy;&amp;iecy;&amp;vcy; &amp;Icy;&amp;vcy;&amp;acy;&amp;ncy; &amp;Acy;&amp;fcy;&amp;acy;&amp;ncy;&amp;acy;&amp;scy;&amp;softcy;&amp;iecy;&amp;vcy;&amp;icy;&amp;chcy;"/>
          <p:cNvPicPr/>
          <p:nvPr/>
        </p:nvPicPr>
        <p:blipFill>
          <a:blip r:embed="rId4"/>
          <a:stretch/>
        </p:blipFill>
        <p:spPr>
          <a:xfrm>
            <a:off x="5796000" y="5013360"/>
            <a:ext cx="1155600" cy="1709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6"/>
          <p:cNvSpPr/>
          <p:nvPr/>
        </p:nvSpPr>
        <p:spPr>
          <a:xfrm>
            <a:off x="6659640" y="5994360"/>
            <a:ext cx="2303280" cy="863640"/>
          </a:xfrm>
          <a:custGeom>
            <a:avLst/>
            <a:gdLst>
              <a:gd name="textAreaLeft" fmla="*/ 0 w 2303280"/>
              <a:gd name="textAreaRight" fmla="*/ 2303640 w 230328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ван Афанась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асильев, публиц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Роль педагога в экологическом воспитании дошк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кологическое воспитание дошкольников должен осуществлять педагог, который сам владеет знаниями в области экологии, сам любит природу и заботится о ней. Он преподносит комплекс экологических знаний в доступной, увлекательной форме на основе принципа развивающего обучения и направленного на развитие личности ребенка. Учитывает интерес и возрастные особ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/>
          <p:cNvSpPr/>
          <p:nvPr/>
        </p:nvSpPr>
        <p:spPr>
          <a:xfrm>
            <a:off x="250920" y="4005360"/>
            <a:ext cx="2773440" cy="2520720"/>
          </a:xfrm>
          <a:prstGeom prst="cloudCallout">
            <a:avLst>
              <a:gd name="adj1" fmla="val 52347"/>
              <a:gd name="adj2" fmla="val -121662"/>
            </a:avLst>
          </a:prstGeom>
          <a:solidFill>
            <a:srgbClr val="00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На участ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 уголке природы, в цвет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0" y="1268280"/>
            <a:ext cx="2771640" cy="1873440"/>
          </a:xfrm>
          <a:prstGeom prst="cloudCallout">
            <a:avLst>
              <a:gd name="adj1" fmla="val 65578"/>
              <a:gd name="adj2" fmla="val -32625"/>
            </a:avLst>
          </a:prstGeom>
          <a:solidFill>
            <a:srgbClr val="00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Метод экперимент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Несложные опы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2771640" y="2205000"/>
            <a:ext cx="2737080" cy="1944720"/>
          </a:xfrm>
          <a:prstGeom prst="cloudCallout">
            <a:avLst>
              <a:gd name="adj1" fmla="val 27611"/>
              <a:gd name="adj2" fmla="val -78814"/>
            </a:avLst>
          </a:prstGeom>
          <a:solidFill>
            <a:srgbClr val="00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Дидактическ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южетно-ролевая, твор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4500720" y="4149720"/>
            <a:ext cx="4392360" cy="2519280"/>
          </a:xfrm>
          <a:prstGeom prst="cloudCallout">
            <a:avLst>
              <a:gd name="adj1" fmla="val -26726"/>
              <a:gd name="adj2" fmla="val -112004"/>
            </a:avLst>
          </a:prstGeom>
          <a:solidFill>
            <a:srgbClr val="00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Словесные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Беседы, составление описательных рассказов, решение речевых логических задач, чтение художественной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5940360" y="1413000"/>
            <a:ext cx="3203640" cy="2447640"/>
          </a:xfrm>
          <a:prstGeom prst="cloudCallout">
            <a:avLst>
              <a:gd name="adj1" fmla="val -64222"/>
              <a:gd name="adj2" fmla="val -37481"/>
            </a:avLst>
          </a:prstGeom>
          <a:solidFill>
            <a:srgbClr val="00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Метод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«Экосистем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«Свой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«Строе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«Живые организм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2195640" y="260280"/>
            <a:ext cx="5040360" cy="1440000"/>
          </a:xfrm>
          <a:prstGeom prst="wedgeEllipseCallout">
            <a:avLst>
              <a:gd name="adj1" fmla="val -5875"/>
              <a:gd name="adj2" fmla="val 53967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Методы экологического образования детей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1. Организованные: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экскурсии (в лес, парк, луг, водоем и т.д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занятия (познавательные, комбинированные, комплексные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наблюдения за животными и растениями, явлениями природы, деятельностью людей в прир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2. Совместная деяте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наблюдения в уголке природы, труд в уголке природ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целевые прогулки на природе, поход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чтение художественных произведений о природе (стихи, рассказы, сказки), рассматривание иллюстраций в книгах, экологические сказ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матривание картин из жизни диких животных, художников И.И.Левитана, А.К.Саврасова, В.Д.Поленова, И.И.Шишкина, К.Ф.Юона и др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казы воспитателя о животных, растениях, неживой природы. о заповедниках, заказниках, памятниках природы т.д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бота с моделя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беседы и разговоры с детьми на экологические тем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бор коллекций, семян, камней, листье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экологические праздники и досуги (“День птиц”,“День Земли”,“День рождения Леса” и т.д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ыты, поисковая деятельность в экологическом кружке или лаборатории юного исследовате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рафоны, аукционы, ак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экологические тренинги с обсуждением и проигрыванием ситуац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экологические троп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игры (подвижные. дидактические, театрализованные, музыкальные, интеллектуальные КВН, “Поле чудес” и “Что, где, когда?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зличные виды изобразительной деятельности на экологическую тематик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бота с календарями природы, дневниками наблюд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изготовление и обыгрывание макетов (зоопарк, дикие животные. домашние животные, животные жарких стран) и панно (лес – наше богатство, где в природе есть вода, кто в море живе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2195640" y="0"/>
            <a:ext cx="5040360" cy="720720"/>
          </a:xfrm>
          <a:prstGeom prst="wedgeEllipseCallout">
            <a:avLst>
              <a:gd name="adj1" fmla="val -3166"/>
              <a:gd name="adj2" fmla="val 51319"/>
            </a:avLst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ФОРМЫ ЭКОЛОГИЧЕСКОГО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 rot="10800000">
            <a:off x="179280" y="5660640"/>
            <a:ext cx="2664000" cy="1041480"/>
          </a:xfrm>
          <a:prstGeom prst="wedgeRoundRectCallout">
            <a:avLst>
              <a:gd name="adj1" fmla="val -53337"/>
              <a:gd name="adj2" fmla="val 86736"/>
              <a:gd name="adj3" fmla="val 16667"/>
            </a:avLst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бота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 rot="10800000">
            <a:off x="3132000" y="5660640"/>
            <a:ext cx="2880000" cy="1041480"/>
          </a:xfrm>
          <a:prstGeom prst="wedgeRoundRectCallout">
            <a:avLst>
              <a:gd name="adj1" fmla="val 768"/>
              <a:gd name="adj2" fmla="val 89175"/>
              <a:gd name="adj3" fmla="val 16667"/>
            </a:avLst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бота с педаг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 rot="10800000">
            <a:off x="6300720" y="5660640"/>
            <a:ext cx="2664000" cy="1041480"/>
          </a:xfrm>
          <a:prstGeom prst="wedgeRoundRectCallout">
            <a:avLst>
              <a:gd name="adj1" fmla="val 60305"/>
              <a:gd name="adj2" fmla="val 84296"/>
              <a:gd name="adj3" fmla="val 16667"/>
            </a:avLst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бота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3"/>
          <p:cNvSpPr/>
          <p:nvPr/>
        </p:nvSpPr>
        <p:spPr>
          <a:xfrm>
            <a:off x="324000" y="0"/>
            <a:ext cx="8424720" cy="1319040"/>
          </a:xfrm>
          <a:custGeom>
            <a:avLst/>
            <a:gdLst>
              <a:gd name="textAreaLeft" fmla="*/ 1923120 w 8424720"/>
              <a:gd name="textAreaRight" fmla="*/ 6501600 w 8424720"/>
              <a:gd name="textAreaTop" fmla="*/ 300960 h 1319040"/>
              <a:gd name="textAreaBottom" fmla="*/ 1018080 h 131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ичины небрежного, порой безжалостного 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тношения детей 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4"/>
          <p:cNvSpPr/>
          <p:nvPr/>
        </p:nvSpPr>
        <p:spPr>
          <a:xfrm rot="16200000">
            <a:off x="7128720" y="1809000"/>
            <a:ext cx="2232000" cy="1008000"/>
          </a:xfrm>
          <a:custGeom>
            <a:avLst/>
            <a:gdLst>
              <a:gd name="textAreaLeft" fmla="*/ 509400 w 2232000"/>
              <a:gd name="textAreaRight" fmla="*/ 1722600 w 223200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тсут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4572000" y="1341360"/>
            <a:ext cx="1081080" cy="2303640"/>
          </a:xfrm>
          <a:custGeom>
            <a:avLst/>
            <a:gdLst>
              <a:gd name="textAreaLeft" fmla="*/ 246600 w 1081080"/>
              <a:gd name="textAreaRight" fmla="*/ 834480 w 1081080"/>
              <a:gd name="textAreaTop" fmla="*/ 525960 h 2303640"/>
              <a:gd name="textAreaBottom" fmla="*/ 17776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о стор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зрос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6084720" y="1341360"/>
            <a:ext cx="1059120" cy="2232000"/>
          </a:xfrm>
          <a:custGeom>
            <a:avLst/>
            <a:gdLst>
              <a:gd name="textAreaLeft" fmla="*/ 241560 w 1059120"/>
              <a:gd name="textAreaRight" fmla="*/ 817560 w 1059120"/>
              <a:gd name="textAreaTop" fmla="*/ 509400 h 2232000"/>
              <a:gd name="textAreaBottom" fmla="*/ 17226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одраж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зрос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1763640" y="1268280"/>
            <a:ext cx="1008000" cy="215928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492840 h 2159280"/>
              <a:gd name="textAreaBottom" fmla="*/ 16664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любопы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179280" y="1268280"/>
            <a:ext cx="914400" cy="2160720"/>
          </a:xfrm>
          <a:custGeom>
            <a:avLst/>
            <a:gdLst>
              <a:gd name="textAreaLeft" fmla="*/ 208800 w 914400"/>
              <a:gd name="textAreaRight" fmla="*/ 705600 w 914400"/>
              <a:gd name="textAreaTop" fmla="*/ 493200 h 2160720"/>
              <a:gd name="textAreaBottom" fmla="*/ 16675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по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 rot="16200000">
            <a:off x="2556000" y="1844640"/>
            <a:ext cx="2303280" cy="1008000"/>
          </a:xfrm>
          <a:custGeom>
            <a:avLst/>
            <a:gdLst>
              <a:gd name="textAreaLeft" fmla="*/ 525600 w 2303280"/>
              <a:gd name="textAreaRight" fmla="*/ 1777680 w 2303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тсут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 семьё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1"/>
          <p:cNvSpPr/>
          <p:nvPr/>
        </p:nvSpPr>
        <p:spPr>
          <a:xfrm>
            <a:off x="2700360" y="5445000"/>
            <a:ext cx="3672000" cy="129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оним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обходимости береж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тношения к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468360" y="3716280"/>
            <a:ext cx="835344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ритерии сформированного осознанного и активного 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гуманного отношения к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4"/>
          <p:cNvSpPr/>
          <p:nvPr/>
        </p:nvSpPr>
        <p:spPr>
          <a:xfrm>
            <a:off x="0" y="4581360"/>
            <a:ext cx="295272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своен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облю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орм 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 природ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круж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5"/>
          <p:cNvSpPr/>
          <p:nvPr/>
        </p:nvSpPr>
        <p:spPr>
          <a:xfrm>
            <a:off x="6156360" y="4581360"/>
            <a:ext cx="298764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о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дейст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з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к объек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ир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8:57:21Z</dcterms:created>
  <dc:creator>z</dc:creator>
  <dc:description/>
  <dc:language>en-US</dc:language>
  <cp:lastModifiedBy>HP</cp:lastModifiedBy>
  <dcterms:modified xsi:type="dcterms:W3CDTF">2023-02-20T09:49:46Z</dcterms:modified>
  <cp:revision>25</cp:revision>
  <dc:subject/>
  <dc:title>Слайд 1</dc:title>
</cp:coreProperties>
</file>