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5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28.jpeg" ContentType="image/jpeg"/>
  <Override PartName="/ppt/media/image18.png" ContentType="image/png"/>
  <Override PartName="/ppt/media/image15.png" ContentType="image/png"/>
  <Override PartName="/ppt/media/image24.jpeg" ContentType="image/jpeg"/>
  <Override PartName="/ppt/media/image5.png" ContentType="image/png"/>
  <Override PartName="/ppt/media/image10.png" ContentType="image/png"/>
  <Override PartName="/ppt/media/image2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3560-EA5F-41C3-A0E4-3CA175EB3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A9E8-64FD-4083-A9CD-796C15CF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953E-63BD-47AB-AC1B-8F613A8BB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3406-8B51-4E1C-BAD0-9E704D2EC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E297-7005-4AC5-A1F9-C7678345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D64F-04A9-41F3-A419-D8DBDE43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B988-DCB0-406C-89DB-ABA14DC8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5965-9A86-4D1C-BA09-A166BC88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E937-C558-42BE-8CA2-58A57883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2875-B56C-46ED-9367-DD3B6C88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94C9-639D-4D70-AE5E-2B1EE208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24C3-2E21-4325-9DD4-80BAF1B4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F182-D0B6-4869-A4DA-4E4BE62FCB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GE096_35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80"/>
                </a:solidFill>
                <a:latin typeface="Arial"/>
              </a:rPr>
              <a:t>МЕТОДИКА </a:t>
            </a:r>
            <a:br>
              <a:rPr sz="3600"/>
            </a:br>
            <a:r>
              <a:rPr b="1" lang="ru-RU" sz="3600" spc="-1" strike="noStrike">
                <a:solidFill>
                  <a:srgbClr val="008080"/>
                </a:solidFill>
                <a:latin typeface="Arial"/>
              </a:rPr>
              <a:t>ЭКОЛОГИЧЕСКОГО ВОСПИТАНИЯ ДОШКОЛЬ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24000" y="4365720"/>
            <a:ext cx="5040000" cy="22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Старший воспитатель МБДОУ № 3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Пекмено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Татьяна Викто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4" descr="100_2283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5796000" y="2421000"/>
            <a:ext cx="2598840" cy="424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6" descr="http://www.i-russia.ru/media/photos/medium/41d3ecdb8768e5006f05.jpg"/>
          <p:cNvPicPr/>
          <p:nvPr/>
        </p:nvPicPr>
        <p:blipFill>
          <a:blip r:embed="rId3"/>
          <a:stretch/>
        </p:blipFill>
        <p:spPr>
          <a:xfrm>
            <a:off x="179280" y="2276640"/>
            <a:ext cx="2952720" cy="1963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GE096_35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299880" y="2560680"/>
            <a:ext cx="854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чень детских писателей, которые   писали  о прир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С.Пушкин “ Чтение – вот лучшее учение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Бианки, М.Пришвин, Э.Сетон-Томпсон, К.Чуковский, С.Марша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Михалков, А. Барто, Н.Сладков, Л.Толстой, К.Паустовский, Г.Снегирев и др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тарские писатели - А.Алиш, Г.Тукай, Х.Хал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0011-011-CHtenie-vot-luchshee-uchenie"/>
          <p:cNvPicPr/>
          <p:nvPr/>
        </p:nvPicPr>
        <p:blipFill>
          <a:blip r:embed="rId2"/>
          <a:stretch/>
        </p:blipFill>
        <p:spPr>
          <a:xfrm>
            <a:off x="250920" y="260280"/>
            <a:ext cx="2736720" cy="2071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0002-002-Bianki-v"/>
          <p:cNvPicPr/>
          <p:nvPr/>
        </p:nvPicPr>
        <p:blipFill>
          <a:blip r:embed="rId3"/>
          <a:stretch/>
        </p:blipFill>
        <p:spPr>
          <a:xfrm>
            <a:off x="250920" y="4581360"/>
            <a:ext cx="2808360" cy="2046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0003-003-Mikhail-Mikhajlovich-Prishvin-1873-1954"/>
          <p:cNvPicPr/>
          <p:nvPr/>
        </p:nvPicPr>
        <p:blipFill>
          <a:blip r:embed="rId4"/>
          <a:stretch/>
        </p:blipFill>
        <p:spPr>
          <a:xfrm>
            <a:off x="6012000" y="260280"/>
            <a:ext cx="2806560" cy="19828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2"/>
          <p:cNvSpPr/>
          <p:nvPr/>
        </p:nvSpPr>
        <p:spPr>
          <a:xfrm>
            <a:off x="6300720" y="4653000"/>
            <a:ext cx="2592360" cy="1944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3" descr="115284-004-BB9F5D76"/>
          <p:cNvPicPr/>
          <p:nvPr/>
        </p:nvPicPr>
        <p:blipFill>
          <a:blip r:embed="rId5"/>
          <a:stretch/>
        </p:blipFill>
        <p:spPr>
          <a:xfrm>
            <a:off x="6372360" y="4941720"/>
            <a:ext cx="1065240" cy="1511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1002308781"/>
          <p:cNvPicPr/>
          <p:nvPr/>
        </p:nvPicPr>
        <p:blipFill>
          <a:blip r:embed="rId6"/>
          <a:stretch/>
        </p:blipFill>
        <p:spPr>
          <a:xfrm>
            <a:off x="7524720" y="4941720"/>
            <a:ext cx="1220760" cy="151308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16"/>
          <p:cNvSpPr/>
          <p:nvPr/>
        </p:nvSpPr>
        <p:spPr>
          <a:xfrm>
            <a:off x="2700360" y="907920"/>
            <a:ext cx="3384360" cy="914400"/>
          </a:xfrm>
          <a:custGeom>
            <a:avLst/>
            <a:gdLst>
              <a:gd name="textAreaLeft" fmla="*/ 107640 w 3384360"/>
              <a:gd name="textAreaRight" fmla="*/ 3276720 w 33843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7992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6323" y="21600"/>
                </a:lnTo>
                <a:arcTo wR="3600" hR="3600" stAng="10800000" swAng="5400000"/>
                <a:lnTo>
                  <a:pt x="79923" y="3600"/>
                </a:lnTo>
                <a:arcTo wR="3600" hR="3600" stAng="5400000" swAng="5400000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е художеств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едений формиру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вь к прир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1"/>
          <p:cNvSpPr/>
          <p:nvPr/>
        </p:nvSpPr>
        <p:spPr>
          <a:xfrm>
            <a:off x="2987640" y="4149720"/>
            <a:ext cx="3384720" cy="244800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2" descr="http://www.ruscenter.ru/i/kalen/foto/mart/snegirev.jpg"/>
          <p:cNvPicPr/>
          <p:nvPr/>
        </p:nvPicPr>
        <p:blipFill>
          <a:blip r:embed="rId7"/>
          <a:stretch/>
        </p:blipFill>
        <p:spPr>
          <a:xfrm>
            <a:off x="3348000" y="4581360"/>
            <a:ext cx="1152720" cy="1428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3" descr="image"/>
          <p:cNvPicPr/>
          <p:nvPr/>
        </p:nvPicPr>
        <p:blipFill>
          <a:blip r:embed="rId8"/>
          <a:stretch/>
        </p:blipFill>
        <p:spPr>
          <a:xfrm>
            <a:off x="4859280" y="4581360"/>
            <a:ext cx="1047960" cy="1440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GE096_35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4"/>
          <p:cNvSpPr/>
          <p:nvPr/>
        </p:nvSpPr>
        <p:spPr>
          <a:xfrm>
            <a:off x="179280" y="-16560"/>
            <a:ext cx="87408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НАЙТ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мага оставленная в лесу разлагается в течение 5 ле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иэтиленовая бутылка более 15 лет, автопокрышка через 150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из семени ландыша выросло цветущее растение необходимо не менее 7–8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 появления всходов черники до образования первых плодов проходит  более 10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но муравьиное семейство за год уничтожает до 2 млн. насекомых, из которых большинство – вредители ле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строномы считают началом весны день весеннего равноденствия – 21 марта,  когда ночь и день делят сутки попол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ый распространенный овощ в мире – лу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го остатки находили даже в гробницах египетских фараон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гиптяне считали лук большим лакомством и ели его только по праздник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GE096_35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7"/>
          <p:cNvSpPr/>
          <p:nvPr/>
        </p:nvSpPr>
        <p:spPr>
          <a:xfrm>
            <a:off x="1187280" y="333360"/>
            <a:ext cx="6913800" cy="2808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WordArt 8"/>
          <p:cNvSpPr txBox="1"/>
          <p:nvPr/>
        </p:nvSpPr>
        <p:spPr>
          <a:xfrm>
            <a:off x="3276720" y="692280"/>
            <a:ext cx="273672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913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ИКТОР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1" name="PubBanner"/>
          <p:cNvSpPr/>
          <p:nvPr/>
        </p:nvSpPr>
        <p:spPr>
          <a:xfrm>
            <a:off x="250920" y="1628640"/>
            <a:ext cx="8713800" cy="1584360"/>
          </a:xfrm>
          <a:prstGeom prst="pi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Говорить сегодня об … – это говор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об изменении … , как прежде, а о ее… 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 Распут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ubBanner"/>
          <p:cNvSpPr/>
          <p:nvPr/>
        </p:nvSpPr>
        <p:spPr>
          <a:xfrm>
            <a:off x="179280" y="3213000"/>
            <a:ext cx="8785440" cy="158436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 …к природе, впрочем, как и вся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ческая …, несомненно, закладывается у нас с …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. Соколов- Микито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ubBanner"/>
          <p:cNvSpPr/>
          <p:nvPr/>
        </p:nvSpPr>
        <p:spPr>
          <a:xfrm>
            <a:off x="468360" y="4869000"/>
            <a:ext cx="8028000" cy="15843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рирода является  … фактором …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иппокр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GE096_35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ubBanner"/>
          <p:cNvSpPr/>
          <p:nvPr/>
        </p:nvSpPr>
        <p:spPr>
          <a:xfrm>
            <a:off x="179280" y="189000"/>
            <a:ext cx="8713800" cy="158436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 природы всего четыре больших декорации - …, вечно одни и те же актеры-солнце,…и прочие светила, зато она меняет… </a:t>
            </a:r>
            <a:br>
              <a:rPr sz="16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 Рива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ubBanner"/>
          <p:cNvSpPr/>
          <p:nvPr/>
        </p:nvSpPr>
        <p:spPr>
          <a:xfrm>
            <a:off x="250920" y="1557360"/>
            <a:ext cx="8713800" cy="158436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…как воздух и солнце достояние всех и не может быть предметом…».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ликий русский писатель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ubBanner"/>
          <p:cNvSpPr/>
          <p:nvPr/>
        </p:nvSpPr>
        <p:spPr>
          <a:xfrm>
            <a:off x="179280" y="2781360"/>
            <a:ext cx="8713800" cy="215892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…не признаёт шуток, она всегда правдива, всегда серьёзна: она всегда…, ошибки же и заблуждения исходят от…».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мецкий поэ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ubBanner"/>
          <p:cNvSpPr/>
          <p:nvPr/>
        </p:nvSpPr>
        <p:spPr>
          <a:xfrm>
            <a:off x="179280" y="4508640"/>
            <a:ext cx="8713800" cy="2160360"/>
          </a:xfrm>
          <a:prstGeom prst="pi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е следует насиловать…, следует…ей, необходимые желания…, а также естественные, если они не вредят, а вредные сурово…».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евнегреческий философ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GE096_350A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ubBanner"/>
          <p:cNvSpPr/>
          <p:nvPr/>
        </p:nvSpPr>
        <p:spPr>
          <a:xfrm>
            <a:off x="250920" y="260280"/>
            <a:ext cx="8713800" cy="2305080"/>
          </a:xfrm>
          <a:prstGeom prst="pi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едь не может же быть никем прочитана вся книга…от начала до конца. Вот цель бытия:…её как можно больше, …как можно дальш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ёный, основатель российской космонавтик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ubBanner"/>
          <p:cNvSpPr/>
          <p:nvPr/>
        </p:nvSpPr>
        <p:spPr>
          <a:xfrm>
            <a:off x="250920" y="2060640"/>
            <a:ext cx="8713800" cy="158436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ироде все …продумано и устроено, всяк должен заниматься своим …, и в этой мудрости - высшая…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онардо да Вин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ubBanner"/>
          <p:cNvSpPr/>
          <p:nvPr/>
        </p:nvSpPr>
        <p:spPr>
          <a:xfrm>
            <a:off x="179280" y="3429000"/>
            <a:ext cx="8713800" cy="1728720"/>
          </a:xfrm>
          <a:prstGeom prst="pi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то, что мните вы, природа: Не слепок, не бездушный… В ней есть…, в ней есть свобода, В ней есть любовь, в ней есть..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.И. Тютч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ubBanner"/>
          <p:cNvSpPr/>
          <p:nvPr/>
        </p:nvSpPr>
        <p:spPr>
          <a:xfrm>
            <a:off x="250920" y="4653000"/>
            <a:ext cx="8713800" cy="206064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регите эти земли, эти…, Даже малую былиночку любя,Берегите всех …внутри природы, Убивайте лишь … внутри себя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. Евтуш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6"/>
          <p:cNvSpPr/>
          <p:nvPr/>
        </p:nvSpPr>
        <p:spPr>
          <a:xfrm>
            <a:off x="1285920" y="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GE096_35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ubBanner"/>
          <p:cNvSpPr/>
          <p:nvPr/>
        </p:nvSpPr>
        <p:spPr>
          <a:xfrm>
            <a:off x="179280" y="0"/>
            <a:ext cx="8964720" cy="256536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ценивать…только по стоимости её материальных богатств – это всё равно, что оценивать…великих художников по их метражу или по затратам на холст, краски и раму»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ссийский натуралист, детский писател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ubBanner"/>
          <p:cNvSpPr/>
          <p:nvPr/>
        </p:nvSpPr>
        <p:spPr>
          <a:xfrm>
            <a:off x="0" y="1700280"/>
            <a:ext cx="9144000" cy="4321080"/>
          </a:xfrm>
          <a:prstGeom prst="pi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е будем, однако, слишком обольщаться нашим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 природой. За каждую такую … она нам мстит. Каждая из этих…имеет, правда , в первую очередь те…, на которые мы рассчитывали, но во вторую и третью очередь совсем другие, непредвиденные…, которые очень часто уничтожают значение первых »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мецкий идеолог коммунизм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ubBanner"/>
          <p:cNvSpPr/>
          <p:nvPr/>
        </p:nvSpPr>
        <p:spPr>
          <a:xfrm>
            <a:off x="0" y="5273640"/>
            <a:ext cx="9144000" cy="1584360"/>
          </a:xfrm>
          <a:prstGeom prst="pi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WordArt 7"/>
          <p:cNvSpPr txBox="1"/>
          <p:nvPr/>
        </p:nvSpPr>
        <p:spPr>
          <a:xfrm>
            <a:off x="3276720" y="5445000"/>
            <a:ext cx="2971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МОЛОДЦЫ 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GE096_35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3640" y="549360"/>
            <a:ext cx="837396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должны приветствовать свет и справедливо разоблачать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дную тьму. Мы должны внимательно различать предрассудок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суеверие от скрытых символов древнего знания. Будем приветствовать все стремления к творчеству и созиданию и оплакивать варварское разрушение ценностей природы и дух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GE096_35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7" descr="0_3a875_e890ecfc_L"/>
          <p:cNvPicPr/>
          <p:nvPr/>
        </p:nvPicPr>
        <p:blipFill>
          <a:blip r:embed="rId2"/>
          <a:stretch/>
        </p:blipFill>
        <p:spPr>
          <a:xfrm>
            <a:off x="3851280" y="4005360"/>
            <a:ext cx="1908000" cy="1833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7" descr="azaliya"/>
          <p:cNvPicPr/>
          <p:nvPr/>
        </p:nvPicPr>
        <p:blipFill>
          <a:blip r:embed="rId3"/>
          <a:stretch/>
        </p:blipFill>
        <p:spPr>
          <a:xfrm>
            <a:off x="395280" y="260280"/>
            <a:ext cx="1968480" cy="2071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9" descr="vol_31rasteniya15"/>
          <p:cNvPicPr/>
          <p:nvPr/>
        </p:nvPicPr>
        <p:blipFill>
          <a:blip r:embed="rId4"/>
          <a:stretch/>
        </p:blipFill>
        <p:spPr>
          <a:xfrm>
            <a:off x="4498920" y="2492280"/>
            <a:ext cx="4645080" cy="4365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i?id=466960233-45-72&amp;n=21"/>
          <p:cNvPicPr/>
          <p:nvPr/>
        </p:nvPicPr>
        <p:blipFill>
          <a:blip r:embed="rId5"/>
          <a:stretch/>
        </p:blipFill>
        <p:spPr>
          <a:xfrm>
            <a:off x="7715160" y="4941720"/>
            <a:ext cx="1428840" cy="1557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7" descr="558855826035141952"/>
          <p:cNvPicPr/>
          <p:nvPr/>
        </p:nvPicPr>
        <p:blipFill>
          <a:blip r:embed="rId6"/>
          <a:stretch/>
        </p:blipFill>
        <p:spPr>
          <a:xfrm>
            <a:off x="6767640" y="0"/>
            <a:ext cx="2376360" cy="2343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8" descr="1"/>
          <p:cNvPicPr/>
          <p:nvPr/>
        </p:nvPicPr>
        <p:blipFill>
          <a:blip r:embed="rId7"/>
          <a:stretch/>
        </p:blipFill>
        <p:spPr>
          <a:xfrm>
            <a:off x="3780000" y="333360"/>
            <a:ext cx="1871640" cy="1719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2" descr="0b1d4ec2d4d808be2137edf6993eeebd"/>
          <p:cNvPicPr/>
          <p:nvPr/>
        </p:nvPicPr>
        <p:blipFill>
          <a:blip r:embed="rId8"/>
          <a:stretch/>
        </p:blipFill>
        <p:spPr>
          <a:xfrm rot="1475400">
            <a:off x="-181080" y="-171360"/>
            <a:ext cx="1260720" cy="111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4" descr="panda_bebe_new"/>
          <p:cNvPicPr/>
          <p:nvPr/>
        </p:nvPicPr>
        <p:blipFill>
          <a:blip r:embed="rId9"/>
          <a:stretch/>
        </p:blipFill>
        <p:spPr>
          <a:xfrm>
            <a:off x="0" y="4373640"/>
            <a:ext cx="3238560" cy="2484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5" descr="http://www.i-russia.ru/media/photos/medium/41d3ecdb8768e5006f05.jpg"/>
          <p:cNvPicPr/>
          <p:nvPr/>
        </p:nvPicPr>
        <p:blipFill>
          <a:blip r:embed="rId10"/>
          <a:stretch/>
        </p:blipFill>
        <p:spPr>
          <a:xfrm>
            <a:off x="1258920" y="5326200"/>
            <a:ext cx="2303280" cy="15318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6"/>
          <p:cNvSpPr/>
          <p:nvPr/>
        </p:nvSpPr>
        <p:spPr>
          <a:xfrm>
            <a:off x="395280" y="2205000"/>
            <a:ext cx="82915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Verdana"/>
              </a:rPr>
              <a:t>Муниципальное бюджетное дошкольное образовательное учреждение </a:t>
            </a:r>
            <a:br>
              <a:rPr sz="2400"/>
            </a:br>
            <a:r>
              <a:rPr b="1" lang="ru-RU" sz="2400" spc="-1" strike="noStrike">
                <a:solidFill>
                  <a:srgbClr val="ff0066"/>
                </a:solidFill>
                <a:latin typeface="Verdana"/>
              </a:rPr>
              <a:t>«Детский сад  №338 </a:t>
            </a:r>
            <a:br>
              <a:rPr sz="2400"/>
            </a:br>
            <a:r>
              <a:rPr b="1" lang="ru-RU" sz="2400" spc="-1" strike="noStrike">
                <a:solidFill>
                  <a:srgbClr val="ff0066"/>
                </a:solidFill>
                <a:latin typeface="Verdana"/>
              </a:rPr>
              <a:t>комбинированного вида»</a:t>
            </a:r>
            <a:br>
              <a:rPr sz="2400"/>
            </a:br>
            <a:r>
              <a:rPr b="1" lang="ru-RU" sz="2400" spc="-1" strike="noStrike">
                <a:solidFill>
                  <a:srgbClr val="ff0066"/>
                </a:solidFill>
                <a:latin typeface="Verdana"/>
              </a:rPr>
              <a:t> Ново-Савиновского  района г.Каз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GE096_35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54734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Экология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т греч. экое - дом, логос - учение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3429000"/>
            <a:ext cx="5112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Наука о среде обит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или наука о взаимоотношениях организмов и окружающе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Ernst_Haeckel_2"/>
          <p:cNvPicPr/>
          <p:nvPr/>
        </p:nvPicPr>
        <p:blipFill>
          <a:blip r:embed="rId2"/>
          <a:stretch/>
        </p:blipFill>
        <p:spPr>
          <a:xfrm>
            <a:off x="5292720" y="2276640"/>
            <a:ext cx="3105000" cy="388620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10"/>
          <p:cNvSpPr/>
          <p:nvPr/>
        </p:nvSpPr>
        <p:spPr>
          <a:xfrm>
            <a:off x="5076720" y="5661000"/>
            <a:ext cx="3780000" cy="914400"/>
          </a:xfrm>
          <a:custGeom>
            <a:avLst/>
            <a:gdLst>
              <a:gd name="textAreaLeft" fmla="*/ 0 w 3780000"/>
              <a:gd name="textAreaRight" fmla="*/ 3780360 w 378000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Эрнест Геккель, немецкий би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GE096_35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probudka2012.ucoz.ru/Foto_kollektiv/akhr.jpg"/>
          <p:cNvPicPr/>
          <p:nvPr/>
        </p:nvPicPr>
        <p:blipFill>
          <a:blip r:embed="rId2"/>
          <a:stretch/>
        </p:blipFill>
        <p:spPr>
          <a:xfrm>
            <a:off x="6443640" y="404640"/>
            <a:ext cx="1679760" cy="2159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http://www.xxlbook.ru/imgh1443365.png"/>
          <p:cNvPicPr/>
          <p:nvPr/>
        </p:nvPicPr>
        <p:blipFill>
          <a:blip r:embed="rId3"/>
          <a:stretch/>
        </p:blipFill>
        <p:spPr>
          <a:xfrm>
            <a:off x="5508720" y="765000"/>
            <a:ext cx="979560" cy="1368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" descr="100016x_enl"/>
          <p:cNvPicPr/>
          <p:nvPr/>
        </p:nvPicPr>
        <p:blipFill>
          <a:blip r:embed="rId4"/>
          <a:stretch/>
        </p:blipFill>
        <p:spPr>
          <a:xfrm>
            <a:off x="8028000" y="1628640"/>
            <a:ext cx="905040" cy="129564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8"/>
          <p:cNvSpPr/>
          <p:nvPr/>
        </p:nvSpPr>
        <p:spPr>
          <a:xfrm>
            <a:off x="5580000" y="0"/>
            <a:ext cx="3311640" cy="836640"/>
          </a:xfrm>
          <a:custGeom>
            <a:avLst/>
            <a:gdLst>
              <a:gd name="textAreaLeft" fmla="*/ 0 w 3311640"/>
              <a:gd name="textAreaRight" fmla="*/ 3312000 w 3311640"/>
              <a:gd name="textAreaTop" fmla="*/ 108360 h 836640"/>
              <a:gd name="textAreaBottom" fmla="*/ 728280 h 836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Татьяна Михайловна Бондаренк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511344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600"/>
            </a:b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Формирование человека нового типа с новым экологическим мышлением, способного осознавать последствия своих действий по отношению к окружающей   среде и умеющего жить в относительной гармонии с природ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23640" y="4653000"/>
            <a:ext cx="6588360" cy="17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"Птицы и звери, цветы и деревья взывают к человеку: сбереги,  сохрани,  где  стоишь,  где  живешь – на расстоянии взгляда  и  голоса, хотя  бы  на  расстоянии  вытянутой руки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И   твое   активное   личное   пространство,  помноженное  на миллионы, станет охраняемым</a:t>
            </a: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пространством Отечества…”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(Из «Экологического манифеста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2" descr="Manifestos on the Future of Food and Seed (Paperback) ~ Vandana ... Cover Art"/>
          <p:cNvPicPr/>
          <p:nvPr/>
        </p:nvPicPr>
        <p:blipFill>
          <a:blip r:embed="rId5"/>
          <a:stretch/>
        </p:blipFill>
        <p:spPr>
          <a:xfrm>
            <a:off x="324000" y="4365720"/>
            <a:ext cx="1617480" cy="2232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4" descr="moiseev3"/>
          <p:cNvPicPr/>
          <p:nvPr/>
        </p:nvPicPr>
        <p:blipFill>
          <a:blip r:embed="rId6"/>
          <a:stretch/>
        </p:blipFill>
        <p:spPr>
          <a:xfrm>
            <a:off x="3708360" y="3284640"/>
            <a:ext cx="2994120" cy="10173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25"/>
          <p:cNvSpPr/>
          <p:nvPr/>
        </p:nvSpPr>
        <p:spPr>
          <a:xfrm>
            <a:off x="190440" y="2421000"/>
            <a:ext cx="61596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«У всех людей возникает всё больше общих интересо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главный из которых - сохранить на Земле человечество»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6"/>
          <p:cNvSpPr/>
          <p:nvPr/>
        </p:nvSpPr>
        <p:spPr>
          <a:xfrm>
            <a:off x="539640" y="115920"/>
            <a:ext cx="4969080" cy="676080"/>
          </a:xfrm>
          <a:custGeom>
            <a:avLst/>
            <a:gdLst>
              <a:gd name="textAreaLeft" fmla="*/ 1134360 w 4969080"/>
              <a:gd name="textAreaRight" fmla="*/ 3834720 w 4969080"/>
              <a:gd name="textAreaTop" fmla="*/ 154080 h 676080"/>
              <a:gd name="textAreaBottom" fmla="*/ 522000 h 676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Ц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GE096_35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13"/>
          <p:cNvSpPr/>
          <p:nvPr/>
        </p:nvSpPr>
        <p:spPr>
          <a:xfrm>
            <a:off x="179280" y="1197000"/>
            <a:ext cx="3168720" cy="2786040"/>
          </a:xfrm>
          <a:custGeom>
            <a:avLst/>
            <a:gdLst>
              <a:gd name="textAreaLeft" fmla="*/ 723240 w 3168720"/>
              <a:gd name="textAreaRight" fmla="*/ 2445480 w 3168720"/>
              <a:gd name="textAreaTop" fmla="*/ 635760 h 2786040"/>
              <a:gd name="textAreaBottom" fmla="*/ 2150280 h 2786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</a:rPr>
              <a:t>Воспитание любв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</a:rPr>
              <a:t>к родной природ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</a:rPr>
              <a:t>способности воспринима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</a:rPr>
              <a:t>и глубоко чувствова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</a:rPr>
              <a:t>ее красоту, ум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</a:rPr>
              <a:t>бережно относитьс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</a:rPr>
              <a:t>к растениям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</a:rPr>
              <a:t>животны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4"/>
          <p:cNvSpPr/>
          <p:nvPr/>
        </p:nvSpPr>
        <p:spPr>
          <a:xfrm>
            <a:off x="1332000" y="333360"/>
            <a:ext cx="7127640" cy="914400"/>
          </a:xfrm>
          <a:custGeom>
            <a:avLst/>
            <a:gdLst>
              <a:gd name="textAreaLeft" fmla="*/ 1627200 w 7127640"/>
              <a:gd name="textAreaRight" fmla="*/ 5500440 w 712764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8"/>
          <p:cNvSpPr/>
          <p:nvPr/>
        </p:nvSpPr>
        <p:spPr>
          <a:xfrm>
            <a:off x="2843280" y="2060640"/>
            <a:ext cx="3313080" cy="2786040"/>
          </a:xfrm>
          <a:custGeom>
            <a:avLst/>
            <a:gdLst>
              <a:gd name="textAreaLeft" fmla="*/ 756360 w 3313080"/>
              <a:gd name="textAreaRight" fmla="*/ 2556720 w 3313080"/>
              <a:gd name="textAreaTop" fmla="*/ 635760 h 2786040"/>
              <a:gd name="textAreaBottom" fmla="*/ 2150280 h 2786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</a:rPr>
              <a:t>Сообщ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</a:rPr>
              <a:t>элементар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990000"/>
                </a:solidFill>
                <a:latin typeface="Arial"/>
              </a:rPr>
              <a:t>знаний о природе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</a:rPr>
              <a:t>формирование на эт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</a:rPr>
              <a:t>основе конкрет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</a:rPr>
              <a:t>представлений о явления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</a:rPr>
              <a:t>живой и нежив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</a:rPr>
              <a:t>природ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9"/>
          <p:cNvSpPr/>
          <p:nvPr/>
        </p:nvSpPr>
        <p:spPr>
          <a:xfrm>
            <a:off x="5796000" y="1268280"/>
            <a:ext cx="3168720" cy="2786040"/>
          </a:xfrm>
          <a:custGeom>
            <a:avLst/>
            <a:gdLst>
              <a:gd name="textAreaLeft" fmla="*/ 723240 w 3168720"/>
              <a:gd name="textAreaRight" fmla="*/ 2445480 w 3168720"/>
              <a:gd name="textAreaTop" fmla="*/ 635760 h 2786040"/>
              <a:gd name="textAreaBottom" fmla="*/ 2150280 h 2786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</a:rPr>
              <a:t>Овладение умени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990000"/>
                </a:solidFill>
                <a:latin typeface="Arial"/>
              </a:rPr>
              <a:t>ухода за растения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</a:rPr>
              <a:t>и живыми существами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0"/>
          <p:cNvSpPr/>
          <p:nvPr/>
        </p:nvSpPr>
        <p:spPr>
          <a:xfrm>
            <a:off x="2771640" y="4798440"/>
            <a:ext cx="2159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Природа не терпи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неточност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и не проща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ошибо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2"/>
          <p:cNvSpPr/>
          <p:nvPr/>
        </p:nvSpPr>
        <p:spPr>
          <a:xfrm>
            <a:off x="399600" y="4006080"/>
            <a:ext cx="221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«Я не знаю ниче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более прекрасног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чем наша Земля»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3"/>
          <p:cNvSpPr/>
          <p:nvPr/>
        </p:nvSpPr>
        <p:spPr>
          <a:xfrm>
            <a:off x="6019560" y="4007160"/>
            <a:ext cx="2904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«Мы так много говори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о любви к природ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что забываем: любовь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это прежде всего знание»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5" descr="0006-006-K"/>
          <p:cNvPicPr/>
          <p:nvPr/>
        </p:nvPicPr>
        <p:blipFill>
          <a:blip r:embed="rId2"/>
          <a:stretch/>
        </p:blipFill>
        <p:spPr>
          <a:xfrm>
            <a:off x="611280" y="5273640"/>
            <a:ext cx="1244520" cy="158436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26"/>
          <p:cNvSpPr/>
          <p:nvPr/>
        </p:nvSpPr>
        <p:spPr>
          <a:xfrm>
            <a:off x="179280" y="4797360"/>
            <a:ext cx="2303640" cy="863640"/>
          </a:xfrm>
          <a:custGeom>
            <a:avLst/>
            <a:gdLst>
              <a:gd name="textAreaLeft" fmla="*/ 0 w 2303640"/>
              <a:gd name="textAreaRight" fmla="*/ 2304000 w 2303640"/>
              <a:gd name="textAreaTop" fmla="*/ 111960 h 863640"/>
              <a:gd name="textAreaBottom" fmla="*/ 7516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Константин Георгиевич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аустовский, писа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1" descr="&amp;Bcy;&amp;icy;&amp;ocy;&amp;gcy;&amp;rcy;&amp;acy;&amp;fcy;&amp;icy;&amp;yacy; &amp;Rcy;&amp;acy;&amp;lcy;&amp;softcy;&amp;fcy; &amp;Ucy;&amp;ocy;&amp;lcy;&amp;dcy;&amp;ocy; &amp;Ecy;&amp;mcy;&amp;iecy;&amp;rcy;&amp;scy;&amp;ocy;&amp;ncy;. &amp;Dcy;&amp;ocy;&amp;vcy;&amp;iecy;&amp;rcy;&amp;icy;&amp;iecy; &amp;kcy; &amp;scy;&amp;iecy;&amp;bcy;&amp;iecy;. &amp;TScy;&amp;icy;&amp;tcy;&amp;acy;&amp;tcy;&amp;ycy;, &amp;acy;&amp;fcy;&amp;ocy;&amp;rcy;&amp;icy;&amp;zcy;&amp;mcy;&amp;ycy;"/>
          <p:cNvPicPr/>
          <p:nvPr/>
        </p:nvPicPr>
        <p:blipFill>
          <a:blip r:embed="rId3"/>
          <a:stretch/>
        </p:blipFill>
        <p:spPr>
          <a:xfrm>
            <a:off x="4284720" y="4869000"/>
            <a:ext cx="1320840" cy="198900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32"/>
          <p:cNvSpPr/>
          <p:nvPr/>
        </p:nvSpPr>
        <p:spPr>
          <a:xfrm>
            <a:off x="2411280" y="5805360"/>
            <a:ext cx="2303640" cy="863640"/>
          </a:xfrm>
          <a:custGeom>
            <a:avLst/>
            <a:gdLst>
              <a:gd name="textAreaLeft" fmla="*/ 0 w 2303640"/>
              <a:gd name="textAreaRight" fmla="*/ 2304000 w 2303640"/>
              <a:gd name="textAreaTop" fmla="*/ 111960 h 863640"/>
              <a:gd name="textAreaBottom" fmla="*/ 7516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Ральф Уолдо Эмерсон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исатель, филосо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4" descr="&amp;Vcy;&amp;acy;&amp;scy;&amp;icy;&amp;lcy;&amp;softcy;&amp;iecy;&amp;vcy; &amp;Icy;&amp;vcy;&amp;acy;&amp;ncy; &amp;Acy;&amp;fcy;&amp;acy;&amp;ncy;&amp;acy;&amp;scy;&amp;softcy;&amp;iecy;&amp;vcy;&amp;icy;&amp;chcy;"/>
          <p:cNvPicPr/>
          <p:nvPr/>
        </p:nvPicPr>
        <p:blipFill>
          <a:blip r:embed="rId4"/>
          <a:stretch/>
        </p:blipFill>
        <p:spPr>
          <a:xfrm>
            <a:off x="5796000" y="5013360"/>
            <a:ext cx="1155600" cy="170964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6"/>
          <p:cNvSpPr/>
          <p:nvPr/>
        </p:nvSpPr>
        <p:spPr>
          <a:xfrm>
            <a:off x="6659640" y="5994360"/>
            <a:ext cx="2303280" cy="863640"/>
          </a:xfrm>
          <a:custGeom>
            <a:avLst/>
            <a:gdLst>
              <a:gd name="textAreaLeft" fmla="*/ 0 w 2303280"/>
              <a:gd name="textAreaRight" fmla="*/ 2303640 w 2303280"/>
              <a:gd name="textAreaTop" fmla="*/ 111960 h 863640"/>
              <a:gd name="textAreaBottom" fmla="*/ 7516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Иван Афанасьевич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асильев, публици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GE096_35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Роль педагога в экологическом воспитании дошколь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Экологическое воспитание дошкольников должен осуществлять педагог, который сам владеет знаниями в области экологии, сам любит природу и заботится о ней. Он преподносит комплекс экологических знаний в доступной, увлекательной форме на основе принципа развивающего обучения и направленного на развитие личности ребенка. Учитывает интерес и возрастные особ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GE096_35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10"/>
          <p:cNvSpPr/>
          <p:nvPr/>
        </p:nvSpPr>
        <p:spPr>
          <a:xfrm>
            <a:off x="250920" y="4005360"/>
            <a:ext cx="2773440" cy="2520720"/>
          </a:xfrm>
          <a:prstGeom prst="cloudCallout">
            <a:avLst>
              <a:gd name="adj1" fmla="val 52347"/>
              <a:gd name="adj2" fmla="val -121662"/>
            </a:avLst>
          </a:prstGeom>
          <a:solidFill>
            <a:srgbClr val="00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66"/>
                </a:solidFill>
                <a:uFillTx/>
                <a:latin typeface="Arial"/>
              </a:rPr>
              <a:t>Тр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На участк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в уголке природы, в цветни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2"/>
          <p:cNvSpPr/>
          <p:nvPr/>
        </p:nvSpPr>
        <p:spPr>
          <a:xfrm>
            <a:off x="0" y="1268280"/>
            <a:ext cx="2771640" cy="1873440"/>
          </a:xfrm>
          <a:prstGeom prst="cloudCallout">
            <a:avLst>
              <a:gd name="adj1" fmla="val 65578"/>
              <a:gd name="adj2" fmla="val -32625"/>
            </a:avLst>
          </a:prstGeom>
          <a:solidFill>
            <a:srgbClr val="00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66"/>
                </a:solidFill>
                <a:uFillTx/>
                <a:latin typeface="Arial"/>
              </a:rPr>
              <a:t>Метод экперимент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66"/>
                </a:solidFill>
                <a:uFillTx/>
                <a:latin typeface="Arial"/>
              </a:rPr>
              <a:t>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Несложные опы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3"/>
          <p:cNvSpPr/>
          <p:nvPr/>
        </p:nvSpPr>
        <p:spPr>
          <a:xfrm>
            <a:off x="2771640" y="2205000"/>
            <a:ext cx="2737080" cy="1944720"/>
          </a:xfrm>
          <a:prstGeom prst="cloudCallout">
            <a:avLst>
              <a:gd name="adj1" fmla="val 27611"/>
              <a:gd name="adj2" fmla="val -78814"/>
            </a:avLst>
          </a:prstGeom>
          <a:solidFill>
            <a:srgbClr val="00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66"/>
                </a:solidFill>
                <a:uFillTx/>
                <a:latin typeface="Arial"/>
              </a:rPr>
              <a:t>Иг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Дидактическа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сюжетно-ролевая, творче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4"/>
          <p:cNvSpPr/>
          <p:nvPr/>
        </p:nvSpPr>
        <p:spPr>
          <a:xfrm>
            <a:off x="4500720" y="4149720"/>
            <a:ext cx="4392360" cy="2519280"/>
          </a:xfrm>
          <a:prstGeom prst="cloudCallout">
            <a:avLst>
              <a:gd name="adj1" fmla="val -26726"/>
              <a:gd name="adj2" fmla="val -112004"/>
            </a:avLst>
          </a:prstGeom>
          <a:solidFill>
            <a:srgbClr val="00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 u="sng">
                <a:solidFill>
                  <a:srgbClr val="ff0066"/>
                </a:solidFill>
                <a:uFillTx/>
                <a:latin typeface="Arial"/>
              </a:rPr>
              <a:t>Словесные мет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Беседы, составление описательных рассказов, решение речевых логических задач, чтение художественной литера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5"/>
          <p:cNvSpPr/>
          <p:nvPr/>
        </p:nvSpPr>
        <p:spPr>
          <a:xfrm>
            <a:off x="5940360" y="1413000"/>
            <a:ext cx="3203640" cy="2447640"/>
          </a:xfrm>
          <a:prstGeom prst="cloudCallout">
            <a:avLst>
              <a:gd name="adj1" fmla="val -64222"/>
              <a:gd name="adj2" fmla="val -37481"/>
            </a:avLst>
          </a:prstGeom>
          <a:solidFill>
            <a:srgbClr val="00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66"/>
                </a:solidFill>
                <a:uFillTx/>
                <a:latin typeface="Arial"/>
              </a:rPr>
              <a:t>Метод модел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«Экосистем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«Свойств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«Строени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«Живые организм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2195640" y="260280"/>
            <a:ext cx="5040360" cy="1440000"/>
          </a:xfrm>
          <a:prstGeom prst="wedgeEllipseCallout">
            <a:avLst>
              <a:gd name="adj1" fmla="val -5875"/>
              <a:gd name="adj2" fmla="val 53967"/>
            </a:avLst>
          </a:pr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Методы экологического образования детей дошкольного возра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GE096_35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22960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1. Организованные: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экскурсии (в лес, парк, луг, водоем и т.д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занятия (познавательные, комбинированные, комплексные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наблюдения за животными и растениями, явлениями природы, деятельностью людей в приро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2. Совместная деятель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наблюдения в уголке природы, труд в уголке природ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целевые прогулки на природе, поход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чтение художественных произведений о природе (стихи, рассказы, сказки), рассматривание иллюстраций в книгах, экологические сказ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рассматривание картин из жизни диких животных, художников И.И.Левитана, А.К.Саврасова, В.Д.Поленова, И.И.Шишкина, К.Ф.Юона и др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рассказы воспитателя о животных, растениях, неживой природы. о заповедниках, заказниках, памятниках природы т.д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работа с моделям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беседы и разговоры с детьми на экологические тем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сбор коллекций, семян, камней, листьев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экологические праздники и досуги (“День птиц”,“День Земли”,“День рождения Леса” и т.д.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опыты, поисковая деятельность в экологическом кружке или лаборатории юного исследовател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марафоны, аукционы, акци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экологические тренинги с обсуждением и проигрыванием ситуаци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экологические троп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игры (подвижные. дидактические, театрализованные, музыкальные, интеллектуальные КВН, “Поле чудес” и “Что, где, когда?”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различные виды изобразительной деятельности на экологическую тематик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работа с календарями природы, дневниками наблюде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изготовление и обыгрывание макетов (зоопарк, дикие животные. домашние животные, животные жарких стран) и панно (лес – наше богатство, где в природе есть вода, кто в море живет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2195640" y="0"/>
            <a:ext cx="5040360" cy="720720"/>
          </a:xfrm>
          <a:prstGeom prst="wedgeEllipseCallout">
            <a:avLst>
              <a:gd name="adj1" fmla="val -3166"/>
              <a:gd name="adj2" fmla="val 51319"/>
            </a:avLst>
          </a:prstGeom>
          <a:solidFill>
            <a:srgbClr val="3399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ФОРМЫ ЭКОЛОГИЧЕСКОГО ВОС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7"/>
          <p:cNvSpPr/>
          <p:nvPr/>
        </p:nvSpPr>
        <p:spPr>
          <a:xfrm rot="10800000">
            <a:off x="179280" y="5660640"/>
            <a:ext cx="2664000" cy="1041480"/>
          </a:xfrm>
          <a:prstGeom prst="wedgeRoundRectCallout">
            <a:avLst>
              <a:gd name="adj1" fmla="val -53337"/>
              <a:gd name="adj2" fmla="val 86736"/>
              <a:gd name="adj3" fmla="val 16667"/>
            </a:avLst>
          </a:prstGeom>
          <a:solidFill>
            <a:srgbClr val="3399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Работа с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8"/>
          <p:cNvSpPr/>
          <p:nvPr/>
        </p:nvSpPr>
        <p:spPr>
          <a:xfrm rot="10800000">
            <a:off x="3132000" y="5660640"/>
            <a:ext cx="2880000" cy="1041480"/>
          </a:xfrm>
          <a:prstGeom prst="wedgeRoundRectCallout">
            <a:avLst>
              <a:gd name="adj1" fmla="val 768"/>
              <a:gd name="adj2" fmla="val 89175"/>
              <a:gd name="adj3" fmla="val 16667"/>
            </a:avLst>
          </a:prstGeom>
          <a:solidFill>
            <a:srgbClr val="3399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Работа с педагог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9"/>
          <p:cNvSpPr/>
          <p:nvPr/>
        </p:nvSpPr>
        <p:spPr>
          <a:xfrm rot="10800000">
            <a:off x="6300720" y="5660640"/>
            <a:ext cx="2664000" cy="1041480"/>
          </a:xfrm>
          <a:prstGeom prst="wedgeRoundRectCallout">
            <a:avLst>
              <a:gd name="adj1" fmla="val 60305"/>
              <a:gd name="adj2" fmla="val 84296"/>
              <a:gd name="adj3" fmla="val 16667"/>
            </a:avLst>
          </a:prstGeom>
          <a:solidFill>
            <a:srgbClr val="3399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Работа с родител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GE096_35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13"/>
          <p:cNvSpPr/>
          <p:nvPr/>
        </p:nvSpPr>
        <p:spPr>
          <a:xfrm>
            <a:off x="324000" y="0"/>
            <a:ext cx="8424720" cy="1319040"/>
          </a:xfrm>
          <a:custGeom>
            <a:avLst/>
            <a:gdLst>
              <a:gd name="textAreaLeft" fmla="*/ 1923120 w 8424720"/>
              <a:gd name="textAreaRight" fmla="*/ 6501600 w 8424720"/>
              <a:gd name="textAreaTop" fmla="*/ 300960 h 1319040"/>
              <a:gd name="textAreaBottom" fmla="*/ 1018080 h 1319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ричины небрежного, порой безжалостного </a:t>
            </a:r>
            <a:br>
              <a:rPr sz="1800"/>
            </a:b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отношения детей </a:t>
            </a:r>
            <a:br>
              <a:rPr sz="1800"/>
            </a:b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к прир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4"/>
          <p:cNvSpPr/>
          <p:nvPr/>
        </p:nvSpPr>
        <p:spPr>
          <a:xfrm rot="16200000">
            <a:off x="7128720" y="1809000"/>
            <a:ext cx="2232000" cy="1008000"/>
          </a:xfrm>
          <a:custGeom>
            <a:avLst/>
            <a:gdLst>
              <a:gd name="textAreaLeft" fmla="*/ 509400 w 2232000"/>
              <a:gd name="textAreaRight" fmla="*/ 1722600 w 223200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Отсутств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5"/>
          <p:cNvSpPr/>
          <p:nvPr/>
        </p:nvSpPr>
        <p:spPr>
          <a:xfrm>
            <a:off x="4572000" y="1341360"/>
            <a:ext cx="1081080" cy="2303640"/>
          </a:xfrm>
          <a:custGeom>
            <a:avLst/>
            <a:gdLst>
              <a:gd name="textAreaLeft" fmla="*/ 246600 w 1081080"/>
              <a:gd name="textAreaRight" fmla="*/ 834480 w 1081080"/>
              <a:gd name="textAreaTop" fmla="*/ 525960 h 2303640"/>
              <a:gd name="textAreaBottom" fmla="*/ 1777680 h 230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Невним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со сторо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взросл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6"/>
          <p:cNvSpPr/>
          <p:nvPr/>
        </p:nvSpPr>
        <p:spPr>
          <a:xfrm>
            <a:off x="6084720" y="1341360"/>
            <a:ext cx="1059120" cy="2232000"/>
          </a:xfrm>
          <a:custGeom>
            <a:avLst/>
            <a:gdLst>
              <a:gd name="textAreaLeft" fmla="*/ 241560 w 1059120"/>
              <a:gd name="textAreaRight" fmla="*/ 817560 w 1059120"/>
              <a:gd name="textAreaTop" fmla="*/ 509400 h 2232000"/>
              <a:gd name="textAreaBottom" fmla="*/ 172260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подраж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взросл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7"/>
          <p:cNvSpPr/>
          <p:nvPr/>
        </p:nvSpPr>
        <p:spPr>
          <a:xfrm>
            <a:off x="1763640" y="1268280"/>
            <a:ext cx="1008000" cy="2159280"/>
          </a:xfrm>
          <a:custGeom>
            <a:avLst/>
            <a:gdLst>
              <a:gd name="textAreaLeft" fmla="*/ 230040 w 1008000"/>
              <a:gd name="textAreaRight" fmla="*/ 777960 w 1008000"/>
              <a:gd name="textAreaTop" fmla="*/ 492840 h 2159280"/>
              <a:gd name="textAreaBottom" fmla="*/ 1666440 h 215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любопыт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8"/>
          <p:cNvSpPr/>
          <p:nvPr/>
        </p:nvSpPr>
        <p:spPr>
          <a:xfrm>
            <a:off x="179280" y="1268280"/>
            <a:ext cx="914400" cy="2160720"/>
          </a:xfrm>
          <a:custGeom>
            <a:avLst/>
            <a:gdLst>
              <a:gd name="textAreaLeft" fmla="*/ 208800 w 914400"/>
              <a:gd name="textAreaRight" fmla="*/ 705600 w 914400"/>
              <a:gd name="textAreaTop" fmla="*/ 493200 h 2160720"/>
              <a:gd name="textAreaBottom" fmla="*/ 166752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непоним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9"/>
          <p:cNvSpPr/>
          <p:nvPr/>
        </p:nvSpPr>
        <p:spPr>
          <a:xfrm rot="16200000">
            <a:off x="2556000" y="1844640"/>
            <a:ext cx="2303280" cy="1008000"/>
          </a:xfrm>
          <a:custGeom>
            <a:avLst/>
            <a:gdLst>
              <a:gd name="textAreaLeft" fmla="*/ 525600 w 2303280"/>
              <a:gd name="textAreaRight" fmla="*/ 1777680 w 230328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Отсутств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взаимодейст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с семьё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1"/>
          <p:cNvSpPr/>
          <p:nvPr/>
        </p:nvSpPr>
        <p:spPr>
          <a:xfrm>
            <a:off x="2700360" y="5445000"/>
            <a:ext cx="3672000" cy="1297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Поним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необходимости береж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отношения к прир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3"/>
          <p:cNvSpPr/>
          <p:nvPr/>
        </p:nvSpPr>
        <p:spPr>
          <a:xfrm>
            <a:off x="468360" y="3716280"/>
            <a:ext cx="835344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Критерии сформированного осознанного и активного </a:t>
            </a:r>
            <a:br>
              <a:rPr sz="1800"/>
            </a:b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гуманного отношения к прир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24"/>
          <p:cNvSpPr/>
          <p:nvPr/>
        </p:nvSpPr>
        <p:spPr>
          <a:xfrm>
            <a:off x="0" y="4581360"/>
            <a:ext cx="2952720" cy="158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Освоени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соблю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норм повед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в природн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окружен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25"/>
          <p:cNvSpPr/>
          <p:nvPr/>
        </p:nvSpPr>
        <p:spPr>
          <a:xfrm>
            <a:off x="6156360" y="4581360"/>
            <a:ext cx="2987640" cy="158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Прояв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действен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забо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к объект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прир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0T08:57:21Z</dcterms:created>
  <dc:creator>z</dc:creator>
  <dc:description/>
  <dc:language>en-US</dc:language>
  <cp:lastModifiedBy>HP</cp:lastModifiedBy>
  <dcterms:modified xsi:type="dcterms:W3CDTF">2023-02-20T09:49:46Z</dcterms:modified>
  <cp:revision>25</cp:revision>
  <dc:subject/>
  <dc:title>Слайд 1</dc:title>
</cp:coreProperties>
</file>