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1F5A-5B71-4048-AC3B-E8F46C4838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F889-33A9-4F71-9889-8113FB321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697-CAFA-49A9-8C69-682BE996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1A7-4701-48E9-BF37-8368C75B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237-F003-46AD-A259-E1613549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A83-5322-4A16-8437-642B9C6A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4D5C-BC06-45DD-A634-3DF9C1AE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2332-97EA-442F-AEE3-FA9131CB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F3C7-D33E-462A-A400-59D2DFCD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8BE4-EC54-46E9-9605-5D5C1CDC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1A8B-68A3-4F54-82B6-80221D58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2AA3-6FA1-4C10-9798-1E589BAC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278E-CCDF-4594-9DEF-A637C3F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7F0-10F9-49F4-8BB7-C9B03176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C5CD-F9BC-4E22-9C58-4329CCB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0ED2-A52C-4865-9AFE-06E1B4A2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C808-E509-46B2-A1E6-D0703CEC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E6C4-F1BC-406F-B3E5-D7C9F152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1DBE-E631-4B20-B733-240EB0A2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D17-0844-4A56-8C75-ED6CEEE6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903-D42E-4BE1-87D2-CAB17C11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6C5-0243-49E5-8211-745B3197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239-4142-4C94-A3F2-641E8699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E37-FEE6-41E6-A0E5-76F40CC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F7F-7C42-4E87-9241-3FEE87FB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29C-85ED-41A3-B1CD-071EA816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4D53-5FB2-46F9-885C-8D9CD8571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colour-pencils.jpg"/>
          <p:cNvPicPr/>
          <p:nvPr/>
        </p:nvPicPr>
        <p:blipFill>
          <a:blip r:embed="rId5"/>
          <a:stretch/>
        </p:blipFill>
        <p:spPr>
          <a:xfrm>
            <a:off x="1238400" y="4065480"/>
            <a:ext cx="6626160" cy="1440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colour-pencils.jpg"/>
          <p:cNvPicPr/>
          <p:nvPr/>
        </p:nvPicPr>
        <p:blipFill>
          <a:blip r:embed="rId6"/>
          <a:stretch/>
        </p:blipFill>
        <p:spPr>
          <a:xfrm>
            <a:off x="714240" y="2143080"/>
            <a:ext cx="7858440" cy="162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bordur-deti.jpg"/>
          <p:cNvPicPr/>
          <p:nvPr/>
        </p:nvPicPr>
        <p:blipFill>
          <a:blip r:embed="rId7"/>
          <a:stretch/>
        </p:blipFill>
        <p:spPr>
          <a:xfrm>
            <a:off x="0" y="39600"/>
            <a:ext cx="9144000" cy="217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6361-4204-44FC-8170-6CDF1AA62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2071440"/>
            <a:ext cx="671544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стер-класс для родителей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Использование метода  мнемотехники при разучивании потешек и стихотворений с детьми дошкольного возраста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02920" y="4076280"/>
            <a:ext cx="4568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Московская Л.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Заучивание чистоговорок, поте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765000"/>
            <a:ext cx="6310080" cy="4307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0_d4e6c_ffa7f1ee_orig"/>
          <p:cNvPicPr/>
          <p:nvPr/>
        </p:nvPicPr>
        <p:blipFill>
          <a:blip r:embed="rId2"/>
          <a:stretch/>
        </p:blipFill>
        <p:spPr>
          <a:xfrm rot="223800">
            <a:off x="6714720" y="4432320"/>
            <a:ext cx="2368440" cy="19414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4"/>
          <p:cNvSpPr/>
          <p:nvPr/>
        </p:nvSpPr>
        <p:spPr>
          <a:xfrm>
            <a:off x="1857240" y="4429080"/>
            <a:ext cx="31435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Заучивание чистоговорок, поте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28840" y="765000"/>
            <a:ext cx="6311880" cy="4330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_d4e6c_ffa7f1ee_orig"/>
          <p:cNvPicPr/>
          <p:nvPr/>
        </p:nvPicPr>
        <p:blipFill>
          <a:blip r:embed="rId2"/>
          <a:stretch/>
        </p:blipFill>
        <p:spPr>
          <a:xfrm rot="223800">
            <a:off x="7095600" y="4593960"/>
            <a:ext cx="19875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etImageCA7B0CJX"/>
          <p:cNvPicPr/>
          <p:nvPr/>
        </p:nvPicPr>
        <p:blipFill>
          <a:blip r:embed="rId1"/>
          <a:stretch/>
        </p:blipFill>
        <p:spPr>
          <a:xfrm>
            <a:off x="847800" y="404640"/>
            <a:ext cx="75834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Составление описательных рассказ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9" descr="qgKo9hmpnCM"/>
          <p:cNvPicPr/>
          <p:nvPr/>
        </p:nvPicPr>
        <p:blipFill>
          <a:blip r:embed="rId1"/>
          <a:stretch/>
        </p:blipFill>
        <p:spPr>
          <a:xfrm>
            <a:off x="971640" y="836640"/>
            <a:ext cx="71532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Составление описательных рассказ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8" descr="0GYFMfvtxW8"/>
          <p:cNvPicPr/>
          <p:nvPr/>
        </p:nvPicPr>
        <p:blipFill>
          <a:blip r:embed="rId1"/>
          <a:stretch/>
        </p:blipFill>
        <p:spPr>
          <a:xfrm>
            <a:off x="971640" y="765000"/>
            <a:ext cx="73454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 rot="21313200">
            <a:off x="561600" y="434520"/>
            <a:ext cx="4186080" cy="305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 rot="723600">
            <a:off x="431280" y="3292200"/>
            <a:ext cx="3794400" cy="26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 rot="1149600">
            <a:off x="4702320" y="657360"/>
            <a:ext cx="3819240" cy="270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4"/>
          <a:stretch/>
        </p:blipFill>
        <p:spPr>
          <a:xfrm rot="21243600">
            <a:off x="4279680" y="3352320"/>
            <a:ext cx="42447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571680" y="595440"/>
            <a:ext cx="807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дальнейшем, это поможет учиться в школе: при написании изложений (для запоминания текста дети могут выстроить цепочку символов), а так же для сочинений и диктантов, при составлении и решении зада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Этот приём запоминания может пригодиться не только детям, но и Вам самим. Вы только попробуйте и сами  увидите результ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6049800" cy="15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ЖЕЛАЮ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УДАЧИ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«Учите ребёнка каким-нибудь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неизвестным ему словам –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он будет долго и напрасно мучиться,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но свяжите двадцать таких слов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 картинками и он их усвоит на лету»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                                                          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К.Д. Ушин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333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 от родителей часто слышат такие слова: «У нас стихи не запоминаются!!! Не может быстро запомнить текст, путается в строчках, переставляет слова мест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0_ca2e5_39eb4984_orig"/>
          <p:cNvPicPr/>
          <p:nvPr/>
        </p:nvPicPr>
        <p:blipFill>
          <a:blip r:embed="rId1"/>
          <a:stretch/>
        </p:blipFill>
        <p:spPr>
          <a:xfrm>
            <a:off x="3360600" y="1773360"/>
            <a:ext cx="35751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79280" y="2808360"/>
            <a:ext cx="896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КТУА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Мнемотехника облегчает детям овладение связной реч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ебёнок с опорой на образы памяти устанавливает причинно-следственные связи, делает выводы, развивая тем самым логическ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менения мнемотехники, использование обобщений позволяют ребёнку систематизировать свой непосредственный 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017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ЕМОТЕХН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истема специальных приемов, обеспечивающих эффективное запоминание, сохранение и воспроизведение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емотехник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вана облегчить запоминание и увеличить объем памяти, путем образования дополнительных ассоци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79280" y="25884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Мнемотаб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хема, в которую заложена определенная    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78c0XEKhKWs"/>
          <p:cNvPicPr/>
          <p:nvPr/>
        </p:nvPicPr>
        <p:blipFill>
          <a:blip r:embed="rId1"/>
          <a:stretch/>
        </p:blipFill>
        <p:spPr>
          <a:xfrm>
            <a:off x="755640" y="1262160"/>
            <a:ext cx="76327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611280" y="189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ЛЫЙ СНЕГ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гробам напрями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орзина, не мет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 веселый снегови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литка шоколад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руке его бы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лочка нарядн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C:\Users\Светлана\Desktop\снеговик\Безымянный2.jpg"/>
          <p:cNvPicPr/>
          <p:nvPr/>
        </p:nvPicPr>
        <p:blipFill>
          <a:blip r:embed="rId1"/>
          <a:stretch/>
        </p:blipFill>
        <p:spPr>
          <a:xfrm>
            <a:off x="971640" y="2205000"/>
            <a:ext cx="2663640" cy="2003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C:\Users\Светлана\Desktop\снеговик\Безымянный1.jpg"/>
          <p:cNvPicPr/>
          <p:nvPr/>
        </p:nvPicPr>
        <p:blipFill>
          <a:blip r:embed="rId2"/>
          <a:stretch/>
        </p:blipFill>
        <p:spPr>
          <a:xfrm>
            <a:off x="3586320" y="2203560"/>
            <a:ext cx="2404800" cy="200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C:\Users\Светлана\Desktop\снеговик\Безымянный3.jpg"/>
          <p:cNvPicPr/>
          <p:nvPr/>
        </p:nvPicPr>
        <p:blipFill>
          <a:blip r:embed="rId3"/>
          <a:stretch/>
        </p:blipFill>
        <p:spPr>
          <a:xfrm>
            <a:off x="5867280" y="2203560"/>
            <a:ext cx="2495520" cy="2004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C:\Users\Светлана\Desktop\снеговик\Безымянный4.jpg"/>
          <p:cNvPicPr/>
          <p:nvPr/>
        </p:nvPicPr>
        <p:blipFill>
          <a:blip r:embed="rId4"/>
          <a:stretch/>
        </p:blipFill>
        <p:spPr>
          <a:xfrm>
            <a:off x="968400" y="4208400"/>
            <a:ext cx="1954080" cy="200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:\Users\Светлана\Desktop\снеговик\Безымянный5.jpg"/>
          <p:cNvPicPr/>
          <p:nvPr/>
        </p:nvPicPr>
        <p:blipFill>
          <a:blip r:embed="rId5"/>
          <a:stretch/>
        </p:blipFill>
        <p:spPr>
          <a:xfrm>
            <a:off x="2922480" y="4203720"/>
            <a:ext cx="1995480" cy="2012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C:\Users\Светлана\Desktop\снеговик\Безымянный6.jpg"/>
          <p:cNvPicPr/>
          <p:nvPr/>
        </p:nvPicPr>
        <p:blipFill>
          <a:blip r:embed="rId6"/>
          <a:stretch/>
        </p:blipFill>
        <p:spPr>
          <a:xfrm>
            <a:off x="4788000" y="4149720"/>
            <a:ext cx="1735200" cy="206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C:\Users\Светлана\Desktop\снеговик\Безымянный7.jpg"/>
          <p:cNvPicPr/>
          <p:nvPr/>
        </p:nvPicPr>
        <p:blipFill>
          <a:blip r:embed="rId7"/>
          <a:stretch/>
        </p:blipFill>
        <p:spPr>
          <a:xfrm>
            <a:off x="6489720" y="4130640"/>
            <a:ext cx="18730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учивание стихотворения «ЁЛОЧКА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219640" y="907920"/>
            <a:ext cx="39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 нами ёлоч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шечки, иголоч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рики, фонар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йчики и свеч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ёзды, человеч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ищ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765000"/>
          <a:ext cx="4897440" cy="5361120"/>
        </p:xfrm>
        <a:graphic>
          <a:graphicData uri="http://schemas.openxmlformats.org/drawingml/2006/table">
            <a:tbl>
              <a:tblPr/>
              <a:tblGrid>
                <a:gridCol w="1631880"/>
                <a:gridCol w="1633680"/>
                <a:gridCol w="163188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33" descr="оплата за конкурс МБДОУ №72_0008"/>
          <p:cNvPicPr/>
          <p:nvPr/>
        </p:nvPicPr>
        <p:blipFill>
          <a:blip r:embed="rId1"/>
          <a:stretch/>
        </p:blipFill>
        <p:spPr>
          <a:xfrm>
            <a:off x="324000" y="83664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4" descr="оплата за конкурс МБДОУ №72_0007"/>
          <p:cNvPicPr/>
          <p:nvPr/>
        </p:nvPicPr>
        <p:blipFill>
          <a:blip r:embed="rId2"/>
          <a:stretch/>
        </p:blipFill>
        <p:spPr>
          <a:xfrm>
            <a:off x="1908000" y="83664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5" descr="оплата за конкурс МБДОУ №72_0006"/>
          <p:cNvPicPr/>
          <p:nvPr/>
        </p:nvPicPr>
        <p:blipFill>
          <a:blip r:embed="rId3"/>
          <a:stretch/>
        </p:blipFill>
        <p:spPr>
          <a:xfrm>
            <a:off x="3635280" y="83664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6" descr="оплата за конкурс МБДОУ №72_0005"/>
          <p:cNvPicPr/>
          <p:nvPr/>
        </p:nvPicPr>
        <p:blipFill>
          <a:blip r:embed="rId4"/>
          <a:stretch/>
        </p:blipFill>
        <p:spPr>
          <a:xfrm>
            <a:off x="324000" y="263700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7" descr="оплата за конкурс МБДОУ №72_0004"/>
          <p:cNvPicPr/>
          <p:nvPr/>
        </p:nvPicPr>
        <p:blipFill>
          <a:blip r:embed="rId5"/>
          <a:stretch/>
        </p:blipFill>
        <p:spPr>
          <a:xfrm>
            <a:off x="1908000" y="2565360"/>
            <a:ext cx="1487520" cy="17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8" descr="оплата за конкурс МБДОУ №72_0003"/>
          <p:cNvPicPr/>
          <p:nvPr/>
        </p:nvPicPr>
        <p:blipFill>
          <a:blip r:embed="rId6"/>
          <a:stretch/>
        </p:blipFill>
        <p:spPr>
          <a:xfrm>
            <a:off x="3564000" y="2565360"/>
            <a:ext cx="1512720" cy="17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9" descr="оплата за конкурс МБДОУ №72_0002"/>
          <p:cNvPicPr/>
          <p:nvPr/>
        </p:nvPicPr>
        <p:blipFill>
          <a:blip r:embed="rId7"/>
          <a:stretch/>
        </p:blipFill>
        <p:spPr>
          <a:xfrm>
            <a:off x="395280" y="4437000"/>
            <a:ext cx="1440000" cy="1662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0" descr="оплата за конкурс МБДОУ №72_0001"/>
          <p:cNvPicPr/>
          <p:nvPr/>
        </p:nvPicPr>
        <p:blipFill>
          <a:blip r:embed="rId8"/>
          <a:stretch/>
        </p:blipFill>
        <p:spPr>
          <a:xfrm>
            <a:off x="1908000" y="4365720"/>
            <a:ext cx="1513080" cy="172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2" descr="оплата за конкурс МБДОУ №72"/>
          <p:cNvPicPr/>
          <p:nvPr/>
        </p:nvPicPr>
        <p:blipFill>
          <a:blip r:embed="rId9"/>
          <a:stretch/>
        </p:blipFill>
        <p:spPr>
          <a:xfrm>
            <a:off x="3564000" y="4365720"/>
            <a:ext cx="1517760" cy="172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0_cbb7b_8e77aef9_orig"/>
          <p:cNvPicPr/>
          <p:nvPr/>
        </p:nvPicPr>
        <p:blipFill>
          <a:blip r:embed="rId10"/>
          <a:stretch/>
        </p:blipFill>
        <p:spPr>
          <a:xfrm>
            <a:off x="5076720" y="3429000"/>
            <a:ext cx="287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84360" y="620640"/>
          <a:ext cx="4897440" cy="5361120"/>
        </p:xfrm>
        <a:graphic>
          <a:graphicData uri="http://schemas.openxmlformats.org/drawingml/2006/table">
            <a:tbl>
              <a:tblPr/>
              <a:tblGrid>
                <a:gridCol w="1631880"/>
                <a:gridCol w="1633320"/>
                <a:gridCol w="163224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48" descr="оплата за конкурс МБДОУ №72_0008"/>
          <p:cNvPicPr/>
          <p:nvPr/>
        </p:nvPicPr>
        <p:blipFill>
          <a:blip r:embed="rId1"/>
          <a:stretch/>
        </p:blipFill>
        <p:spPr>
          <a:xfrm>
            <a:off x="755640" y="69228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9" descr="оплата за конкурс МБДОУ №72_0007"/>
          <p:cNvPicPr/>
          <p:nvPr/>
        </p:nvPicPr>
        <p:blipFill>
          <a:blip r:embed="rId2"/>
          <a:stretch/>
        </p:blipFill>
        <p:spPr>
          <a:xfrm>
            <a:off x="2411280" y="69228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0" descr="оплата за конкурс МБДОУ №72_0006"/>
          <p:cNvPicPr/>
          <p:nvPr/>
        </p:nvPicPr>
        <p:blipFill>
          <a:blip r:embed="rId3"/>
          <a:stretch/>
        </p:blipFill>
        <p:spPr>
          <a:xfrm>
            <a:off x="4140360" y="69228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1" descr="оплата за конкурс МБДОУ №72_0005"/>
          <p:cNvPicPr/>
          <p:nvPr/>
        </p:nvPicPr>
        <p:blipFill>
          <a:blip r:embed="rId4"/>
          <a:stretch/>
        </p:blipFill>
        <p:spPr>
          <a:xfrm>
            <a:off x="755640" y="242100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2" descr="оплата за конкурс МБДОУ №72_0004"/>
          <p:cNvPicPr/>
          <p:nvPr/>
        </p:nvPicPr>
        <p:blipFill>
          <a:blip r:embed="rId5"/>
          <a:stretch/>
        </p:blipFill>
        <p:spPr>
          <a:xfrm>
            <a:off x="2436840" y="2448000"/>
            <a:ext cx="14875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3" descr="оплата за конкурс МБДОУ №72_0003"/>
          <p:cNvPicPr/>
          <p:nvPr/>
        </p:nvPicPr>
        <p:blipFill>
          <a:blip r:embed="rId6"/>
          <a:stretch/>
        </p:blipFill>
        <p:spPr>
          <a:xfrm>
            <a:off x="3995640" y="2421000"/>
            <a:ext cx="15130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4" descr="оплата за конкурс МБДОУ №72_0002"/>
          <p:cNvPicPr/>
          <p:nvPr/>
        </p:nvPicPr>
        <p:blipFill>
          <a:blip r:embed="rId7"/>
          <a:stretch/>
        </p:blipFill>
        <p:spPr>
          <a:xfrm>
            <a:off x="755640" y="4221000"/>
            <a:ext cx="1440000" cy="16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5" descr="оплата за конкурс МБДОУ №72_0001"/>
          <p:cNvPicPr/>
          <p:nvPr/>
        </p:nvPicPr>
        <p:blipFill>
          <a:blip r:embed="rId8"/>
          <a:stretch/>
        </p:blipFill>
        <p:spPr>
          <a:xfrm>
            <a:off x="2340000" y="4221000"/>
            <a:ext cx="1512720" cy="17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6" descr="оплата за конкурс МБДОУ №72"/>
          <p:cNvPicPr/>
          <p:nvPr/>
        </p:nvPicPr>
        <p:blipFill>
          <a:blip r:embed="rId9"/>
          <a:stretch/>
        </p:blipFill>
        <p:spPr>
          <a:xfrm>
            <a:off x="4067280" y="4221000"/>
            <a:ext cx="1517400" cy="17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9" descr="0_d4d58_f99ff131_orig"/>
          <p:cNvPicPr/>
          <p:nvPr/>
        </p:nvPicPr>
        <p:blipFill>
          <a:blip r:embed="rId10"/>
          <a:stretch/>
        </p:blipFill>
        <p:spPr>
          <a:xfrm>
            <a:off x="5940360" y="1700280"/>
            <a:ext cx="2138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Заучивание чистоговорок, поте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765000"/>
            <a:ext cx="6310080" cy="4307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0_d4e6c_ffa7f1ee_orig"/>
          <p:cNvPicPr/>
          <p:nvPr/>
        </p:nvPicPr>
        <p:blipFill>
          <a:blip r:embed="rId2"/>
          <a:stretch/>
        </p:blipFill>
        <p:spPr>
          <a:xfrm rot="223800">
            <a:off x="6714720" y="4432320"/>
            <a:ext cx="23684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10:51Z</dcterms:created>
  <dc:creator>Admin</dc:creator>
  <dc:description/>
  <dc:language>en-US</dc:language>
  <cp:lastModifiedBy>1</cp:lastModifiedBy>
  <dcterms:modified xsi:type="dcterms:W3CDTF">2023-01-14T16:28:11Z</dcterms:modified>
  <cp:revision>43</cp:revision>
  <dc:subject/>
  <dc:title>Слайд 1</dc:title>
</cp:coreProperties>
</file>