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5134-2A0D-4676-B00E-5B7C5CF9B1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FA0-AFB6-4237-998C-CF45A3F99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B09-CF82-4AC9-B8ED-911E00F1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B15-CD43-43A1-BECD-72515570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067-8B0E-4C83-9C26-E1178180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D83-50FF-4AB0-94F8-9C89839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D9A-E575-4A19-B45C-F362339A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0EC-45D5-4E0A-81AC-C295B09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F88B-E406-4884-BDD5-268A39C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CB33-84C7-45A3-9DAC-B21F227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513A-8A1F-4D62-8C52-6BFEFB3E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9F6F-4B39-4777-BEDA-72E2762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BBA-10CD-4BA0-A03E-C1330A2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CC6-CEFE-4995-85EB-0ADF78E7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D2AF-8225-4E7B-B615-E40FA63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402E-F4B1-4CC2-B7BC-772C5AA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261F-00B6-4FDE-A90D-54DB6768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490D-7D26-4F0A-BC08-8EA9EA81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97E4-A274-4907-B979-274D10F0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31F-193D-4AEC-A923-58A4A0E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5AA-F9D8-4994-A8CD-912CB1B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9EA-A9CE-40BC-A81C-E7C21435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950-A614-4641-B78D-E2C6533F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96E-BFBF-478D-9E66-1A363EF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CD5-35AD-4421-93CD-8FC10E0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BA3-D7E4-4573-A8F5-2F2C162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32F6-87EC-4FBD-905E-47D96B317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olour-pencils.jpg"/>
          <p:cNvPicPr/>
          <p:nvPr/>
        </p:nvPicPr>
        <p:blipFill>
          <a:blip r:embed="rId6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46BE-DB70-4057-8BEC-52112A0C47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67154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стер-класс для родителей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Использование метода  мнемотехники при разучивании потешек и стихотворений с детьми дошкольного возраста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4568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Московская Л.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Заучивание чистоговорок, поте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765000"/>
            <a:ext cx="6310080" cy="4307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_d4e6c_ffa7f1ee_orig"/>
          <p:cNvPicPr/>
          <p:nvPr/>
        </p:nvPicPr>
        <p:blipFill>
          <a:blip r:embed="rId2"/>
          <a:stretch/>
        </p:blipFill>
        <p:spPr>
          <a:xfrm rot="223800">
            <a:off x="6714720" y="4432320"/>
            <a:ext cx="2368440" cy="19414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1857240" y="4429080"/>
            <a:ext cx="31435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Заучивание чистоговорок, поте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28840" y="765000"/>
            <a:ext cx="6311880" cy="433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_d4e6c_ffa7f1ee_orig"/>
          <p:cNvPicPr/>
          <p:nvPr/>
        </p:nvPicPr>
        <p:blipFill>
          <a:blip r:embed="rId2"/>
          <a:stretch/>
        </p:blipFill>
        <p:spPr>
          <a:xfrm rot="223800">
            <a:off x="7095600" y="4593960"/>
            <a:ext cx="1987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etImageCA7B0CJX"/>
          <p:cNvPicPr/>
          <p:nvPr/>
        </p:nvPicPr>
        <p:blipFill>
          <a:blip r:embed="rId1"/>
          <a:stretch/>
        </p:blipFill>
        <p:spPr>
          <a:xfrm>
            <a:off x="847800" y="404640"/>
            <a:ext cx="75834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оставление описательных расска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9" descr="qgKo9hmpnCM"/>
          <p:cNvPicPr/>
          <p:nvPr/>
        </p:nvPicPr>
        <p:blipFill>
          <a:blip r:embed="rId1"/>
          <a:stretch/>
        </p:blipFill>
        <p:spPr>
          <a:xfrm>
            <a:off x="971640" y="836640"/>
            <a:ext cx="71532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оставление описательных расска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8" descr="0GYFMfvtxW8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 rot="21313200">
            <a:off x="561600" y="434520"/>
            <a:ext cx="4186080" cy="305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 rot="723600">
            <a:off x="431280" y="3292200"/>
            <a:ext cx="3794400" cy="26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 rot="1149600">
            <a:off x="4702320" y="657360"/>
            <a:ext cx="3819240" cy="270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 rot="21243600">
            <a:off x="4279680" y="3352320"/>
            <a:ext cx="42447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571680" y="595440"/>
            <a:ext cx="807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дальнейшем, это поможет учиться в школе: при написании изложений (для запоминания текста дети могут выстроить цепочку символов), а так же для сочинений и диктантов, при составлении и решении зада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Этот приём запоминания может пригодиться не только детям, но и Вам самим. Вы только попробуйте и сами  увидите результ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60498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ЖЕЛАЮ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УДАЧИ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«Учите ребёнка каким-нибудь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неизвестным ему словам –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он будет долго и напрасно мучиться,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но свяжите двадцать таких слов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 картинками и он их усвоит на лету»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                                                 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.Д. Уши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333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 от родителей часто слышат такие слова: «У нас стихи не запоминаются!!! Не может быстро запомнить текст, путается в строчках, переставляет слова мест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_ca2e5_39eb4984_orig"/>
          <p:cNvPicPr/>
          <p:nvPr/>
        </p:nvPicPr>
        <p:blipFill>
          <a:blip r:embed="rId1"/>
          <a:stretch/>
        </p:blipFill>
        <p:spPr>
          <a:xfrm>
            <a:off x="3360600" y="1773360"/>
            <a:ext cx="35751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79280" y="2808360"/>
            <a:ext cx="896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КТУА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Мнемотехника облегчает детям овладение связной реч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ебёнок с опорой на образы памяти устанавливает причинно-следственные связи, делает выводы, развивая тем самым лог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менения мнемотехники, использование обобщений позволяют ребёнку систематизировать свой непосредственны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017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истема специальных приемов, обеспечивающих эффективное запоминание, сохранение и воспроизведение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вана облегчить запоминание и увеличить объем памяти, путем образования дополнительных ассоци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79280" y="2588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Мнемотаб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хема, в которую заложена определенная    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78c0XEKhKWs"/>
          <p:cNvPicPr/>
          <p:nvPr/>
        </p:nvPicPr>
        <p:blipFill>
          <a:blip r:embed="rId1"/>
          <a:stretch/>
        </p:blipFill>
        <p:spPr>
          <a:xfrm>
            <a:off x="755640" y="1262160"/>
            <a:ext cx="7632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11280" y="189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 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гробам напрями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рзина, не мет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 веселый снегов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литка шокола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е его 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лочка нарядн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C:\Users\Светлана\Desktop\снеговик\Безымянный2.jpg"/>
          <p:cNvPicPr/>
          <p:nvPr/>
        </p:nvPicPr>
        <p:blipFill>
          <a:blip r:embed="rId1"/>
          <a:stretch/>
        </p:blipFill>
        <p:spPr>
          <a:xfrm>
            <a:off x="971640" y="2205000"/>
            <a:ext cx="2663640" cy="2003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:\Users\Светлана\Desktop\снеговик\Безымянный1.jpg"/>
          <p:cNvPicPr/>
          <p:nvPr/>
        </p:nvPicPr>
        <p:blipFill>
          <a:blip r:embed="rId2"/>
          <a:stretch/>
        </p:blipFill>
        <p:spPr>
          <a:xfrm>
            <a:off x="3586320" y="2203560"/>
            <a:ext cx="2404800" cy="20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C:\Users\Светлана\Desktop\снеговик\Безымянный3.jpg"/>
          <p:cNvPicPr/>
          <p:nvPr/>
        </p:nvPicPr>
        <p:blipFill>
          <a:blip r:embed="rId3"/>
          <a:stretch/>
        </p:blipFill>
        <p:spPr>
          <a:xfrm>
            <a:off x="5867280" y="2203560"/>
            <a:ext cx="2495520" cy="200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C:\Users\Светлана\Desktop\снеговик\Безымянный4.jpg"/>
          <p:cNvPicPr/>
          <p:nvPr/>
        </p:nvPicPr>
        <p:blipFill>
          <a:blip r:embed="rId4"/>
          <a:stretch/>
        </p:blipFill>
        <p:spPr>
          <a:xfrm>
            <a:off x="968400" y="4208400"/>
            <a:ext cx="195408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:\Users\Светлана\Desktop\снеговик\Безымянный5.jpg"/>
          <p:cNvPicPr/>
          <p:nvPr/>
        </p:nvPicPr>
        <p:blipFill>
          <a:blip r:embed="rId5"/>
          <a:stretch/>
        </p:blipFill>
        <p:spPr>
          <a:xfrm>
            <a:off x="2922480" y="4203720"/>
            <a:ext cx="1995480" cy="2012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:\Users\Светлана\Desktop\снеговик\Безымянный6.jpg"/>
          <p:cNvPicPr/>
          <p:nvPr/>
        </p:nvPicPr>
        <p:blipFill>
          <a:blip r:embed="rId6"/>
          <a:stretch/>
        </p:blipFill>
        <p:spPr>
          <a:xfrm>
            <a:off x="4788000" y="4149720"/>
            <a:ext cx="1735200" cy="206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C:\Users\Светлана\Desktop\снеговик\Безымянный7.jpg"/>
          <p:cNvPicPr/>
          <p:nvPr/>
        </p:nvPicPr>
        <p:blipFill>
          <a:blip r:embed="rId7"/>
          <a:stretch/>
        </p:blipFill>
        <p:spPr>
          <a:xfrm>
            <a:off x="6489720" y="4130640"/>
            <a:ext cx="1873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учивание стихотворения «ЁЛОЧКА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219640" y="907920"/>
            <a:ext cx="39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 нами ёлоч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шечки, игол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рики, фонар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йчики и свеч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ёзды, человеч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ищ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76500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33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324000" y="836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1908000" y="83664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3635280" y="836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324000" y="2637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7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1908000" y="256536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8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564000" y="256536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9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395280" y="4437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1908000" y="436572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2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3564000" y="4365720"/>
            <a:ext cx="1517760" cy="172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0_cbb7b_8e77aef9_orig"/>
          <p:cNvPicPr/>
          <p:nvPr/>
        </p:nvPicPr>
        <p:blipFill>
          <a:blip r:embed="rId10"/>
          <a:stretch/>
        </p:blipFill>
        <p:spPr>
          <a:xfrm>
            <a:off x="5076720" y="342900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84360" y="62064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320"/>
                <a:gridCol w="16322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48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755640" y="69228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9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2411280" y="69228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0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4140360" y="69228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1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755640" y="2421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2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2436840" y="244800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3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995640" y="242100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4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755640" y="4221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5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2340000" y="422100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6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4067280" y="4221000"/>
            <a:ext cx="1517400" cy="17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9" descr="0_d4d58_f99ff131_orig"/>
          <p:cNvPicPr/>
          <p:nvPr/>
        </p:nvPicPr>
        <p:blipFill>
          <a:blip r:embed="rId10"/>
          <a:stretch/>
        </p:blipFill>
        <p:spPr>
          <a:xfrm>
            <a:off x="5940360" y="1700280"/>
            <a:ext cx="2138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Заучивание чистоговорок, поте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765000"/>
            <a:ext cx="6310080" cy="430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0_d4e6c_ffa7f1ee_orig"/>
          <p:cNvPicPr/>
          <p:nvPr/>
        </p:nvPicPr>
        <p:blipFill>
          <a:blip r:embed="rId2"/>
          <a:stretch/>
        </p:blipFill>
        <p:spPr>
          <a:xfrm rot="223800">
            <a:off x="6714720" y="4432320"/>
            <a:ext cx="23684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1</cp:lastModifiedBy>
  <dcterms:modified xsi:type="dcterms:W3CDTF">2023-01-14T16:28:11Z</dcterms:modified>
  <cp:revision>43</cp:revision>
  <dc:subject/>
  <dc:title>Слайд 1</dc:title>
</cp:coreProperties>
</file>