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ACF-902C-4EBB-A64A-C7CD1204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FBC-8752-48E9-8214-11B05889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EDE-FFEF-4717-AD3E-CC056C83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4FA-C34E-4F53-BC88-1C028649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F24-78FE-4C22-9AB3-58A98550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0F85-1B73-405E-BEC6-DD2F63D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4BB-E33A-4D93-AE9D-4A9F484B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8D25-39B1-47BF-A4AA-8D3D94FF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BC8F-0B12-41B0-AD6C-7C1C590A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B6A-C402-42F8-B456-1D989702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AB4-2CEC-4C78-BAC2-50F7E76C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96A-329E-4ECB-9E3C-728BB759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DBD-7748-439E-9D4C-DC54F57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518B-89B9-4D8F-A7D8-D28FE83F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2D16-F7CD-4530-8D99-181D97FA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FD96-A903-445B-A927-2F522124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581B-6DAF-4FD2-84C9-F6E5E0C7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A45D-54F3-4B4C-93A3-FC0539F7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1F42-99DB-498D-916A-D8C451D0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41DE-4AB9-470D-A538-D71B486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88B4-28ED-446D-BB40-1B0C5EF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1B4A-A0EF-459A-86B0-5731BA58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08E-5688-4502-94C0-91EBF16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658A-408A-494E-A511-BE48A3CC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8EC3-CA43-4664-A0F6-406D33E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35BB-CB83-4157-99D7-8A23C9BA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19D5-0828-4976-BD3D-D5BCBF0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CFC2-26B8-4055-B511-5278ABBA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792C-F670-4CAD-B61F-678C5836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482C-2047-4CE8-99CC-71C96BA1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9E4E-4ABA-45B5-832F-F50EDD49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0C1D-0C83-4324-A3FC-7C8DD21E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E4BB-9D45-4F5C-BF1B-4846BF55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852-1DF6-47B2-A7B9-D1D4E52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EE94-D8DD-4B98-8206-8488C4D4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FECA-029B-4349-BD81-621ABC9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D6D5-7C19-4D30-8AC3-3BDA5E0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B7C7-A58F-4518-8FDA-7FF8BE2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86A2-AFFF-48DF-B091-979E82B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E3A5-867E-445E-A7E7-99675776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4B7F-8B9C-4C0F-9AF7-125908A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5794-3A55-411F-9527-D285B733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E00F-F912-4C95-B3FA-00273DFC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B8C3-4F08-4DAC-A592-C04FBA85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20F-F73B-4B3F-B911-70480CE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9FF4-8008-4ADA-9908-B3A917C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1C8E-01A2-432D-9CE8-51F88A94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DBA2-F4AD-4FFC-90CC-50F54365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B44E-FBEB-4608-8227-D0F503E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3BA4-1081-47C4-8F5D-57F331C6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CEE4-3487-4A18-9FEA-A8A3540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E316-87F8-46E0-9C8B-0597DE9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D7E3-EE91-4A30-98E5-A7B4953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366B-9BFD-4F11-8CC0-D2E8E6C3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9F36-32A0-4B29-9358-DEC950C6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F10-0E0A-47D8-AB79-2DEA08F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F6BE2-657C-4A26-8138-ED0455F9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29E-2B62-407F-B1A9-9462989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38D-62D7-4326-83B4-2E97775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51A-2DCE-4941-AE87-595A452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A5836F-481F-4ED8-9A5A-E7D37C1B836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EE8355-7B23-4895-A1DD-F1F02290A63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370E75-7EED-4A9C-A6C3-20BA93C685C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52C35E-67EE-426C-A7FF-95B391E2AB2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E66D1-12F0-4B6D-8867-F8AEBBDAD89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775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778868865"/>
          <p:cNvPicPr/>
          <p:nvPr/>
        </p:nvPicPr>
        <p:blipFill>
          <a:blip r:embed="rId1"/>
          <a:stretch/>
        </p:blipFill>
        <p:spPr>
          <a:xfrm>
            <a:off x="0" y="0"/>
            <a:ext cx="43308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575898593"/>
          <p:cNvPicPr/>
          <p:nvPr/>
        </p:nvPicPr>
        <p:blipFill>
          <a:blip r:embed="rId2"/>
          <a:stretch/>
        </p:blipFill>
        <p:spPr>
          <a:xfrm>
            <a:off x="433080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Песни о войне - Священная война.mp3" descr=""/>
          <p:cNvPicPr/>
          <p:nvPr/>
        </p:nvPicPr>
        <p:blipFill>
          <a:blip r:embed="rId3"/>
          <a:stretch/>
        </p:blipFill>
        <p:spPr>
          <a:xfrm>
            <a:off x="827712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128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1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 – </a:t>
            </a:r>
            <a:r>
              <a:rPr b="1" lang="ru-RU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учить наизусть первые 36 строчек стихотворения «Сын артиллериста»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группа – </a:t>
            </a:r>
            <a:r>
              <a:rPr b="1" lang="ru-RU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учить наизусть первые 48 строчек стихотворения «Сын артиллериста»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группа – </a:t>
            </a:r>
            <a:r>
              <a:rPr b="1" lang="ru-RU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выучить наизусть первые 68 строчек стихотворения «Сын артиллериста»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аю удачи!!!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685800" y="304920"/>
            <a:ext cx="792468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1941-194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9" name="Picture 5" descr="1265881957_prisvoeno_12_gorodam_v_sssr_posle_velikoy_otechestvennoy_voyni_1941_1945"/>
          <p:cNvPicPr/>
          <p:nvPr/>
        </p:nvPicPr>
        <p:blipFill>
          <a:blip r:embed="rId1"/>
          <a:stretch/>
        </p:blipFill>
        <p:spPr>
          <a:xfrm>
            <a:off x="1371600" y="2235240"/>
            <a:ext cx="6667560" cy="4622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"/>
          <p:cNvSpPr/>
          <p:nvPr/>
        </p:nvSpPr>
        <p:spPr>
          <a:xfrm>
            <a:off x="635040" y="2637000"/>
            <a:ext cx="90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роизм людей в годы Вели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ечественной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imes New Roman"/>
              </a:rPr>
              <a:t>Свыше 2000 писателей и поэтов отправились на фронт. На фронте они были не только военными корреспондентами, они были рабочими войны: артиллеристами, танкистами, пехотинцами, лётчиками, моряками. Умирали от голода в блокадном Ленинграде, от ран – в военных госпиталях. 417 из них не вернулись, многие погибли от ран после войны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259920"/>
            <a:ext cx="6934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2533c"/>
                </a:solidFill>
                <a:latin typeface="Arial"/>
              </a:rPr>
              <a:t>Константин Михайлович Симонов</a:t>
            </a:r>
            <a:br>
              <a:rPr sz="2500"/>
            </a:br>
            <a:r>
              <a:rPr b="1" lang="ru-RU" sz="2500" spc="-1" strike="noStrike">
                <a:solidFill>
                  <a:srgbClr val="d2533c"/>
                </a:solidFill>
                <a:latin typeface="Arial"/>
              </a:rPr>
              <a:t>                         ( 1915 - 1979)</a:t>
            </a:r>
            <a:endParaRPr b="0" lang="en-US" sz="25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Константин Симонов родился 15 (28) ноября 1915 в Петрограде. Своего отца так и не увидел: тот пропал без вести на фронте в Первую мировую войну. Семья была небогатой, поэтому мальчику пришлось после окончания семи классов пойти в фабрично-заводское училище  и работать токарем по металлу сначала в Саратове, а потом в Москве, куда семья переехала в 1931. Так он зарабатывал рабочий стаж и продолжал работать ещё два года после того, как поступил в Литературный институт им. А. М. Горького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С началом войны был призван в армию, работал в газете «Боевое знамя». В 1942 ему было присвоено звание старшего батальонного комиссара, в 1943 — звание подполковника, а после войны — полковника. Большая часть его военных корреспонденций публиковалась в «Красной звезде»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292934"/>
                </a:solidFill>
                <a:latin typeface="Times New Roman"/>
              </a:rPr>
              <a:t>Как военный корреспондент побывал на всех фронтах, прошёл по землям Румынии, Болгарии, Югославии, Польши и Германии, был свидетелем последних боёв за Берлин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4" descr="K-simonov"/>
          <p:cNvPicPr/>
          <p:nvPr/>
        </p:nvPicPr>
        <p:blipFill>
          <a:blip r:embed="rId1"/>
          <a:stretch/>
        </p:blipFill>
        <p:spPr>
          <a:xfrm>
            <a:off x="6170760" y="1219320"/>
            <a:ext cx="297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8"/>
          <p:cNvSpPr/>
          <p:nvPr/>
        </p:nvSpPr>
        <p:spPr>
          <a:xfrm>
            <a:off x="4221000" y="12682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хотворение Сы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Стихотворение 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«Сын артиллериста» 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в исполнении  автора Константина Михайловича Симонова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7" name="Picture 4" descr="K-simonov"/>
          <p:cNvPicPr/>
          <p:nvPr/>
        </p:nvPicPr>
        <p:blipFill>
          <a:blip r:embed="rId1"/>
          <a:stretch/>
        </p:blipFill>
        <p:spPr>
          <a:xfrm>
            <a:off x="3130560" y="2852640"/>
            <a:ext cx="2973240" cy="3889440"/>
          </a:xfrm>
          <a:prstGeom prst="rect">
            <a:avLst/>
          </a:prstGeom>
          <a:ln w="0">
            <a:noFill/>
          </a:ln>
        </p:spPr>
      </p:pic>
      <p:pic>
        <p:nvPicPr>
          <p:cNvPr id="238" name="Сын. арт.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7048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Работа в группах: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1 группа:</a:t>
            </a:r>
            <a:br>
              <a:rPr sz="3600"/>
            </a:br>
            <a:r>
              <a:rPr b="1" lang="ru-RU" sz="3200" spc="-1" strike="noStrike">
                <a:solidFill>
                  <a:srgbClr val="292934"/>
                </a:solidFill>
                <a:latin typeface="Arial"/>
              </a:rPr>
              <a:t>Рассказать о детстве Лёньки (стр.209-210)</a:t>
            </a:r>
            <a:br>
              <a:rPr sz="3200"/>
            </a:br>
            <a:r>
              <a:rPr b="1" lang="ru-RU" sz="3200" spc="-1" strike="noStrike">
                <a:solidFill>
                  <a:srgbClr val="d2533c"/>
                </a:solidFill>
                <a:latin typeface="Arial"/>
              </a:rPr>
              <a:t>2 группа:</a:t>
            </a:r>
            <a:br>
              <a:rPr sz="3200"/>
            </a:br>
            <a:r>
              <a:rPr b="1" lang="ru-RU" sz="3200" spc="-1" strike="noStrike">
                <a:solidFill>
                  <a:srgbClr val="292934"/>
                </a:solidFill>
                <a:latin typeface="Arial"/>
              </a:rPr>
              <a:t>Рассказать о прибытии Лёньки в полк Деева (стр.211)</a:t>
            </a:r>
            <a:br>
              <a:rPr sz="3200"/>
            </a:br>
            <a:r>
              <a:rPr b="1" lang="ru-RU" sz="2900" spc="-1" strike="noStrike">
                <a:solidFill>
                  <a:srgbClr val="d2533c"/>
                </a:solidFill>
                <a:latin typeface="Arial"/>
              </a:rPr>
              <a:t>3 группа:</a:t>
            </a:r>
            <a:br>
              <a:rPr sz="2900"/>
            </a:br>
            <a:r>
              <a:rPr b="1" lang="ru-RU" sz="2900" spc="-1" strike="noStrike">
                <a:solidFill>
                  <a:srgbClr val="292934"/>
                </a:solidFill>
                <a:latin typeface="Arial"/>
              </a:rPr>
              <a:t>Творческое задание: создать словесную картину встречи Лёньки и Деева. Где это могло происходить,  как?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533c"/>
                </a:solidFill>
                <a:latin typeface="Arial"/>
              </a:rPr>
              <a:t>Физкульминутк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Летит, летит по небу шар,</a:t>
            </a: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По небу шар летит, </a:t>
            </a: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Но знаем мы, что это шар</a:t>
            </a:r>
            <a:br>
              <a:rPr sz="4000"/>
            </a:br>
            <a:r>
              <a:rPr b="1" lang="ru-RU" sz="4000" spc="-1" strike="noStrike">
                <a:solidFill>
                  <a:srgbClr val="292934"/>
                </a:solidFill>
                <a:latin typeface="Arial"/>
              </a:rPr>
              <a:t>Никак не долетит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Работа в группах: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1 группа: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92934"/>
                </a:solidFill>
                <a:latin typeface="Arial"/>
              </a:rPr>
              <a:t>Рассказать о задании, которое должен выполнить Лёнька.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2 группа:</a:t>
            </a:r>
            <a:br>
              <a:rPr sz="3600"/>
            </a:br>
            <a:r>
              <a:rPr b="1" lang="ru-RU" sz="3600" spc="-1" strike="noStrike">
                <a:solidFill>
                  <a:srgbClr val="292934"/>
                </a:solidFill>
                <a:latin typeface="Arial"/>
              </a:rPr>
              <a:t>Рассказать о действиях Лёньки при выполнении задания</a:t>
            </a:r>
            <a:br>
              <a:rPr sz="3600"/>
            </a:br>
            <a:r>
              <a:rPr b="1" lang="ru-RU" sz="3600" spc="-1" strike="noStrike">
                <a:solidFill>
                  <a:srgbClr val="d2533c"/>
                </a:solidFill>
                <a:latin typeface="Arial"/>
              </a:rPr>
              <a:t> 3 группа:</a:t>
            </a:r>
            <a:br>
              <a:rPr sz="3600"/>
            </a:br>
            <a:r>
              <a:rPr b="1" lang="ru-RU" sz="3600" spc="-1" strike="noStrike">
                <a:solidFill>
                  <a:srgbClr val="292934"/>
                </a:solidFill>
                <a:latin typeface="Arial"/>
              </a:rPr>
              <a:t>Рассказать, какие изобразительно-выразительные средства использует автор, чтобы показать читателю картину боя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cwer.ws/files/u5/1945.jpg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6039000"/>
          </a:xfrm>
          <a:prstGeom prst="rect">
            <a:avLst/>
          </a:prstGeom>
          <a:ln w="0">
            <a:noFill/>
          </a:ln>
        </p:spPr>
      </p:pic>
      <p:pic>
        <p:nvPicPr>
          <p:cNvPr id="243" name="День П. песня.mp3" descr=""/>
          <p:cNvPicPr/>
          <p:nvPr/>
        </p:nvPicPr>
        <p:blipFill>
          <a:blip r:embed="rId2"/>
          <a:stretch/>
        </p:blipFill>
        <p:spPr>
          <a:xfrm>
            <a:off x="8317080" y="5908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3509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14:07Z</dcterms:created>
  <dc:creator>Солнышко</dc:creator>
  <dc:description/>
  <dc:language>en-US</dc:language>
  <cp:lastModifiedBy>Наталья</cp:lastModifiedBy>
  <dcterms:modified xsi:type="dcterms:W3CDTF">2013-04-16T09:10:58Z</dcterms:modified>
  <cp:revision>137</cp:revision>
  <dc:subject/>
  <dc:title>Шолохов</dc:title>
</cp:coreProperties>
</file>