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CE0-A5A7-4197-A85E-9E202C9E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64A-F3D4-4F3C-9444-55C498C5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0E2-51FB-4DCC-BB01-5EDBB079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B13-7692-47D2-A967-110976B3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66B3-F6BA-472C-8A69-2BA9E4BF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74EF-19A2-477F-A256-674AE6C0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C39C-FB43-495A-AAE2-2A5EDDFF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1C46-0DE0-40ED-811D-CCCDBB75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628B-FBB0-4809-8ADB-74E66527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AA5F-8DAB-468E-BB06-4F5394A3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A800-5E45-4848-9318-EFFAE1D6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4C7-63BC-4FC8-A2D6-0C228A1B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D98F-0DD5-4E66-B379-E9FFAB02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68A6-7FC9-40EC-B496-18BB6561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BBF4-CC45-465F-93CD-BBA3060C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540C-0DDD-47A1-8349-A6C95568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FD7E-75DD-49CF-B472-38BCDC68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C8E0-37E9-4A51-BAC5-7C2314D9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58E6-5B24-4600-BDBB-541482C3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7221-6084-474E-8932-DE7D6607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196D-2E36-41CB-B675-7A7B437F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2EB38-43D8-43E1-AC5F-E6CB758B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187-909E-4CE8-9D82-8E66905B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5620-5C7D-4987-8B2B-C8FE0D11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226B-340E-4F00-9573-23B3AA6D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B941-C26F-4398-A582-52522F8E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0B4D-C58B-4274-AB43-391E5D55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6B31-4C24-46DC-A10A-D1F7C720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A7D4-AE68-4367-8235-C4B191EA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CBEEC-A99C-4E47-8EC2-115021F4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512D-8CE1-4114-9B06-19D46E5F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1313-9B6E-49F2-8798-6578E693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C173-D5A1-49FF-B7A4-9F534495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1C1-5B5E-4014-BBE8-30025A0C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DB197-B998-4E76-B964-C31AC023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5C20-4E37-4727-9B42-AF56F274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F605B-F6A6-41F0-BA9B-69107F21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6CAD5-80C5-4FA3-B5C0-3BA6A6B8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8FCD-3FF9-4200-8028-AB957C5A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9297-25A9-4D01-9A4E-E3996F70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E015-DFD4-4189-A144-67B7EB7A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E829B-FA6D-4625-9A22-211144D6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5206-094D-46FC-9635-22296CFC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B320D-9C8A-4F68-B85C-1F28B001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229-86F8-4A2E-AE7C-2FB9A758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02E47-F352-4FCA-ACA9-647C4415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B8F9C-3208-41CC-9DC1-C9F49BA3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159E-53BC-4CDB-8148-37BF8166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96E84-DFAB-4745-B291-31686984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67AB7-603A-49C2-ABF4-60FA3982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30796-1AE1-4FDF-9FA7-13B5776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28F3D-CCC9-4E8C-8E9A-29626B50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CB671-B0D9-4561-BDEE-9EA8CD69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DBC64-CCD3-4F3F-8960-7BFD2E45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830E3-B000-4B0E-AC7F-7668615D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C6C-5C73-4961-AE7F-59EFB615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1779-EA84-4CAE-9C8A-AB3B0EC5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F74-2A1B-4E33-A03A-B0FC4F51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A28-A929-4C6D-837C-F52A9166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014-DAF6-4075-B28C-9BE7F0AB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9293D3-91E9-41E4-B078-CFC3A79C057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1DF617-8225-4F1B-8F24-3BB74FF0285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23E6AD-B85B-445B-81FC-A3EB84F1EBB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FE52E9-78B1-4E53-BF2B-1FC41210E14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32F03F-56C3-40B8-986A-53412A68EF2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775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778868865"/>
          <p:cNvPicPr/>
          <p:nvPr/>
        </p:nvPicPr>
        <p:blipFill>
          <a:blip r:embed="rId1"/>
          <a:stretch/>
        </p:blipFill>
        <p:spPr>
          <a:xfrm>
            <a:off x="0" y="0"/>
            <a:ext cx="43308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575898593"/>
          <p:cNvPicPr/>
          <p:nvPr/>
        </p:nvPicPr>
        <p:blipFill>
          <a:blip r:embed="rId2"/>
          <a:stretch/>
        </p:blipFill>
        <p:spPr>
          <a:xfrm>
            <a:off x="4330800" y="0"/>
            <a:ext cx="47862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Песни о войне - Священная война.mp3" descr=""/>
          <p:cNvPicPr/>
          <p:nvPr/>
        </p:nvPicPr>
        <p:blipFill>
          <a:blip r:embed="rId3"/>
          <a:stretch/>
        </p:blipFill>
        <p:spPr>
          <a:xfrm>
            <a:off x="8277120" y="6021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12896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1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группа – </a:t>
            </a:r>
            <a:r>
              <a:rPr b="1" lang="ru-RU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выучить наизусть первые 36 строчек стихотворения «Сын артиллериста»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группа – </a:t>
            </a:r>
            <a:r>
              <a:rPr b="1" lang="ru-RU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выучить наизусть первые 48 строчек стихотворения «Сын артиллериста»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 группа – </a:t>
            </a:r>
            <a:r>
              <a:rPr b="1" lang="ru-RU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выучить наизусть первые 68 строчек стихотворения «Сын артиллериста»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аю удачи!!!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685800" y="304920"/>
            <a:ext cx="792468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1941-194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9" name="Picture 5" descr="1265881957_prisvoeno_12_gorodam_v_sssr_posle_velikoy_otechestvennoy_voyni_1941_1945"/>
          <p:cNvPicPr/>
          <p:nvPr/>
        </p:nvPicPr>
        <p:blipFill>
          <a:blip r:embed="rId1"/>
          <a:stretch/>
        </p:blipFill>
        <p:spPr>
          <a:xfrm>
            <a:off x="1371600" y="2235240"/>
            <a:ext cx="6667560" cy="46227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"/>
          <p:cNvSpPr/>
          <p:nvPr/>
        </p:nvSpPr>
        <p:spPr>
          <a:xfrm>
            <a:off x="635040" y="2637000"/>
            <a:ext cx="902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роизм людей в годы Вели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ечественной во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</a:rPr>
              <a:t>Свыше 2000 писателей и поэтов отправились на фронт. На фронте они были не только военными корреспондентами, они были рабочими войны: артиллеристами, танкистами, пехотинцами, лётчиками, моряками. Умирали от голода в блокадном Ленинграде, от ран – в военных госпиталях. 417 из них не вернулись, многие погибли от ран после войны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259920"/>
            <a:ext cx="6934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2533c"/>
                </a:solidFill>
                <a:latin typeface="Arial"/>
              </a:rPr>
              <a:t>Константин Михайлович Симонов</a:t>
            </a:r>
            <a:br>
              <a:rPr sz="2500"/>
            </a:br>
            <a:r>
              <a:rPr b="1" lang="ru-RU" sz="2500" spc="-1" strike="noStrike">
                <a:solidFill>
                  <a:srgbClr val="d2533c"/>
                </a:solidFill>
                <a:latin typeface="Arial"/>
              </a:rPr>
              <a:t>                         ( 1915 - 1979)</a:t>
            </a:r>
            <a:endParaRPr b="0" lang="en-US" sz="25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92934"/>
                </a:solidFill>
                <a:latin typeface="Times New Roman"/>
              </a:rPr>
              <a:t>Константин Симонов родился 15 (28) ноября 1915 в Петрограде. Своего отца так и не увидел: тот пропал без вести на фронте в Первую мировую войну. Семья была небогатой, поэтому мальчику пришлось после окончания семи классов пойти в фабрично-заводское училище  и работать токарем по металлу сначала в Саратове, а потом в Москве, куда семья переехала в 1931. Так он зарабатывал рабочий стаж и продолжал работать ещё два года после того, как поступил в Литературный институт им. А. М. Горького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292934"/>
                </a:solidFill>
                <a:latin typeface="Times New Roman"/>
              </a:rPr>
              <a:t>С началом войны был призван в армию, работал в газете «Боевое знамя». В 1942 ему было присвоено звание старшего батальонного комиссара, в 1943 — звание подполковника, а после войны — полковника. Большая часть его военных корреспонденций публиковалась в «Красной звезде»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292934"/>
                </a:solidFill>
                <a:latin typeface="Times New Roman"/>
              </a:rPr>
              <a:t>Как военный корреспондент побывал на всех фронтах, прошёл по землям Румынии, Болгарии, Югославии, Польши и Германии, был свидетелем последних боёв за Берлин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4" name="Picture 4" descr="K-simonov"/>
          <p:cNvPicPr/>
          <p:nvPr/>
        </p:nvPicPr>
        <p:blipFill>
          <a:blip r:embed="rId1"/>
          <a:stretch/>
        </p:blipFill>
        <p:spPr>
          <a:xfrm>
            <a:off x="6170760" y="1219320"/>
            <a:ext cx="2973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8"/>
          <p:cNvSpPr/>
          <p:nvPr/>
        </p:nvSpPr>
        <p:spPr>
          <a:xfrm>
            <a:off x="4221000" y="126828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хотворение Сы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Стихотворение 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«Сын артиллериста» 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в исполнении  автора Константина Михайловича Симонова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7" name="Picture 4" descr="K-simonov"/>
          <p:cNvPicPr/>
          <p:nvPr/>
        </p:nvPicPr>
        <p:blipFill>
          <a:blip r:embed="rId1"/>
          <a:stretch/>
        </p:blipFill>
        <p:spPr>
          <a:xfrm>
            <a:off x="3130560" y="2852640"/>
            <a:ext cx="2973240" cy="3889440"/>
          </a:xfrm>
          <a:prstGeom prst="rect">
            <a:avLst/>
          </a:prstGeom>
          <a:ln w="0">
            <a:noFill/>
          </a:ln>
        </p:spPr>
      </p:pic>
      <p:pic>
        <p:nvPicPr>
          <p:cNvPr id="238" name="Сын. арт..mp3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570489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Работа в группах: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1 группа:</a:t>
            </a:r>
            <a:br>
              <a:rPr sz="3600"/>
            </a:br>
            <a:r>
              <a:rPr b="1" lang="ru-RU" sz="3200" spc="-1" strike="noStrike">
                <a:solidFill>
                  <a:srgbClr val="292934"/>
                </a:solidFill>
                <a:latin typeface="Arial"/>
              </a:rPr>
              <a:t>Рассказать о детстве Лёньки (стр.209-210)</a:t>
            </a:r>
            <a:br>
              <a:rPr sz="3200"/>
            </a:br>
            <a:r>
              <a:rPr b="1" lang="ru-RU" sz="3200" spc="-1" strike="noStrike">
                <a:solidFill>
                  <a:srgbClr val="d2533c"/>
                </a:solidFill>
                <a:latin typeface="Arial"/>
              </a:rPr>
              <a:t>2 группа:</a:t>
            </a:r>
            <a:br>
              <a:rPr sz="3200"/>
            </a:br>
            <a:r>
              <a:rPr b="1" lang="ru-RU" sz="3200" spc="-1" strike="noStrike">
                <a:solidFill>
                  <a:srgbClr val="292934"/>
                </a:solidFill>
                <a:latin typeface="Arial"/>
              </a:rPr>
              <a:t>Рассказать о прибытии Лёньки в полк Деева (стр.211)</a:t>
            </a:r>
            <a:br>
              <a:rPr sz="3200"/>
            </a:br>
            <a:r>
              <a:rPr b="1" lang="ru-RU" sz="2900" spc="-1" strike="noStrike">
                <a:solidFill>
                  <a:srgbClr val="d2533c"/>
                </a:solidFill>
                <a:latin typeface="Arial"/>
              </a:rPr>
              <a:t>3 группа:</a:t>
            </a:r>
            <a:br>
              <a:rPr sz="2900"/>
            </a:br>
            <a:r>
              <a:rPr b="1" lang="ru-RU" sz="2900" spc="-1" strike="noStrike">
                <a:solidFill>
                  <a:srgbClr val="292934"/>
                </a:solidFill>
                <a:latin typeface="Arial"/>
              </a:rPr>
              <a:t>Творческое задание: создать словесную картину встречи Лёньки и Деева. Где это могло происходить,  как?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533c"/>
                </a:solidFill>
                <a:latin typeface="Arial"/>
              </a:rPr>
              <a:t>Физкульминутка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292934"/>
                </a:solidFill>
                <a:latin typeface="Arial"/>
              </a:rPr>
              <a:t>Летит, летит по небу шар,</a:t>
            </a:r>
            <a:br>
              <a:rPr sz="4000"/>
            </a:br>
            <a:r>
              <a:rPr b="1" lang="ru-RU" sz="4000" spc="-1" strike="noStrike">
                <a:solidFill>
                  <a:srgbClr val="292934"/>
                </a:solidFill>
                <a:latin typeface="Arial"/>
              </a:rPr>
              <a:t>По небу шар летит, </a:t>
            </a:r>
            <a:br>
              <a:rPr sz="4000"/>
            </a:br>
            <a:r>
              <a:rPr b="1" lang="ru-RU" sz="4000" spc="-1" strike="noStrike">
                <a:solidFill>
                  <a:srgbClr val="292934"/>
                </a:solidFill>
                <a:latin typeface="Arial"/>
              </a:rPr>
              <a:t>Но знаем мы, что это шар</a:t>
            </a:r>
            <a:br>
              <a:rPr sz="4000"/>
            </a:br>
            <a:r>
              <a:rPr b="1" lang="ru-RU" sz="4000" spc="-1" strike="noStrike">
                <a:solidFill>
                  <a:srgbClr val="292934"/>
                </a:solidFill>
                <a:latin typeface="Arial"/>
              </a:rPr>
              <a:t>Никак не долетит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Работа в группах: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1 группа: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92934"/>
                </a:solidFill>
                <a:latin typeface="Arial"/>
              </a:rPr>
              <a:t>Рассказать о задании, которое должен выполнить Лёнька.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2 группа:</a:t>
            </a:r>
            <a:br>
              <a:rPr sz="3600"/>
            </a:br>
            <a:r>
              <a:rPr b="1" lang="ru-RU" sz="3600" spc="-1" strike="noStrike">
                <a:solidFill>
                  <a:srgbClr val="292934"/>
                </a:solidFill>
                <a:latin typeface="Arial"/>
              </a:rPr>
              <a:t>Рассказать о действиях Лёньки при выполнении задания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 3 группа:</a:t>
            </a:r>
            <a:br>
              <a:rPr sz="3600"/>
            </a:br>
            <a:r>
              <a:rPr b="1" lang="ru-RU" sz="3600" spc="-1" strike="noStrike">
                <a:solidFill>
                  <a:srgbClr val="292934"/>
                </a:solidFill>
                <a:latin typeface="Arial"/>
              </a:rPr>
              <a:t>Рассказать, какие изобразительно-выразительные средства использует автор, чтобы показать читателю картину боя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://cwer.ws/files/u5/1945.jpg"/>
          <p:cNvPicPr/>
          <p:nvPr/>
        </p:nvPicPr>
        <p:blipFill>
          <a:blip r:embed="rId1"/>
          <a:stretch/>
        </p:blipFill>
        <p:spPr>
          <a:xfrm>
            <a:off x="1476360" y="476280"/>
            <a:ext cx="6191280" cy="6039000"/>
          </a:xfrm>
          <a:prstGeom prst="rect">
            <a:avLst/>
          </a:prstGeom>
          <a:ln w="0">
            <a:noFill/>
          </a:ln>
        </p:spPr>
      </p:pic>
      <p:pic>
        <p:nvPicPr>
          <p:cNvPr id="243" name="День П. песня.mp3" descr=""/>
          <p:cNvPicPr/>
          <p:nvPr/>
        </p:nvPicPr>
        <p:blipFill>
          <a:blip r:embed="rId2"/>
          <a:stretch/>
        </p:blipFill>
        <p:spPr>
          <a:xfrm>
            <a:off x="8317080" y="59086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35094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6:14:07Z</dcterms:created>
  <dc:creator>Солнышко</dc:creator>
  <dc:description/>
  <dc:language>en-US</dc:language>
  <cp:lastModifiedBy>Наталья</cp:lastModifiedBy>
  <dcterms:modified xsi:type="dcterms:W3CDTF">2013-04-16T09:10:58Z</dcterms:modified>
  <cp:revision>137</cp:revision>
  <dc:subject/>
  <dc:title>Шолохов</dc:title>
</cp:coreProperties>
</file>