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2FDB-A471-44E1-B75B-D32C2A17F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F479-4F09-4C07-9CB8-B74F373E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1C84-F6F1-4A1B-97B9-E9F8CCEB9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0230-B1F9-44F3-BB0E-85F903688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BF25-762C-4421-B4AB-33FCAA6B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02E9-B684-4552-A7CD-1F1C45CE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FEF0-1CA8-4DB5-8156-5FD4A9B6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A691-6358-453D-9F6B-76804E2A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F0A7-7E52-4F3C-A22D-F15B3739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0FC2-216D-4DDB-A2C5-EAC4BDA1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11A5-7033-4052-BCDC-181365FB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66E9-2FAD-4DB1-9191-F6FE9754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8B33-1BA5-45B2-A295-681EBF4ADE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4" descr=""/>
          <p:cNvPicPr/>
          <p:nvPr/>
        </p:nvPicPr>
        <p:blipFill>
          <a:blip r:embed="rId2"/>
          <a:stretch/>
        </p:blipFill>
        <p:spPr>
          <a:xfrm>
            <a:off x="-324000" y="-139680"/>
            <a:ext cx="11661840" cy="7473960"/>
          </a:xfrm>
          <a:prstGeom prst="rect">
            <a:avLst/>
          </a:prstGeom>
          <a:ln w="0">
            <a:noFill/>
          </a:ln>
        </p:spPr>
      </p:pic>
      <p:sp>
        <p:nvSpPr>
          <p:cNvPr id="42" name="TextBox 8"/>
          <p:cNvSpPr/>
          <p:nvPr/>
        </p:nvSpPr>
        <p:spPr>
          <a:xfrm>
            <a:off x="2268360" y="2565360"/>
            <a:ext cx="6151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творческих способностей у детей дошкольного возраста через театральную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2"/>
          <p:cNvSpPr/>
          <p:nvPr/>
        </p:nvSpPr>
        <p:spPr>
          <a:xfrm>
            <a:off x="468360" y="1568520"/>
            <a:ext cx="7991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800000"/>
                </a:solidFill>
                <a:uFillTx/>
                <a:latin typeface="Calibri"/>
              </a:rPr>
              <a:t>Цель моей работы является:</a:t>
            </a:r>
            <a:br>
              <a:rPr sz="2400"/>
            </a:br>
            <a:r>
              <a:rPr b="1" lang="ru-RU" sz="4400" spc="-1" strike="noStrike">
                <a:solidFill>
                  <a:srgbClr val="800000"/>
                </a:solidFill>
                <a:latin typeface="Calibri"/>
              </a:rPr>
              <a:t>. 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Развитие творческих способностей детей дошкольного возраста через театральную деяте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2"/>
          <p:cNvSpPr/>
          <p:nvPr/>
        </p:nvSpPr>
        <p:spPr>
          <a:xfrm>
            <a:off x="395280" y="404640"/>
            <a:ext cx="8424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alibri"/>
              </a:rPr>
              <a:t>Для проявление детского творчества необходимо обогатить жизненный опыт ребёнка яркими художественными впечатлениями, дать необходимые знания и умения. </a:t>
            </a:r>
            <a:br>
              <a:rPr sz="2000"/>
            </a:br>
            <a:r>
              <a:rPr b="1" lang="ru-RU" sz="2000" spc="-1" strike="noStrike">
                <a:solidFill>
                  <a:srgbClr val="800000"/>
                </a:solidFill>
                <a:latin typeface="Calibri"/>
              </a:rPr>
              <a:t>Чем богаче опыт ребёнка, тем будут творческие проявления в разных видах деятельности. </a:t>
            </a:r>
            <a:br>
              <a:rPr sz="2000"/>
            </a:br>
            <a:r>
              <a:rPr b="1" lang="ru-RU" sz="2000" spc="-1" strike="noStrike">
                <a:solidFill>
                  <a:srgbClr val="800000"/>
                </a:solidFill>
                <a:latin typeface="Calibri"/>
              </a:rPr>
              <a:t>Основное внимание я уделяю театрализованным играм. Они являются частью театрализован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2"/>
          <p:cNvSpPr/>
          <p:nvPr/>
        </p:nvSpPr>
        <p:spPr>
          <a:xfrm>
            <a:off x="179280" y="115920"/>
            <a:ext cx="828036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аньше наш детский сад в проведении утренников и досугов ничем не отличался от сотен и тысяч других детских садов. Но как-то незаметно, благодаря нашей творческой группе, праздники стали превращаться в спектакли, музыкальные сказки, мюзиклы. Такие яркие, насыщенные праздники требовали соответствующих декораций.</a:t>
            </a:r>
            <a:br>
              <a:rPr sz="1600"/>
            </a:br>
            <a:r>
              <a:rPr b="1" lang="ru-RU" sz="1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Театрализованная деятельность органично вошла в педагогический процесс всех групп детского сада. В детском саду создана театрализованная развивающая среда. В каждой группе оборудован специальный мини-центр для театрализованной деятельности, где имеются куклы для настольного, перчаточного, пальчикового, и других видов театра; шапочки-маски, изображающие различных зверей и птиц; элементы костюмов и декораций; разные ширмы. </a:t>
            </a:r>
            <a:br>
              <a:rPr sz="1600"/>
            </a:br>
            <a:r>
              <a:rPr b="1" lang="ru-RU" sz="1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 созданию театрализованной среды были привлечены не только специалисты МБДОУ, но и родители, активно участвующие в изготовлении атрибутов. Однако большую воспитательную ценность имеет изготовление игрушек самими детьми. С огромным желанием и старанием мастерят старшие дошкольники эти игрушки и используют их в театрализованн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Театрализованная  деятельность – это  самый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распространенный вид детского  творчества. Она близка и понятна ребенку, глубоко лежит в его природе и находит </a:t>
            </a:r>
            <a:r>
              <a:rPr b="1" lang="ru-RU" sz="1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вое отражение стихийно, потому что связана с игр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3"/>
          <p:cNvSpPr/>
          <p:nvPr/>
        </p:nvSpPr>
        <p:spPr>
          <a:xfrm>
            <a:off x="250920" y="765000"/>
            <a:ext cx="8066160" cy="39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Театрализованная  деятельность в детском саду может быть организована в утренние и вечерние часы .Органично включена в различные другие занятия (музыкальные, физкультурные, по изобразительной деятельности и др.), а также запланирована специально в недельном расписании занятий  по развитию речи и ознакомлению с окружающим мир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 театрализации обязательно привлекаю  родителей, которые с удовольствием берут на себя роли героев сказок. 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А так же оказываю помощь  в изготовлении костюмов и атрибутов.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иобщая родителей к подготовке спектаклей, я тем самым, стараюсь сблизить семью с жизнью детей в детском са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3"/>
          <p:cNvSpPr/>
          <p:nvPr/>
        </p:nvSpPr>
        <p:spPr>
          <a:xfrm>
            <a:off x="179280" y="404640"/>
            <a:ext cx="8137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Театрализованная деятельность в детском саду способствует: художественному воспитанию, эстетическому развитию, развитию творческой активности ребёнка, так как обогащает детей новыми впечатлениями, закрепляет их знания, полученные ранее, активизирует и развивает речь. 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Занимаясь с детьми театральными искусством, мы делаем жизнь наших воспитанников интересной и содержательной, наполненной радостью твор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ПАСИБО ЗА ВНИМАНИЯ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 Изместьева</cp:lastModifiedBy>
  <cp:lastPrinted>2023-01-24T06:07:37Z</cp:lastPrinted>
  <dcterms:modified xsi:type="dcterms:W3CDTF">2023-02-20T03:04:45Z</dcterms:modified>
  <cp:revision>21</cp:revision>
  <dc:subject/>
  <dc:title>Слайд 1</dc:title>
</cp:coreProperties>
</file>