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489-3181-491E-8422-0B0BEEF7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B72-E8E8-4519-A46E-F037ECC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2D6-0B14-4B2A-B4B9-76196619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7E0-3F1D-4A32-8D3D-4B85182C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6F5-AF57-456A-B27D-0992DCD8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197-44A0-4CCA-BE07-A0641308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242-6979-4E58-ABE5-F871C85E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227-8090-426D-B574-BD6C8D30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E75-8753-4F32-A190-342360F9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97F-6853-4C44-A517-5E1157C7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6D5-ABB6-4ECC-B8B2-098B55FC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0CE-A286-45F8-A312-BAA9B037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1406-81D8-40B4-BA70-8773150CB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-324000" y="-139680"/>
            <a:ext cx="11661840" cy="7473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2268360" y="2565360"/>
            <a:ext cx="615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 у детей дошкольного возраста через театральную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468360" y="1568520"/>
            <a:ext cx="79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Calibri"/>
              </a:rPr>
              <a:t>Цель моей работы является:</a:t>
            </a:r>
            <a:br>
              <a:rPr sz="2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азвитие творческих способностей детей дошкольного возраста через театральн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395280" y="404640"/>
            <a:ext cx="842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Для проявление детского творчества необходимо обогатить жизненный опыт ребёнка яркими художественными впечатлениями, дать необходимые знания и умения.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Чем богаче опыт ребёнка, тем будут творческие проявления в разных видах деятельности.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Основное внимание я уделяю театрализованным играм. Они являются частью театрализова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179280" y="115920"/>
            <a:ext cx="8280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ньше наш детский сад в проведении утренников и досугов ничем не отличался от сотен и тысяч других детских садов. Но как-то незаметно, благодаря нашей творческой группе, праздники стали превращаться в спектакли, музыкальные сказки, мюзиклы. Такие яркие, насыщенные праздники требовали соответствующих декораций.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атрализованная деятельность органично вошла в педагогический процесс всех групп детского сада. В детском саду создана театрализованная развивающая среда. В каждой группе оборудован специальный мини-центр для театрализованной деятельности, где имеются куклы для настольного, перчаточного, пальчикового, и других видов театра; шапочки-маски, изображающие различных зверей и птиц; элементы костюмов и декораций; разные ширмы. 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 созданию театрализованной среды были привлечены не только специалисты МБДОУ, но и родители, активно участвующие в изготовлении атрибутов. Однако большую воспитательную ценность имеет изготовление игрушек самими детьми. С огромным желанием и старанием мастерят старшие дошкольники эти игрушки и используют их в театрализован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атрализованная  деятельность – это  самый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распространенный вид детского  творчества. Она близка и понятна ребенку, глубоко лежит в его природе и находит 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вое отражение стихийно, потому что связана с игр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250920" y="765000"/>
            <a:ext cx="806616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атрализованная  деятельность в детском саду может быть организована в утренние и вечерние часы .Органично включена в различные другие занятия (музыкальные, физкультурные, по изобразительной деятельности и др.), а также запланирована специально в недельном расписании занятий  по развитию речи и ознакомлению с окружающим ми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 театрализации обязательно привлекаю  родителей, которые с удовольствием берут на себя роли героев сказок.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А так же оказываю помощь  в изготовлении костюмов и атрибутов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общая родителей к подготовке спектаклей, я тем самым, стараюсь сблизить семью с жизнью детей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79280" y="404640"/>
            <a:ext cx="813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атрализованная деятельность в детском саду способствует: художественному воспитанию, эстетическому развитию, развитию творческой активности ребёнка, так как обогащает детей новыми впечатлениями, закрепляет их знания, полученные ранее, активизирует и развивает речь.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нимаясь с детьми театральными искусством, мы делаем жизнь наших воспитанников интересной и содержательной, наполненной радостью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ПАСИБО ЗА ВНИМАНИЯ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Изместьева</cp:lastModifiedBy>
  <cp:lastPrinted>2023-01-24T06:07:37Z</cp:lastPrinted>
  <dcterms:modified xsi:type="dcterms:W3CDTF">2023-02-20T03:04:45Z</dcterms:modified>
  <cp:revision>21</cp:revision>
  <dc:subject/>
  <dc:title>Слайд 1</dc:title>
</cp:coreProperties>
</file>