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369-7FAE-4E2A-9953-49C5F4F4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2F3-D124-453A-B2D6-1DFE5ED7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F1C-F196-4534-90C7-23D4C654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DAE-7153-415B-8A8D-EF4B8D0B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305-3985-48D3-9946-049C008F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095-7D2F-43F3-B21E-03CEC49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0E0-D075-4773-A134-A43093B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ADC-A19B-4F7B-ACC4-792864CA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39F-126E-49EB-80E5-DC0D1556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C40-E34E-4A9C-A1FC-336858F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8D2-9AAD-4438-B477-719A5C7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FC6-8B5A-472F-BE8B-4E8CCF5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9582-BB1C-42AD-BDCB-20CBC8BC1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429160" y="5143680"/>
            <a:ext cx="457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214280" y="0"/>
            <a:ext cx="778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чинение - описание по картин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.К.Рериха «Заморские гост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1224000" y="1357200"/>
            <a:ext cx="17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2071800" y="2071800"/>
            <a:ext cx="4248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68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чинение - 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259920"/>
            <a:ext cx="822960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итель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ую репродукцию рассматрив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ая ча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исные ладь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рода сев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итель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краски использует ав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удалось художни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504d"/>
                </a:solidFill>
                <a:uFillTx/>
                <a:latin typeface="Calibri"/>
              </a:rPr>
              <a:t>Слова для справок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114264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- Художник, живописец, в глубь времён, изобразил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- Расписные ладьи, раскраска, паруса, борта, украшены, разноцветные, 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зорчатые, варяги, товар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Синева небес, сияет, отражаются, вдалеке, холмы, курганы, град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- Глубокая старина, приоткрыла, Древняя Русь, настроение, чувств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Посмотрите на во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599840"/>
            <a:ext cx="9144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Какой вы видите её?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ёмно-синяя река; вода словно пропиталась синевой ясного неба;  ветер  рябит по ней;   в прозрачной чистой воде ярко отражаются разноцветные (красные,     зелёные, жёлтые,   синие)    полосы и круги            заморских узоров.  Чайки спустились на волны, закружились над водой.)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58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Как  вы  думаете,   с  каким   настроением           плывут  заморские   гости?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Спокойно, горделиво, плавно рассекают воду  волны, мир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Что видят вокруг заморские гости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Зелёные холмы, поля. Всё вокруг полно силы, красоты.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ростор, всё «Русью пахнет»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На одном из холмов три кургана (курганы - места захоронения вождей у древних народов), на другом - град, обнесённый крепостной стеной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Мы не видим жителей этого града, но  чувствуем их присутствие. Должно быть, они наблюдают за    чужестранцами, с тревогой и любопытством смотрят на  флотил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           Сло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404280"/>
            <a:ext cx="4537080" cy="72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продукция какой карти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д на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какое время переносит нас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живописц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Как плывут по синей глади реки ладь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ем украшены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та корабл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то плывёт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ладья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у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сияет солнц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Какие небес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9. Что делают чайк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Что виднеется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Calibri"/>
              </a:rPr>
              <a:t>вдале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Какими красками написана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рти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2.Что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не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живае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6000" y="404640"/>
            <a:ext cx="4319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Рериха «Заморские гости»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лубь времён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инными ряда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списны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ми, головы дракон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яг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 в чужие стран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достно и приветлив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тая синев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ы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пустились на волны, закружились, град,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ив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усская земл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ая старина Древней Рус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3:03:46Z</dcterms:created>
  <dc:creator>User</dc:creator>
  <dc:description/>
  <dc:language>en-US</dc:language>
  <cp:lastModifiedBy>Admin</cp:lastModifiedBy>
  <dcterms:modified xsi:type="dcterms:W3CDTF">2023-02-06T07:33:10Z</dcterms:modified>
  <cp:revision>117</cp:revision>
  <dc:subject/>
  <dc:title> </dc:title>
</cp:coreProperties>
</file>