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1AF-2B11-48D7-B4D5-01CABBA1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1D2-E1B2-44E0-A636-75A32A08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0DC-174F-49B7-AC15-4C82CBD5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B2D-DA32-4170-BCD3-4F0FA87B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B75-0817-45E2-A2DA-056C7977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071-57DA-4D36-8C07-F787BD60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FF3-569D-4949-91AC-F11CE360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32B-78FC-444C-AB2A-D5C17B7E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C66-7E24-470D-AC90-5DDB9D4D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3C1-6487-4FA0-BE47-5DA2EFE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F91-A7B2-411B-9ED2-39FAAD12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538-0A8D-4CA7-98C2-80986CD5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3DDD-1A34-4615-A0C6-D02FE197E3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5429160" y="5143680"/>
            <a:ext cx="457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1214280" y="0"/>
            <a:ext cx="778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чинение - описание по картин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.К.Рериха «Заморские гост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1224000" y="1357200"/>
            <a:ext cx="17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2071800" y="2071800"/>
            <a:ext cx="4248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-68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чинение - 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259920"/>
            <a:ext cx="822960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ительная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ую репродукцию рассматрив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ая ча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исные ладь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рода сев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ительная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краски использует ав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удалось художни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504d"/>
                </a:solidFill>
                <a:uFillTx/>
                <a:latin typeface="Calibri"/>
              </a:rPr>
              <a:t>Слова для справок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114264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- Художник, живописец, в глубь времён, изобразил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- Расписные ладьи, раскраска, паруса, борта, украшены, разноцветные, 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зорчатые, варяги, товар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Синева небес, сияет, отражаются, вдалеке, холмы, курганы, град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- Глубокая старина, приоткрыла, Древняя Русь, настроение, чувств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Посмотрите на вод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599840"/>
            <a:ext cx="9144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Какой вы видите её?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ёмно-синяя река; вода словно пропиталась синевой ясного неба;  ветер  рябит по ней;   в прозрачной чистой воде ярко отражаются разноцветные (красные,     зелёные, жёлтые,   синие)    полосы и круги            заморских узоров.  Чайки спустились на волны, закружились над водой.)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58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Как  вы  думаете,   с  каким   настроением           плывут  заморские   гости?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Спокойно, горделиво, плавно рассекают воду  волны, мир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Что видят вокруг заморские гости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Зелёные холмы, поля. Всё вокруг полно силы, красоты.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Простор, всё «Русью пахнет»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На одном из холмов три кургана (курганы - места захоронения вождей у древних народов), на другом - град, обнесённый крепостной стеной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Мы не видим жителей этого града, но  чувствуем их присутствие. Должно быть, они наблюдают за    чужестранцами, с тревогой и любопытством смотрят на  флотил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           Сло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404280"/>
            <a:ext cx="4537080" cy="720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продукция какой карти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д на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какое время переносит нас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живописц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Как плывут по синей глади реки ладь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ем украшены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рта корабл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то плывёт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ладья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у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 сияет солнц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Какие небес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9. Что делают чайк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Что виднеется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Calibri"/>
              </a:rPr>
              <a:t>вдале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1.Какими красками написана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рти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2.Что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не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живае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6000" y="404640"/>
            <a:ext cx="4319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Рериха «Заморские гости»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лубь времён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инными ряда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списны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ными, головы дракон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яг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 в чужие страны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достно и приветлив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тая синев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лы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пустились на волны, закружились, град,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ив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усская земл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ая старина Древней Рус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3:03:46Z</dcterms:created>
  <dc:creator>User</dc:creator>
  <dc:description/>
  <dc:language>en-US</dc:language>
  <cp:lastModifiedBy>Admin</cp:lastModifiedBy>
  <dcterms:modified xsi:type="dcterms:W3CDTF">2023-02-06T07:33:10Z</dcterms:modified>
  <cp:revision>117</cp:revision>
  <dc:subject/>
  <dc:title> </dc:title>
</cp:coreProperties>
</file>