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97F-F337-48B6-BEA8-6B14D20E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6B7-51AC-41FC-8C21-08B1F010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F52-F619-4FD8-9484-82E3B224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53B-4D43-4DBE-9DC0-77A4DD54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403-302C-4FF3-A139-5B7E332D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97B-9CF1-40E1-9996-D9BDD3A7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DED-1C7A-4C89-816F-A121B13C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ADE-EF8C-4A48-BAD4-D3A6E888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CE7-2A4A-4442-95D9-49E0E01E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FB4-2A9E-4E33-B1BB-9C4E8479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AFD-0D2F-4974-9F8C-4D29B1AE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704-62F1-4CDE-9E4C-9740C238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F7D7-5449-4942-90C9-88E9BE4BA94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е сестрицы летом зелен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осени одна краснеет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ая черне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асная и чёрная смород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>
            <a:off x="2556000" y="2290680"/>
            <a:ext cx="41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000" y="5445000"/>
            <a:ext cx="821844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Calibri"/>
              </a:rPr>
              <a:t>Земновод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390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7053480" y="3169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11280" y="476280"/>
          <a:ext cx="6264360" cy="2530440"/>
        </p:xfrm>
        <a:graphic>
          <a:graphicData uri="http://schemas.openxmlformats.org/drawingml/2006/table">
            <a:tbl>
              <a:tblPr/>
              <a:tblGrid>
                <a:gridCol w="3132360"/>
                <a:gridCol w="3132000"/>
              </a:tblGrid>
              <a:tr h="253116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ко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т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н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смыкающие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н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чешуё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перь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шер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оги, глад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оги или отсутствие ног, тело покрыто роговыми чешуйк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9" name="Рисунок 6" descr=""/>
          <p:cNvPicPr/>
          <p:nvPr/>
        </p:nvPicPr>
        <p:blipFill>
          <a:blip r:embed="rId2"/>
          <a:stretch/>
        </p:blipFill>
        <p:spPr>
          <a:xfrm>
            <a:off x="3419640" y="3141720"/>
            <a:ext cx="4500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425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Рабочая тетрадь: № 6 (с. 22)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Прочитать в книге «Зеленые страницы» рассказ «Похожие, но разные». Сравнить лягушку и жаб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Приготовить сообщение о любом животном.</a:t>
            </a:r>
            <a:br>
              <a:rPr sz="18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ёт зелёный кусти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тронешься – укуси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ап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4992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за дерево стоит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ра нет, а лист дрожи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2"/>
          <a:stretch/>
        </p:blipFill>
        <p:spPr>
          <a:xfrm>
            <a:off x="2411280" y="1773360"/>
            <a:ext cx="41166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а, стройна, душист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ебо тянется он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 одежда золотист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ько шапка зел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с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2411280" y="2617920"/>
            <a:ext cx="4143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он Солнышко лучисто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он Облачко пушист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а ждать не захот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ер дунул - облетел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дуван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35528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55640" y="404640"/>
            <a:ext cx="5903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УЛШЯ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ЖФ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О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СР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МУВЙ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ра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к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рав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C:\Users\Admin\AppData\Local\Microsoft\Windows\Temporary Internet Files\Content.IE5\E5PVZVR8\Rana_esculenta_on_Nymphaea_edit[1].JPG"/>
          <p:cNvPicPr/>
          <p:nvPr/>
        </p:nvPicPr>
        <p:blipFill>
          <a:blip r:embed="rId2"/>
          <a:stretch/>
        </p:blipFill>
        <p:spPr>
          <a:xfrm>
            <a:off x="4716360" y="528480"/>
            <a:ext cx="2046240" cy="153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Admin\AppData\Local\Microsoft\Windows\Temporary Internet Files\Content.IE5\3BHJIHZO\giraffeoranaparkchristchurch_publicdomaindedicationcc0-342324[1].jpg"/>
          <p:cNvPicPr/>
          <p:nvPr/>
        </p:nvPicPr>
        <p:blipFill>
          <a:blip r:embed="rId3"/>
          <a:stretch/>
        </p:blipFill>
        <p:spPr>
          <a:xfrm>
            <a:off x="6877080" y="528480"/>
            <a:ext cx="2043000" cy="1532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Admin\AppData\Local\Microsoft\Windows\Temporary Internet Files\Content.IE5\CSDYGETA\800px-Stuart_Little_2_010519.675[1].png"/>
          <p:cNvPicPr/>
          <p:nvPr/>
        </p:nvPicPr>
        <p:blipFill>
          <a:blip r:embed="rId4"/>
          <a:stretch/>
        </p:blipFill>
        <p:spPr>
          <a:xfrm>
            <a:off x="5435640" y="2205000"/>
            <a:ext cx="278748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Admin\AppData\Local\Microsoft\Windows\Temporary Internet Files\Content.IE5\E5PVZVR8\413px-Anax_imperator_qtl2[1].jpg"/>
          <p:cNvPicPr/>
          <p:nvPr/>
        </p:nvPicPr>
        <p:blipFill>
          <a:blip r:embed="rId5"/>
          <a:stretch/>
        </p:blipFill>
        <p:spPr>
          <a:xfrm>
            <a:off x="4716360" y="3909960"/>
            <a:ext cx="2016360" cy="154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Users\Admin\AppData\Local\Microsoft\Windows\Temporary Internet Files\Content.IE5\3BHJIHZO\2017-08-26[1].jpg"/>
          <p:cNvPicPr/>
          <p:nvPr/>
        </p:nvPicPr>
        <p:blipFill>
          <a:blip r:embed="rId6"/>
          <a:stretch/>
        </p:blipFill>
        <p:spPr>
          <a:xfrm>
            <a:off x="6838920" y="3895560"/>
            <a:ext cx="20811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Times New Roman"/>
              </a:rPr>
              <a:t>Какие бывают 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Times New Roman"/>
              </a:rPr>
              <a:t>животные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Admin\AppData\Local\Microsoft\Windows\Temporary Internet Files\Content.IE5\3BHJIHZO\qyblpcmf_20170330_1458516848f47e-fa9c-4708-8e23-77d1d86957b8[1].jpg"/>
          <p:cNvPicPr/>
          <p:nvPr/>
        </p:nvPicPr>
        <p:blipFill>
          <a:blip r:embed="rId2"/>
          <a:stretch/>
        </p:blipFill>
        <p:spPr>
          <a:xfrm>
            <a:off x="241200" y="2205000"/>
            <a:ext cx="4006800" cy="266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Admin\AppData\Local\Microsoft\Windows\Temporary Internet Files\Content.IE5\CSDYGETA\DSC_6640[1].jpg"/>
          <p:cNvPicPr/>
          <p:nvPr/>
        </p:nvPicPr>
        <p:blipFill>
          <a:blip r:embed="rId3"/>
          <a:stretch/>
        </p:blipFill>
        <p:spPr>
          <a:xfrm>
            <a:off x="4356000" y="3646440"/>
            <a:ext cx="47880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1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6408720" cy="5592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124000" y="616572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двард Хикс. Ноев ковч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195640" y="692280"/>
          <a:ext cx="6346800" cy="1873080"/>
        </p:xfrm>
        <a:graphic>
          <a:graphicData uri="http://schemas.openxmlformats.org/drawingml/2006/table">
            <a:tbl>
              <a:tblPr/>
              <a:tblGrid>
                <a:gridCol w="3173400"/>
                <a:gridCol w="3173400"/>
              </a:tblGrid>
              <a:tr h="187308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ко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т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е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н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чешуё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перь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шер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7053480" y="3169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"/>
          <p:cNvPicPr/>
          <p:nvPr/>
        </p:nvPicPr>
        <p:blipFill>
          <a:blip r:embed="rId2"/>
          <a:stretch/>
        </p:blipFill>
        <p:spPr>
          <a:xfrm>
            <a:off x="3132000" y="2924280"/>
            <a:ext cx="4319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6:23:21Z</dcterms:created>
  <dc:creator>keke</dc:creator>
  <dc:description/>
  <dc:language>en-US</dc:language>
  <cp:lastModifiedBy>Admin</cp:lastModifiedBy>
  <dcterms:modified xsi:type="dcterms:W3CDTF">2023-02-20T11:40:38Z</dcterms:modified>
  <cp:revision>10</cp:revision>
  <dc:subject/>
  <dc:title>站长站素材 SC.chinaz.COM</dc:title>
</cp:coreProperties>
</file>