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1EC-C3AE-4B47-A6BD-945557C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49D-4DC3-4431-8B32-29C3EB4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059-62A0-45BC-A593-EF689623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BBE-71CE-488E-956F-3FA2BF59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0E7-3F43-4CF8-A1A1-69020C6D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CFE-06DC-4B0E-8BB8-BEE29CF7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442-B1E5-4D33-9964-A3B46F09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3EC-EBA5-48C8-815B-8CD53E75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8E7-CBF3-4878-B721-09FC2FEA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461-4E49-4984-B8A4-DCD76E3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F23-D8D0-41D1-A228-0CF8D730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5D9-BF07-4055-9FED-EF15EE6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696-EF0D-4F87-B6E5-663A97F1790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е сестрицы летом зелен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осени одна краснее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ая черне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асная и чёрная смор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2556000" y="229068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000" y="5445000"/>
            <a:ext cx="82184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Земнов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390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7053480" y="3169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11280" y="476280"/>
          <a:ext cx="6264360" cy="2530440"/>
        </p:xfrm>
        <a:graphic>
          <a:graphicData uri="http://schemas.openxmlformats.org/drawingml/2006/table">
            <a:tbl>
              <a:tblPr/>
              <a:tblGrid>
                <a:gridCol w="3132360"/>
                <a:gridCol w="3132000"/>
              </a:tblGrid>
              <a:tr h="253116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мыкающ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н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чешуё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оги, глад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оги или отсутствие ног, тело покрыто роговыми чешуй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9" name="Рисунок 6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2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Рабочая тетрадь: № 6 (с. 22)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Прочитать в книге «Зеленые страницы» рассказ «Похожие, но разные». Сравнить лягушку и жаб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Приготовить сообщение о любом животном.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ёт зелёный куст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тронешься – укус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4992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за дерево стоит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ра нет, а лист дрож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116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, стройна, душис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ебо тянется о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одежда золотис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шапка зел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2411280" y="2617920"/>
            <a:ext cx="4143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он Солнышко лучист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он Облачко пушист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а ждать не захо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 дунул - облете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3552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55640" y="404640"/>
            <a:ext cx="5903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УЛШЯ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ЖФ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О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СР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МУВЙ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к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рав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Admin\AppData\Local\Microsoft\Windows\Temporary Internet Files\Content.IE5\E5PVZVR8\Rana_esculenta_on_Nymphaea_edit[1].JPG"/>
          <p:cNvPicPr/>
          <p:nvPr/>
        </p:nvPicPr>
        <p:blipFill>
          <a:blip r:embed="rId2"/>
          <a:stretch/>
        </p:blipFill>
        <p:spPr>
          <a:xfrm>
            <a:off x="4716360" y="528480"/>
            <a:ext cx="2046240" cy="153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Admin\AppData\Local\Microsoft\Windows\Temporary Internet Files\Content.IE5\3BHJIHZO\giraffeoranaparkchristchurch_publicdomaindedicationcc0-342324[1].jpg"/>
          <p:cNvPicPr/>
          <p:nvPr/>
        </p:nvPicPr>
        <p:blipFill>
          <a:blip r:embed="rId3"/>
          <a:stretch/>
        </p:blipFill>
        <p:spPr>
          <a:xfrm>
            <a:off x="6877080" y="528480"/>
            <a:ext cx="2043000" cy="153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Admin\AppData\Local\Microsoft\Windows\Temporary Internet Files\Content.IE5\CSDYGETA\800px-Stuart_Little_2_010519.675[1].png"/>
          <p:cNvPicPr/>
          <p:nvPr/>
        </p:nvPicPr>
        <p:blipFill>
          <a:blip r:embed="rId4"/>
          <a:stretch/>
        </p:blipFill>
        <p:spPr>
          <a:xfrm>
            <a:off x="5435640" y="2205000"/>
            <a:ext cx="27874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Admin\AppData\Local\Microsoft\Windows\Temporary Internet Files\Content.IE5\E5PVZVR8\413px-Anax_imperator_qtl2[1].jpg"/>
          <p:cNvPicPr/>
          <p:nvPr/>
        </p:nvPicPr>
        <p:blipFill>
          <a:blip r:embed="rId5"/>
          <a:stretch/>
        </p:blipFill>
        <p:spPr>
          <a:xfrm>
            <a:off x="4716360" y="39099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Admin\AppData\Local\Microsoft\Windows\Temporary Internet Files\Content.IE5\3BHJIHZO\2017-08-26[1].jpg"/>
          <p:cNvPicPr/>
          <p:nvPr/>
        </p:nvPicPr>
        <p:blipFill>
          <a:blip r:embed="rId6"/>
          <a:stretch/>
        </p:blipFill>
        <p:spPr>
          <a:xfrm>
            <a:off x="6838920" y="3895560"/>
            <a:ext cx="20811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Какие бывают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животные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Admin\AppData\Local\Microsoft\Windows\Temporary Internet Files\Content.IE5\3BHJIHZO\qyblpcmf_20170330_1458516848f47e-fa9c-4708-8e23-77d1d86957b8[1].jpg"/>
          <p:cNvPicPr/>
          <p:nvPr/>
        </p:nvPicPr>
        <p:blipFill>
          <a:blip r:embed="rId2"/>
          <a:stretch/>
        </p:blipFill>
        <p:spPr>
          <a:xfrm>
            <a:off x="241200" y="2205000"/>
            <a:ext cx="400680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Admin\AppData\Local\Microsoft\Windows\Temporary Internet Files\Content.IE5\CSDYGETA\DSC_6640[1].jpg"/>
          <p:cNvPicPr/>
          <p:nvPr/>
        </p:nvPicPr>
        <p:blipFill>
          <a:blip r:embed="rId3"/>
          <a:stretch/>
        </p:blipFill>
        <p:spPr>
          <a:xfrm>
            <a:off x="4356000" y="3646440"/>
            <a:ext cx="4788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1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408720" cy="559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24000" y="6165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вард Хикс. Ноев ковч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195640" y="692280"/>
          <a:ext cx="6346800" cy="1873080"/>
        </p:xfrm>
        <a:graphic>
          <a:graphicData uri="http://schemas.openxmlformats.org/drawingml/2006/table">
            <a:tbl>
              <a:tblPr/>
              <a:tblGrid>
                <a:gridCol w="3173400"/>
                <a:gridCol w="3173400"/>
              </a:tblGrid>
              <a:tr h="187308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н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чешуё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7053480" y="3169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3:21Z</dcterms:created>
  <dc:creator>keke</dc:creator>
  <dc:description/>
  <dc:language>en-US</dc:language>
  <cp:lastModifiedBy>Admin</cp:lastModifiedBy>
  <dcterms:modified xsi:type="dcterms:W3CDTF">2023-02-20T11:40:38Z</dcterms:modified>
  <cp:revision>10</cp:revision>
  <dc:subject/>
  <dc:title>站长站素材 SC.chinaz.COM</dc:title>
</cp:coreProperties>
</file>