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D57FC-771F-42E9-965B-86A5F8C0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001A-334A-4FD0-BAD3-C5D77830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C8A35-4A60-420D-821F-A4C685938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878C5-6D96-4725-97B0-27F70766F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0BA6-1B2A-47CD-8D63-2B29AA6B7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9B10-A93F-4180-9F26-9133219D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C124-F8E7-4057-872D-7DEBCDB2A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9FDA-F1AC-4B8A-AD31-8FD71B73B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3E59-B57F-4512-BC17-2A26871F1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0095-AFBB-47D4-B014-D1A76FD05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B4DC-274A-4783-AB57-04A9A027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B9F3-D300-4750-A018-F9644F52B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CD04-CD3E-4605-BDE3-7BF3CCAC57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1058;&#1077;&#1093;&#1085;&#1086;&#1083;&#1086;&#1075;&#1080;&#1095;&#1077;&#1089;&#1082;&#1072;&#1103;%20&#1082;&#1072;&#1088;&#1090;&#1072;%20&#1087;&#1086;%20&#1057;&#1055;&#1055;%20&#1084;&#1086;&#1076;&#1091;&#1083;&#1100;1.doc" TargetMode="External"/><Relationship Id="rId2" Type="http://schemas.openxmlformats.org/officeDocument/2006/relationships/hyperlink" Target="file:///&#1084;&#1086;&#1076;&#1091;&#1083;&#1100;%20&#1084;&#1077;&#1089;&#1090;&#1086;&#1080;&#1084;&#1077;&#1085;&#1080;&#1077;.doc"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0" y="1413000"/>
            <a:ext cx="91440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Структура учебного занятия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 рамках модульно-компетентностного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подхода к обучению</a:t>
            </a:r>
            <a:endParaRPr b="0" lang="en-US" sz="3200" spc="-1" strike="noStrike">
              <a:solidFill>
                <a:srgbClr val="000000"/>
              </a:solidFill>
              <a:latin typeface="Arial"/>
            </a:endParaRPr>
          </a:p>
        </p:txBody>
      </p:sp>
      <p:sp>
        <p:nvSpPr>
          <p:cNvPr id="42" name="Text Box 8"/>
          <p:cNvSpPr/>
          <p:nvPr/>
        </p:nvSpPr>
        <p:spPr>
          <a:xfrm>
            <a:off x="1979640" y="6021360"/>
            <a:ext cx="71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русского языка и литературы МБОУ «Уринская СОШ»  И.И. Григ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95280" y="476280"/>
            <a:ext cx="856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Контроль зн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ходной» контроль знаний и умений, необходимых для освоения те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промежуточный в виде само- и взаимоконтроля, сверки с образцом, который готовит преподават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экспертный, то есть контроль преподавате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925720" y="396360"/>
            <a:ext cx="262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туализация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ходной контроль</a:t>
            </a:r>
            <a:endParaRPr b="0" lang="en-US" sz="1800" spc="-1" strike="noStrike">
              <a:solidFill>
                <a:srgbClr val="000000"/>
              </a:solidFill>
              <a:latin typeface="Arial"/>
            </a:endParaRPr>
          </a:p>
        </p:txBody>
      </p:sp>
      <p:graphicFrame>
        <p:nvGraphicFramePr>
          <p:cNvPr id="56" name=""/>
          <p:cNvGraphicFramePr/>
          <p:nvPr/>
        </p:nvGraphicFramePr>
        <p:xfrm>
          <a:off x="1042920" y="1916280"/>
          <a:ext cx="5110200" cy="1112760"/>
        </p:xfrm>
        <a:graphic>
          <a:graphicData uri="http://schemas.openxmlformats.org/drawingml/2006/table">
            <a:tbl>
              <a:tblPr/>
              <a:tblGrid>
                <a:gridCol w="1703520"/>
                <a:gridCol w="1703160"/>
                <a:gridCol w="1703520"/>
              </a:tblGrid>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Подчинительные союз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просты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Подчинительные союз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составны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    </a:t>
                      </a:r>
                      <a:r>
                        <a:rPr b="0" lang="ru-RU" sz="1100" spc="-1" strike="noStrike">
                          <a:solidFill>
                            <a:srgbClr val="000000"/>
                          </a:solidFill>
                          <a:latin typeface="Arial"/>
                          <a:ea typeface="Times New Roman"/>
                        </a:rPr>
                        <a:t>Союзные сло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ea typeface="Times New Roman"/>
                        </a:rPr>
                        <a:t>Двойные союз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Rectangle 44"/>
          <p:cNvSpPr/>
          <p:nvPr/>
        </p:nvSpPr>
        <p:spPr>
          <a:xfrm>
            <a:off x="395280" y="3068280"/>
            <a:ext cx="8209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Wingdings"/>
                <a:ea typeface="Wingdings"/>
              </a:rPr>
              <a:t></a:t>
            </a:r>
            <a:r>
              <a:rPr b="0" lang="ru-RU" sz="1800" spc="-1" strike="noStrike">
                <a:solidFill>
                  <a:srgbClr val="000000"/>
                </a:solidFill>
                <a:latin typeface="Arial"/>
              </a:rPr>
              <a:t> </a:t>
            </a:r>
            <a:r>
              <a:rPr b="0" lang="ru-RU" sz="1800" spc="-1" strike="noStrike">
                <a:solidFill>
                  <a:srgbClr val="000000"/>
                </a:solidFill>
                <a:latin typeface="Arial"/>
              </a:rPr>
              <a:t>Придумайте и запишите СПП, начертите схемы 1) с придаточным после глав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 придаточным, разрывающим главное, 3) с придаточным перед главным. </a:t>
            </a:r>
            <a:endParaRPr b="0" lang="en-US" sz="1800" spc="-1" strike="noStrike">
              <a:solidFill>
                <a:srgbClr val="000000"/>
              </a:solidFill>
              <a:latin typeface="Arial"/>
            </a:endParaRPr>
          </a:p>
        </p:txBody>
      </p:sp>
      <p:sp>
        <p:nvSpPr>
          <p:cNvPr id="58" name="Rectangle 45"/>
          <p:cNvSpPr/>
          <p:nvPr/>
        </p:nvSpPr>
        <p:spPr>
          <a:xfrm>
            <a:off x="465480" y="1197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Wingdings"/>
                <a:ea typeface="Wingdings"/>
              </a:rPr>
              <a:t></a:t>
            </a:r>
            <a:r>
              <a:rPr b="1" lang="ru-RU" sz="1800" spc="-1" strike="noStrike">
                <a:solidFill>
                  <a:srgbClr val="000000"/>
                </a:solidFill>
                <a:latin typeface="Arial"/>
              </a:rPr>
              <a:t> </a:t>
            </a:r>
            <a:r>
              <a:rPr b="0" lang="ru-RU" sz="1800" spc="-1" strike="noStrike">
                <a:solidFill>
                  <a:srgbClr val="000000"/>
                </a:solidFill>
                <a:latin typeface="Arial"/>
              </a:rPr>
              <a:t>Заполните таблицу.</a:t>
            </a:r>
            <a:endParaRPr b="0" lang="en-US" sz="1800" spc="-1" strike="noStrike">
              <a:solidFill>
                <a:srgbClr val="000000"/>
              </a:solidFill>
              <a:latin typeface="Arial"/>
            </a:endParaRPr>
          </a:p>
        </p:txBody>
      </p:sp>
      <p:sp>
        <p:nvSpPr>
          <p:cNvPr id="59" name="Rectangle 46"/>
          <p:cNvSpPr/>
          <p:nvPr/>
        </p:nvSpPr>
        <p:spPr>
          <a:xfrm>
            <a:off x="0" y="4437000"/>
            <a:ext cx="8748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туализация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ходной контро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Wingdings"/>
                <a:ea typeface="Wingdings"/>
              </a:rPr>
              <a:t></a:t>
            </a:r>
            <a:r>
              <a:rPr b="0"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Задание: расставьте знаки препинания, составьте схемы предложений, выделите в в овал средства связи главного с придаточ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Нужно любить то что делаеш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Кто работает с любовью тот вносит поэзию во всякую рабо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Где труд там и счасть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0" y="66240"/>
            <a:ext cx="9144000" cy="66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ежуточный контроль</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Wingdings"/>
                <a:ea typeface="Wingdings"/>
              </a:rPr>
              <a:t></a:t>
            </a:r>
            <a:r>
              <a:rPr b="0" lang="ru-RU" sz="1600" spc="-1" strike="noStrike">
                <a:solidFill>
                  <a:srgbClr val="000000"/>
                </a:solidFill>
                <a:latin typeface="Arial"/>
              </a:rPr>
              <a:t> </a:t>
            </a:r>
            <a:r>
              <a:rPr b="0" lang="ru-RU" sz="1600" spc="-1" strike="noStrike">
                <a:solidFill>
                  <a:srgbClr val="000000"/>
                </a:solidFill>
                <a:latin typeface="Arial"/>
              </a:rPr>
              <a:t>Задание: расставьте знаки препинания и укажите средство связи придаточного с главным (в овал), указательное слово (прямой чертой), составьте схему СПП. </a:t>
            </a:r>
            <a:r>
              <a:rPr b="1" lang="ru-RU" sz="1600" spc="-1" strike="noStrike">
                <a:solidFill>
                  <a:srgbClr val="000000"/>
                </a:solidFill>
                <a:latin typeface="Arial"/>
              </a:rPr>
              <a:t>Взаимопровер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i="1" lang="ru-RU" sz="1600" spc="-1" strike="noStrike">
                <a:solidFill>
                  <a:srgbClr val="000000"/>
                </a:solidFill>
                <a:latin typeface="Arial"/>
              </a:rPr>
              <a:t>Вновь я посетил тот уголок земли где я провёл изгнанником два года незамет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Я отыскал здесь те письма которые брат писал матушке в течение всей жиз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Чем больше девочка подрастала тем больше становилась она похожей но от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А в Заречье куда свалилась туча уже висела над синими лесами оранжевая ду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н пригласил в гости товарища который жил недалек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Wingdings"/>
                <a:ea typeface="Wingdings"/>
              </a:rPr>
              <a:t></a:t>
            </a:r>
            <a:r>
              <a:rPr b="1" lang="ru-RU" sz="1600" spc="-1" strike="noStrike">
                <a:solidFill>
                  <a:srgbClr val="000000"/>
                </a:solidFill>
                <a:latin typeface="Arial"/>
              </a:rPr>
              <a:t> </a:t>
            </a:r>
            <a:r>
              <a:rPr b="1" lang="ru-RU" sz="1600" spc="-1" strike="noStrike" u="sng">
                <a:solidFill>
                  <a:srgbClr val="000000"/>
                </a:solidFill>
                <a:uFillTx/>
                <a:latin typeface="Arial"/>
              </a:rPr>
              <a:t>Синонимическая замена</a:t>
            </a:r>
            <a:r>
              <a:rPr b="0" lang="ru-RU" sz="1600" spc="-1" strike="noStrike" u="sng">
                <a:solidFill>
                  <a:srgbClr val="000000"/>
                </a:solidFill>
                <a:uFillTx/>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ание: определите вид предложений; составьте схемы, замените данные предложения  сложноподчинёнными с 1)придаточным, отвечающим на вопрос </a:t>
            </a:r>
            <a:r>
              <a:rPr b="1" i="1" lang="ru-RU" sz="1600" spc="-1" strike="noStrike">
                <a:solidFill>
                  <a:srgbClr val="000000"/>
                </a:solidFill>
                <a:latin typeface="Arial"/>
              </a:rPr>
              <a:t>почему?</a:t>
            </a:r>
            <a:r>
              <a:rPr b="0" lang="ru-RU" sz="1600" spc="-1" strike="noStrike">
                <a:solidFill>
                  <a:srgbClr val="000000"/>
                </a:solidFill>
                <a:latin typeface="Arial"/>
              </a:rPr>
              <a:t>; 2) с придаточным, отвечающим на вопрос </a:t>
            </a:r>
            <a:r>
              <a:rPr b="1" i="1" lang="ru-RU" sz="1600" spc="-1" strike="noStrike">
                <a:solidFill>
                  <a:srgbClr val="000000"/>
                </a:solidFill>
                <a:latin typeface="Arial"/>
              </a:rPr>
              <a:t>какой? Самоконтро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a:t>
            </a:r>
            <a:r>
              <a:rPr b="0" i="1" lang="ru-RU" sz="1600" spc="-1" strike="noStrike">
                <a:solidFill>
                  <a:srgbClr val="000000"/>
                </a:solidFill>
                <a:latin typeface="Arial"/>
              </a:rPr>
              <a:t>Над Русью нависла грозная опасность новых разрушительных вторжений, 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автор «Слова о полку Игореве»  призывает к сплочению всех русских княз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2) «Слово о полку Игореве» - уникальное художественное произвед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вествующее о воинских подвигах русичей  в защиту родной зем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1" i="1" lang="ru-RU" sz="1600" spc="-1" strike="noStrike">
                <a:solidFill>
                  <a:srgbClr val="000000"/>
                </a:solidFill>
                <a:latin typeface="Wingdings"/>
                <a:ea typeface="Wingdings"/>
              </a:rPr>
              <a:t></a:t>
            </a:r>
            <a:r>
              <a:rPr b="1" i="1" lang="ru-RU" sz="1600" spc="-1" strike="noStrike">
                <a:solidFill>
                  <a:srgbClr val="000000"/>
                </a:solidFill>
                <a:latin typeface="Arial"/>
              </a:rPr>
              <a:t>   </a:t>
            </a:r>
            <a:r>
              <a:rPr b="1" lang="ru-RU" sz="1600" spc="-1" strike="noStrike" u="sng">
                <a:solidFill>
                  <a:srgbClr val="000000"/>
                </a:solidFill>
                <a:uFillTx/>
                <a:latin typeface="Arial"/>
              </a:rPr>
              <a:t>Творческое списы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Задание: запишите предложения в такой последовательности, которая соответствовала бы данным схемам. </a:t>
            </a:r>
            <a:r>
              <a:rPr b="1" lang="ru-RU" sz="1600" spc="-1" strike="noStrike">
                <a:solidFill>
                  <a:srgbClr val="000000"/>
                </a:solidFill>
                <a:latin typeface="Arial"/>
              </a:rPr>
              <a:t>Проверь по ключ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1. [… глагол],   (ч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2. [… глагол +  указ слово тем</a:t>
            </a:r>
            <a:r>
              <a:rPr b="0" lang="ru-RU" sz="1600" spc="-1" strike="noStrike">
                <a:solidFill>
                  <a:srgbClr val="000000"/>
                </a:solidFill>
                <a:latin typeface="Arial"/>
              </a:rPr>
              <a:t>], (чт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3. (Когда…..),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4. [……, (гд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Везде, где солнце светит, товарищи у на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Далеко не все понимают, что личный эгоизм – родной отец подлос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Когда труд - удовольствие, жизнь хорош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Не шути над тем, что дорого другом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0" y="40716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Экспертный контро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u="sng">
                <a:solidFill>
                  <a:srgbClr val="000000"/>
                </a:solidFill>
                <a:uFillTx/>
                <a:latin typeface="Arial"/>
              </a:rPr>
              <a:t>ТЕСТ</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йдите сложноподчинённое предло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Гора, высившаяся над городом, сверкала ото ль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Охотник, вздрогнув, быстро оглянулся, потому что в кустах он услышал какой-то шу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ветлеют сумерки седые, зарёй окрасились сне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Мы вышли к реке, когда начался дож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кажите предложения, в которых придаточное связано с главным союзным сло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Макар и не заметил, что стало свет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Обратите внимание на почки ивы, которые слегка набух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олько теперь я понял, что для него значила эта вещ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Только тогда станешь человеком, когда научишься видеть человека в друг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В каких предложениях придаточное стоит в середине сложноподчинённых предложений. (Запятые не расставл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Нынче в пять часов утра когда я открыл глаза в окно моей комнаты повеяло запахом цве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Каждый из нас подумал о лесных ручьях которые бегут под бурелом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лышно было как мать звенела стаканами разливая ч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Летят к вербе пчёлы бабочки потому что их привлекают душистые серёж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684360" y="620640"/>
            <a:ext cx="813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Целевая программа действ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Дополнительный матери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на каждом уроке должны быть запланированы орфографическая, орфоэпическая, лексическая работа, подготовка к ЕГЭ и предстоящей контрольной работе, упражнения по Р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мер:    </a:t>
            </a:r>
            <a:r>
              <a:rPr b="1" i="1" lang="ru-RU" sz="1800" spc="-1" strike="noStrike">
                <a:solidFill>
                  <a:srgbClr val="000000"/>
                </a:solidFill>
                <a:latin typeface="Arial"/>
              </a:rPr>
              <a:t>Словарная рабо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Запишите слова в словарик, запомните правописание и лексическое знач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a:t>
            </a:r>
            <a:r>
              <a:rPr b="0" i="1" lang="ru-RU" sz="1800" spc="-1" strike="noStrike" u="sng">
                <a:solidFill>
                  <a:srgbClr val="000000"/>
                </a:solidFill>
                <a:uFillTx/>
                <a:latin typeface="Arial"/>
              </a:rPr>
              <a:t>кк</a:t>
            </a:r>
            <a:r>
              <a:rPr b="0" i="1" lang="ru-RU" sz="1800" spc="-1" strike="noStrike">
                <a:solidFill>
                  <a:srgbClr val="000000"/>
                </a:solidFill>
                <a:latin typeface="Arial"/>
              </a:rPr>
              <a:t>омпанемент – музыкальное сопровожде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a:t>
            </a:r>
            <a:r>
              <a:rPr b="0" i="1" lang="ru-RU" sz="1800" spc="-1" strike="noStrike" u="sng">
                <a:solidFill>
                  <a:srgbClr val="000000"/>
                </a:solidFill>
                <a:uFillTx/>
                <a:latin typeface="Arial"/>
              </a:rPr>
              <a:t>кк</a:t>
            </a:r>
            <a:r>
              <a:rPr b="0" i="1" lang="ru-RU" sz="1800" spc="-1" strike="noStrike">
                <a:solidFill>
                  <a:srgbClr val="000000"/>
                </a:solidFill>
                <a:latin typeface="Arial"/>
              </a:rPr>
              <a:t>омпаниро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Arial"/>
              </a:rPr>
              <a:t>Ак</a:t>
            </a:r>
            <a:r>
              <a:rPr b="0" i="1" lang="ru-RU" sz="1800" spc="-1" strike="noStrike">
                <a:solidFill>
                  <a:srgbClr val="000000"/>
                </a:solidFill>
                <a:latin typeface="Arial"/>
              </a:rPr>
              <a:t>тивный, де</a:t>
            </a:r>
            <a:r>
              <a:rPr b="0" i="1" lang="ru-RU" sz="1800" spc="-1" strike="noStrike" u="sng">
                <a:solidFill>
                  <a:srgbClr val="000000"/>
                </a:solidFill>
                <a:uFillTx/>
                <a:latin typeface="Arial"/>
              </a:rPr>
              <a:t>я</a:t>
            </a:r>
            <a:r>
              <a:rPr b="0" i="1" lang="ru-RU" sz="1800" spc="-1" strike="noStrike">
                <a:solidFill>
                  <a:srgbClr val="000000"/>
                </a:solidFill>
                <a:latin typeface="Arial"/>
              </a:rPr>
              <a:t>тельн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6920" y="911160"/>
            <a:ext cx="741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Оценка каждым учащимся общих и индивидуальных задач и целей учебной деятельности и в соответствии с этим коррекция знаний и ум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ариант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смысление проделанной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Расскажите товарищу по парте изученное о СПП по п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Wingdings"/>
                <a:ea typeface="Wingdings"/>
              </a:rPr>
              <a:t></a:t>
            </a:r>
            <a:r>
              <a:rPr b="0" i="1" lang="ru-RU" sz="1800" spc="-1" strike="noStrike">
                <a:solidFill>
                  <a:srgbClr val="000000"/>
                </a:solidFill>
                <a:latin typeface="Arial"/>
              </a:rPr>
              <a:t> </a:t>
            </a:r>
            <a:r>
              <a:rPr b="0" i="1" lang="ru-RU" sz="1800" spc="-1" strike="noStrike">
                <a:solidFill>
                  <a:srgbClr val="000000"/>
                </a:solidFill>
                <a:latin typeface="Arial"/>
              </a:rPr>
              <a:t>Перечитайте цели урока (УЭ0) и решите: достигли ли вы 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ариант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ефлекс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Реализованы ли на уроке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бучающимся предлагается закончить фраз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Я научилась (-ся)… Я запомнила (-ил)… Я рада (рад)… Мне хочется сказа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95280" y="335520"/>
            <a:ext cx="78850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Дифференцированное домашнее зад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   </a:t>
            </a:r>
            <a:r>
              <a:rPr b="1" lang="ru-RU" sz="1800" spc="-1" strike="noStrike">
                <a:solidFill>
                  <a:srgbClr val="000000"/>
                </a:solidFill>
                <a:latin typeface="Arial"/>
              </a:rPr>
              <a:t>1) упр. 1 с.278</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те работу над ошибками в предыдущем домашнем зада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Найди «третий лишний».</a:t>
            </a:r>
            <a:r>
              <a:rPr b="0" lang="ru-RU" sz="1800" spc="-1" strike="noStrike">
                <a:solidFill>
                  <a:srgbClr val="000000"/>
                </a:solidFill>
                <a:latin typeface="Arial"/>
              </a:rPr>
              <a:t> Докажи с помощью схем. Спишите, расставьте знаки препин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1) Мы вышли на дорогу что вела в зам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Все почувствовали  что в воздухе пахнет молодой листвой топо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3) В сиреневых кустах которые своими пахучими цветами лезли в лицо копошились воробь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 1) Кто не любит и не уважает людей тот не должен заниматься благотворительность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Он был необыкновенный человек, в сравнении с теми, кого она зн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3) Вдали показалась роща, за которой и был дом наших друзей.   </a:t>
            </a: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Дополнительное задание </a:t>
            </a:r>
            <a:r>
              <a:rPr b="0" lang="ru-RU" sz="1800" spc="-1" strike="noStrike">
                <a:solidFill>
                  <a:srgbClr val="000000"/>
                </a:solidFill>
                <a:latin typeface="Arial"/>
              </a:rPr>
              <a:t>(для тех, кто справился со всеми заданиями кар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гадайтесь, какова ошибка в употреблении следующего предложения </a:t>
            </a:r>
            <a:r>
              <a:rPr b="0" i="1" lang="ru-RU" sz="1800" spc="-1" strike="noStrike">
                <a:solidFill>
                  <a:srgbClr val="000000"/>
                </a:solidFill>
                <a:latin typeface="Arial"/>
              </a:rPr>
              <a:t>Читаю книгу, талантливо написанную и которую многие хвалят</a:t>
            </a:r>
            <a:r>
              <a:rPr b="0" lang="ru-RU" sz="1800" spc="-1" strike="noStrike">
                <a:solidFill>
                  <a:srgbClr val="000000"/>
                </a:solidFill>
                <a:latin typeface="Arial"/>
              </a:rPr>
              <a:t>? Исправьте предлож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539640" y="1104480"/>
            <a:ext cx="799308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пы учебных элемент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пех применения модульных программ зависит от качественного содержания модулей первого порядка – от учебных элементов, так как с этими учебными элементами работает обучающий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требованием является разнообразие учебных элементов, предлагаемых к исполнению студенту на каждом уроке. Типы учебных элемен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кстов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ес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бличны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ьютерн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468360" y="399960"/>
            <a:ext cx="842472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a:t>
            </a:r>
            <a:r>
              <a:rPr b="1" lang="ru-RU" sz="1800" spc="-1" strike="noStrike">
                <a:solidFill>
                  <a:srgbClr val="000000"/>
                </a:solidFill>
                <a:latin typeface="Arial"/>
              </a:rPr>
              <a:t>этап – составление технологической кар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спользовании технологии модульного обучения учащимся предлагается карточка — модуль, по которой они работают самостоятельно под руководством учителя. Таким образом, использование данной технологии помогает учителю привить ученикам навыки самостоятельного добывания знаний по мере их индивидуальных способностей, желания и темпов развит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хнологической карте фиксируется тема, указывается общая цель по ее освоению, конкретизируется перечень знаний, умений, которые должен приобрести ученик, а также называются исследуемые языковые явления. Технологическая карта состоит из 3 граф: номер УЭ (учебного элемента), учебный материал с указанием заданий, руководство по освоению учебного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0" y="96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042920" y="1052640"/>
          <a:ext cx="6769080" cy="4827600"/>
        </p:xfrm>
        <a:graphic>
          <a:graphicData uri="http://schemas.openxmlformats.org/drawingml/2006/table">
            <a:tbl>
              <a:tblPr/>
              <a:tblGrid>
                <a:gridCol w="1363680"/>
                <a:gridCol w="3218040"/>
                <a:gridCol w="2187360"/>
              </a:tblGrid>
              <a:tr h="137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омер учебного элемен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ый материал с указанием зада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уководст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    освоени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ого материал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сдел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провери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ак оцени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Тема, цели моду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ходной контроль: проверка домашнего задания или ранее изученн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зучение нов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общение изученного материал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акрепление изученного материала. Выходной контроль: самоконтроль и  контроль преподавателя по 3 уровня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ефлекс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Э-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амооценка и выбор домашнего зад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
                        </a:rPr>
                        <a:t>Примеры Т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2"/>
                        </a:rPr>
                        <a:t>Примеры ТК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Text Box 162"/>
          <p:cNvSpPr/>
          <p:nvPr/>
        </p:nvSpPr>
        <p:spPr>
          <a:xfrm>
            <a:off x="2843280" y="476280"/>
            <a:ext cx="33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ологическая карт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250920" y="414720"/>
            <a:ext cx="864216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сновные преимущества модульной технолог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Технология модульного обучения, как </a:t>
            </a:r>
            <a:r>
              <a:rPr b="1" lang="ru-RU" sz="1800" spc="-1" strike="noStrike">
                <a:solidFill>
                  <a:srgbClr val="000000"/>
                </a:solidFill>
                <a:latin typeface="Arial"/>
              </a:rPr>
              <a:t>личностно-ориентированная</a:t>
            </a:r>
            <a:r>
              <a:rPr b="0" lang="ru-RU" sz="1800" spc="-1" strike="noStrike">
                <a:solidFill>
                  <a:srgbClr val="000000"/>
                </a:solidFill>
                <a:latin typeface="Arial"/>
              </a:rPr>
              <a:t>, позволяет одновременно </a:t>
            </a:r>
            <a:r>
              <a:rPr b="1" lang="ru-RU" sz="1800" spc="-1" strike="noStrike">
                <a:solidFill>
                  <a:srgbClr val="000000"/>
                </a:solidFill>
                <a:latin typeface="Arial"/>
              </a:rPr>
              <a:t>оптимизировать учебный процесс</a:t>
            </a:r>
            <a:r>
              <a:rPr b="0" lang="ru-RU" sz="1800" spc="-1" strike="noStrike">
                <a:solidFill>
                  <a:srgbClr val="000000"/>
                </a:solidFill>
                <a:latin typeface="Arial"/>
              </a:rPr>
              <a:t>, обеспечить его </a:t>
            </a:r>
            <a:r>
              <a:rPr b="1" lang="ru-RU" sz="1800" spc="-1" strike="noStrike">
                <a:solidFill>
                  <a:srgbClr val="000000"/>
                </a:solidFill>
                <a:latin typeface="Arial"/>
              </a:rPr>
              <a:t>целостность в развитии познавательной и личностной сферы учащих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Цель модульного обучения - </a:t>
            </a:r>
            <a:r>
              <a:rPr b="1" lang="ru-RU" sz="1800" spc="-1" strike="noStrike">
                <a:solidFill>
                  <a:srgbClr val="000000"/>
                </a:solidFill>
                <a:latin typeface="Arial"/>
              </a:rPr>
              <a:t>содействие развитию самостоятельности</a:t>
            </a:r>
            <a:r>
              <a:rPr b="0" lang="ru-RU" sz="1800" spc="-1" strike="noStrike">
                <a:solidFill>
                  <a:srgbClr val="000000"/>
                </a:solidFill>
                <a:latin typeface="Arial"/>
              </a:rPr>
              <a:t> обучающихся, их умению работать с учетом индивидуальных способов проработки учебного материала</a:t>
            </a:r>
            <a:r>
              <a:rPr b="1" lang="ru-RU" sz="1800" spc="-1" strike="noStrike">
                <a:solidFill>
                  <a:srgbClr val="000000"/>
                </a:solidFill>
                <a:latin typeface="Arial"/>
              </a:rPr>
              <a:t> (индивидуализация  и  дифференциация в обуч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В модульном обучении применяется самооценка, которая приучает студента объективно оценивать свои способности, результаты своего труда. Обучающийся максимальное время работает самостоятельно, учится целенаправленно. Это дает возможность осознать себя в деятельности, учит самоорганизации, самооценке, позволяет каждому обучающемуся видеть уровень усвоения зн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Применение модульной технологии позволяет сформировать общеучебные компетенции: информационную, коммуникативную, самоорганизацию, самообу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986920" y="475560"/>
            <a:ext cx="2148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Формы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1258920" y="1197000"/>
          <a:ext cx="7200720" cy="4754520"/>
        </p:xfrm>
        <a:graphic>
          <a:graphicData uri="http://schemas.openxmlformats.org/drawingml/2006/table">
            <a:tbl>
              <a:tblPr/>
              <a:tblGrid>
                <a:gridCol w="592200"/>
                <a:gridCol w="1900080"/>
                <a:gridCol w="4708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a:t>
                      </a:r>
                      <a:r>
                        <a:rPr b="1" lang="ru-RU" sz="1800" spc="-1" strike="noStrike">
                          <a:solidFill>
                            <a:srgbClr val="000000"/>
                          </a:solidFill>
                          <a:latin typeface="Arial"/>
                          <a:ea typeface="Times New Roman"/>
                        </a:rPr>
                        <a:t>п.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Форм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Инструкц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моконтро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существляется учеником. Сравнивает полученные результаты с эталоном и сам оценивает уровень своего исполн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заимный контроль учащихс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озможен, когда ученик задание уже проверил и исправил ошибки. Теперь он может проверить задание партнера и выставить оценк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онтроль учител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существляется постоянно. Обязателен входной и выходной контроль. Кроме того, осуществляется текущий контроль. Формы контроля могут быть разными: тестирование, индивидуальное собеседование, контрольная творческая работа и т.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324000" y="1154880"/>
            <a:ext cx="8497800" cy="4779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a:t>
            </a:r>
            <a:r>
              <a:rPr b="0" lang="ru-RU" sz="1600" spc="-1" strike="noStrike">
                <a:solidFill>
                  <a:srgbClr val="000000"/>
                </a:solidFill>
                <a:latin typeface="Arial"/>
              </a:rPr>
              <a:t>Неоспоримо достоинство данной технологии в возможном перераспределении учебного времени, выигрыш которого за счет ускоренного прохождения обязательной теоретической части модуля позволяет значительно увеличить объем заданий, дает возможность углубленно рассмотреть некоторые разделы курса русского языка, провести нестандартные занятия, что сказывается на прочности усвоения знаний и активизации познавательной деятельности учащихся.</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Сложностью в применении модульной технологии является отсутствие соответствующего дидактического обеспечения, необходимость подбора, составления заданий разных уровней сложности, изготовление раздаточного материала, тестовых заданий, разработка модулей к отдельным урокам. Это требует больших затрат сил и времени. Положительный результат виден сразу. Работать интереснее, но значительно сложнее.</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Учащиеся достигают определенного уровня осознанного отношения к учению, трудолюбия, самодисциплин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Опыт применения модульной технологии неизбежно приводит к росту компетентности учащихся и учителей.</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Обязательным условием успешного применения модульной технологии является личный собственный опыт творческой деятельности по ее реализации. </a:t>
            </a:r>
            <a:endParaRPr b="0" lang="en-US" sz="1600" spc="-1" strike="noStrike">
              <a:solidFill>
                <a:srgbClr val="000000"/>
              </a:solidFill>
              <a:latin typeface="Arial"/>
            </a:endParaRPr>
          </a:p>
        </p:txBody>
      </p:sp>
      <p:sp>
        <p:nvSpPr>
          <p:cNvPr id="73" name="Text Box 5"/>
          <p:cNvSpPr/>
          <p:nvPr/>
        </p:nvSpPr>
        <p:spPr>
          <a:xfrm>
            <a:off x="3276720" y="549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во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24000" y="650520"/>
            <a:ext cx="8640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блиографический спис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Гузеев В.В. Образовательная технология: от приема до философии -М., 1996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Кларин И.П. Инновационные модели обучения в зарубежных педагогических поисках - М., Арена, 1994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Левитес Д.П. Современные образовательные технологии - Новосибирск, 1999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Третьяков П.И., Сенновский И.Б. Технология модульного обучения в школе - Мн., Новая школа, 2001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Шамова Т.И., Давыденко Т.М., Шыбанова Г.М. Управление образовательными технологиями.- Москва: "Академия"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Интернет-ресур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1692360" y="475200"/>
            <a:ext cx="63309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рганизация работы по модульной технологии </a:t>
            </a:r>
            <a:r>
              <a:rPr b="1" lang="ru-RU" sz="2000" spc="-1" strike="noStrike">
                <a:solidFill>
                  <a:srgbClr val="000000"/>
                </a:solidFill>
                <a:latin typeface="Arial"/>
              </a:rPr>
              <a:t>	</a:t>
            </a:r>
            <a:r>
              <a:rPr b="1" lang="ru-RU" sz="2000" spc="-1" strike="noStrike">
                <a:solidFill>
                  <a:srgbClr val="000000"/>
                </a:solidFill>
                <a:latin typeface="Arial"/>
              </a:rPr>
              <a:t>  на уроках русского языка</a:t>
            </a:r>
            <a:endParaRPr b="0" lang="en-US" sz="2000" spc="-1" strike="noStrike">
              <a:solidFill>
                <a:srgbClr val="000000"/>
              </a:solidFill>
              <a:latin typeface="Arial"/>
            </a:endParaRPr>
          </a:p>
        </p:txBody>
      </p:sp>
      <p:sp>
        <p:nvSpPr>
          <p:cNvPr id="45" name="Rectangle 5"/>
          <p:cNvSpPr/>
          <p:nvPr/>
        </p:nvSpPr>
        <p:spPr>
          <a:xfrm>
            <a:off x="1696680" y="1915560"/>
            <a:ext cx="51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ru-RU" sz="1800" spc="-1" strike="noStrike">
                <a:solidFill>
                  <a:srgbClr val="000000"/>
                </a:solidFill>
                <a:latin typeface="Arial"/>
              </a:rPr>
              <a:t> этап - составление модульной программы</a:t>
            </a:r>
            <a:endParaRPr b="0" lang="en-US" sz="1800" spc="-1" strike="noStrike">
              <a:solidFill>
                <a:srgbClr val="000000"/>
              </a:solidFill>
              <a:latin typeface="Arial"/>
            </a:endParaRPr>
          </a:p>
        </p:txBody>
      </p:sp>
      <p:sp>
        <p:nvSpPr>
          <p:cNvPr id="46" name="Rectangle 6"/>
          <p:cNvSpPr/>
          <p:nvPr/>
        </p:nvSpPr>
        <p:spPr>
          <a:xfrm>
            <a:off x="1187280" y="3237480"/>
            <a:ext cx="691380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Д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ДЦ --------- МОДУ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ДЦ ------------------------- УЧЕБНЫЕ ЭЛЕМЕН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76716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перехода на модульное обучение прежде всего разрабатывается модульная программа, которая состоит из комплексной дидактической цели и совокупности модулей, обеспечивающих достижение этой цели. Для этого учебное содержание структурируется в определённые блоки,</a:t>
            </a:r>
            <a:r>
              <a:rPr b="1" lang="ru-RU" sz="1800" spc="-1" strike="noStrike">
                <a:solidFill>
                  <a:srgbClr val="000000"/>
                </a:solidFill>
                <a:latin typeface="Arial"/>
              </a:rPr>
              <a:t> </a:t>
            </a:r>
            <a:r>
              <a:rPr b="0" lang="ru-RU" sz="1800" spc="-1" strike="noStrike">
                <a:solidFill>
                  <a:srgbClr val="000000"/>
                </a:solidFill>
                <a:latin typeface="Arial"/>
              </a:rPr>
              <a:t>выделяются стержневые идеи курса. После этого формируется комплексная дидактическая цель </a:t>
            </a:r>
            <a:r>
              <a:rPr b="1" lang="ru-RU" sz="1800" spc="-1" strike="noStrike">
                <a:solidFill>
                  <a:srgbClr val="000000"/>
                </a:solidFill>
                <a:latin typeface="Arial"/>
              </a:rPr>
              <a:t>(КДЦ)</a:t>
            </a:r>
            <a:r>
              <a:rPr b="0" lang="ru-RU" sz="1800" spc="-1" strike="noStrike">
                <a:solidFill>
                  <a:srgbClr val="000000"/>
                </a:solidFill>
                <a:latin typeface="Arial"/>
              </a:rPr>
              <a:t>, которая имеет два уровня: уровень усвоения учебного содержания учеником (т.е. ЗНАТЬ) и ориентация на его использование в практике(т.е. УМЕТЬ), а также для изучения учебного материала в будущем. Затем из комплексной дидактической цели </a:t>
            </a:r>
            <a:r>
              <a:rPr b="1" lang="ru-RU" sz="1800" spc="-1" strike="noStrike">
                <a:solidFill>
                  <a:srgbClr val="000000"/>
                </a:solidFill>
                <a:latin typeface="Arial"/>
              </a:rPr>
              <a:t>(КДЦ)</a:t>
            </a:r>
            <a:r>
              <a:rPr b="0" lang="ru-RU" sz="1800" spc="-1" strike="noStrike">
                <a:solidFill>
                  <a:srgbClr val="000000"/>
                </a:solidFill>
                <a:latin typeface="Arial"/>
              </a:rPr>
              <a:t> выделяются </a:t>
            </a:r>
            <a:r>
              <a:rPr b="1" lang="ru-RU" sz="1800" spc="-1" strike="noStrike">
                <a:solidFill>
                  <a:srgbClr val="000000"/>
                </a:solidFill>
                <a:latin typeface="Arial"/>
              </a:rPr>
              <a:t>интегрирующие дидактические цели (ИДЦ)</a:t>
            </a:r>
            <a:r>
              <a:rPr b="0" lang="ru-RU" sz="1800" spc="-1" strike="noStrike">
                <a:solidFill>
                  <a:srgbClr val="000000"/>
                </a:solidFill>
                <a:latin typeface="Arial"/>
              </a:rPr>
              <a:t> и формируются </a:t>
            </a:r>
            <a:r>
              <a:rPr b="1" lang="ru-RU" sz="1800" spc="-1" strike="noStrike">
                <a:solidFill>
                  <a:srgbClr val="000000"/>
                </a:solidFill>
                <a:latin typeface="Arial"/>
              </a:rPr>
              <a:t>модули</a:t>
            </a:r>
            <a:r>
              <a:rPr b="0" lang="ru-RU" sz="1800" spc="-1" strike="noStrike">
                <a:solidFill>
                  <a:srgbClr val="000000"/>
                </a:solidFill>
                <a:latin typeface="Arial"/>
              </a:rPr>
              <a:t>, т.е. каждый модуль имеет свою интегрирующую дидактическую цель. Совокупность решения этих целей обеспечивает достижение комплексной дидактической цели (КДЦ). Однако в модули входят крупные блоки учебного содержания. Поэтому каждая интегрирующая дидактическая цель </a:t>
            </a:r>
            <a:r>
              <a:rPr b="1" lang="ru-RU" sz="1800" spc="-1" strike="noStrike">
                <a:solidFill>
                  <a:srgbClr val="000000"/>
                </a:solidFill>
                <a:latin typeface="Arial"/>
              </a:rPr>
              <a:t>(ИДЦ)</a:t>
            </a:r>
            <a:r>
              <a:rPr b="0" lang="ru-RU" sz="1800" spc="-1" strike="noStrike">
                <a:solidFill>
                  <a:srgbClr val="000000"/>
                </a:solidFill>
                <a:latin typeface="Arial"/>
              </a:rPr>
              <a:t>  делится на частные дидактические цели </a:t>
            </a:r>
            <a:r>
              <a:rPr b="1" lang="ru-RU" sz="1800" spc="-1" strike="noStrike">
                <a:solidFill>
                  <a:srgbClr val="000000"/>
                </a:solidFill>
                <a:latin typeface="Arial"/>
              </a:rPr>
              <a:t>(ЧДЦ)</a:t>
            </a:r>
            <a:r>
              <a:rPr b="0" lang="ru-RU" sz="1800" spc="-1" strike="noStrike">
                <a:solidFill>
                  <a:srgbClr val="000000"/>
                </a:solidFill>
                <a:latin typeface="Arial"/>
              </a:rPr>
              <a:t> и на их основе выделяются учебные элементы </a:t>
            </a:r>
            <a:r>
              <a:rPr b="1" lang="ru-RU" sz="1800" spc="-1" strike="noStrike">
                <a:solidFill>
                  <a:srgbClr val="000000"/>
                </a:solidFill>
                <a:latin typeface="Arial"/>
              </a:rPr>
              <a:t>(УЭ)</a:t>
            </a:r>
            <a:r>
              <a:rPr b="0" lang="ru-RU" sz="1800" spc="-1" strike="noStrike">
                <a:solidFill>
                  <a:srgbClr val="000000"/>
                </a:solidFill>
                <a:latin typeface="Arial"/>
              </a:rPr>
              <a:t>. Каждой частной дидактической цели соответствует один учебный элемент. </a:t>
            </a:r>
            <a:br>
              <a:rPr sz="1800"/>
            </a:br>
            <a:r>
              <a:rPr b="0" lang="ru-RU" sz="1800" spc="-1" strike="noStrike">
                <a:solidFill>
                  <a:srgbClr val="000000"/>
                </a:solidFill>
                <a:latin typeface="Arial"/>
              </a:rPr>
              <a:t>В результате создаётся древо целей: вершина дерева – комплексная цель для модульной программы, средний слой – интегрирующие дидактические цели для построения модулей и нижний слой – частные дидактические цели для построения учебных элем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50920" y="897840"/>
            <a:ext cx="8388360" cy="523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Arial"/>
              </a:rPr>
              <a:t>Модульная программа «Бессоюзное сложное предлож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ДЦ: уметь употреблять БСП в устной и письменной ре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1.</a:t>
            </a:r>
            <a:r>
              <a:rPr b="0" lang="ru-RU" sz="1600" spc="-1" strike="noStrike">
                <a:solidFill>
                  <a:srgbClr val="000000"/>
                </a:solidFill>
                <a:latin typeface="Arial"/>
              </a:rPr>
              <a:t>Бессоюзное сложное предложение. Классификация бессоюзных сложных предложений (по соотношению с союзными). Смысловые отношения между простыми предикативными частями в составе бессоюзного сложного предложе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различать виды сложного предложения: ССП, СПП, БСП; производить замену бессоюзных предложений союзными, и наоборот; объяснять различия в их строении и значен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идеть границы частей сложного бессоюзного предложения, определять их смысловые значе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2.</a:t>
            </a:r>
            <a:r>
              <a:rPr b="0" lang="ru-RU" sz="1600" spc="-1" strike="noStrike">
                <a:solidFill>
                  <a:srgbClr val="000000"/>
                </a:solidFill>
                <a:latin typeface="Arial"/>
              </a:rPr>
              <a:t>Средства связи частей в бессоюзном сложном предложении. Интонация бессоюзного сложного предложения. Знаки препинания в бессоюзном сложном предложении. Использование бессоюзных сложных предложений в ре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различать смысловые и интонационные отношения между предикативными частями БС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основать выбор знаков препинания в соответствии с изученными  пунктуационными правилам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уль 3.</a:t>
            </a:r>
            <a:r>
              <a:rPr b="0" lang="ru-RU" sz="1600" spc="-1" strike="noStrike">
                <a:solidFill>
                  <a:srgbClr val="000000"/>
                </a:solidFill>
                <a:latin typeface="Arial"/>
              </a:rPr>
              <a:t>Обобщение знаний по теме «Бессоюзное сложное предлож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Ц:</a:t>
            </a:r>
            <a:r>
              <a:rPr b="0" lang="ru-RU" sz="1600" spc="-1" strike="noStrike">
                <a:solidFill>
                  <a:srgbClr val="000000"/>
                </a:solidFill>
                <a:latin typeface="Arial"/>
              </a:rPr>
              <a:t>  обобщить знания по тем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водить синтаксический и пунктуационный разбор предложе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24000" y="1016280"/>
            <a:ext cx="8604000" cy="466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одульной технологии выделяется пять типов учебных занятий:</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изучения новых знаний</a:t>
            </a:r>
            <a:r>
              <a:rPr b="0" lang="ru-RU" sz="1600" spc="-1" strike="noStrike">
                <a:solidFill>
                  <a:srgbClr val="000000"/>
                </a:solidFill>
                <a:latin typeface="Arial"/>
              </a:rPr>
              <a:t> (лекция, экскурсия, лабораторная работа, вводный урок, учебный практикум - имеют своей целью изучение и первичное закрепление новых зн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закрепления знаний</a:t>
            </a:r>
            <a:r>
              <a:rPr b="0" lang="ru-RU" sz="1600" spc="-1" strike="noStrike">
                <a:solidFill>
                  <a:srgbClr val="000000"/>
                </a:solidFill>
                <a:latin typeface="Arial"/>
              </a:rPr>
              <a:t> (практикум, собеседование, консультация, отработка материала - имеют своей целью вторичное закрепление усвоенных знаний, выработку умений по их применени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комплексного применения знаний</a:t>
            </a:r>
            <a:r>
              <a:rPr b="0" lang="ru-RU" sz="1600" spc="-1" strike="noStrike">
                <a:solidFill>
                  <a:srgbClr val="000000"/>
                </a:solidFill>
                <a:latin typeface="Arial"/>
              </a:rPr>
              <a:t> (цель - вторичное закрепление усвоенных знаний, выработка умений по их применению, перенос в новые усло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обобщения и систематизации знаний</a:t>
            </a:r>
            <a:r>
              <a:rPr b="0" lang="ru-RU" sz="1600" spc="-1" strike="noStrike">
                <a:solidFill>
                  <a:srgbClr val="000000"/>
                </a:solidFill>
                <a:latin typeface="Arial"/>
              </a:rPr>
              <a:t> (семинар, конференция - имеют своей целью обобщение единичных знаний в систе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a:t>
            </a:r>
            <a:r>
              <a:rPr b="1" lang="ru-RU" sz="1600" spc="-1" strike="noStrike">
                <a:solidFill>
                  <a:srgbClr val="000000"/>
                </a:solidFill>
                <a:latin typeface="Arial"/>
              </a:rPr>
              <a:t>урок контроля, оценки и коррекции знаний</a:t>
            </a:r>
            <a:r>
              <a:rPr b="0" lang="ru-RU" sz="1600" spc="-1" strike="noStrike">
                <a:solidFill>
                  <a:srgbClr val="000000"/>
                </a:solidFill>
                <a:latin typeface="Arial"/>
              </a:rPr>
              <a:t> (проверочная работа, контрольная работа, тест, общественный смотр знаний, зачет - имеют своей целью определить уровень овладения знаниями, умениями и навыками, провести оценку своей деятельности каждым учеником, ее результатов и себя в н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тип учебного занятия имеет свою структур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модуля должна соответствовать логике учебного занятия того или иного тип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250920" y="1245960"/>
            <a:ext cx="842472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ru-RU" sz="1800" spc="-1" strike="noStrike">
                <a:solidFill>
                  <a:srgbClr val="000000"/>
                </a:solidFill>
                <a:latin typeface="Arial"/>
              </a:rPr>
              <a:t> этап – построение модуля (урок 45мину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ется интегрирующая дидактическая ц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ляется задание для входного контроля, цель которого – установить готовность учащихся к рабо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ются все частные дидактические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основе ЧДЦ создаются учебные элементы, включающие в себя целевую установку, алгоритмы действий учащихся и проверочное задание для контроля и коррекции усвоения знаний и ум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олняется содержанием предпоследний элемент модуля – осмысление проделанной работы, обобщающее ход выполнения зада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ляется задание для выходного контроля (экспертный контроль), их смысл заключается в выявлении степени овладения содержанием моду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этап урока определён временем, контролируется и оценивается (учителем, самоконтролем и взаимным контро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324000" y="1125360"/>
          <a:ext cx="8280360" cy="5565960"/>
        </p:xfrm>
        <a:graphic>
          <a:graphicData uri="http://schemas.openxmlformats.org/drawingml/2006/table">
            <a:tbl>
              <a:tblPr/>
              <a:tblGrid>
                <a:gridCol w="1033200"/>
                <a:gridCol w="2179800"/>
                <a:gridCol w="1636560"/>
                <a:gridCol w="1055880"/>
                <a:gridCol w="2374920"/>
              </a:tblGrid>
              <a:tr h="104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омер учебного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звание учебного элемента. Цели и задачи формулируются для ребён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правление обучением (содержание, формы, методы).</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екомендации (Как сделать?)</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ремя работы. Как работать. Оцени работу по эталону, ключу. Взаимопровер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Цели и задачи модуля. Актуализация целей.</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етодическое руководство.</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еобходимые знания и умения.</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бота в парах. Взаимопроверк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чебный модуль. Цель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ходной контроль.</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яснения к учебному материалу.</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 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общение. Цель элемента.</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сточники информации, алгоритмы решения заданий.</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5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Э - 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онтроль (самоконтроль и выходной контроль по трём уровням).</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оверка по ключу, эталону.</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2" name="Text Box 171"/>
          <p:cNvSpPr/>
          <p:nvPr/>
        </p:nvSpPr>
        <p:spPr>
          <a:xfrm>
            <a:off x="3276720" y="620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модул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0" y="22644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a:t>
            </a:r>
            <a:r>
              <a:rPr b="1" lang="ru-RU" sz="1800" spc="-1" strike="noStrike">
                <a:solidFill>
                  <a:srgbClr val="000000"/>
                </a:solidFill>
                <a:latin typeface="Arial"/>
              </a:rPr>
              <a:t>этап – выделение учебных элементов</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язательными учебными элементами являются следующие:</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Знакомство с темой и задачами урока, постановка перед каждым обучающимся индивидуальных задач и целей. </a:t>
            </a:r>
            <a:r>
              <a:rPr b="0" lang="ru-RU" sz="1800" spc="-1" strike="noStrike">
                <a:solidFill>
                  <a:srgbClr val="000000"/>
                </a:solidFill>
                <a:latin typeface="Arial"/>
              </a:rPr>
              <a:t>В конце урока вновь обращаемся к УЭ 0.</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мер: Тема урока: «Строение сложноподчинённых предложений (СПП) и пунктуация            в них».</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становка целей урока. Вариант 1</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Мы приступаем к изучению сложноподчинённых предложений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Цели урока:  </a:t>
            </a:r>
            <a:r>
              <a:rPr b="0" i="1" lang="ru-RU" sz="1800" spc="-1" strike="noStrike">
                <a:solidFill>
                  <a:srgbClr val="000000"/>
                </a:solidFill>
                <a:latin typeface="Wingdings"/>
                <a:ea typeface="Wingdings"/>
              </a:rPr>
              <a:t></a:t>
            </a:r>
            <a:r>
              <a:rPr b="0" i="1" lang="ru-RU" sz="1800" spc="-1" strike="noStrike">
                <a:solidFill>
                  <a:srgbClr val="000000"/>
                </a:solidFill>
                <a:latin typeface="Arial"/>
              </a:rPr>
              <a:t> вспомнить особенности и структуру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учиться различать подчинительные союзы и союзные слова в СПП, находить указательные слова, определять место придаточного;</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учиться составлять схемы СПП, правильно расставлять знаки препинания в данных предложениях.</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Я надеюсь на ваш успех в изучении темы.</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1" i="1" lang="ru-RU" sz="1800" spc="-1" strike="noStrike">
                <a:solidFill>
                  <a:srgbClr val="000000"/>
                </a:solidFill>
                <a:latin typeface="Arial"/>
              </a:rPr>
              <a:t>Вариант 2</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формулируется обучающимися по опорным словам):</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осмысление …особенностей  и структуры сложноподчинённых  предложений;</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усвоение …отличий союзов и союзных слов в СПП;</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отработка…умений находить  указательные слова, определять место придаточной части;</a:t>
            </a:r>
            <a:endParaRPr b="0" lang="en-US" sz="1800" spc="-1" strike="noStrike">
              <a:solidFill>
                <a:srgbClr val="000000"/>
              </a:solidFill>
              <a:latin typeface="Arial"/>
            </a:endParaRPr>
          </a:p>
          <a:p>
            <a:pPr algn="ct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закрепление…умений расставлять знаки препин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8:55:28Z</dcterms:created>
  <dc:creator>Александр</dc:creator>
  <dc:description/>
  <dc:language>en-US</dc:language>
  <cp:lastModifiedBy>ппэ93</cp:lastModifiedBy>
  <dcterms:modified xsi:type="dcterms:W3CDTF">2023-03-06T09:11:53Z</dcterms:modified>
  <cp:revision>17</cp:revision>
  <dc:subject/>
  <dc:title>Слайд 1</dc:title>
</cp:coreProperties>
</file>