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3A9-64F2-49D5-AC44-09F0D957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CC7-E459-416C-B447-92555568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7AE-E559-4FE4-A154-EF180E3C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EAF-5135-450B-BF67-49E94D4D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E30-2293-4D35-9F5F-C4FBADC3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91F-7F92-4297-9E61-8D4D596A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66D-5B39-4511-95D8-1DB3BEB5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F0F-E889-41D4-8A7A-033A5A1C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79D-D507-4236-A387-F04C8005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259-3D96-49A8-AA16-B1301E41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9A7-70A0-4E63-954E-0218143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68E-EE8B-4DFE-ACDB-8976E4FE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0BBE-0962-41B6-8144-AC418FCA5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Calibri"/>
              </a:rPr>
              <a:t>Мамаев курга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mamaev-kurgan-19.jpg"/>
          <p:cNvPicPr/>
          <p:nvPr/>
        </p:nvPicPr>
        <p:blipFill>
          <a:blip r:embed="rId1"/>
          <a:stretch/>
        </p:blipFill>
        <p:spPr>
          <a:xfrm>
            <a:off x="22320" y="714240"/>
            <a:ext cx="90993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mamaev-kurgan-2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mamaev-kurgan-52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mamaev-kurgan-51.jpg"/>
          <p:cNvPicPr/>
          <p:nvPr/>
        </p:nvPicPr>
        <p:blipFill>
          <a:blip r:embed="rId1"/>
          <a:stretch/>
        </p:blipFill>
        <p:spPr>
          <a:xfrm>
            <a:off x="25718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mamaev-kurgan-5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mamaev-kurgan-47.jpg"/>
          <p:cNvPicPr/>
          <p:nvPr/>
        </p:nvPicPr>
        <p:blipFill>
          <a:blip r:embed="rId1"/>
          <a:stretch/>
        </p:blipFill>
        <p:spPr>
          <a:xfrm>
            <a:off x="177840" y="500040"/>
            <a:ext cx="889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mamaev-kurgan-11.jpg"/>
          <p:cNvPicPr/>
          <p:nvPr/>
        </p:nvPicPr>
        <p:blipFill>
          <a:blip r:embed="rId1"/>
          <a:stretch/>
        </p:blipFill>
        <p:spPr>
          <a:xfrm>
            <a:off x="2050920" y="0"/>
            <a:ext cx="54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:\Documents and Settings\Admin\Рабочий стол\club-hotels.ruмузейпамять.jpg"/>
          <p:cNvPicPr/>
          <p:nvPr/>
        </p:nvPicPr>
        <p:blipFill>
          <a:blip r:embed="rId1"/>
          <a:stretch/>
        </p:blipFill>
        <p:spPr>
          <a:xfrm>
            <a:off x="127080" y="469800"/>
            <a:ext cx="88898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Documents and Settings\Admin\Рабочий стол\mamaev-kurgan-11.jpg"/>
          <p:cNvPicPr/>
          <p:nvPr/>
        </p:nvPicPr>
        <p:blipFill>
          <a:blip r:embed="rId1"/>
          <a:stretch/>
        </p:blipFill>
        <p:spPr>
          <a:xfrm>
            <a:off x="1979640" y="0"/>
            <a:ext cx="54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:\Documents and Settings\Admin\Рабочий стол\kurgan.jpg"/>
          <p:cNvPicPr/>
          <p:nvPr/>
        </p:nvPicPr>
        <p:blipFill>
          <a:blip r:embed="rId1"/>
          <a:stretch/>
        </p:blipFill>
        <p:spPr>
          <a:xfrm>
            <a:off x="176040" y="214200"/>
            <a:ext cx="882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mamaev-kurgan-1.jpg"/>
          <p:cNvPicPr/>
          <p:nvPr/>
        </p:nvPicPr>
        <p:blipFill>
          <a:blip r:embed="rId1"/>
          <a:stretch/>
        </p:blipFill>
        <p:spPr>
          <a:xfrm>
            <a:off x="135000" y="500040"/>
            <a:ext cx="887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Admin\Рабочий стол\mamaev-kurgan-9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Documents and Settings\Admin\Рабочий стол\mamaev-kurgan-6.jpg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ocuments and Settings\Admin\Рабочий стол\mamaev-kurgan-10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mamaev-kurgan-1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mamaev-kurgan-15.jpg"/>
          <p:cNvPicPr/>
          <p:nvPr/>
        </p:nvPicPr>
        <p:blipFill>
          <a:blip r:embed="rId1"/>
          <a:stretch/>
        </p:blipFill>
        <p:spPr>
          <a:xfrm>
            <a:off x="2476440" y="0"/>
            <a:ext cx="4524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5T20:30:13Z</dcterms:created>
  <dc:creator>Admin</dc:creator>
  <dc:description/>
  <dc:language>en-US</dc:language>
  <cp:lastModifiedBy>HP</cp:lastModifiedBy>
  <dcterms:modified xsi:type="dcterms:W3CDTF">2023-03-05T08:18:07Z</dcterms:modified>
  <cp:revision>20</cp:revision>
  <dc:subject/>
  <dc:title>Мамаев курган</dc:title>
</cp:coreProperties>
</file>