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25F-BC26-4852-A0B5-F15AAD5E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7DB-115A-45C8-BA27-67E35427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7D7-53A1-4516-B03C-05387460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A1D-BC10-4DF7-BA00-C0CC090A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6E2-D4CB-410D-8DA2-56D574D4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2A3-35DF-4653-8CA0-1746303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8DA-C570-41BE-A07A-6E928C0E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0DE-8778-42D6-B13B-FD3A490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1BC-13C5-4ED3-B8CF-F14039F8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D76-C880-410E-B84E-9160D3A6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E5E-4A62-4A2B-9918-63B47E4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685-5CA4-4C50-A893-2FF7F68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9C3-EFBC-4DB5-B17B-ABD4CC5BD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Calibri"/>
              </a:rPr>
              <a:t>Мамаев курга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mamaev-kurgan-19.jpg"/>
          <p:cNvPicPr/>
          <p:nvPr/>
        </p:nvPicPr>
        <p:blipFill>
          <a:blip r:embed="rId1"/>
          <a:stretch/>
        </p:blipFill>
        <p:spPr>
          <a:xfrm>
            <a:off x="22320" y="714240"/>
            <a:ext cx="9099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ocuments and Settings\Admin\Рабочий стол\mamaev-kurgan-2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Documents and Settings\Admin\Рабочий стол\mamaev-kurgan-52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Admin\Рабочий стол\mamaev-kurgan-51.jpg"/>
          <p:cNvPicPr/>
          <p:nvPr/>
        </p:nvPicPr>
        <p:blipFill>
          <a:blip r:embed="rId1"/>
          <a:stretch/>
        </p:blipFill>
        <p:spPr>
          <a:xfrm>
            <a:off x="25718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Documents and Settings\Admin\Рабочий стол\mamaev-kurgan-5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mamaev-kurgan-47.jpg"/>
          <p:cNvPicPr/>
          <p:nvPr/>
        </p:nvPicPr>
        <p:blipFill>
          <a:blip r:embed="rId1"/>
          <a:stretch/>
        </p:blipFill>
        <p:spPr>
          <a:xfrm>
            <a:off x="177840" y="50004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Admin\Рабочий стол\mamaev-kurgan-11.jpg"/>
          <p:cNvPicPr/>
          <p:nvPr/>
        </p:nvPicPr>
        <p:blipFill>
          <a:blip r:embed="rId1"/>
          <a:stretch/>
        </p:blipFill>
        <p:spPr>
          <a:xfrm>
            <a:off x="2050920" y="0"/>
            <a:ext cx="54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Documents and Settings\Admin\Рабочий стол\club-hotels.ruмузейпамять.jpg"/>
          <p:cNvPicPr/>
          <p:nvPr/>
        </p:nvPicPr>
        <p:blipFill>
          <a:blip r:embed="rId1"/>
          <a:stretch/>
        </p:blipFill>
        <p:spPr>
          <a:xfrm>
            <a:off x="127080" y="469800"/>
            <a:ext cx="88898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Documents and Settings\Admin\Рабочий стол\mamaev-kurgan-11.jpg"/>
          <p:cNvPicPr/>
          <p:nvPr/>
        </p:nvPicPr>
        <p:blipFill>
          <a:blip r:embed="rId1"/>
          <a:stretch/>
        </p:blipFill>
        <p:spPr>
          <a:xfrm>
            <a:off x="1979640" y="0"/>
            <a:ext cx="54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:\Documents and Settings\Admin\Рабочий стол\kurgan.jpg"/>
          <p:cNvPicPr/>
          <p:nvPr/>
        </p:nvPicPr>
        <p:blipFill>
          <a:blip r:embed="rId1"/>
          <a:stretch/>
        </p:blipFill>
        <p:spPr>
          <a:xfrm>
            <a:off x="176040" y="214200"/>
            <a:ext cx="882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mamaev-kurgan-1.jpg"/>
          <p:cNvPicPr/>
          <p:nvPr/>
        </p:nvPicPr>
        <p:blipFill>
          <a:blip r:embed="rId1"/>
          <a:stretch/>
        </p:blipFill>
        <p:spPr>
          <a:xfrm>
            <a:off x="135000" y="500040"/>
            <a:ext cx="887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mamaev-kurgan-9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Documents and Settings\Admin\Рабочий стол\mamaev-kurgan-6.jpg"/>
          <p:cNvPicPr/>
          <p:nvPr/>
        </p:nvPicPr>
        <p:blipFill>
          <a:blip r:embed="rId1"/>
          <a:stretch/>
        </p:blipFill>
        <p:spPr>
          <a:xfrm>
            <a:off x="324000" y="333360"/>
            <a:ext cx="8820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mamaev-kurgan-10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mamaev-kurgan-13.jpg"/>
          <p:cNvPicPr/>
          <p:nvPr/>
        </p:nvPicPr>
        <p:blipFill>
          <a:blip r:embed="rId1"/>
          <a:stretch/>
        </p:blipFill>
        <p:spPr>
          <a:xfrm>
            <a:off x="177840" y="500040"/>
            <a:ext cx="878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mamaev-kurgan-15.jpg"/>
          <p:cNvPicPr/>
          <p:nvPr/>
        </p:nvPicPr>
        <p:blipFill>
          <a:blip r:embed="rId1"/>
          <a:stretch/>
        </p:blipFill>
        <p:spPr>
          <a:xfrm>
            <a:off x="2476440" y="0"/>
            <a:ext cx="4524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5T20:30:13Z</dcterms:created>
  <dc:creator>Admin</dc:creator>
  <dc:description/>
  <dc:language>en-US</dc:language>
  <cp:lastModifiedBy>HP</cp:lastModifiedBy>
  <dcterms:modified xsi:type="dcterms:W3CDTF">2023-03-05T08:18:07Z</dcterms:modified>
  <cp:revision>20</cp:revision>
  <dc:subject/>
  <dc:title>Мамаев курган</dc:title>
</cp:coreProperties>
</file>