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5F2-8546-440D-9314-DC35AB425A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BCF-7554-407C-B4EE-CAB932E2D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F80-6486-45D0-9A75-556E85DBE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EEE-58E9-4443-BB42-E821CE2F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EA-2DAD-402C-A703-5B2B2866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14C-384B-4697-879F-A103E25E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AC9-FDF6-489B-9A6F-4E4A5BF9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79A-E8C7-4044-A472-C8466C4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64C-70EC-4D53-8C7A-0CB4D45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852-5712-4CD1-BA63-1AA2AD3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947-369E-4991-AA99-C9CCEAFB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30F-D1D4-4E28-8612-A9390DB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E97-4C5E-403F-9BD0-C8DD9DB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F17-0711-4887-9109-F92927E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0CA-71C6-411E-893F-4745050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C4A2-7849-4ABB-B14D-61F152473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 призем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рия Алексеевича Гага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Documents and Settings\Admin\Рабочий стол\МЕСТО ПРИЗЕМЛЕНИЯ\первый деревянный памятник.jpg"/>
          <p:cNvPicPr/>
          <p:nvPr/>
        </p:nvPicPr>
        <p:blipFill>
          <a:blip r:embed="rId1"/>
          <a:stretch/>
        </p:blipFill>
        <p:spPr>
          <a:xfrm>
            <a:off x="493560" y="642960"/>
            <a:ext cx="82933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Admin\Рабочий стол\МЕСТО ПРИЗЕМЛЕНИЯ\middle_23.jpg"/>
          <p:cNvPicPr/>
          <p:nvPr/>
        </p:nvPicPr>
        <p:blipFill>
          <a:blip r:embed="rId1"/>
          <a:stretch/>
        </p:blipFill>
        <p:spPr>
          <a:xfrm>
            <a:off x="4071960" y="2952720"/>
            <a:ext cx="4894200" cy="32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:\Documents and Settings\Admin\Рабочий стол\МЕСТО ПРИЗЕМЛЕНИЯ\рак.jpg"/>
          <p:cNvPicPr/>
          <p:nvPr/>
        </p:nvPicPr>
        <p:blipFill>
          <a:blip r:embed="rId2"/>
          <a:stretch/>
        </p:blipFill>
        <p:spPr>
          <a:xfrm>
            <a:off x="500040" y="285840"/>
            <a:ext cx="4280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МЕСТО ПРИЗЕМЛЕНИЯ\1594360248_1136112473_980-653.jpg"/>
          <p:cNvPicPr/>
          <p:nvPr/>
        </p:nvPicPr>
        <p:blipFill>
          <a:blip r:embed="rId1"/>
          <a:stretch/>
        </p:blipFill>
        <p:spPr>
          <a:xfrm>
            <a:off x="1476360" y="260280"/>
            <a:ext cx="52563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Admin\Рабочий стол\МЕСТО ПРИЗЕМЛЕНИЯ\монтаж памятника.jpg"/>
          <p:cNvPicPr/>
          <p:nvPr/>
        </p:nvPicPr>
        <p:blipFill>
          <a:blip r:embed="rId1"/>
          <a:stretch/>
        </p:blipFill>
        <p:spPr>
          <a:xfrm>
            <a:off x="285840" y="585720"/>
            <a:ext cx="85723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Documents and Settings\Admin\Рабочий стол\МЕСТО ПРИЗЕМЛЕНИЯ\42.jpg"/>
          <p:cNvPicPr/>
          <p:nvPr/>
        </p:nvPicPr>
        <p:blipFill>
          <a:blip r:embed="rId1"/>
          <a:stretch/>
        </p:blipFill>
        <p:spPr>
          <a:xfrm>
            <a:off x="249120" y="571680"/>
            <a:ext cx="8626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МЕСТО ПРИЗЕМЛЕНИЯ\1-1.png"/>
          <p:cNvPicPr/>
          <p:nvPr/>
        </p:nvPicPr>
        <p:blipFill>
          <a:blip r:embed="rId1"/>
          <a:stretch/>
        </p:blipFill>
        <p:spPr>
          <a:xfrm>
            <a:off x="4357800" y="3571920"/>
            <a:ext cx="4476600" cy="29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Documents and Settings\Admin\Рабочий стол\МЕСТО ПРИЗЕМЛЕНИЯ\Место приземления Гагарина-37.jpg"/>
          <p:cNvPicPr/>
          <p:nvPr/>
        </p:nvPicPr>
        <p:blipFill>
          <a:blip r:embed="rId2"/>
          <a:stretch/>
        </p:blipFill>
        <p:spPr>
          <a:xfrm>
            <a:off x="142920" y="0"/>
            <a:ext cx="546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D:\Documents and Settings\Admin\Рабочий стол\МЕСТО ПРИЗЕМЛЕНИЯ\циалковский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Documents and Settings\Admin\Рабочий стол\МЕСТО ПРИЗЕМЛЕНИЯ\post-15999-0-17363000-1460482641.jpg"/>
          <p:cNvPicPr/>
          <p:nvPr/>
        </p:nvPicPr>
        <p:blipFill>
          <a:blip r:embed="rId1"/>
          <a:stretch/>
        </p:blipFill>
        <p:spPr>
          <a:xfrm>
            <a:off x="642960" y="357120"/>
            <a:ext cx="81453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ocuments and Settings\Admin\Рабочий стол\МЕСТО ПРИЗЕМЛЕНИЯ\DSCF6819.jpg"/>
          <p:cNvPicPr/>
          <p:nvPr/>
        </p:nvPicPr>
        <p:blipFill>
          <a:blip r:embed="rId1"/>
          <a:stretch/>
        </p:blipFill>
        <p:spPr>
          <a:xfrm>
            <a:off x="2071800" y="214200"/>
            <a:ext cx="487188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Admin\Рабочий стол\МЕСТО ПРИЗЕМЛЕНИЯ\23151.jpg"/>
          <p:cNvPicPr/>
          <p:nvPr/>
        </p:nvPicPr>
        <p:blipFill>
          <a:blip r:embed="rId1"/>
          <a:stretch/>
        </p:blipFill>
        <p:spPr>
          <a:xfrm>
            <a:off x="285840" y="571680"/>
            <a:ext cx="85993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МЕСТО ПРИЗЕМЛЕНИЯ\гагарин.jpg"/>
          <p:cNvPicPr/>
          <p:nvPr/>
        </p:nvPicPr>
        <p:blipFill>
          <a:blip r:embed="rId1"/>
          <a:stretch/>
        </p:blipFill>
        <p:spPr>
          <a:xfrm>
            <a:off x="2320920" y="428760"/>
            <a:ext cx="453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s and Settings\Admin\Рабочий стол\МЕСТО ПРИЗЕМЛЕНИЯ\20.jpg"/>
          <p:cNvPicPr/>
          <p:nvPr/>
        </p:nvPicPr>
        <p:blipFill>
          <a:blip r:embed="rId1"/>
          <a:stretch/>
        </p:blipFill>
        <p:spPr>
          <a:xfrm>
            <a:off x="663480" y="500040"/>
            <a:ext cx="81025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МЕСТО ПРИЗЕМЛЕНИЯ\як-18.jpeg"/>
          <p:cNvPicPr/>
          <p:nvPr/>
        </p:nvPicPr>
        <p:blipFill>
          <a:blip r:embed="rId1"/>
          <a:stretch/>
        </p:blipFill>
        <p:spPr>
          <a:xfrm>
            <a:off x="500040" y="642960"/>
            <a:ext cx="83361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МЕСТО ПРИЗЕМЛЕНИЯ\ракета.jpg"/>
          <p:cNvPicPr/>
          <p:nvPr/>
        </p:nvPicPr>
        <p:blipFill>
          <a:blip r:embed="rId1"/>
          <a:stretch/>
        </p:blipFill>
        <p:spPr>
          <a:xfrm>
            <a:off x="2422440" y="214200"/>
            <a:ext cx="4637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МЕСТО ПРИЗЕМЛЕНИЯ\капсула  восток.jpg"/>
          <p:cNvPicPr/>
          <p:nvPr/>
        </p:nvPicPr>
        <p:blipFill>
          <a:blip r:embed="rId1"/>
          <a:stretch/>
        </p:blipFill>
        <p:spPr>
          <a:xfrm>
            <a:off x="480960" y="357120"/>
            <a:ext cx="8182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МЕСТО ПРИЗЕМЛЕНИЯ\001.jpg"/>
          <p:cNvPicPr/>
          <p:nvPr/>
        </p:nvPicPr>
        <p:blipFill>
          <a:blip r:embed="rId1"/>
          <a:stretch/>
        </p:blipFill>
        <p:spPr>
          <a:xfrm>
            <a:off x="357120" y="357120"/>
            <a:ext cx="8480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МЕСТО ПРИЗЕМЛЕНИЯ\35.jpg"/>
          <p:cNvPicPr/>
          <p:nvPr/>
        </p:nvPicPr>
        <p:blipFill>
          <a:blip r:embed="rId1"/>
          <a:stretch/>
        </p:blipFill>
        <p:spPr>
          <a:xfrm>
            <a:off x="571680" y="428760"/>
            <a:ext cx="3531960" cy="45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Documents and Settings\Admin\Рабочий стол\МЕСТО ПРИЗЕМЛЕНИЯ\017.jpg"/>
          <p:cNvPicPr/>
          <p:nvPr/>
        </p:nvPicPr>
        <p:blipFill>
          <a:blip r:embed="rId2"/>
          <a:stretch/>
        </p:blipFill>
        <p:spPr>
          <a:xfrm>
            <a:off x="4714920" y="1214280"/>
            <a:ext cx="3857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МЕСТО ПРИЗЕМЛЕНИЯ\243695_900.jpg"/>
          <p:cNvPicPr/>
          <p:nvPr/>
        </p:nvPicPr>
        <p:blipFill>
          <a:blip r:embed="rId1"/>
          <a:stretch/>
        </p:blipFill>
        <p:spPr>
          <a:xfrm>
            <a:off x="762120" y="590400"/>
            <a:ext cx="76197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Documents and Settings\Admin\Рабочий стол\МЕСТО ПРИЗЕМЛЕНИЯ\не трогать.jpg"/>
          <p:cNvPicPr/>
          <p:nvPr/>
        </p:nvPicPr>
        <p:blipFill>
          <a:blip r:embed="rId1"/>
          <a:stretch/>
        </p:blipFill>
        <p:spPr>
          <a:xfrm>
            <a:off x="1384200" y="254160"/>
            <a:ext cx="63756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0T11:54:34Z</dcterms:created>
  <dc:creator>Admin</dc:creator>
  <dc:description/>
  <dc:language>en-US</dc:language>
  <cp:lastModifiedBy>HP</cp:lastModifiedBy>
  <dcterms:modified xsi:type="dcterms:W3CDTF">2023-03-05T08:07:12Z</dcterms:modified>
  <cp:revision>28</cp:revision>
  <dc:subject/>
  <dc:title>Место приземления Юрия Алексеевича Гагарина</dc:title>
</cp:coreProperties>
</file>