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7F5C-7CA3-4D08-87C8-61785A5BE4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282B-7D2E-467E-91BD-13A8DFBD86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9D6D-DB6D-4F9F-9175-6A0023FD42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CEF-65F8-4A12-AD7A-FF8B4F1E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406-EB23-496D-BD67-A794A58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A0D-61D8-4667-9429-69BA2BAF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693-8543-4348-958C-8E9A3E92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EA9-6FE4-4E16-A142-9B92707B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57F-025F-4165-9E40-7A19A2F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163-1D80-4352-A614-7CDD311E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938-62E6-4D1B-A835-A10B5AB9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BB4-DC44-478D-8D0D-F3039AFA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707-5B41-47DD-80AB-CAD7B4F5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1CB-8D76-48A6-A4E2-0918DA3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114-822E-4311-87BB-FA7FE4ED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3C60-B9C6-4DCC-815E-5049DCEED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сто приземл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Юрия Алексеевича Гага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Documents and Settings\Admin\Рабочий стол\МЕСТО ПРИЗЕМЛЕНИЯ\первый деревянный памятник.jpg"/>
          <p:cNvPicPr/>
          <p:nvPr/>
        </p:nvPicPr>
        <p:blipFill>
          <a:blip r:embed="rId1"/>
          <a:stretch/>
        </p:blipFill>
        <p:spPr>
          <a:xfrm>
            <a:off x="493560" y="642960"/>
            <a:ext cx="829332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Admin\Рабочий стол\МЕСТО ПРИЗЕМЛЕНИЯ\middle_23.jpg"/>
          <p:cNvPicPr/>
          <p:nvPr/>
        </p:nvPicPr>
        <p:blipFill>
          <a:blip r:embed="rId1"/>
          <a:stretch/>
        </p:blipFill>
        <p:spPr>
          <a:xfrm>
            <a:off x="4071960" y="2952720"/>
            <a:ext cx="4894200" cy="32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:\Documents and Settings\Admin\Рабочий стол\МЕСТО ПРИЗЕМЛЕНИЯ\рак.jpg"/>
          <p:cNvPicPr/>
          <p:nvPr/>
        </p:nvPicPr>
        <p:blipFill>
          <a:blip r:embed="rId2"/>
          <a:stretch/>
        </p:blipFill>
        <p:spPr>
          <a:xfrm>
            <a:off x="500040" y="285840"/>
            <a:ext cx="4280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Documents and Settings\Admin\Рабочий стол\МЕСТО ПРИЗЕМЛЕНИЯ\1594360248_1136112473_980-653.jpg"/>
          <p:cNvPicPr/>
          <p:nvPr/>
        </p:nvPicPr>
        <p:blipFill>
          <a:blip r:embed="rId1"/>
          <a:stretch/>
        </p:blipFill>
        <p:spPr>
          <a:xfrm>
            <a:off x="1476360" y="260280"/>
            <a:ext cx="525636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Documents and Settings\Admin\Рабочий стол\МЕСТО ПРИЗЕМЛЕНИЯ\монтаж памятника.jpg"/>
          <p:cNvPicPr/>
          <p:nvPr/>
        </p:nvPicPr>
        <p:blipFill>
          <a:blip r:embed="rId1"/>
          <a:stretch/>
        </p:blipFill>
        <p:spPr>
          <a:xfrm>
            <a:off x="285840" y="585720"/>
            <a:ext cx="85723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Documents and Settings\Admin\Рабочий стол\МЕСТО ПРИЗЕМЛЕНИЯ\42.jpg"/>
          <p:cNvPicPr/>
          <p:nvPr/>
        </p:nvPicPr>
        <p:blipFill>
          <a:blip r:embed="rId1"/>
          <a:stretch/>
        </p:blipFill>
        <p:spPr>
          <a:xfrm>
            <a:off x="249120" y="571680"/>
            <a:ext cx="8626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Documents and Settings\Admin\Рабочий стол\МЕСТО ПРИЗЕМЛЕНИЯ\1-1.png"/>
          <p:cNvPicPr/>
          <p:nvPr/>
        </p:nvPicPr>
        <p:blipFill>
          <a:blip r:embed="rId1"/>
          <a:stretch/>
        </p:blipFill>
        <p:spPr>
          <a:xfrm>
            <a:off x="4357800" y="3571920"/>
            <a:ext cx="4476600" cy="29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Documents and Settings\Admin\Рабочий стол\МЕСТО ПРИЗЕМЛЕНИЯ\Место приземления Гагарина-37.jpg"/>
          <p:cNvPicPr/>
          <p:nvPr/>
        </p:nvPicPr>
        <p:blipFill>
          <a:blip r:embed="rId2"/>
          <a:stretch/>
        </p:blipFill>
        <p:spPr>
          <a:xfrm>
            <a:off x="142920" y="0"/>
            <a:ext cx="546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D:\Documents and Settings\Admin\Рабочий стол\МЕСТО ПРИЗЕМЛЕНИЯ\циалковский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D:\Documents and Settings\Admin\Рабочий стол\МЕСТО ПРИЗЕМЛЕНИЯ\post-15999-0-17363000-1460482641.jpg"/>
          <p:cNvPicPr/>
          <p:nvPr/>
        </p:nvPicPr>
        <p:blipFill>
          <a:blip r:embed="rId1"/>
          <a:stretch/>
        </p:blipFill>
        <p:spPr>
          <a:xfrm>
            <a:off x="642960" y="357120"/>
            <a:ext cx="814536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Documents and Settings\Admin\Рабочий стол\МЕСТО ПРИЗЕМЛЕНИЯ\DSCF6819.jpg"/>
          <p:cNvPicPr/>
          <p:nvPr/>
        </p:nvPicPr>
        <p:blipFill>
          <a:blip r:embed="rId1"/>
          <a:stretch/>
        </p:blipFill>
        <p:spPr>
          <a:xfrm>
            <a:off x="2071800" y="214200"/>
            <a:ext cx="487188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Documents and Settings\Admin\Рабочий стол\МЕСТО ПРИЗЕМЛЕНИЯ\23151.jpg"/>
          <p:cNvPicPr/>
          <p:nvPr/>
        </p:nvPicPr>
        <p:blipFill>
          <a:blip r:embed="rId1"/>
          <a:stretch/>
        </p:blipFill>
        <p:spPr>
          <a:xfrm>
            <a:off x="285840" y="571680"/>
            <a:ext cx="85993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МЕСТО ПРИЗЕМЛЕНИЯ\гагарин.jpg"/>
          <p:cNvPicPr/>
          <p:nvPr/>
        </p:nvPicPr>
        <p:blipFill>
          <a:blip r:embed="rId1"/>
          <a:stretch/>
        </p:blipFill>
        <p:spPr>
          <a:xfrm>
            <a:off x="2320920" y="428760"/>
            <a:ext cx="4537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Documents and Settings\Admin\Рабочий стол\МЕСТО ПРИЗЕМЛЕНИЯ\20.jpg"/>
          <p:cNvPicPr/>
          <p:nvPr/>
        </p:nvPicPr>
        <p:blipFill>
          <a:blip r:embed="rId1"/>
          <a:stretch/>
        </p:blipFill>
        <p:spPr>
          <a:xfrm>
            <a:off x="663480" y="500040"/>
            <a:ext cx="81025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МЕСТО ПРИЗЕМЛЕНИЯ\як-18.jpeg"/>
          <p:cNvPicPr/>
          <p:nvPr/>
        </p:nvPicPr>
        <p:blipFill>
          <a:blip r:embed="rId1"/>
          <a:stretch/>
        </p:blipFill>
        <p:spPr>
          <a:xfrm>
            <a:off x="500040" y="642960"/>
            <a:ext cx="83361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МЕСТО ПРИЗЕМЛЕНИЯ\ракета.jpg"/>
          <p:cNvPicPr/>
          <p:nvPr/>
        </p:nvPicPr>
        <p:blipFill>
          <a:blip r:embed="rId1"/>
          <a:stretch/>
        </p:blipFill>
        <p:spPr>
          <a:xfrm>
            <a:off x="2422440" y="214200"/>
            <a:ext cx="46371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МЕСТО ПРИЗЕМЛЕНИЯ\капсула  восток.jpg"/>
          <p:cNvPicPr/>
          <p:nvPr/>
        </p:nvPicPr>
        <p:blipFill>
          <a:blip r:embed="rId1"/>
          <a:stretch/>
        </p:blipFill>
        <p:spPr>
          <a:xfrm>
            <a:off x="480960" y="357120"/>
            <a:ext cx="81820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МЕСТО ПРИЗЕМЛЕНИЯ\001.jpg"/>
          <p:cNvPicPr/>
          <p:nvPr/>
        </p:nvPicPr>
        <p:blipFill>
          <a:blip r:embed="rId1"/>
          <a:stretch/>
        </p:blipFill>
        <p:spPr>
          <a:xfrm>
            <a:off x="357120" y="357120"/>
            <a:ext cx="8480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МЕСТО ПРИЗЕМЛЕНИЯ\35.jpg"/>
          <p:cNvPicPr/>
          <p:nvPr/>
        </p:nvPicPr>
        <p:blipFill>
          <a:blip r:embed="rId1"/>
          <a:stretch/>
        </p:blipFill>
        <p:spPr>
          <a:xfrm>
            <a:off x="571680" y="428760"/>
            <a:ext cx="3531960" cy="45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:\Documents and Settings\Admin\Рабочий стол\МЕСТО ПРИЗЕМЛЕНИЯ\017.jpg"/>
          <p:cNvPicPr/>
          <p:nvPr/>
        </p:nvPicPr>
        <p:blipFill>
          <a:blip r:embed="rId2"/>
          <a:stretch/>
        </p:blipFill>
        <p:spPr>
          <a:xfrm>
            <a:off x="4714920" y="1214280"/>
            <a:ext cx="3857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МЕСТО ПРИЗЕМЛЕНИЯ\243695_900.jpg"/>
          <p:cNvPicPr/>
          <p:nvPr/>
        </p:nvPicPr>
        <p:blipFill>
          <a:blip r:embed="rId1"/>
          <a:stretch/>
        </p:blipFill>
        <p:spPr>
          <a:xfrm>
            <a:off x="762120" y="590400"/>
            <a:ext cx="761976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Documents and Settings\Admin\Рабочий стол\МЕСТО ПРИЗЕМЛЕНИЯ\не трогать.jpg"/>
          <p:cNvPicPr/>
          <p:nvPr/>
        </p:nvPicPr>
        <p:blipFill>
          <a:blip r:embed="rId1"/>
          <a:stretch/>
        </p:blipFill>
        <p:spPr>
          <a:xfrm>
            <a:off x="1384200" y="254160"/>
            <a:ext cx="63756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0T11:54:34Z</dcterms:created>
  <dc:creator>Admin</dc:creator>
  <dc:description/>
  <dc:language>en-US</dc:language>
  <cp:lastModifiedBy>HP</cp:lastModifiedBy>
  <dcterms:modified xsi:type="dcterms:W3CDTF">2023-03-05T08:07:12Z</dcterms:modified>
  <cp:revision>28</cp:revision>
  <dc:subject/>
  <dc:title>Место приземления Юрия Алексеевича Гагарина</dc:title>
</cp:coreProperties>
</file>