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C59-E764-451E-8BF3-7AB5F342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160-4B4D-4D68-8548-5B716BA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0E6-C5DF-4B62-A86F-440D5D9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AB2-6642-425F-BD69-E2A938CB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EB5-CCA4-4F24-B167-696C28DC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F10-357D-4C23-843F-624E692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F09-1E61-4B75-B8B2-109068A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45F-9F19-4EC0-891B-6B10628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8D23-60D2-4056-BFB2-E523C4EA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5FD2-F23D-482C-A39E-D4CE570D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84D-C031-4020-9CB5-A4C254E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A74-310D-40D8-B173-0F95054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D81E-381C-4F5C-AD09-6EC36E9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78D-1291-4892-B4DA-C9F84D5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6408-653D-4F83-8EEB-746A6A5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BFFB-6566-4B28-9B7D-F9919E6B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0405-25CD-48CD-9525-55DCFA77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10E-5395-4C7C-8978-B739B9F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E01-6912-4736-96BB-0E2A01A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2F4-0343-437E-A3D9-BE6A1A96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1FD-6111-4CE9-B539-10F761C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6A9-4532-4915-A9EA-DEE18B1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F88-64C4-4433-879A-3383835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B59-5437-412C-99FB-8A81EFF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16F252-D91F-41B1-AED8-9048C0EEC4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9EEF6-3BAE-4007-9304-E328015F2C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videouroki.net/tests/36107973/" TargetMode="External"/><Relationship Id="rId2" Type="http://schemas.openxmlformats.org/officeDocument/2006/relationships/hyperlink" Target="https://videouroki.net/tests/36107973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640" y="-387360"/>
            <a:ext cx="835272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эти вещества были получе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 виде клейковины) в 1728 г. итальянцем Якопо Бартоломео Беккари из пшеничной му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3"/>
          <p:cNvSpPr/>
          <p:nvPr/>
        </p:nvSpPr>
        <p:spPr>
          <a:xfrm>
            <a:off x="2652480" y="2349000"/>
            <a:ext cx="3550680" cy="43088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tse2.explicit.bing.net/th?id=OIP.RqLBUddogM8V487FvFnNWwHaF6&amp;pid=Api"/>
          <p:cNvPicPr/>
          <p:nvPr/>
        </p:nvPicPr>
        <p:blipFill>
          <a:blip r:embed="rId1"/>
          <a:stretch/>
        </p:blipFill>
        <p:spPr>
          <a:xfrm>
            <a:off x="395640" y="483120"/>
            <a:ext cx="8497800" cy="63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s://u.foxford.ngcdn.ru/uploads/tinymce_file/file/66245/78962956eb7a1ccb.png"/>
          <p:cNvPicPr/>
          <p:nvPr/>
        </p:nvPicPr>
        <p:blipFill>
          <a:blip r:embed="rId1"/>
          <a:stretch/>
        </p:blipFill>
        <p:spPr>
          <a:xfrm>
            <a:off x="38880" y="620640"/>
            <a:ext cx="9104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g3"/>
          <p:cNvPicPr/>
          <p:nvPr/>
        </p:nvPicPr>
        <p:blipFill>
          <a:blip r:embed="rId1"/>
          <a:stretch/>
        </p:blipFill>
        <p:spPr>
          <a:xfrm>
            <a:off x="4680" y="4680"/>
            <a:ext cx="9165240" cy="6852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4030200" y="6309360"/>
            <a:ext cx="1266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,6 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5"/>
          <p:cNvCxnSpPr/>
          <p:nvPr/>
        </p:nvCxnSpPr>
        <p:spPr>
          <a:xfrm flipV="1">
            <a:off x="4663440" y="404640"/>
            <a:ext cx="252360" cy="756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9" name="Прямая со стрелкой 7"/>
          <p:cNvCxnSpPr/>
          <p:nvPr/>
        </p:nvCxnSpPr>
        <p:spPr>
          <a:xfrm>
            <a:off x="4587480" y="5085000"/>
            <a:ext cx="360" cy="1224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23640" y="476640"/>
            <a:ext cx="8820000" cy="45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машнее за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ойти тест на платформе видеоуроки по ссылк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://videouroki.net/tests/36107973/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сать реакции поликонденсации, идущие с образованием трипепти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вариа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ли-гли-ала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вариан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и-ала-г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 подготовить презентацию по теме «Превращения белков в организм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одержимое 3"/>
          <p:cNvSpPr/>
          <p:nvPr/>
        </p:nvSpPr>
        <p:spPr>
          <a:xfrm>
            <a:off x="2699640" y="2493000"/>
            <a:ext cx="3816000" cy="43016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92640"/>
            <a:ext cx="9252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и были выделены в отдельный класс биологических молекул в  XVIII ве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в результате работ французского химика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уана де Фуркруа и др. учёных. В то время были исследованы альбумин, фибрин и глютен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428920"/>
            <a:ext cx="5143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836 году Геррит Ян Мульдер предложил первую модель химического строения этих веществ. Основываясь на теории радикалов, он после нескольких уточнений пришёл к выводу, что минимальная структурная единица обладает следующим составом: 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5292000" y="1196640"/>
            <a:ext cx="3739320" cy="4084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640" y="2972520"/>
            <a:ext cx="4891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у единицу он назвал «протеином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т греч. протос — первый, первичный), а теорию — «теорией протеина».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3"/>
          <p:cNvSpPr/>
          <p:nvPr/>
        </p:nvSpPr>
        <p:spPr>
          <a:xfrm>
            <a:off x="5071320" y="1196640"/>
            <a:ext cx="3888000" cy="42181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36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4928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це 1880-х гг. русский учёный А. Я. Данилевский отметил существование пептидных групп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CO—NH-) в этих молекул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3"/>
          <p:cNvSpPr/>
          <p:nvPr/>
        </p:nvSpPr>
        <p:spPr>
          <a:xfrm>
            <a:off x="4929120" y="1143000"/>
            <a:ext cx="3804840" cy="4756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60004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чале XX ве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мецкий химик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иль Фишер осуществил первый искусственный синтез этих веществ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5857920" y="785880"/>
            <a:ext cx="2920680" cy="412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990099"/>
                </a:solidFill>
                <a:latin typeface="Calibri"/>
              </a:rPr>
              <a:t>Белки - биополимеры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Мульде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 молекул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1-53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,5-23,5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,8-18,4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,5-7,3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3-2,5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031920" y="3204360"/>
            <a:ext cx="47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62520" y="3789000"/>
            <a:ext cx="498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3074040" y="4373640"/>
            <a:ext cx="47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3031560" y="5031000"/>
            <a:ext cx="498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3043080" y="5652000"/>
            <a:ext cx="40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179640" y="166680"/>
            <a:ext cx="8784720" cy="65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  <Words>26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5T15:53:58Z</dcterms:created>
  <dc:creator>Ирина</dc:creator>
  <dc:description/>
  <dc:language>en-US</dc:language>
  <cp:lastModifiedBy>Елена</cp:lastModifiedBy>
  <dcterms:modified xsi:type="dcterms:W3CDTF">2023-03-21T16:46:56Z</dcterms:modified>
  <cp:revision>20</cp:revision>
  <dc:subject/>
  <dc:title>Впервые белок был получен (в виде клейковины) в 1728 г. итальянцем  Якопо Бартоломео Беккари из пшеничной му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