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8FCD-A0A7-4777-82A8-D99641E79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F96D-D4C0-4512-9E91-8D9414F4D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5B16-5205-4EDE-83F3-75750319B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A951-CEAF-4BE7-B43F-A5A87E459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0CA31-9A78-4741-88FF-EFB97D7D2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C3313-F296-46E1-8D6A-AFF0A72A3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CB840-6488-4BE0-8C30-D7231E0B1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13E61-1F36-478B-8A76-5BC0A54D3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99B02-33B7-4744-9013-3E496C6BF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E01A1-1BAA-47D0-B4BA-A26EB88BF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CF7F2-055B-4A3D-A659-175992B7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AAFD-4EA4-466A-A6D2-1D84B819D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CAE3F-82B2-44D2-9E64-8D4944D44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B4D57-6725-4C8A-A302-8EF12A9F6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6F583-3B0F-4316-9CE2-D7DFA4568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FB17A-7A49-4F40-B7D6-6C76C1813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5D0A9-88EF-4CB1-913E-90B2D1116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18C1-A521-404B-BC31-C4543B27C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92E3-D304-4A39-9C1A-27FA1E70F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400E-E72C-4037-A3B6-760C27C6A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4A04-FD2C-442B-A469-B8CF1041C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1C16-22FE-4909-BFEF-7E31BC475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B0FB-FCD3-4047-972F-E5094757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EB66-A111-45EA-8ABB-0C7F439A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A43AA2A-6143-405D-AACD-39972EAA2BCC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2DAEB20-F960-48E3-AF0C-AAC04991DE27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s://videouroki.net/tests/36107973/" TargetMode="External"/><Relationship Id="rId2" Type="http://schemas.openxmlformats.org/officeDocument/2006/relationships/hyperlink" Target="https://videouroki.net/tests/36107973/" TargetMode="External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1640" y="-387360"/>
            <a:ext cx="8352720" cy="338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первые эти вещества были получены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в виде клейковины) в 1728 г. итальянцем Якопо Бартоломео Беккари из пшеничной муки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Содержимое 3"/>
          <p:cNvSpPr/>
          <p:nvPr/>
        </p:nvSpPr>
        <p:spPr>
          <a:xfrm>
            <a:off x="2652480" y="2349000"/>
            <a:ext cx="3550680" cy="4308840"/>
          </a:xfrm>
          <a:prstGeom prst="ellipse">
            <a:avLst/>
          </a:prstGeom>
          <a:blipFill rotWithShape="0">
            <a:blip r:embed="rId1"/>
            <a:srcRect/>
            <a:stretch/>
          </a:blipFill>
          <a:ln cap="rnd" w="63500">
            <a:solidFill>
              <a:srgbClr val="333333"/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https://tse2.explicit.bing.net/th?id=OIP.RqLBUddogM8V487FvFnNWwHaF6&amp;pid=Api"/>
          <p:cNvPicPr/>
          <p:nvPr/>
        </p:nvPicPr>
        <p:blipFill>
          <a:blip r:embed="rId1"/>
          <a:stretch/>
        </p:blipFill>
        <p:spPr>
          <a:xfrm>
            <a:off x="395640" y="483120"/>
            <a:ext cx="8497800" cy="63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https://u.foxford.ngcdn.ru/uploads/tinymce_file/file/66245/78962956eb7a1ccb.png"/>
          <p:cNvPicPr/>
          <p:nvPr/>
        </p:nvPicPr>
        <p:blipFill>
          <a:blip r:embed="rId1"/>
          <a:stretch/>
        </p:blipFill>
        <p:spPr>
          <a:xfrm>
            <a:off x="38880" y="620640"/>
            <a:ext cx="910476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img3"/>
          <p:cNvPicPr/>
          <p:nvPr/>
        </p:nvPicPr>
        <p:blipFill>
          <a:blip r:embed="rId1"/>
          <a:stretch/>
        </p:blipFill>
        <p:spPr>
          <a:xfrm>
            <a:off x="4680" y="4680"/>
            <a:ext cx="9165240" cy="685296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3"/>
          <p:cNvSpPr/>
          <p:nvPr/>
        </p:nvSpPr>
        <p:spPr>
          <a:xfrm>
            <a:off x="4030200" y="6309360"/>
            <a:ext cx="12661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7,6 кД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Прямая со стрелкой 5"/>
          <p:cNvCxnSpPr/>
          <p:nvPr/>
        </p:nvCxnSpPr>
        <p:spPr>
          <a:xfrm flipV="1">
            <a:off x="4663440" y="404640"/>
            <a:ext cx="252360" cy="75636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09" name="Прямая со стрелкой 7"/>
          <p:cNvCxnSpPr/>
          <p:nvPr/>
        </p:nvCxnSpPr>
        <p:spPr>
          <a:xfrm>
            <a:off x="4587480" y="5085000"/>
            <a:ext cx="360" cy="122436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оугольник 1"/>
          <p:cNvSpPr/>
          <p:nvPr/>
        </p:nvSpPr>
        <p:spPr>
          <a:xfrm>
            <a:off x="323640" y="476640"/>
            <a:ext cx="8820000" cy="45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7000"/>
              </a:lnSpc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Домашнее зада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пройти тест на платформе видеоуроки по ссылк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28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  <a:hlinkClick r:id="rId1"/>
              </a:rPr>
              <a:t>https</a:t>
            </a:r>
            <a:r>
              <a:rPr b="1" lang="ru-RU" sz="28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  <a:hlinkClick r:id="rId2"/>
              </a:rPr>
              <a:t>://videouroki.net/tests/36107973/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писать реакции поликонденсации, идущие с образованием трипептид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1 вариан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гли-гли-ала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2 вариант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гли-ала-г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желанию подготовить презентацию по теме «Превращения белков в организм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Содержимое 3"/>
          <p:cNvSpPr/>
          <p:nvPr/>
        </p:nvSpPr>
        <p:spPr>
          <a:xfrm>
            <a:off x="2699640" y="2493000"/>
            <a:ext cx="3816000" cy="4301640"/>
          </a:xfrm>
          <a:prstGeom prst="ellipse">
            <a:avLst/>
          </a:prstGeom>
          <a:blipFill rotWithShape="0">
            <a:blip r:embed="rId1"/>
            <a:srcRect/>
            <a:stretch/>
          </a:blipFill>
          <a:ln cap="rnd" w="63500">
            <a:solidFill>
              <a:srgbClr val="333333"/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692640"/>
            <a:ext cx="925200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ни были выделены в отдельный класс биологических молекул в  XVIII веке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в результате работ французского химика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нтуана де Фуркруа и др. учёных. В то время были исследованы альбумин, фибрин и глютен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428920"/>
            <a:ext cx="514332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1836 году Геррит Ян Мульдер предложил первую модель химического строения этих веществ. Основываясь на теории радикалов, он после нескольких уточнений пришёл к выводу, что минимальная структурная единица обладает следующим составом: C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6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Содержимое 3"/>
          <p:cNvSpPr/>
          <p:nvPr/>
        </p:nvSpPr>
        <p:spPr>
          <a:xfrm>
            <a:off x="5292000" y="1196640"/>
            <a:ext cx="3739320" cy="4084560"/>
          </a:xfrm>
          <a:prstGeom prst="ellipse">
            <a:avLst/>
          </a:prstGeom>
          <a:blipFill rotWithShape="0">
            <a:blip r:embed="rId1"/>
            <a:srcRect/>
            <a:stretch/>
          </a:blipFill>
          <a:ln cap="rnd" w="63500">
            <a:solidFill>
              <a:srgbClr val="333333"/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640" y="2972520"/>
            <a:ext cx="489132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ту единицу он назвал «протеином»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от греч. протос — первый, первичный), а теорию — «теорией протеина». </a:t>
            </a:r>
            <a:br>
              <a:rPr sz="3200"/>
            </a:b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Содержимое 3"/>
          <p:cNvSpPr/>
          <p:nvPr/>
        </p:nvSpPr>
        <p:spPr>
          <a:xfrm>
            <a:off x="5071320" y="1196640"/>
            <a:ext cx="3888000" cy="4218120"/>
          </a:xfrm>
          <a:prstGeom prst="ellipse">
            <a:avLst/>
          </a:prstGeom>
          <a:blipFill rotWithShape="0">
            <a:blip r:embed="rId1"/>
            <a:srcRect/>
            <a:stretch/>
          </a:blipFill>
          <a:ln cap="rnd" w="63500">
            <a:solidFill>
              <a:srgbClr val="333333"/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 rot="10800000">
            <a:off x="8687160" y="6126480"/>
            <a:ext cx="45360" cy="45360"/>
          </a:xfrm>
          <a:prstGeom prst="rect">
            <a:avLst/>
          </a:prstGeom>
          <a:noFill/>
          <a:ln w="0">
            <a:noFill/>
          </a:ln>
        </p:spPr>
        <p:txBody>
          <a:bodyPr tIns="22680" bIns="22680" anchor="t">
            <a:norm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643120"/>
            <a:ext cx="4928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конце 1880-х гг. русский учёный А. Я. Данилевский отметил существование пептидных групп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-CO—NH-) в этих молекулах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Содержимое 3"/>
          <p:cNvSpPr/>
          <p:nvPr/>
        </p:nvSpPr>
        <p:spPr>
          <a:xfrm>
            <a:off x="4929120" y="1143000"/>
            <a:ext cx="3804840" cy="4756320"/>
          </a:xfrm>
          <a:prstGeom prst="ellipse">
            <a:avLst/>
          </a:prstGeom>
          <a:blipFill rotWithShape="0">
            <a:blip r:embed="rId1"/>
            <a:srcRect/>
            <a:stretch/>
          </a:blipFill>
          <a:ln cap="rnd" w="63500">
            <a:solidFill>
              <a:srgbClr val="333333"/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500200"/>
            <a:ext cx="600048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начале XX века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мецкий химик 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миль Фишер осуществил первый искусственный синтез этих веществ.</a:t>
            </a:r>
            <a:br>
              <a:rPr sz="3200"/>
            </a:b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Содержимое 3"/>
          <p:cNvSpPr/>
          <p:nvPr/>
        </p:nvSpPr>
        <p:spPr>
          <a:xfrm>
            <a:off x="5857920" y="785880"/>
            <a:ext cx="2920680" cy="4127040"/>
          </a:xfrm>
          <a:prstGeom prst="ellipse">
            <a:avLst/>
          </a:prstGeom>
          <a:blipFill rotWithShape="0">
            <a:blip r:embed="rId1"/>
            <a:srcRect/>
            <a:stretch/>
          </a:blipFill>
          <a:ln cap="rnd" w="63500">
            <a:solidFill>
              <a:srgbClr val="333333"/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1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9600" spc="-1" strike="noStrike">
                <a:solidFill>
                  <a:srgbClr val="990099"/>
                </a:solidFill>
                <a:latin typeface="Calibri"/>
              </a:rPr>
              <a:t>Белки - биополимеры</a:t>
            </a:r>
            <a:endParaRPr b="0" lang="ru-RU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Формула Мульдера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ru-RU" sz="4400" spc="-1" strike="noStrike" baseline="-25000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ru-RU" sz="4400" spc="-1" strike="noStrike" baseline="-25000">
                <a:solidFill>
                  <a:srgbClr val="000000"/>
                </a:solidFill>
                <a:latin typeface="Times New Roman"/>
              </a:rPr>
              <a:t>62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44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ru-RU" sz="4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637000"/>
            <a:ext cx="8229240" cy="422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остав молекул: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1-53%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1,5-23,5%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6,8-18,4%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,5-7,3%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0,3-2,5%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оугольник 3"/>
          <p:cNvSpPr/>
          <p:nvPr/>
        </p:nvSpPr>
        <p:spPr>
          <a:xfrm>
            <a:off x="3031920" y="3204360"/>
            <a:ext cx="475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4"/>
          <p:cNvSpPr/>
          <p:nvPr/>
        </p:nvSpPr>
        <p:spPr>
          <a:xfrm>
            <a:off x="3062520" y="3789000"/>
            <a:ext cx="4982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5"/>
          <p:cNvSpPr/>
          <p:nvPr/>
        </p:nvSpPr>
        <p:spPr>
          <a:xfrm>
            <a:off x="3074040" y="4373640"/>
            <a:ext cx="475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6"/>
          <p:cNvSpPr/>
          <p:nvPr/>
        </p:nvSpPr>
        <p:spPr>
          <a:xfrm>
            <a:off x="3031560" y="5031000"/>
            <a:ext cx="4982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7"/>
          <p:cNvSpPr/>
          <p:nvPr/>
        </p:nvSpPr>
        <p:spPr>
          <a:xfrm>
            <a:off x="3043080" y="5652000"/>
            <a:ext cx="406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3" descr=""/>
          <p:cNvPicPr/>
          <p:nvPr/>
        </p:nvPicPr>
        <p:blipFill>
          <a:blip r:embed="rId1"/>
          <a:stretch/>
        </p:blipFill>
        <p:spPr>
          <a:xfrm>
            <a:off x="179640" y="166680"/>
            <a:ext cx="8784720" cy="65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  <Words>260</Words>
  <Paragraphs>2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5T15:53:58Z</dcterms:created>
  <dc:creator>Ирина</dc:creator>
  <dc:description/>
  <dc:language>en-US</dc:language>
  <cp:lastModifiedBy>Елена</cp:lastModifiedBy>
  <dcterms:modified xsi:type="dcterms:W3CDTF">2023-03-21T16:46:56Z</dcterms:modified>
  <cp:revision>20</cp:revision>
  <dc:subject/>
  <dc:title>Впервые белок был получен (в виде клейковины) в 1728 г. итальянцем  Якопо Бартоломео Беккари из пшеничной муки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3</vt:r8>
  </property>
</Properties>
</file>