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EAA-BF66-4DA3-BFB9-349EC052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378-437D-45A0-B68D-81BF7B1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B9C-29EA-4514-A1A0-D9987F4F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2B7-602B-4F64-B3E7-8596911E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882-F0D3-4DF8-A67F-3E34957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553-B7AD-4C60-A98F-176D5EC5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12B-D3D3-42BE-879F-E14D2242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7F3-2FCD-4BD5-A058-FCD6CEB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100-3C31-4F59-BD8F-41A1C4B4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D7C-8AFF-40F7-AC14-E0B1A5D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D03-F200-4B4B-A146-56AD045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E6A-BB7A-4236-AF4B-EFEE4A8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02C-1FF2-4D1F-91DD-8E8A6EAF1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ТЕМА: «ИГРОВАЯ ДЕЯТЕЛЬНОСТЬ ВО 2 МЛАДШЕЙ ГРУПП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Игра- это искра, зажигающая огонек пытливости и любознательности.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В.А.Сухомл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В какие бы игры не играли ваши воспитанники, будьте не рядом, а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месте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с ними. Только партнерство и сотрудничество воспитателя с детьми в игре создает зону ближайшего развития самостоятельной игры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6144"/>
          <p:cNvPicPr/>
          <p:nvPr/>
        </p:nvPicPr>
        <p:blipFill>
          <a:blip r:embed="rId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«Игра – свободная, самостоятельная деятельность детей, где они используют все доступные им игровые средства, свободно объединяются и взаимодействуют друг с другом»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Концепция дошкольного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ЛАССИФИКАЦИЯ ИГР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 отечественной педагогике сложилась классификация детских игр, базирующаяся на степени самостоятельности и творчестве детей в игре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ервоначально к классификации детских игр по такому принципу подошел П.Ф. Лесгафт. Он разделил детские игры на 2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76284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.Ф. Лесгафту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2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митационные (подража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подвижные (игры с правил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922120"/>
            <a:ext cx="489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Н.К. Крупской игр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дел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на игры, придуманные самими детьми (творческие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гры,  придуманные взрослыми  (игры с правил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FORGETME"/>
          <p:cNvPicPr/>
          <p:nvPr/>
        </p:nvPicPr>
        <p:blipFill>
          <a:blip r:embed="rId2"/>
          <a:stretch/>
        </p:blipFill>
        <p:spPr>
          <a:xfrm>
            <a:off x="6588000" y="69228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FORGETME"/>
          <p:cNvPicPr/>
          <p:nvPr/>
        </p:nvPicPr>
        <p:blipFill>
          <a:blip r:embed="rId3"/>
          <a:stretch/>
        </p:blipFill>
        <p:spPr>
          <a:xfrm>
            <a:off x="1332000" y="4076640"/>
            <a:ext cx="113328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95280" y="549360"/>
          <a:ext cx="8280000" cy="5657760"/>
        </p:xfrm>
        <a:graphic>
          <a:graphicData uri="http://schemas.openxmlformats.org/drawingml/2006/table">
            <a:tbl>
              <a:tblPr/>
              <a:tblGrid>
                <a:gridCol w="4721760"/>
                <a:gridCol w="3558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южетно-ролевые творческие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гры с прави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на бытовые те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с производственной темати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роительные игры, иг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 природным материал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с общественно-политической темати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еатрализованны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– забавы и развлеч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дактически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с предметами и игрушк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овесные д/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стольно-печатны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узыкально-дидактически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южетны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ссюжетны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 элементами спортивных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следняя классификация, разработанная С.Л. Новоселовой психологический критерий инициативы, побуждающей к игре, позволяет выделить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3 класса иг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1. Игры, возникающие по инициативе ребенка – самостоятель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гра-экспериментирование и самостоятельные сюжетные игры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 (сюжетно-отобразительная, сюжетно-ролевая, режиссерская, театрализованн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2. Игры, обучающие, возникающие по инициативе взрослого,   внедряющего их с образовательной и воспитательной цел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(дидактические, сюжетно-дидактические, подвижны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осуговы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к которым следует отне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гры-забавы, игры-развлечения, интеллектуальные, празднично-карнавальные, театрально-постановоч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3. Игры, идущие от исторической инициативы этноса, - народные или традиционные, которые могут возникать в детской среде по предложению взрослого или более старших, уже знающих эти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традиционные или народные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144440" y="194400"/>
            <a:ext cx="6600960" cy="6478200"/>
            <a:chOff x="1144440" y="194400"/>
            <a:chExt cx="6600960" cy="6478200"/>
          </a:xfrm>
        </p:grpSpPr>
        <p:sp>
          <p:nvSpPr>
            <p:cNvPr id="60" name="_s56341"/>
            <p:cNvSpPr/>
            <p:nvPr/>
          </p:nvSpPr>
          <p:spPr>
            <a:xfrm flipH="1" flipV="1">
              <a:off x="3130200" y="2508480"/>
              <a:ext cx="65916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6340"/>
            <p:cNvSpPr/>
            <p:nvPr/>
          </p:nvSpPr>
          <p:spPr>
            <a:xfrm>
              <a:off x="1630080" y="114516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6339"/>
            <p:cNvSpPr/>
            <p:nvPr/>
          </p:nvSpPr>
          <p:spPr>
            <a:xfrm flipH="1">
              <a:off x="2804040" y="3745080"/>
              <a:ext cx="823320" cy="18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6338"/>
            <p:cNvSpPr/>
            <p:nvPr/>
          </p:nvSpPr>
          <p:spPr>
            <a:xfrm>
              <a:off x="1144440" y="3280320"/>
              <a:ext cx="1681560" cy="168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Ролев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(игровое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взаимодей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6337"/>
            <p:cNvSpPr/>
            <p:nvPr/>
          </p:nvSpPr>
          <p:spPr>
            <a:xfrm flipH="1">
              <a:off x="3714840" y="4313880"/>
              <a:ext cx="366480" cy="75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6336"/>
            <p:cNvSpPr/>
            <p:nvPr/>
          </p:nvSpPr>
          <p:spPr>
            <a:xfrm>
              <a:off x="2509560" y="499068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Роле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(игрово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дейст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6335"/>
            <p:cNvSpPr/>
            <p:nvPr/>
          </p:nvSpPr>
          <p:spPr>
            <a:xfrm>
              <a:off x="4808520" y="4313880"/>
              <a:ext cx="366480" cy="75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6334"/>
            <p:cNvSpPr/>
            <p:nvPr/>
          </p:nvSpPr>
          <p:spPr>
            <a:xfrm>
              <a:off x="4698720" y="499068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6333"/>
            <p:cNvSpPr/>
            <p:nvPr/>
          </p:nvSpPr>
          <p:spPr>
            <a:xfrm>
              <a:off x="5261400" y="3745080"/>
              <a:ext cx="823320" cy="18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56332"/>
            <p:cNvSpPr/>
            <p:nvPr/>
          </p:nvSpPr>
          <p:spPr>
            <a:xfrm>
              <a:off x="6063840" y="327816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Замысе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6331"/>
            <p:cNvSpPr/>
            <p:nvPr/>
          </p:nvSpPr>
          <p:spPr>
            <a:xfrm flipV="1">
              <a:off x="5099760" y="2508840"/>
              <a:ext cx="65916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6330"/>
            <p:cNvSpPr/>
            <p:nvPr/>
          </p:nvSpPr>
          <p:spPr>
            <a:xfrm>
              <a:off x="5576040" y="1143360"/>
              <a:ext cx="1681560" cy="168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Brush Script MT"/>
                </a:rPr>
                <a:t>Содерж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6329"/>
            <p:cNvSpPr/>
            <p:nvPr/>
          </p:nvSpPr>
          <p:spPr>
            <a:xfrm flipV="1">
              <a:off x="4444200" y="1875960"/>
              <a:ext cx="0" cy="84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6328"/>
            <p:cNvSpPr/>
            <p:nvPr/>
          </p:nvSpPr>
          <p:spPr>
            <a:xfrm>
              <a:off x="3602880" y="19440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Сюжет(тем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иг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56327"/>
            <p:cNvSpPr/>
            <p:nvPr/>
          </p:nvSpPr>
          <p:spPr>
            <a:xfrm>
              <a:off x="3602880" y="2719080"/>
              <a:ext cx="1681560" cy="168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Структу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элем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сюжетно-роле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иг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60012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римерная основная общеобразовательная программа «От рождения до школы»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од редакцией Н.Е.Вераксы, Т.С.Комаровой, М.А.Василье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правление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«Социально –личностн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Образовательная область «Социализ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LOWERS3"/>
          <p:cNvPicPr/>
          <p:nvPr/>
        </p:nvPicPr>
        <p:blipFill>
          <a:blip r:embed="rId3"/>
          <a:stretch/>
        </p:blipFill>
        <p:spPr>
          <a:xfrm>
            <a:off x="755640" y="5157720"/>
            <a:ext cx="936720" cy="87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FLOWERS3"/>
          <p:cNvPicPr/>
          <p:nvPr/>
        </p:nvPicPr>
        <p:blipFill>
          <a:blip r:embed="rId4"/>
          <a:stretch/>
        </p:blipFill>
        <p:spPr>
          <a:xfrm>
            <a:off x="7380360" y="5229360"/>
            <a:ext cx="936720" cy="879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BK00014_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476280"/>
            <a:ext cx="9142560" cy="6048000"/>
            <a:chOff x="0" y="476280"/>
            <a:chExt cx="9142560" cy="6048000"/>
          </a:xfrm>
        </p:grpSpPr>
        <p:cxnSp>
          <p:nvCxnSpPr>
            <p:cNvPr id="85" name="_s48146"/>
            <p:cNvCxnSpPr>
              <a:stCxn id="86" idx="3"/>
              <a:endCxn id="87" idx="2"/>
            </p:cNvCxnSpPr>
            <p:nvPr/>
          </p:nvCxnSpPr>
          <p:spPr>
            <a:xfrm flipV="1">
              <a:off x="5485320" y="1339920"/>
              <a:ext cx="914760" cy="475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48142"/>
            <p:cNvCxnSpPr>
              <a:stCxn id="89" idx="3"/>
              <a:endCxn id="87" idx="2"/>
            </p:cNvCxnSpPr>
            <p:nvPr/>
          </p:nvCxnSpPr>
          <p:spPr>
            <a:xfrm flipV="1">
              <a:off x="5485320" y="1339920"/>
              <a:ext cx="914760" cy="345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48141"/>
            <p:cNvCxnSpPr>
              <a:stCxn id="91" idx="3"/>
              <a:endCxn id="87" idx="2"/>
            </p:cNvCxnSpPr>
            <p:nvPr/>
          </p:nvCxnSpPr>
          <p:spPr>
            <a:xfrm flipV="1">
              <a:off x="5485320" y="1339920"/>
              <a:ext cx="914760" cy="216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48140"/>
            <p:cNvCxnSpPr>
              <a:stCxn id="93" idx="3"/>
              <a:endCxn id="87" idx="2"/>
            </p:cNvCxnSpPr>
            <p:nvPr/>
          </p:nvCxnSpPr>
          <p:spPr>
            <a:xfrm flipV="1">
              <a:off x="5485320" y="1339920"/>
              <a:ext cx="914760" cy="8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48136"/>
            <p:cNvSpPr/>
            <p:nvPr/>
          </p:nvSpPr>
          <p:spPr>
            <a:xfrm>
              <a:off x="3656880" y="476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Развитие игров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деятельности во 2 младшей групп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48137"/>
            <p:cNvSpPr/>
            <p:nvPr/>
          </p:nvSpPr>
          <p:spPr>
            <a:xfrm>
              <a:off x="0" y="1772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Сюжетно-роле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8138"/>
            <p:cNvSpPr/>
            <p:nvPr/>
          </p:nvSpPr>
          <p:spPr>
            <a:xfrm>
              <a:off x="0" y="3068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Подвижные 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8139"/>
            <p:cNvSpPr/>
            <p:nvPr/>
          </p:nvSpPr>
          <p:spPr>
            <a:xfrm>
              <a:off x="0" y="4364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Тетрализованные 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8145"/>
            <p:cNvSpPr/>
            <p:nvPr/>
          </p:nvSpPr>
          <p:spPr>
            <a:xfrm>
              <a:off x="0" y="5660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Дидактические 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0" descr="GPOPPY"/>
            <p:cNvPicPr/>
            <p:nvPr/>
          </p:nvPicPr>
          <p:blipFill>
            <a:blip r:embed="rId1"/>
            <a:stretch/>
          </p:blipFill>
          <p:spPr>
            <a:xfrm>
              <a:off x="6660360" y="3068280"/>
              <a:ext cx="1897560" cy="24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41:29Z</dcterms:created>
  <dc:creator>home</dc:creator>
  <dc:description/>
  <dc:language>en-US</dc:language>
  <cp:lastModifiedBy>home</cp:lastModifiedBy>
  <dcterms:modified xsi:type="dcterms:W3CDTF">2012-02-01T12:14:27Z</dcterms:modified>
  <cp:revision>3</cp:revision>
  <dc:subject/>
  <dc:title>ТЕМА: «ИГРОВАЯ ДЕЯТЕЛЬНОСТЬ ВО 2 МЛАДШЕЙ ГРУППЕ»</dc:title>
</cp:coreProperties>
</file>