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F6CB-E128-4EA0-B253-F1E62FAC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B69F-585E-4501-AE07-D88EE38C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2E3F-85FC-498E-9111-D79EC616B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A4B7-68F0-464D-A7CC-A8174CBF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AEA3-1D82-44D4-95D0-5D490185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77D2-DBFD-4DEB-BA13-E2B9723A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F249-F5FC-4B86-8E98-FD7FC586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A33F-5F7D-49CD-89E3-6FCF5C1C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8DAB-DA3E-4E7A-8071-20134BC9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F575-051F-4AF5-B857-D976E718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2E5A-5857-4962-A930-CAF39660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07E4-6F87-4663-8531-2B0D7F9A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CF7A-C39D-42C3-B45F-568D2D43DB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фон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24000" y="1773360"/>
            <a:ext cx="46785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ТЕМА: «ИГРОВАЯ ДЕЯТЕЛЬНОСТЬ ВО 2 МЛАДШЕЙ ГРУПП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7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00"/>
                </a:solidFill>
                <a:latin typeface="Times New Roman"/>
              </a:rPr>
              <a:t>Игра- это искра, зажигающая огонек пытливости и любознательности.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В.А.Сухомлин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7" descr="BK00014_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7" descr="BK00014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В какие бы игры не играли ваши воспитанники, будьте не рядом, а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вместе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с ними. Только партнерство и сотрудничество воспитателя с детьми в игре создает зону ближайшего развития самостоятельной игры дет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7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BK00014_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6144"/>
          <p:cNvPicPr/>
          <p:nvPr/>
        </p:nvPicPr>
        <p:blipFill>
          <a:blip r:embed="rId3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«Игра – свободная, самостоятельная деятельность детей, где они используют все доступные им игровые средства, свободно объединяются и взаимодействуют друг с другом»</a:t>
            </a:r>
            <a:br>
              <a:rPr sz="36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(Концепция дошкольного образов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КЛАССИФИКАЦИЯ ИГР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В отечественной педагогике сложилась классификация детских игр, базирующаяся на степени самостоятельности и творчестве детей в игре.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Первоначально к классификации детских игр по такому принципу подошел П.Ф. Лесгафт. Он разделил детские игры на 2 групп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BK00014_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762840"/>
            <a:ext cx="511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По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.Ф. Лесгафту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2 групп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имитационные (подражатель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подвижные (игры с правила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2922120"/>
            <a:ext cx="4897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По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Н.К. Крупской игры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деля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на игры, придуманные самими детьми (творческие игр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игры,  придуманные взрослыми  (игры с правила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4" descr="FORGETME"/>
          <p:cNvPicPr/>
          <p:nvPr/>
        </p:nvPicPr>
        <p:blipFill>
          <a:blip r:embed="rId2"/>
          <a:stretch/>
        </p:blipFill>
        <p:spPr>
          <a:xfrm>
            <a:off x="6588000" y="692280"/>
            <a:ext cx="1133640" cy="1811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FORGETME"/>
          <p:cNvPicPr/>
          <p:nvPr/>
        </p:nvPicPr>
        <p:blipFill>
          <a:blip r:embed="rId3"/>
          <a:stretch/>
        </p:blipFill>
        <p:spPr>
          <a:xfrm>
            <a:off x="1332000" y="4076640"/>
            <a:ext cx="1133280" cy="1811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7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395280" y="549360"/>
          <a:ext cx="8280000" cy="5657760"/>
        </p:xfrm>
        <a:graphic>
          <a:graphicData uri="http://schemas.openxmlformats.org/drawingml/2006/table">
            <a:tbl>
              <a:tblPr/>
              <a:tblGrid>
                <a:gridCol w="4721760"/>
                <a:gridCol w="35582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Сюжетно-ролевые творческие иг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Игры с правил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Игры на бытовые тем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Игры с производственной тематико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троительные игры, игр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 природным материало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Игры с общественно-политической тематико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еатрализованные игр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Игры – забавы и развлече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идактические игр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Игры с предметами и игрушкам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ловесные д/игр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астольно-печатные игр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узыкально-дидактические игр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южетны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Бессюжетны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 элементами спортивных и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оследняя классификация, разработанная С.Л. Новоселовой психологический критерий инициативы, побуждающей к игре, позволяет выделить </a:t>
            </a:r>
            <a:r>
              <a:rPr b="1" i="1" lang="ru-RU" sz="2000" spc="-1" strike="noStrike">
                <a:solidFill>
                  <a:srgbClr val="ff3300"/>
                </a:solidFill>
                <a:latin typeface="Times New Roman"/>
              </a:rPr>
              <a:t>3 класса иг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1. Игры, возникающие по инициативе ребенка – самостоятельные иг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игра-экспериментирование и самостоятельные сюжетные игры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: (сюжетно-отобразительная, сюжетно-ролевая, режиссерская, театрализованна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2. Игры, обучающие, возникающие по инициативе взрослого,   внедряющего их с образовательной и воспитательной цель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(дидактические, сюжетно-дидактические, подвижные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досуговые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, к которым следует отнести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игры-забавы, игры-развлечения, интеллектуальные, празднично-карнавальные, театрально-постановочны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3. Игры, идущие от исторической инициативы этноса, - народные или традиционные, которые могут возникать в детской среде по предложению взрослого или более старших, уже знающих эти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- традиционные или народные</a:t>
            </a: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7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144440" y="194400"/>
            <a:ext cx="6600960" cy="6478200"/>
            <a:chOff x="1144440" y="194400"/>
            <a:chExt cx="6600960" cy="6478200"/>
          </a:xfrm>
        </p:grpSpPr>
        <p:sp>
          <p:nvSpPr>
            <p:cNvPr id="60" name="_s56341"/>
            <p:cNvSpPr/>
            <p:nvPr/>
          </p:nvSpPr>
          <p:spPr>
            <a:xfrm flipH="1" flipV="1">
              <a:off x="3130200" y="2508480"/>
              <a:ext cx="659160" cy="52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56340"/>
            <p:cNvSpPr/>
            <p:nvPr/>
          </p:nvSpPr>
          <p:spPr>
            <a:xfrm>
              <a:off x="1630080" y="1145160"/>
              <a:ext cx="1681560" cy="1681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Правил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56339"/>
            <p:cNvSpPr/>
            <p:nvPr/>
          </p:nvSpPr>
          <p:spPr>
            <a:xfrm flipH="1">
              <a:off x="2804040" y="3745080"/>
              <a:ext cx="823320" cy="18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56338"/>
            <p:cNvSpPr/>
            <p:nvPr/>
          </p:nvSpPr>
          <p:spPr>
            <a:xfrm>
              <a:off x="1144440" y="3280320"/>
              <a:ext cx="1681560" cy="1681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Ролево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(игровое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взаимодейств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56337"/>
            <p:cNvSpPr/>
            <p:nvPr/>
          </p:nvSpPr>
          <p:spPr>
            <a:xfrm flipH="1">
              <a:off x="3714840" y="4313880"/>
              <a:ext cx="366480" cy="759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56336"/>
            <p:cNvSpPr/>
            <p:nvPr/>
          </p:nvSpPr>
          <p:spPr>
            <a:xfrm>
              <a:off x="2509560" y="4990680"/>
              <a:ext cx="1681560" cy="1681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Ролево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(игровое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действ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56335"/>
            <p:cNvSpPr/>
            <p:nvPr/>
          </p:nvSpPr>
          <p:spPr>
            <a:xfrm>
              <a:off x="4808520" y="4313880"/>
              <a:ext cx="366480" cy="759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56334"/>
            <p:cNvSpPr/>
            <p:nvPr/>
          </p:nvSpPr>
          <p:spPr>
            <a:xfrm>
              <a:off x="4698720" y="4990680"/>
              <a:ext cx="1681560" cy="1681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Ро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56333"/>
            <p:cNvSpPr/>
            <p:nvPr/>
          </p:nvSpPr>
          <p:spPr>
            <a:xfrm>
              <a:off x="5261400" y="3745080"/>
              <a:ext cx="823320" cy="18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56332"/>
            <p:cNvSpPr/>
            <p:nvPr/>
          </p:nvSpPr>
          <p:spPr>
            <a:xfrm>
              <a:off x="6063840" y="3278160"/>
              <a:ext cx="1681560" cy="1681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Замысе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56331"/>
            <p:cNvSpPr/>
            <p:nvPr/>
          </p:nvSpPr>
          <p:spPr>
            <a:xfrm flipV="1">
              <a:off x="5099760" y="2508840"/>
              <a:ext cx="659160" cy="52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56330"/>
            <p:cNvSpPr/>
            <p:nvPr/>
          </p:nvSpPr>
          <p:spPr>
            <a:xfrm>
              <a:off x="5576040" y="1143360"/>
              <a:ext cx="1681560" cy="1681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Brush Script MT"/>
                </a:rPr>
                <a:t>Содерж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56329"/>
            <p:cNvSpPr/>
            <p:nvPr/>
          </p:nvSpPr>
          <p:spPr>
            <a:xfrm flipV="1">
              <a:off x="4444200" y="1875960"/>
              <a:ext cx="0" cy="84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56328"/>
            <p:cNvSpPr/>
            <p:nvPr/>
          </p:nvSpPr>
          <p:spPr>
            <a:xfrm>
              <a:off x="3602880" y="194400"/>
              <a:ext cx="1681560" cy="1681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Сюжет(тема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иг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56327"/>
            <p:cNvSpPr/>
            <p:nvPr/>
          </p:nvSpPr>
          <p:spPr>
            <a:xfrm>
              <a:off x="3602880" y="2719080"/>
              <a:ext cx="1681560" cy="1681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Структур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элемен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сюжетно-ролев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игр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Picture 5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7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00000" y="60012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7" descr="BK00014_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Примерная основная общеобразовательная программа «От рождения до школы»</a:t>
            </a:r>
            <a:br>
              <a:rPr sz="3600"/>
            </a:b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Под редакцией Н.Е.Вераксы, Т.С.Комаровой, М.А.Василье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Направление 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«Социально –личностное развит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Образовательная область «Социализац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FLOWERS3"/>
          <p:cNvPicPr/>
          <p:nvPr/>
        </p:nvPicPr>
        <p:blipFill>
          <a:blip r:embed="rId3"/>
          <a:stretch/>
        </p:blipFill>
        <p:spPr>
          <a:xfrm>
            <a:off x="755640" y="5157720"/>
            <a:ext cx="936720" cy="879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FLOWERS3"/>
          <p:cNvPicPr/>
          <p:nvPr/>
        </p:nvPicPr>
        <p:blipFill>
          <a:blip r:embed="rId4"/>
          <a:stretch/>
        </p:blipFill>
        <p:spPr>
          <a:xfrm>
            <a:off x="7380360" y="5229360"/>
            <a:ext cx="936720" cy="879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7" descr="BK00014_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476280"/>
            <a:ext cx="9142560" cy="6048000"/>
            <a:chOff x="0" y="476280"/>
            <a:chExt cx="9142560" cy="6048000"/>
          </a:xfrm>
        </p:grpSpPr>
        <p:cxnSp>
          <p:nvCxnSpPr>
            <p:cNvPr id="85" name="_s48146"/>
            <p:cNvCxnSpPr>
              <a:stCxn id="86" idx="3"/>
              <a:endCxn id="87" idx="2"/>
            </p:cNvCxnSpPr>
            <p:nvPr/>
          </p:nvCxnSpPr>
          <p:spPr>
            <a:xfrm flipV="1">
              <a:off x="5485320" y="1339920"/>
              <a:ext cx="914760" cy="4752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" name="_s48142"/>
            <p:cNvCxnSpPr>
              <a:stCxn id="89" idx="3"/>
              <a:endCxn id="87" idx="2"/>
            </p:cNvCxnSpPr>
            <p:nvPr/>
          </p:nvCxnSpPr>
          <p:spPr>
            <a:xfrm flipV="1">
              <a:off x="5485320" y="1339920"/>
              <a:ext cx="914760" cy="3456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0" name="_s48141"/>
            <p:cNvCxnSpPr>
              <a:stCxn id="91" idx="3"/>
              <a:endCxn id="87" idx="2"/>
            </p:cNvCxnSpPr>
            <p:nvPr/>
          </p:nvCxnSpPr>
          <p:spPr>
            <a:xfrm flipV="1">
              <a:off x="5485320" y="1339920"/>
              <a:ext cx="914760" cy="2160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48140"/>
            <p:cNvCxnSpPr>
              <a:stCxn id="93" idx="3"/>
              <a:endCxn id="87" idx="2"/>
            </p:cNvCxnSpPr>
            <p:nvPr/>
          </p:nvCxnSpPr>
          <p:spPr>
            <a:xfrm flipV="1">
              <a:off x="5485320" y="1339920"/>
              <a:ext cx="914760" cy="864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7" name="_s48136"/>
            <p:cNvSpPr/>
            <p:nvPr/>
          </p:nvSpPr>
          <p:spPr>
            <a:xfrm>
              <a:off x="3656880" y="476280"/>
              <a:ext cx="5485680" cy="864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Развитие игрово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деятельности во 2 младшей групп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48137"/>
            <p:cNvSpPr/>
            <p:nvPr/>
          </p:nvSpPr>
          <p:spPr>
            <a:xfrm>
              <a:off x="0" y="1772280"/>
              <a:ext cx="5485680" cy="864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Сюжетно-ролев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иг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48138"/>
            <p:cNvSpPr/>
            <p:nvPr/>
          </p:nvSpPr>
          <p:spPr>
            <a:xfrm>
              <a:off x="0" y="3068280"/>
              <a:ext cx="5485680" cy="864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Подвижные иг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48139"/>
            <p:cNvSpPr/>
            <p:nvPr/>
          </p:nvSpPr>
          <p:spPr>
            <a:xfrm>
              <a:off x="0" y="4364280"/>
              <a:ext cx="5485680" cy="864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Тетрализованные иг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48145"/>
            <p:cNvSpPr/>
            <p:nvPr/>
          </p:nvSpPr>
          <p:spPr>
            <a:xfrm>
              <a:off x="0" y="5660280"/>
              <a:ext cx="5485680" cy="864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Дидактические иг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Picture 10" descr="GPOPPY"/>
            <p:cNvPicPr/>
            <p:nvPr/>
          </p:nvPicPr>
          <p:blipFill>
            <a:blip r:embed="rId1"/>
            <a:stretch/>
          </p:blipFill>
          <p:spPr>
            <a:xfrm>
              <a:off x="6660360" y="3068280"/>
              <a:ext cx="1897560" cy="244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5" name="Picture 5" descr="BK00014_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0:41:29Z</dcterms:created>
  <dc:creator>home</dc:creator>
  <dc:description/>
  <dc:language>en-US</dc:language>
  <cp:lastModifiedBy>home</cp:lastModifiedBy>
  <dcterms:modified xsi:type="dcterms:W3CDTF">2012-02-01T12:14:27Z</dcterms:modified>
  <cp:revision>3</cp:revision>
  <dc:subject/>
  <dc:title>ТЕМА: «ИГРОВАЯ ДЕЯТЕЛЬНОСТЬ ВО 2 МЛАДШЕЙ ГРУППЕ»</dc:title>
</cp:coreProperties>
</file>