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936B-2192-4FE2-882B-E1BBD3566CB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82B0-FCF7-4C00-8220-EE12C2E06C7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рабочем поле щелкаем по выбранным учениками вариантам (например Полководцы – 10), происходит переход на поле вопроса, после ответа учеников, нажмите на кнопку Ответ, кнопка исчезнет вместе с правильным ответом ( либо чер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ter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и появится кнопка для перехода к игровому полю для продолжения игры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93E1-6D03-4E6C-B3B0-447E79C7628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B90A-A62C-41C5-8171-13666688118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938C-4EF5-41A6-852E-A02B63B107D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дополнительно задать вопрос, а какие еще произведения Крылова посвящены Отечественной войн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т и повар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о назначении М.И. Кутузова командующим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Ворона и курица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голодные французы в Москв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Волк на псарне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пребывание Наполеона в Москв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Собачья дружба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Венский конгресс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“Чиж и Ёж”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(восхваление Александра I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D4D1-464D-468C-8083-FE69D438DA3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2094-CAB2-4C3F-96E9-98BBA5469F4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старый стиль – по новому 24-го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DFCF-E4D4-4798-8BD4-A8050203709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начале войны император был главнокомандующим русской армие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749-0F5B-4756-B7B0-1BD4487E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8E6-47D5-428A-A9BF-BC270EE2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EF0-23D1-46CB-8325-0D01126D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1A2-74BE-484E-8EED-993F7E3C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D69E-CA38-4ED8-82D1-1920FA9C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DF12-0579-47BB-9DE2-829869C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B4F1-CD53-4B58-8C39-3CAF710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2290-CC13-486E-863C-31F16232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3C08-32D8-48E6-8A9B-9F365E9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33D9-37F1-4E72-B238-82FB6E2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8053-4646-4FF1-9768-03A93879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DE6-2148-401C-B527-072D8EB8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85B7-F270-48F9-B5E1-1C56220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BEF9-C864-4712-9BCD-4CE758D8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D8CA-2E11-43BE-ADF6-91030157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DD5F-F42F-446C-BAA3-F324CAD7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A7E7-B624-4419-8DFD-B23904BE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24B-49AE-4E19-B0BB-28E2AEBC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4AA-543F-460E-A02B-3A17D008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2FC-5A07-4363-9C87-41D2843A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DFC-B433-4595-96DC-162184C0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DDB-467C-48DF-8AEF-E61A973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3CD-4AA8-4A62-9B3C-06292BD9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05F-4D0F-487C-98F0-3FF3D22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DFC-1F4E-4C92-8251-9718E125EA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3365-A97A-490F-A9EC-0EB9784BD7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image" Target="../media/image8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image" Target="../media/image8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5.xml"/><Relationship Id="rId4" Type="http://schemas.openxmlformats.org/officeDocument/2006/relationships/slide" Target="slide21.xml"/><Relationship Id="rId5" Type="http://schemas.openxmlformats.org/officeDocument/2006/relationships/slide" Target="slide4.xml"/><Relationship Id="rId6" Type="http://schemas.openxmlformats.org/officeDocument/2006/relationships/slide" Target="slide10.xml"/><Relationship Id="rId7" Type="http://schemas.openxmlformats.org/officeDocument/2006/relationships/slide" Target="slide16.xml"/><Relationship Id="rId8" Type="http://schemas.openxmlformats.org/officeDocument/2006/relationships/slide" Target="slide22.xml"/><Relationship Id="rId9" Type="http://schemas.openxmlformats.org/officeDocument/2006/relationships/slide" Target="slide5.xml"/><Relationship Id="rId10" Type="http://schemas.openxmlformats.org/officeDocument/2006/relationships/slide" Target="slide11.xml"/><Relationship Id="rId11" Type="http://schemas.openxmlformats.org/officeDocument/2006/relationships/slide" Target="slide17.xml"/><Relationship Id="rId12" Type="http://schemas.openxmlformats.org/officeDocument/2006/relationships/slide" Target="slide23.xml"/><Relationship Id="rId13" Type="http://schemas.openxmlformats.org/officeDocument/2006/relationships/slide" Target="slide6.xml"/><Relationship Id="rId14" Type="http://schemas.openxmlformats.org/officeDocument/2006/relationships/slide" Target="slide12.xml"/><Relationship Id="rId15" Type="http://schemas.openxmlformats.org/officeDocument/2006/relationships/slide" Target="slide18.xml"/><Relationship Id="rId16" Type="http://schemas.openxmlformats.org/officeDocument/2006/relationships/slide" Target="slide24.xml"/><Relationship Id="rId17" Type="http://schemas.openxmlformats.org/officeDocument/2006/relationships/slide" Target="slide7.xml"/><Relationship Id="rId18" Type="http://schemas.openxmlformats.org/officeDocument/2006/relationships/slide" Target="slide13.xml"/><Relationship Id="rId19" Type="http://schemas.openxmlformats.org/officeDocument/2006/relationships/slide" Target="slide19.xml"/><Relationship Id="rId20" Type="http://schemas.openxmlformats.org/officeDocument/2006/relationships/slide" Target="slide25.xml"/><Relationship Id="rId21" Type="http://schemas.openxmlformats.org/officeDocument/2006/relationships/slide" Target="slide8.xml"/><Relationship Id="rId22" Type="http://schemas.openxmlformats.org/officeDocument/2006/relationships/slide" Target="slide14.xml"/><Relationship Id="rId23" Type="http://schemas.openxmlformats.org/officeDocument/2006/relationships/slide" Target="slide20.xml"/><Relationship Id="rId24" Type="http://schemas.openxmlformats.org/officeDocument/2006/relationships/slide" Target="slide26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9"/>
          <p:cNvGrpSpPr/>
          <p:nvPr/>
        </p:nvGrpSpPr>
        <p:grpSpPr>
          <a:xfrm>
            <a:off x="463680" y="4505400"/>
            <a:ext cx="8143920" cy="1189080"/>
            <a:chOff x="463680" y="4505400"/>
            <a:chExt cx="8143920" cy="1189080"/>
          </a:xfrm>
        </p:grpSpPr>
        <p:pic>
          <p:nvPicPr>
            <p:cNvPr id="99" name="Rectangle 9" descr=""/>
            <p:cNvPicPr/>
            <p:nvPr/>
          </p:nvPicPr>
          <p:blipFill>
            <a:blip r:embed="rId1"/>
            <a:stretch/>
          </p:blipFill>
          <p:spPr>
            <a:xfrm>
              <a:off x="463680" y="4505400"/>
              <a:ext cx="81439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66560" y="4508640"/>
              <a:ext cx="813780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c00000"/>
                  </a:solidFill>
                  <a:latin typeface="Arial"/>
                </a:rPr>
                <a:t>Великая Отечественная война 1941 - 1945 гг.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" name="AutoShape 10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d0d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56120" y="6043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305080" y="-73080"/>
            <a:ext cx="4503600" cy="156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3"/>
          <a:stretch/>
        </p:blipFill>
        <p:spPr>
          <a:xfrm>
            <a:off x="2122560" y="1039680"/>
            <a:ext cx="518328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81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Text Box 5"/>
          <p:cNvSpPr/>
          <p:nvPr/>
        </p:nvSpPr>
        <p:spPr>
          <a:xfrm>
            <a:off x="468360" y="5713560"/>
            <a:ext cx="59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еоргий Константинович Жу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492360" y="148428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етскими войсками в битве под Москвой командова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86" name="Oval 7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88" name="Picture 10" descr=""/>
          <p:cNvPicPr/>
          <p:nvPr/>
        </p:nvPicPr>
        <p:blipFill>
          <a:blip r:embed="rId5"/>
          <a:stretch/>
        </p:blipFill>
        <p:spPr>
          <a:xfrm>
            <a:off x="727200" y="1658880"/>
            <a:ext cx="2728800" cy="36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олковод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87480" y="61498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.М. Василевс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611520" y="1989000"/>
            <a:ext cx="5183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ающийся советский военачальник Маршал Советского Союза (1943 г.), начальник Генштаба, член Ставки Верховного Главнокомандовани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0dae2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d0dae2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3"/>
          <a:stretch/>
        </p:blipFill>
        <p:spPr>
          <a:xfrm>
            <a:off x="539640" y="1581120"/>
            <a:ext cx="251136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99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" name="Text Box 5"/>
          <p:cNvSpPr/>
          <p:nvPr/>
        </p:nvSpPr>
        <p:spPr>
          <a:xfrm>
            <a:off x="539640" y="57942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. Д. Черняховски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833640" y="1773360"/>
            <a:ext cx="52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начале Великой Отечественной войны командовал 28 -й танковой, затем 241 - й стрелковой дивизиями на Северо-Западном фронте, командующий войсками Западного и 3 – го Белорусского фрон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04" name="Oval 7" descr=""/>
            <p:cNvPicPr/>
            <p:nvPr/>
          </p:nvPicPr>
          <p:blipFill>
            <a:blip r:embed="rId4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4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06" name="Picture 9" descr=""/>
          <p:cNvPicPr/>
          <p:nvPr/>
        </p:nvPicPr>
        <p:blipFill>
          <a:blip r:embed="rId5"/>
          <a:stretch/>
        </p:blipFill>
        <p:spPr>
          <a:xfrm>
            <a:off x="782640" y="1206360"/>
            <a:ext cx="2709720" cy="4383360"/>
          </a:xfrm>
          <a:prstGeom prst="rect">
            <a:avLst/>
          </a:prstGeom>
          <a:ln w="0">
            <a:noFill/>
          </a:ln>
        </p:spPr>
      </p:pic>
      <p:grpSp>
        <p:nvGrpSpPr>
          <p:cNvPr id="207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08" name="Oval 7" descr=""/>
            <p:cNvPicPr/>
            <p:nvPr/>
          </p:nvPicPr>
          <p:blipFill>
            <a:blip r:embed="rId6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4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211" name="AutoShape 4" descr=""/>
            <p:cNvPicPr/>
            <p:nvPr/>
          </p:nvPicPr>
          <p:blipFill>
            <a:blip r:embed="rId1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3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14" name="Oval 7" descr=""/>
            <p:cNvPicPr/>
            <p:nvPr/>
          </p:nvPicPr>
          <p:blipFill>
            <a:blip r:embed="rId2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5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6" name="Прямоугольник 6"/>
          <p:cNvSpPr/>
          <p:nvPr/>
        </p:nvSpPr>
        <p:spPr>
          <a:xfrm>
            <a:off x="395280" y="141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 стороны СССР - Сталинградский фронт, созданный 12.07.42 года, под командованием сначала маршала Тимошенко, с 23.07.42 - генерала-лейтенанта Гордова, а с 09.08.42 - генерала-полковника … Как его фамилия?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539640" y="59562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ременк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3">
            <a:hlinkClick r:id="rId3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221" name="AutoShape 4" descr=""/>
            <p:cNvPicPr/>
            <p:nvPr/>
          </p:nvPicPr>
          <p:blipFill>
            <a:blip r:embed="rId1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24" name="Oval 7" descr=""/>
            <p:cNvPicPr/>
            <p:nvPr/>
          </p:nvPicPr>
          <p:blipFill>
            <a:blip r:embed="rId2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6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>
            <a:hlinkClick r:id="rId3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2843280" y="1341360"/>
            <a:ext cx="521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ьшую известность получили его слов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Я солдат на маршалов не меняю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му они принадлежат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21" descr="D:\Data\PortretsR1\1078.bmp"/>
          <p:cNvPicPr/>
          <p:nvPr/>
        </p:nvPicPr>
        <p:blipFill>
          <a:blip r:embed="rId5"/>
          <a:stretch/>
        </p:blipFill>
        <p:spPr>
          <a:xfrm>
            <a:off x="611280" y="1171440"/>
            <a:ext cx="2328840" cy="3880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425520" y="5886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алин И.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" name="AutoShape 3"/>
          <p:cNvGrpSpPr/>
          <p:nvPr/>
        </p:nvGrpSpPr>
        <p:grpSpPr>
          <a:xfrm>
            <a:off x="7394400" y="5735520"/>
            <a:ext cx="1584360" cy="750960"/>
            <a:chOff x="7394400" y="5735520"/>
            <a:chExt cx="1584360" cy="750960"/>
          </a:xfrm>
        </p:grpSpPr>
        <p:pic>
          <p:nvPicPr>
            <p:cNvPr id="233" name="AutoShape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94400" y="5735520"/>
              <a:ext cx="1584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451640" y="5805360"/>
              <a:ext cx="14749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36" name="AutoShape 4" descr=""/>
            <p:cNvPicPr/>
            <p:nvPr/>
          </p:nvPicPr>
          <p:blipFill>
            <a:blip r:embed="rId4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8" name="Text Box 5"/>
          <p:cNvSpPr/>
          <p:nvPr/>
        </p:nvSpPr>
        <p:spPr>
          <a:xfrm>
            <a:off x="507960" y="5492880"/>
            <a:ext cx="561672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Ракетные минометы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495760" y="2557440"/>
            <a:ext cx="32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Катюшами» называли в годы войн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241" name="Oval 7" descr=""/>
            <p:cNvPicPr/>
            <p:nvPr/>
          </p:nvPicPr>
          <p:blipFill>
            <a:blip r:embed="rId5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3" name="Picture 8" descr=""/>
          <p:cNvPicPr/>
          <p:nvPr/>
        </p:nvPicPr>
        <p:blipFill>
          <a:blip r:embed="rId6"/>
          <a:stretch/>
        </p:blipFill>
        <p:spPr>
          <a:xfrm>
            <a:off x="395280" y="2133720"/>
            <a:ext cx="4835520" cy="26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AutoShape 3"/>
          <p:cNvGrpSpPr/>
          <p:nvPr/>
        </p:nvGrpSpPr>
        <p:grpSpPr>
          <a:xfrm>
            <a:off x="7394400" y="5735520"/>
            <a:ext cx="1584360" cy="750960"/>
            <a:chOff x="7394400" y="5735520"/>
            <a:chExt cx="1584360" cy="750960"/>
          </a:xfrm>
        </p:grpSpPr>
        <p:pic>
          <p:nvPicPr>
            <p:cNvPr id="246" name="AutoShape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94400" y="5735520"/>
              <a:ext cx="1584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451640" y="5805360"/>
              <a:ext cx="14749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49" name="AutoShape 4" descr=""/>
            <p:cNvPicPr/>
            <p:nvPr/>
          </p:nvPicPr>
          <p:blipFill>
            <a:blip r:embed="rId4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" name="Text Box 5"/>
          <p:cNvSpPr/>
          <p:nvPr/>
        </p:nvSpPr>
        <p:spPr>
          <a:xfrm>
            <a:off x="395280" y="5516640"/>
            <a:ext cx="56167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енд-лиз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07960" y="2276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 оказания Соединенными Штатами Америки помощи союзникам путем поставок техники и продовольствия называлас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3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254" name="Oval 7" descr=""/>
            <p:cNvPicPr/>
            <p:nvPr/>
          </p:nvPicPr>
          <p:blipFill>
            <a:blip r:embed="rId5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AutoShape 3"/>
          <p:cNvGrpSpPr/>
          <p:nvPr/>
        </p:nvGrpSpPr>
        <p:grpSpPr>
          <a:xfrm>
            <a:off x="7394400" y="5735520"/>
            <a:ext cx="1584360" cy="750960"/>
            <a:chOff x="7394400" y="5735520"/>
            <a:chExt cx="1584360" cy="750960"/>
          </a:xfrm>
        </p:grpSpPr>
        <p:pic>
          <p:nvPicPr>
            <p:cNvPr id="258" name="AutoShape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94400" y="5735520"/>
              <a:ext cx="1584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451640" y="5805360"/>
              <a:ext cx="14749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61" name="AutoShape 4" descr=""/>
            <p:cNvPicPr/>
            <p:nvPr/>
          </p:nvPicPr>
          <p:blipFill>
            <a:blip r:embed="rId4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" name="Text Box 5"/>
          <p:cNvSpPr/>
          <p:nvPr/>
        </p:nvSpPr>
        <p:spPr>
          <a:xfrm>
            <a:off x="108000" y="57769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Ленингра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4788000" y="245268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вание «Дорога жизни» связано с сопротивлением врагу защитник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266" name="Oval 7" descr=""/>
            <p:cNvPicPr/>
            <p:nvPr/>
          </p:nvPicPr>
          <p:blipFill>
            <a:blip r:embed="rId5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8" name="Picture 8" descr=""/>
          <p:cNvPicPr/>
          <p:nvPr/>
        </p:nvPicPr>
        <p:blipFill>
          <a:blip r:embed="rId6"/>
          <a:stretch/>
        </p:blipFill>
        <p:spPr>
          <a:xfrm>
            <a:off x="179280" y="1940040"/>
            <a:ext cx="4608720" cy="28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" name="AutoShape 3"/>
          <p:cNvGrpSpPr/>
          <p:nvPr/>
        </p:nvGrpSpPr>
        <p:grpSpPr>
          <a:xfrm>
            <a:off x="7394400" y="5735520"/>
            <a:ext cx="1584360" cy="750960"/>
            <a:chOff x="7394400" y="5735520"/>
            <a:chExt cx="1584360" cy="750960"/>
          </a:xfrm>
        </p:grpSpPr>
        <p:pic>
          <p:nvPicPr>
            <p:cNvPr id="271" name="AutoShape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94400" y="5735520"/>
              <a:ext cx="1584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451640" y="5805360"/>
              <a:ext cx="14749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74" name="AutoShape 4" descr=""/>
            <p:cNvPicPr/>
            <p:nvPr/>
          </p:nvPicPr>
          <p:blipFill>
            <a:blip r:embed="rId4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Text Box 5"/>
          <p:cNvSpPr/>
          <p:nvPr/>
        </p:nvSpPr>
        <p:spPr>
          <a:xfrm>
            <a:off x="395280" y="5734080"/>
            <a:ext cx="561672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Курская битва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680000" y="1484280"/>
            <a:ext cx="41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ая военная операция получила название «огненная дуга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279" name="Oval 7" descr=""/>
            <p:cNvPicPr/>
            <p:nvPr/>
          </p:nvPicPr>
          <p:blipFill>
            <a:blip r:embed="rId5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4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1" name="Picture 8" descr=""/>
          <p:cNvPicPr/>
          <p:nvPr/>
        </p:nvPicPr>
        <p:blipFill>
          <a:blip r:embed="rId6"/>
          <a:stretch/>
        </p:blipFill>
        <p:spPr>
          <a:xfrm>
            <a:off x="395280" y="1541520"/>
            <a:ext cx="47894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83" name="Oval 7" descr=""/>
            <p:cNvPicPr/>
            <p:nvPr/>
          </p:nvPicPr>
          <p:blipFill>
            <a:blip r:embed="rId1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5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86" name="AutoShape 4" descr=""/>
            <p:cNvPicPr/>
            <p:nvPr/>
          </p:nvPicPr>
          <p:blipFill>
            <a:blip r:embed="rId2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8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324000" y="1700280"/>
            <a:ext cx="8064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Эти отряды возникли в ию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1942 года и просуществовали практически до конца 1944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гда советские части перешл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территорию Европы. Назв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826920" y="6039000"/>
            <a:ext cx="30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градительны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11280" y="549360"/>
          <a:ext cx="8064360" cy="568944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аж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18720">
                      <a:solidFill>
                        <a:srgbClr val="d0dae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лковод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18720">
                      <a:solidFill>
                        <a:srgbClr val="d0dae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нят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18720">
                      <a:solidFill>
                        <a:srgbClr val="d0dae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алинград</a:t>
                      </a:r>
                      <a:r>
                        <a:rPr b="1" i="1" lang="ru-RU" sz="2400" spc="-1" strike="noStrike">
                          <a:solidFill>
                            <a:srgbClr val="d0dae2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18720">
                      <a:solidFill>
                        <a:srgbClr val="d0dae2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1872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1872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1872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1872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0dae2"/>
                      </a:solidFill>
                    </a:lnL>
                    <a:lnR w="5760">
                      <a:solidFill>
                        <a:srgbClr val="d0dae2"/>
                      </a:solidFill>
                    </a:lnR>
                    <a:lnT w="5760">
                      <a:solidFill>
                        <a:srgbClr val="d0dae2"/>
                      </a:solidFill>
                    </a:lnT>
                    <a:lnB w="5760">
                      <a:solidFill>
                        <a:srgbClr val="d0dae2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293" name="Oval 7" descr=""/>
            <p:cNvPicPr/>
            <p:nvPr/>
          </p:nvPicPr>
          <p:blipFill>
            <a:blip r:embed="rId1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6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5" name="AutoShape 4"/>
          <p:cNvGrpSpPr/>
          <p:nvPr/>
        </p:nvGrpSpPr>
        <p:grpSpPr>
          <a:xfrm>
            <a:off x="268200" y="201600"/>
            <a:ext cx="7309080" cy="1120680"/>
            <a:chOff x="268200" y="201600"/>
            <a:chExt cx="7309080" cy="1120680"/>
          </a:xfrm>
        </p:grpSpPr>
        <p:pic>
          <p:nvPicPr>
            <p:cNvPr id="296" name="AutoShape 4" descr=""/>
            <p:cNvPicPr/>
            <p:nvPr/>
          </p:nvPicPr>
          <p:blipFill>
            <a:blip r:embed="rId2"/>
            <a:stretch/>
          </p:blipFill>
          <p:spPr>
            <a:xfrm>
              <a:off x="268200" y="201600"/>
              <a:ext cx="7309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ъяснение понятий, терминов, характерны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знаков  явлени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8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0" y="2550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556000" y="1341360"/>
            <a:ext cx="576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 называется осознанное, добровольное и умышленное сотрудничество с врагом в его интересах и в ущерб своему государству. Термин чаще применяется в более узком смысле: сотрудничество с оккупа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11280" y="580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ллаборациониз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3" name="Picture 2" descr="Georgian legionary 01.jpg"/>
          <p:cNvPicPr/>
          <p:nvPr/>
        </p:nvPicPr>
        <p:blipFill>
          <a:blip r:embed="rId3"/>
          <a:stretch/>
        </p:blipFill>
        <p:spPr>
          <a:xfrm>
            <a:off x="385920" y="1557360"/>
            <a:ext cx="21700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54080" y="60148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Ура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611280" y="191628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19 ноября 1942г. - наши войска перешли в контрнаступление согласно плану. Какое кодовое название носила эта операция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161b"/>
                </a:solidFill>
                <a:latin typeface="Tahom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402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46160" y="594684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каз № 227 «Ни шагу назад»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161b"/>
                </a:solidFill>
                <a:latin typeface="Tahom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395280" y="1197000"/>
            <a:ext cx="81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Самый страшный и самый спорный приказ подписанный  Сталиным И.В. от 28 июля 1942 год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684360" y="558972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0 дней и ночей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755640" y="2060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колько дней и ночей продолжалась Сталинградская битва?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161b"/>
                </a:solidFill>
                <a:latin typeface="Tahom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326880" y="57942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леватор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611280" y="1704960"/>
            <a:ext cx="77770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арукавный щит «За взятие Сталинграда» разработанный генерал-полковником 6-й армии Паульсом. Изображал именно это здание Сталинграда. Оно стало для немцев символом ожесточенных и кровопролитных уличных боев за каждый дом и этаж, это тот довольно редкий случай из истории Великой Отечественной войны, когда презрение к смерти и героизм советских солдат безоговорочно подтверждаются противником. О каком здании идет речь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161b"/>
                </a:solidFill>
                <a:latin typeface="Tahoma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Picture 8" descr="C:\Users\Liliya\Downloads\695532-86e119cea512bbbbdd303538cbcc1555.jpg"/>
          <p:cNvPicPr/>
          <p:nvPr/>
        </p:nvPicPr>
        <p:blipFill>
          <a:blip r:embed="rId1"/>
          <a:stretch/>
        </p:blipFill>
        <p:spPr>
          <a:xfrm>
            <a:off x="3132000" y="5261040"/>
            <a:ext cx="2276640" cy="15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330" name="Oval 7" descr=""/>
            <p:cNvPicPr/>
            <p:nvPr/>
          </p:nvPicPr>
          <p:blipFill>
            <a:blip r:embed="rId1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5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3240000" y="1341360"/>
            <a:ext cx="521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дин из героев Сталинграда, снайпер, прицельными выстрелами уничтожил 225 противников. Получил звания Героя Советского Союз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10" descr="Vasiliy-zaytsev.jpg"/>
          <p:cNvPicPr/>
          <p:nvPr/>
        </p:nvPicPr>
        <p:blipFill>
          <a:blip r:embed="rId2"/>
          <a:stretch/>
        </p:blipFill>
        <p:spPr>
          <a:xfrm>
            <a:off x="446040" y="1557360"/>
            <a:ext cx="2685960" cy="381636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7"/>
          <p:cNvSpPr/>
          <p:nvPr/>
        </p:nvSpPr>
        <p:spPr>
          <a:xfrm>
            <a:off x="684360" y="5886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йцев 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Oval 7"/>
          <p:cNvGrpSpPr/>
          <p:nvPr/>
        </p:nvGrpSpPr>
        <p:grpSpPr>
          <a:xfrm>
            <a:off x="7723080" y="158760"/>
            <a:ext cx="1324080" cy="1292040"/>
            <a:chOff x="7723080" y="158760"/>
            <a:chExt cx="1324080" cy="1292040"/>
          </a:xfrm>
        </p:grpSpPr>
        <p:pic>
          <p:nvPicPr>
            <p:cNvPr id="339" name="Oval 7" descr=""/>
            <p:cNvPicPr/>
            <p:nvPr/>
          </p:nvPicPr>
          <p:blipFill>
            <a:blip r:embed="rId1"/>
            <a:stretch/>
          </p:blipFill>
          <p:spPr>
            <a:xfrm>
              <a:off x="7723080" y="158760"/>
              <a:ext cx="13240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Arial"/>
                </a:rPr>
                <a:t>6</a:t>
              </a: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" name="AutoShape 4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алинград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684360" y="1268280"/>
            <a:ext cx="77040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14 сентября 1942 г. 7-я дивизия штурмовала город. Особенно Мамаев курган – самую высокую точку в городе. Вершина кургана шесть раз переходила из рук в руки. «Склоны кургана в солдатских трупах. Два героя ходили в атаку за курган все шесть раз и взяли его». Кто это были?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539640" y="580536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йтенант Чернышев, сержант Кущен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17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16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21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AutoShape 1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09" name="AutoShape 1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Text Box 17"/>
          <p:cNvSpPr/>
          <p:nvPr/>
        </p:nvSpPr>
        <p:spPr>
          <a:xfrm>
            <a:off x="539640" y="5950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етом 1944 г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Oval 19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13" name="Oval 19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324000" y="213372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гда проводилась операция «Багратион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 целью освобождения Белорусс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ветскими войска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19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" name="Text Box 5"/>
          <p:cNvSpPr/>
          <p:nvPr/>
        </p:nvSpPr>
        <p:spPr>
          <a:xfrm>
            <a:off x="395280" y="5805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скв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5520" y="191628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результате этой битвы в январе 1942 года немецкие войска были отброшены на 100 – 250 км. и перешли к обороне. Это произошло п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7812000" y="189000"/>
            <a:ext cx="1152720" cy="1152360"/>
          </a:xfrm>
          <a:prstGeom prst="ellipse">
            <a:avLst/>
          </a:prstGeom>
          <a:solidFill>
            <a:srgbClr val="7ddeff"/>
          </a:soli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0dae2"/>
                </a:solidFill>
                <a:latin typeface="Tahom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27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" name="Text Box 5"/>
          <p:cNvSpPr/>
          <p:nvPr/>
        </p:nvSpPr>
        <p:spPr>
          <a:xfrm>
            <a:off x="468360" y="5300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хоровк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8680" y="2492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рупнейшее танковое сражение в ходе Великой Отечественной войны в июле 1943 года состоялось п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32" name="Oval 7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37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" name="Text Box 5"/>
          <p:cNvSpPr/>
          <p:nvPr/>
        </p:nvSpPr>
        <p:spPr>
          <a:xfrm>
            <a:off x="324000" y="59500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линградской бит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9640" y="12812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ля проведения операции «Уран» были созданы три новых фронта Юго– Западный, Донской и Сталинградский, в ноябре 1942 года они перешли в наступление, результатом которого стало окружение и пленение 330 – тысячной группировки немецких войск. Речь идет о (об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1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42" name="Oval 7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4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AutoShape 4"/>
          <p:cNvGrpSpPr/>
          <p:nvPr/>
        </p:nvGrpSpPr>
        <p:grpSpPr>
          <a:xfrm>
            <a:off x="249120" y="176040"/>
            <a:ext cx="7310520" cy="1073160"/>
            <a:chOff x="249120" y="176040"/>
            <a:chExt cx="7310520" cy="1073160"/>
          </a:xfrm>
        </p:grpSpPr>
        <p:pic>
          <p:nvPicPr>
            <p:cNvPr id="145" name="AutoShape 4" descr=""/>
            <p:cNvPicPr/>
            <p:nvPr/>
          </p:nvPicPr>
          <p:blipFill>
            <a:blip r:embed="rId1"/>
            <a:stretch/>
          </p:blipFill>
          <p:spPr>
            <a:xfrm>
              <a:off x="249120" y="176040"/>
              <a:ext cx="7310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53880" y="311040"/>
              <a:ext cx="71010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48" name="Oval 7" descr=""/>
            <p:cNvPicPr/>
            <p:nvPr/>
          </p:nvPicPr>
          <p:blipFill>
            <a:blip r:embed="rId2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Прямоугольник 4"/>
          <p:cNvSpPr/>
          <p:nvPr/>
        </p:nvSpPr>
        <p:spPr>
          <a:xfrm>
            <a:off x="539640" y="11970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довое название наступательной военной операции советских войск по освобождению от немцев Харьковского промышленного района и основной железнодорожной магистрали силами Воронежского и Брянского фрон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7545240" y="6021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3">
            <a:hlinkClick r:id="rId3" action="ppaction://hlinksldjump"/>
          </p:cNvPr>
          <p:cNvSpPr/>
          <p:nvPr/>
        </p:nvSpPr>
        <p:spPr>
          <a:xfrm>
            <a:off x="7532640" y="555300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77920" y="5711760"/>
            <a:ext cx="27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Звезд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55" name="Oval 7" descr=""/>
            <p:cNvPicPr/>
            <p:nvPr/>
          </p:nvPicPr>
          <p:blipFill>
            <a:blip r:embed="rId1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" name="AutoShape 4"/>
          <p:cNvGrpSpPr/>
          <p:nvPr/>
        </p:nvGrpSpPr>
        <p:grpSpPr>
          <a:xfrm>
            <a:off x="249120" y="176040"/>
            <a:ext cx="7310520" cy="1073160"/>
            <a:chOff x="249120" y="176040"/>
            <a:chExt cx="7310520" cy="1073160"/>
          </a:xfrm>
        </p:grpSpPr>
        <p:pic>
          <p:nvPicPr>
            <p:cNvPr id="158" name="AutoShape 4" descr=""/>
            <p:cNvPicPr/>
            <p:nvPr/>
          </p:nvPicPr>
          <p:blipFill>
            <a:blip r:embed="rId2"/>
            <a:stretch/>
          </p:blipFill>
          <p:spPr>
            <a:xfrm>
              <a:off x="249120" y="176040"/>
              <a:ext cx="7310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53880" y="311040"/>
              <a:ext cx="71010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Сражени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" name="AutoShape 2"/>
          <p:cNvSpPr/>
          <p:nvPr/>
        </p:nvSpPr>
        <p:spPr>
          <a:xfrm>
            <a:off x="7562880" y="6021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3">
            <a:hlinkClick r:id="rId3" action="ppaction://hlinksldjump"/>
          </p:cNvPr>
          <p:cNvSpPr/>
          <p:nvPr/>
        </p:nvSpPr>
        <p:spPr>
          <a:xfrm>
            <a:off x="7562880" y="555768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468360" y="1341360"/>
            <a:ext cx="783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Какие военные операции завершили Великую Отечественную войну советского народ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460440" y="5313240"/>
            <a:ext cx="61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рлинская и Парижская военные опер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3">
            <a:hlinkClick r:id="rId1" action="ppaction://hlinksldjump"/>
          </p:cNvPr>
          <p:cNvSpPr/>
          <p:nvPr/>
        </p:nvSpPr>
        <p:spPr>
          <a:xfrm>
            <a:off x="7451640" y="5805360"/>
            <a:ext cx="1474920" cy="46692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68195" h="21600">
                <a:moveTo>
                  <a:pt x="0" y="0"/>
                </a:moveTo>
                <a:lnTo>
                  <a:pt x="68195" y="0"/>
                </a:lnTo>
                <a:lnTo>
                  <a:pt x="68195" y="21600"/>
                </a:lnTo>
                <a:lnTo>
                  <a:pt x="0" y="21600"/>
                </a:lnTo>
                <a:close/>
              </a:path>
              <a:path fill="lightenLess" w="68195" h="21600">
                <a:moveTo>
                  <a:pt x="0" y="0"/>
                </a:moveTo>
                <a:lnTo>
                  <a:pt x="68195" y="0"/>
                </a:lnTo>
                <a:lnTo>
                  <a:pt x="66795" y="1400"/>
                </a:lnTo>
                <a:lnTo>
                  <a:pt x="1400" y="1400"/>
                </a:lnTo>
                <a:close/>
              </a:path>
              <a:path fill="darken" w="68195" h="21600">
                <a:moveTo>
                  <a:pt x="68195" y="0"/>
                </a:moveTo>
                <a:lnTo>
                  <a:pt x="68195" y="21600"/>
                </a:lnTo>
                <a:lnTo>
                  <a:pt x="66795" y="20200"/>
                </a:lnTo>
                <a:lnTo>
                  <a:pt x="66795" y="1400"/>
                </a:lnTo>
                <a:close/>
              </a:path>
              <a:path fill="darkenLess" w="68195" h="21600">
                <a:moveTo>
                  <a:pt x="6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5" y="20200"/>
                </a:lnTo>
                <a:close/>
              </a:path>
              <a:path fill="lighten" w="6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df6fb"/>
              </a:gs>
              <a:gs pos="100000">
                <a:srgbClr val="fafcfe"/>
              </a:gs>
            </a:gsLst>
            <a:lin ang="16200000"/>
          </a:gradFill>
          <a:ln w="9360">
            <a:solidFill>
              <a:srgbClr val="dfe5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AutoShape 4"/>
          <p:cNvGrpSpPr/>
          <p:nvPr/>
        </p:nvGrpSpPr>
        <p:grpSpPr>
          <a:xfrm>
            <a:off x="268200" y="249120"/>
            <a:ext cx="7309080" cy="1073160"/>
            <a:chOff x="268200" y="249120"/>
            <a:chExt cx="7309080" cy="1073160"/>
          </a:xfrm>
        </p:grpSpPr>
        <p:pic>
          <p:nvPicPr>
            <p:cNvPr id="167" name="AutoShape 4" descr=""/>
            <p:cNvPicPr/>
            <p:nvPr/>
          </p:nvPicPr>
          <p:blipFill>
            <a:blip r:embed="rId3"/>
            <a:stretch/>
          </p:blipFill>
          <p:spPr>
            <a:xfrm>
              <a:off x="268200" y="249120"/>
              <a:ext cx="7309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74760" y="384120"/>
              <a:ext cx="709920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олководц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 Box 5"/>
          <p:cNvSpPr/>
          <p:nvPr/>
        </p:nvSpPr>
        <p:spPr>
          <a:xfrm>
            <a:off x="468360" y="61657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С. Кон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119700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годы Великой Отечественной войны выдвинулась блестящая плеяда советских полководцев, превзошедших в конечном итоге военачальников противника. Кто по вашему мнению пропущен в этом ряду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" name="Oval 7"/>
          <p:cNvGrpSpPr/>
          <p:nvPr/>
        </p:nvGrpSpPr>
        <p:grpSpPr>
          <a:xfrm>
            <a:off x="7705800" y="158760"/>
            <a:ext cx="1365120" cy="1292040"/>
            <a:chOff x="7705800" y="158760"/>
            <a:chExt cx="1365120" cy="1292040"/>
          </a:xfrm>
        </p:grpSpPr>
        <p:pic>
          <p:nvPicPr>
            <p:cNvPr id="172" name="Oval 7" descr=""/>
            <p:cNvPicPr/>
            <p:nvPr/>
          </p:nvPicPr>
          <p:blipFill>
            <a:blip r:embed="rId4"/>
            <a:stretch/>
          </p:blipFill>
          <p:spPr>
            <a:xfrm>
              <a:off x="7705800" y="158760"/>
              <a:ext cx="1365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80480" y="357120"/>
              <a:ext cx="815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d0dae2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4" name="Picture 26" descr=""/>
          <p:cNvPicPr/>
          <p:nvPr/>
        </p:nvPicPr>
        <p:blipFill>
          <a:blip r:embed="rId5"/>
          <a:stretch/>
        </p:blipFill>
        <p:spPr>
          <a:xfrm>
            <a:off x="706320" y="3173400"/>
            <a:ext cx="1560600" cy="28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7" descr=""/>
          <p:cNvPicPr/>
          <p:nvPr/>
        </p:nvPicPr>
        <p:blipFill>
          <a:blip r:embed="rId6"/>
          <a:stretch/>
        </p:blipFill>
        <p:spPr>
          <a:xfrm>
            <a:off x="2305080" y="3173400"/>
            <a:ext cx="2206440" cy="2865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9" descr=""/>
          <p:cNvPicPr/>
          <p:nvPr/>
        </p:nvPicPr>
        <p:blipFill>
          <a:blip r:embed="rId7"/>
          <a:stretch/>
        </p:blipFill>
        <p:spPr>
          <a:xfrm>
            <a:off x="4643280" y="3191040"/>
            <a:ext cx="1873440" cy="284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0" descr=""/>
          <p:cNvPicPr/>
          <p:nvPr/>
        </p:nvPicPr>
        <p:blipFill>
          <a:blip r:embed="rId8"/>
          <a:stretch/>
        </p:blipFill>
        <p:spPr>
          <a:xfrm>
            <a:off x="6665760" y="3187800"/>
            <a:ext cx="183060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51:06Z</dcterms:created>
  <dc:creator>СЕРГЕЙ</dc:creator>
  <dc:description/>
  <dc:language>en-US</dc:language>
  <cp:lastModifiedBy>Liliya</cp:lastModifiedBy>
  <dcterms:modified xsi:type="dcterms:W3CDTF">2023-03-09T04:56:48Z</dcterms:modified>
  <cp:revision>92</cp:revision>
  <dc:subject/>
  <dc:title>Слайд 1</dc:title>
</cp:coreProperties>
</file>