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21.png" ContentType="image/png"/>
  <Override PartName="/ppt/media/image19.jpeg" ContentType="image/jpeg"/>
  <Override PartName="/ppt/media/image1.jpeg" ContentType="image/jpeg"/>
  <Override PartName="/ppt/media/image17.wmf" ContentType="image/x-wmf"/>
  <Override PartName="/ppt/media/image14.gif" ContentType="image/gif"/>
  <Override PartName="/ppt/media/image7.jpeg" ContentType="image/jpeg"/>
  <Override PartName="/ppt/media/image15.gif" ContentType="image/gif"/>
  <Override PartName="/ppt/media/image18.png" ContentType="image/png"/>
  <Override PartName="/ppt/media/image16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20.wmf" ContentType="image/x-wmf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84CB4-2A32-4293-9F20-7F47565270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2451D9-432A-4983-A1D6-1043DE0105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D05F4-A265-48A1-80D2-2E431D34D7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00FA-D897-44A5-8DEC-7D03B58F6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59A3-5E8D-49B2-B0CB-53CDA1DC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F9C9-7082-48C1-83FB-0361EAA78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E95E-674D-4185-AD7B-D757ADA00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D79B-1FC4-47E3-ADC8-720174F6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615E-04D0-43EF-8024-53F45159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5394-B10F-40BF-B66C-2DDEA6F2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B356-EFFD-4E0B-B349-1C5BD8A8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D279-D5EE-4F73-98A9-1DDF1875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C717-2309-4C0E-9DC9-9D868E42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A7C1-BE43-4544-8D65-CC3D169E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32FD-6216-4407-983E-E7CB9C64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8CB65-A43D-415D-853D-07A88830BA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2016000" y="2050920"/>
            <a:ext cx="6120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ВЕС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49" name="WordArt 3"/>
          <p:cNvSpPr txBox="1"/>
          <p:nvPr/>
        </p:nvSpPr>
        <p:spPr>
          <a:xfrm rot="371400">
            <a:off x="2303280" y="3203640"/>
            <a:ext cx="5689440" cy="394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такая прекрасная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и такая опас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pic>
        <p:nvPicPr>
          <p:cNvPr id="50" name="Picture 4" descr="18"/>
          <p:cNvPicPr/>
          <p:nvPr/>
        </p:nvPicPr>
        <p:blipFill>
          <a:blip r:embed="rId2"/>
          <a:stretch/>
        </p:blipFill>
        <p:spPr>
          <a:xfrm>
            <a:off x="6048360" y="5651640"/>
            <a:ext cx="1905120" cy="165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 Black"/>
              </a:rPr>
              <a:t>Велосипе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575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лосипед не игрушка, а средство передвижения. Ездить на велосипеде по проезжей части можно только с 14 лет. А пока вы маленькие, кататься можно только на поляне у дома или там, где нет движения транспор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7"/>
          <p:cNvPicPr/>
          <p:nvPr/>
        </p:nvPicPr>
        <p:blipFill>
          <a:blip r:embed="rId1"/>
          <a:stretch/>
        </p:blipFill>
        <p:spPr>
          <a:xfrm>
            <a:off x="5832360" y="3348000"/>
            <a:ext cx="3095640" cy="3665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16"/>
          <p:cNvPicPr/>
          <p:nvPr/>
        </p:nvPicPr>
        <p:blipFill>
          <a:blip r:embed="rId2"/>
          <a:stretch/>
        </p:blipFill>
        <p:spPr>
          <a:xfrm>
            <a:off x="5327640" y="755640"/>
            <a:ext cx="4319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4465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Arial Black"/>
              </a:rPr>
              <a:t>Вес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13440" y="395280"/>
            <a:ext cx="4680000" cy="6624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ступила весна. На улице стало тепло, после суровой и холодной зимы хочется больше времени проводить на свежем воздухе. Но на улице нас подстерегает множество опасностей. Чтобы избежать беды мы сегодня рассмотрим, как предотвратить несчаст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S6000816"/>
          <p:cNvPicPr/>
          <p:nvPr/>
        </p:nvPicPr>
        <p:blipFill>
          <a:blip r:embed="rId1"/>
          <a:stretch/>
        </p:blipFill>
        <p:spPr>
          <a:xfrm>
            <a:off x="647640" y="1332000"/>
            <a:ext cx="4321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 Black"/>
              </a:rPr>
              <a:t>Тонкий лё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575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ркое солнышко согрело лёд и сделало его очень тонким. Нельзя выходить на лёд, кататься на коньках, рыбачить на льду, нельзя переходить реку по плывущим льди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S6000813"/>
          <p:cNvPicPr/>
          <p:nvPr/>
        </p:nvPicPr>
        <p:blipFill>
          <a:blip r:embed="rId1"/>
          <a:stretch/>
        </p:blipFill>
        <p:spPr>
          <a:xfrm>
            <a:off x="5040360" y="1403280"/>
            <a:ext cx="4746600" cy="3560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stixi-dlya-detej-bezopasnost-na-ldu-3"/>
          <p:cNvPicPr/>
          <p:nvPr/>
        </p:nvPicPr>
        <p:blipFill>
          <a:blip r:embed="rId2"/>
          <a:stretch/>
        </p:blipFill>
        <p:spPr>
          <a:xfrm>
            <a:off x="5040360" y="5003640"/>
            <a:ext cx="1549440" cy="2233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stixi-dlya-detej-bezopasnost-na-ldu-1"/>
          <p:cNvPicPr/>
          <p:nvPr/>
        </p:nvPicPr>
        <p:blipFill>
          <a:blip r:embed="rId3"/>
          <a:stretch/>
        </p:blipFill>
        <p:spPr>
          <a:xfrm>
            <a:off x="6624720" y="5003640"/>
            <a:ext cx="3168720" cy="21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Arial Black"/>
              </a:rPr>
              <a:t>Сосульк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13080" y="1403280"/>
            <a:ext cx="4459320" cy="5353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ет снег на крышах домов, образуются огромные ледяные сосульки. Нельзя приближаться близко к таким местам, в любую минуту сосулька может упасть прямо на вас. Дома нужно попросить родителей, чтобы они убрали сосульки у входа, иначе придёт бе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S6007161"/>
          <p:cNvPicPr/>
          <p:nvPr/>
        </p:nvPicPr>
        <p:blipFill>
          <a:blip r:embed="rId1"/>
          <a:stretch/>
        </p:blipFill>
        <p:spPr>
          <a:xfrm>
            <a:off x="503280" y="1476360"/>
            <a:ext cx="4213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Arial Black"/>
              </a:rPr>
              <a:t>Половодь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13080" y="1402920"/>
            <a:ext cx="445932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сной начинает таять снег и уровень воды в реках и её протоках резко повышается. Нельзя пытаться перебродить через воду, нельзя плавать одним без взрослых на лодке или самодельных плотах, нельзя близко приближаться к бере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S6001410"/>
          <p:cNvPicPr/>
          <p:nvPr/>
        </p:nvPicPr>
        <p:blipFill>
          <a:blip r:embed="rId1"/>
          <a:stretch/>
        </p:blipFill>
        <p:spPr>
          <a:xfrm>
            <a:off x="503280" y="1332000"/>
            <a:ext cx="43750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892980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Arial Black"/>
              </a:rPr>
              <a:t>Луж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403280"/>
            <a:ext cx="460836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сной на улицах села разливаются огромные лужи. Вода в них очень холодная. Пуская кораблики, кидая камушки, просто играя рядом с водой, можно легко простудиться и заболеть. Лужи – не место для иг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S6001400"/>
          <p:cNvPicPr/>
          <p:nvPr/>
        </p:nvPicPr>
        <p:blipFill>
          <a:blip r:embed="rId1"/>
          <a:stretch/>
        </p:blipFill>
        <p:spPr>
          <a:xfrm>
            <a:off x="5400720" y="1403280"/>
            <a:ext cx="434484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Arial Black"/>
              </a:rPr>
              <a:t>Солнц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0360" y="1476360"/>
            <a:ext cx="453240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ркое весеннее солнце обманчиво. Во-первых, нельзя выходить на улицу без головного убора – можно получить солнечный удар. Во-вторых, не следует думать, что уже тепло, и выходить легко одетым. Земля ещё недостаточно прогрелась, весенний ветер холодный, можно простудиться и заболе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S6007473"/>
          <p:cNvPicPr/>
          <p:nvPr/>
        </p:nvPicPr>
        <p:blipFill>
          <a:blip r:embed="rId1"/>
          <a:stretch/>
        </p:blipFill>
        <p:spPr>
          <a:xfrm>
            <a:off x="287280" y="1476360"/>
            <a:ext cx="44658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 Black"/>
              </a:rPr>
              <a:t>Огон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1331640"/>
            <a:ext cx="468144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сной люди начинают убирать территорию у домов, жечь костры. Это строго запрещено! Никогда не разводите костры сами и предупредите взрослых, что этого делать нельзя. Высока опасность пожаров, может загореться дом и вы сами можете пострадать от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0011-028-Ne-razzhigaj-kostjor-v-lesu-bez-vzroslykh"/>
          <p:cNvPicPr/>
          <p:nvPr/>
        </p:nvPicPr>
        <p:blipFill>
          <a:blip r:embed="rId1"/>
          <a:stretch/>
        </p:blipFill>
        <p:spPr>
          <a:xfrm>
            <a:off x="5327640" y="1403280"/>
            <a:ext cx="4388040" cy="2927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119"/>
          <p:cNvPicPr/>
          <p:nvPr/>
        </p:nvPicPr>
        <p:blipFill>
          <a:blip r:embed="rId2"/>
          <a:stretch/>
        </p:blipFill>
        <p:spPr>
          <a:xfrm>
            <a:off x="5184720" y="1332000"/>
            <a:ext cx="825480" cy="780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1"/>
          <p:cNvPicPr/>
          <p:nvPr/>
        </p:nvPicPr>
        <p:blipFill>
          <a:blip r:embed="rId3"/>
          <a:stretch/>
        </p:blipFill>
        <p:spPr>
          <a:xfrm>
            <a:off x="5545080" y="4500720"/>
            <a:ext cx="1247760" cy="2469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7"/>
          <p:cNvPicPr/>
          <p:nvPr/>
        </p:nvPicPr>
        <p:blipFill>
          <a:blip r:embed="rId4"/>
          <a:stretch/>
        </p:blipFill>
        <p:spPr>
          <a:xfrm>
            <a:off x="7704000" y="3132000"/>
            <a:ext cx="428760" cy="743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7"/>
          <p:cNvPicPr/>
          <p:nvPr/>
        </p:nvPicPr>
        <p:blipFill>
          <a:blip r:embed="rId5"/>
          <a:stretch/>
        </p:blipFill>
        <p:spPr>
          <a:xfrm>
            <a:off x="7056360" y="2627280"/>
            <a:ext cx="428760" cy="743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5" descr="7"/>
          <p:cNvPicPr/>
          <p:nvPr/>
        </p:nvPicPr>
        <p:blipFill>
          <a:blip r:embed="rId6"/>
          <a:stretch/>
        </p:blipFill>
        <p:spPr>
          <a:xfrm>
            <a:off x="7345440" y="3059280"/>
            <a:ext cx="428400" cy="742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8" descr="25"/>
          <p:cNvPicPr/>
          <p:nvPr/>
        </p:nvPicPr>
        <p:blipFill>
          <a:blip r:embed="rId7"/>
          <a:stretch/>
        </p:blipFill>
        <p:spPr>
          <a:xfrm>
            <a:off x="6840360" y="4500720"/>
            <a:ext cx="287028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 Black"/>
              </a:rPr>
              <a:t>Дорог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75308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сной начинается активное движение транспорта. В селе мотоциклы водят школьники, не имеющие прав и навыка вождения. Нужно быть особенно внимательным при приближении к дороге, соблюдать правила дорожного движения. Играть на проезжей части строго запреще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6"/>
          <p:cNvPicPr/>
          <p:nvPr/>
        </p:nvPicPr>
        <p:blipFill>
          <a:blip r:embed="rId1"/>
          <a:stretch/>
        </p:blipFill>
        <p:spPr>
          <a:xfrm>
            <a:off x="5472000" y="1187280"/>
            <a:ext cx="4027680" cy="2443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45"/>
          <p:cNvPicPr/>
          <p:nvPr/>
        </p:nvPicPr>
        <p:blipFill>
          <a:blip r:embed="rId2"/>
          <a:stretch/>
        </p:blipFill>
        <p:spPr>
          <a:xfrm>
            <a:off x="4608360" y="3635280"/>
            <a:ext cx="4969080" cy="2154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1"/>
          <p:cNvPicPr/>
          <p:nvPr/>
        </p:nvPicPr>
        <p:blipFill>
          <a:blip r:embed="rId3"/>
          <a:stretch/>
        </p:blipFill>
        <p:spPr>
          <a:xfrm>
            <a:off x="8132760" y="5219640"/>
            <a:ext cx="159372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12:30:36Z</dcterms:created>
  <dc:creator/>
  <dc:description/>
  <dc:language>en-US</dc:language>
  <cp:lastModifiedBy>Екатерина</cp:lastModifiedBy>
  <dcterms:modified xsi:type="dcterms:W3CDTF">2017-11-03T20:06:09Z</dcterms:modified>
  <cp:revision>23</cp:revision>
  <dc:subject/>
  <dc:title>Слайд 1</dc:title>
</cp:coreProperties>
</file>