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1AE-463C-4088-90E9-081D932C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071-98AB-449E-BB9E-FAA25994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AAA-4916-4F2D-9A9F-8E8985F0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348-963B-4012-865F-74FC6175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9B5-780C-4E07-9EEB-A4998FAC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583-4802-40B4-9273-5E2D8F9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E35-5820-4938-8437-C885D0C2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0A1-85DE-44CC-907D-6B298085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8C7-CE0F-4DB3-BDA2-D9CB7311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A9C-9660-4D05-8CA3-4264C87C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5C9-10A3-4650-9A50-2D69D95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BD7-0BE2-4746-93BB-355466A3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2d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9797-DE97-4098-90F7-8E83A4D9FB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8062920" cy="29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2de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e2e2de"/>
                </a:solidFill>
                <a:latin typeface="Arial"/>
              </a:rPr>
              <a:t>География России. Население и хозяйство.</a:t>
            </a:r>
            <a:br>
              <a:rPr sz="4800"/>
            </a:br>
            <a:r>
              <a:rPr b="1" lang="ru-RU" sz="4400" spc="-1" strike="noStrike">
                <a:solidFill>
                  <a:srgbClr val="e2e2de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e2e2d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5733720"/>
            <a:ext cx="449568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87280" y="2276640"/>
            <a:ext cx="7201080" cy="3457440"/>
          </a:xfrm>
          <a:prstGeom prst="rect">
            <a:avLst/>
          </a:prstGeom>
          <a:solidFill>
            <a:srgbClr val="9fb2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7" descr="Изображение:Russian federation.png"/>
          <p:cNvPicPr/>
          <p:nvPr/>
        </p:nvPicPr>
        <p:blipFill>
          <a:blip r:embed="rId1"/>
          <a:stretch/>
        </p:blipFill>
        <p:spPr>
          <a:xfrm>
            <a:off x="2340000" y="2421000"/>
            <a:ext cx="5184720" cy="3155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Picture 8" descr="Изображение:Location Russia.svg"/>
          <p:cNvPicPr/>
          <p:nvPr/>
        </p:nvPicPr>
        <p:blipFill>
          <a:blip r:embed="rId2"/>
          <a:stretch/>
        </p:blipFill>
        <p:spPr>
          <a:xfrm>
            <a:off x="1116000" y="4797360"/>
            <a:ext cx="3564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9810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Методы социально- и экономико-географического исследования.</a:t>
            </a:r>
            <a:endParaRPr b="0" lang="en-US" sz="28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Картографический метод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а – источник получения информации по размещению производительных сил и экономике регионов. Благодаря использованию карт, картосхем, картограмм наглядно воспринимаются и запоминаются особенности размещения, статистические материалы, характеризующие уровни развития отраслей и регион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истемный анализ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 –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это метод научного исследования, при котором комплексное изучение проблемы, структуры хозяйства и внутренних взаимосвязей дополняется изучением их взаимодействия и окончательные выводы делаются на основе соизмерения прямых и обратных связ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Экономико-математическое моделирование</a:t>
            </a:r>
            <a:r>
              <a:rPr b="0" i="1" lang="ru-RU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моделирование территориальных пропорций развития экономики, моделирование размещения по отраслям хозяйства, моделирование формирования хозяйственных комплексов регион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пользование экономико-математических моделей и компьютеров позволяют обрабатывать огромный массив данных, выбирать оптимальные решения в соответствии и поставленной задач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татистические метод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исчисление индексов на базе статистических данных, корреляционны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анализ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Балансовый метод</a:t>
            </a:r>
            <a:r>
              <a:rPr b="1" i="1" lang="ru-RU" sz="16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оставление отраслевых и региональных балансов позволяет выбрать правильные соотношения между отраслями рыночной специализации, отраслями, дополняющими территориальный комплекс, т.е. обеспечивающими как потребность ведущих отраслей, так и нужды населения, и отраслями сферы услуг. Экономические обоснования размещения предприятий составляют содержание балансового метода. В основу региональной экономики входят балансы регионального производства и потребления основных видов продук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1970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Задачи  социально-экономической  географии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50920" y="1341360"/>
            <a:ext cx="244944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опис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763640" y="2133720"/>
            <a:ext cx="244944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объяс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95640" y="2924280"/>
            <a:ext cx="280836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предсказ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364000" y="3789360"/>
            <a:ext cx="259272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659640" y="4869000"/>
            <a:ext cx="2305080" cy="13737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создание новых о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2340000" y="1844640"/>
            <a:ext cx="0" cy="28908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4140360" y="2637000"/>
            <a:ext cx="0" cy="28872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6659640" y="3500280"/>
            <a:ext cx="0" cy="28908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740720" y="4292640"/>
            <a:ext cx="0" cy="57636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95280" y="4221000"/>
            <a:ext cx="4465800" cy="2653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0881"/>
                </a:solidFill>
                <a:latin typeface="Arial"/>
              </a:rPr>
              <a:t>Объясните какую роль выполняет география при решении задач стоящих перед современным обществ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ясните слова царя Бориса из драмы А.С.Пушкина «Борис Годун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042920" y="476280"/>
            <a:ext cx="7129440" cy="6381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03280" y="549360"/>
            <a:ext cx="640872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Царь:     А ты, мой сын, чем занят? Это чт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Федор:  Чертеж земли московской; наше государ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Из края в край. Вот видишь: тут Москв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Тут Новгород, тут Астрахань. Вот мо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от пермские дремучие ле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А вот Сибир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Царь:     А это что такое узором здесь виетс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Федор:   Это Вол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Царь:     Как хорошо! Вот сладкий плод ученья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Как с облаков ты можешь обозре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се царство вдруг: границы, грады, ре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Учись мой сын: наука сокраща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Нам опыты быстротекущей жизни _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Когда - нибудь, и скоро, может бы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се области, которые ты ны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Изобразил так хитро на бумаг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се под руку достанутся тво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Учись мой сын, и легче и ясне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Державный труд ты будешь постига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Географические карты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1125360"/>
            <a:ext cx="266544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по  масштаб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59280" y="1125360"/>
            <a:ext cx="2665080" cy="9471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по  содерж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084720" y="1125360"/>
            <a:ext cx="2665440" cy="9471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по  охвату террит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1619280" y="765000"/>
            <a:ext cx="0" cy="36036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11640" y="765000"/>
            <a:ext cx="0" cy="36036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7451640" y="765000"/>
            <a:ext cx="0" cy="36036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68360" y="2205000"/>
            <a:ext cx="8280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ботайте с атласом, и ответьте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какими картами по охвату территории, по содержанию, по масштабу мы будем работать в 9 клас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ую информацию можно получить из кар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административной карты России (стр.4-5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Народы России (стр. 8-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Электроэнергетика (стр. 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79280" y="2205000"/>
            <a:ext cx="8964720" cy="4162680"/>
          </a:xfrm>
          <a:prstGeom prst="rect">
            <a:avLst/>
          </a:prstGeom>
          <a:solidFill>
            <a:srgbClr val="9f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881"/>
                </a:solidFill>
                <a:latin typeface="Arial"/>
              </a:rPr>
              <a:t>Вспомните план описания кар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508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Какова карта:  по охвату территории, по содержанию, по масштабу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508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Какую информацию можно получить из кар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стоятельная работа: </a:t>
            </a:r>
            <a:r>
              <a:rPr b="1" i="1" lang="ru-RU" sz="2400" spc="-1" strike="noStrike" u="sng">
                <a:solidFill>
                  <a:srgbClr val="2547a7"/>
                </a:solidFill>
                <a:uFillTx/>
                <a:latin typeface="Arial"/>
              </a:rPr>
              <a:t>Дайте описание кар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50881"/>
                </a:solidFill>
                <a:latin typeface="Arial"/>
              </a:rPr>
              <a:t>вариан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Животноводство  (стр. 19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50881"/>
                </a:solidFill>
                <a:latin typeface="Arial"/>
              </a:rPr>
              <a:t>вариант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Экологические проблемы (стр. 28-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50881"/>
                </a:solidFill>
                <a:latin typeface="Arial"/>
              </a:rPr>
              <a:t>вариан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Центральная Россия (стр. 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изучает экономическая и социальная география Ро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является основателем экономической географии Ро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ы основные задачи географ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кст учебника. Вве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откуда привезены товары (одежда, продукты питания) используя этикетки (3-5 вид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урная карта, стр. 1 задание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Для удоволь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исуйте на одном листке «образ мира» - образ России, области, города, используя симв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ить представление о предмете экономической и социальной географии, ее связи с физической географией и общественными наук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ценить вклад М.В. Ломоносова, В.Н. Татищева, П.П. Семенова-Тян-Шанского Н.Н. Баранского и других ученых  в экономическую нау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явить роль географии в решении задач обще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формулировать задачи экономико-географической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ть основные методы социально- и экономико-географического исследования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читься работать с учебни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читься работать с новыми видами карт – политико-административными, экономическ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География России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395280" y="1413000"/>
            <a:ext cx="748980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юблю и зна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наю и любл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 тем полней люблю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м больше зна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Ю. Ефре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68360" y="1628640"/>
            <a:ext cx="2519280" cy="5814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009"/>
          <p:cNvPicPr/>
          <p:nvPr/>
        </p:nvPicPr>
        <p:blipFill>
          <a:blip r:embed="rId1"/>
          <a:stretch/>
        </p:blipFill>
        <p:spPr>
          <a:xfrm>
            <a:off x="0" y="2492280"/>
            <a:ext cx="3276720" cy="2457720"/>
          </a:xfrm>
          <a:prstGeom prst="rect">
            <a:avLst/>
          </a:prstGeom>
          <a:ln w="9360">
            <a:solidFill>
              <a:srgbClr val="050881"/>
            </a:solidFill>
            <a:miter/>
          </a:ln>
        </p:spPr>
      </p:pic>
      <p:sp>
        <p:nvSpPr>
          <p:cNvPr id="52" name="Text Box 8"/>
          <p:cNvSpPr/>
          <p:nvPr/>
        </p:nvSpPr>
        <p:spPr>
          <a:xfrm>
            <a:off x="3780000" y="2205000"/>
            <a:ext cx="2519280" cy="5814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Нас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Без имени-1копирование"/>
          <p:cNvPicPr/>
          <p:nvPr/>
        </p:nvPicPr>
        <p:blipFill>
          <a:blip r:embed="rId2"/>
          <a:stretch/>
        </p:blipFill>
        <p:spPr>
          <a:xfrm>
            <a:off x="3419640" y="3141720"/>
            <a:ext cx="3095640" cy="217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6624720" y="2637000"/>
            <a:ext cx="2519280" cy="5814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Хозя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3" descr="Добыча открытым способом (сл"/>
          <p:cNvPicPr/>
          <p:nvPr/>
        </p:nvPicPr>
        <p:blipFill>
          <a:blip r:embed="rId3"/>
          <a:srcRect l="13181" t="12125" r="14296" b="7958"/>
          <a:stretch/>
        </p:blipFill>
        <p:spPr>
          <a:xfrm>
            <a:off x="6588000" y="3500280"/>
            <a:ext cx="2556000" cy="2374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0" y="6026040"/>
            <a:ext cx="9144000" cy="8254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881"/>
                </a:solidFill>
                <a:latin typeface="Arial"/>
              </a:rPr>
              <a:t>Что нового о природе Земли и России вы узнали за каникул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62800" cy="13413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Экономическая и социальная география России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в учебнике «Содержани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акие части делится все содержание курс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темы мы будем изучать в курсе географии 9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ясь «Кратким словарем терминов»  найдите объяснение слова «анкла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ясь таблицей 1 на стр.4, определите какое государство СНГ занимает 2 место после России по численности нас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 44. Прочитайте, какие проблемы населения характерны для Псковской области. Какие пути решения проблем вы можете предлож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1557360"/>
            <a:ext cx="9144000" cy="487764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50881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50881"/>
                </a:solidFill>
                <a:latin typeface="Arial"/>
              </a:rPr>
              <a:t>Что изучает    экономическая и социальная география России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0666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Становление экономической географии России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0" t="-472" r="3408" b="0"/>
          <a:stretch/>
        </p:blipFill>
        <p:spPr>
          <a:xfrm>
            <a:off x="4356000" y="4221000"/>
            <a:ext cx="1800360" cy="2637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6227640" y="5589720"/>
            <a:ext cx="34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881"/>
                </a:solidFill>
                <a:latin typeface="Arial"/>
              </a:rPr>
              <a:t>Н.Н.Баран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763640" y="1700280"/>
            <a:ext cx="3097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0881"/>
                </a:solidFill>
                <a:latin typeface="Arial"/>
              </a:rPr>
              <a:t>П. П. Семёнов-Тян-Ша́н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0" y="1125360"/>
            <a:ext cx="1814400" cy="259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2113200" cy="244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1187280" y="6461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0881"/>
                </a:solidFill>
                <a:latin typeface="Arial"/>
              </a:rPr>
              <a:t>В.Н.Татищев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4284720" y="1125360"/>
            <a:ext cx="2460600" cy="295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6732720" y="1413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50881"/>
                </a:solidFill>
                <a:latin typeface="Arial"/>
              </a:rPr>
              <a:t>М.В.Ломоносов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4130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Василий Никитович Татищев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021120" cy="3500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2700360" y="1484280"/>
            <a:ext cx="6049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.Н. Татищев - человек разносторонних талантов: воин (участник Полтавской битвы), дипломат, строитель городов и заводов, металлург, историк, этнограф, археолог, ботаник, палеонтолог, картограф, экономист и географ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нимался описанием географии России.   Создал  «Русскую историю». Татищев Петром 1  был отправлен на Урал.    В 1719 году Татищев подал царю представление, в котором указывал на необходимость размежевания в России. Занимался строительством заводов на Урале, основал города Пермь и Екатеринбург,  составил инструкцию для оберегания лесов и т. п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414972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тищев разделил географию трижды на три раздела, предложив тем самым как бы объемную (трехмерную) модель географической науки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“по масштабу исследования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: а) универсальную или генеральную, описывающую сушу и воды всей планеты и ее частей; б) специальную, описывающую разные страны; в) топографию, или “пределоописание”, когда описываются части страны, вплоть до отдельных городов с их пригород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“по качествам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: а) математическую (измерения Земли, необходимые “к познанию шара земного и ландкарт”; б) физическую (где обращено главное внимание на природные “довольства и недостатки” не только на поверхности, но и создающиеся внутри суши и водной толщи; в) политическую (где на первый план выдвигаются занятия населения, его трудовые навыки, обычаи и доходы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“по переменам времени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: а) древнюю географию; б) географию “среднюю”; в) географию современну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8388360" y="6308640"/>
            <a:ext cx="755640" cy="549360"/>
          </a:xfrm>
          <a:prstGeom prst="foldedCorner">
            <a:avLst>
              <a:gd name="adj" fmla="val 12500"/>
            </a:avLst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372360" cy="17002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П. П. Семёнов-Тян-Ша́нский.</a:t>
            </a:r>
            <a:br>
              <a:rPr sz="4000"/>
            </a:b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(1827-1914).</a:t>
            </a:r>
            <a:r>
              <a:rPr b="0" lang="ru-RU" sz="4000" spc="-1" strike="noStrike">
                <a:solidFill>
                  <a:srgbClr val="e2e2d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84000" y="1844640"/>
            <a:ext cx="6659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а Русского географического общества (с 1873). В 1859—60 участвовал в качестве члена-эксперта в работе Редакционной комиссии по подготовке крестьянской реформы 1861. Организатор первой переписи населения России в 1897 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75256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79280" y="4005360"/>
            <a:ext cx="896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еновым-Тян-Шанским написаны многие региональные монографии, включая пятитомный “Географо-статистический словарь Российской Империи” (1863-1885).  Он превратил Русское географическое общество в первоклассную школу молодых исследователей: путешественников, этнографов, океанологов, картографов, экономистов. Среди них были   Н.Н. Миклухо-Маклай,     Н.М. Пржевальский,   Г.Н. Потанин, М.В. Певцов, А.Л. Чекановский, И.Д. Черский, И.В. Мушкетов, А.П. Федченко, А.А. Тилло, П.А. Кропоткин, А.И. Воейков, И.П. Минаев, Ю.М. Шокальский и многие другие.  В Русском географическом обществе Семенов-Тянь-Шанский создал блестящее созвездие географов разных специальностей, но более всего - географов широкого профиля, занимающихся комплексным исследованием природы и чело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8101080" y="6237360"/>
            <a:ext cx="1042920" cy="620640"/>
          </a:xfrm>
          <a:prstGeom prst="foldedCorner">
            <a:avLst>
              <a:gd name="adj" fmla="val 12500"/>
            </a:avLst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372360" cy="14842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50881"/>
                </a:solidFill>
                <a:latin typeface="Arial"/>
              </a:rPr>
              <a:t>Николай Николаевич Баранский(1881-1963)</a:t>
            </a:r>
            <a:r>
              <a:rPr b="0" lang="ru-RU" sz="4400" spc="-1" strike="noStrike">
                <a:solidFill>
                  <a:srgbClr val="e2e2d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его руководством   сформировалось районное направление в экономической географии и была создана научная отрасль географии городов.  Баранский является автором нескольких учебников по экономической географии СССР для средних школ, трудов по социально-экономической географии и экономической карт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741760" cy="3860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771640" y="2133720"/>
            <a:ext cx="63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основателем экономической и социальной ге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8101080" y="6237360"/>
            <a:ext cx="1042920" cy="620640"/>
          </a:xfrm>
          <a:prstGeom prst="foldedCorner">
            <a:avLst>
              <a:gd name="adj" fmla="val 12500"/>
            </a:avLst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08000" y="189000"/>
            <a:ext cx="5435640" cy="12952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0881"/>
                </a:solidFill>
                <a:latin typeface="Arial"/>
              </a:rPr>
              <a:t>Михаил Васильевич Ломоносов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360" y="1557360"/>
            <a:ext cx="56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.В. Ломоносов  известен как основатель (1755 г.) Московского университета, как всеобъемлющий гений - философ, физик, химик, поэт, экономист, картограф, геолог и географ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758 г. Ломоносов был поставлен во главе Географического департамента Академии наук. Сразу же после своего вступления в должность он рассылает на места “Запросы” (в них было 30 пунктов) для сочинения Российского атласа, который, по мысли Ломоносова, должен был сопровождаться полным географическим описанием России. В указанных “Запросах” большинство пунктов относится к экономической географии. Впервые в истории мировой науки в начале 1760 г. он предложил термин “экономическая география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38520" cy="4365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-181080" y="47242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омоносов стал душой изучения Арктики и подготовки первых комплексных географических исследований России, получивших наименование Академических экспедиций. Свой проект освоения Русского Севера Ломоносов изложил в записке “Краткое описание разных путешествий по Северным морям и показания возможного проходу Сибирским океаном в Восточную Индию...”. После Ломоносова внимание царского правительства на значение Северного морского пути пытались обратить и другие крупные ученые - П.А. Кропоткин и Д.И. Менделе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8101080" y="6237360"/>
            <a:ext cx="1042920" cy="620640"/>
          </a:xfrm>
          <a:prstGeom prst="foldedCorner">
            <a:avLst>
              <a:gd name="adj" fmla="val 12500"/>
            </a:avLst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40:10Z</dcterms:created>
  <dc:creator>Admin</dc:creator>
  <dc:description/>
  <dc:language>en-US</dc:language>
  <cp:lastModifiedBy>Пользователь</cp:lastModifiedBy>
  <dcterms:modified xsi:type="dcterms:W3CDTF">2017-09-04T14:35:18Z</dcterms:modified>
  <cp:revision>32</cp:revision>
  <dc:subject/>
  <dc:title>Введение в экономическую</dc:title>
</cp:coreProperties>
</file>