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1DB-4E89-49A3-8F10-F693602F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665-E7AA-4972-9C0A-20D0A41D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DE0-74CD-4313-B853-3E1B0641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B68-FFD2-48C1-9D5C-29DABA00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2CD52-045A-44E6-BEA6-25596201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025A8-11B2-4DE5-9E81-F53622D9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3EBF9-B968-47FE-9BEB-03F25A85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855C8-F952-4313-8039-5C094022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83E97-6FBD-4D3F-86E4-8713928D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D722C-B6ED-49D1-8498-BFC3C9AE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2F5F1-6C1D-4F33-8933-4E6E683A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9D9-6649-4087-8850-D9D98537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475EC-B2C9-4A93-B460-6BC78878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789FD-EF97-43AC-A53F-66403B1B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97BB9-1DE6-4D98-8FF5-32B17CB0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4C363-873B-4D6E-AEF2-E4867AB1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50222-F502-41DC-9B50-15CA2D8A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051-0E59-4B13-9697-7F16AB43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C1E-A325-4F0F-B0D8-0B45B3DA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74D-6578-40CA-A924-DF751BA4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7BC-CB44-475C-9632-DEE79314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ADD-C37F-482B-9522-619D00A0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302-2ED8-472E-BF76-25420AE8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194-C3CD-4199-A0A9-7BF516B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Полилиния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Полилиния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Группа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Полилиния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Группа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Полилиния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Полилиния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Полилиния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Полилиния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Полилиния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Полилиния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Группа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Полилиния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Полилиния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Полилиния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Полилиния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Полилиния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Полилиния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9EBB-A76C-4CAA-9B03-56EEA18CCF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Полилиния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Полилиния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Полилиния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Группа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Полилиния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Группа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Полилиния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Полилиния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Полилиния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Полилиния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Полилиния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Полилиния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Группа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Полилиния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олилиния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олилиния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олилиния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олилиния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олилиния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44F2-9EFC-46FF-A0EB-47F733DCF1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fbe7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cc"/>
                </a:solidFill>
                <a:latin typeface="Arial"/>
              </a:rPr>
              <a:t>Значение физической активности  и закаливания для здоровья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каливание солнце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лнечные инфракрасные лучи обладают ярко выраженным тепловым действием на организм. Они способствуют образованию дополнительного тепла в организме. В результате этого усиливается деятельность потовых желез и увеличивается испарение влаги с поверхности кожи: происходит расширение подкожных сосудов и возникает гиперемия кожи, усиливается кровоток, а это улучшает кровообращение  во  всех тканях организм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523880" y="3141720"/>
            <a:ext cx="60962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авила  приема солнечной ванн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ый раз до 20 минут и увеличение каждый раз на 5-10 мину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час до еды и через 1.5 часов после 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ксимальная продолжительность 1.5-2 ча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принимать солнечные ванны с 12 часов до 14ча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аливание водо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 носоглотки ( полоскание горло прохладной, а затем холодной вод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ливание стоп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 Начинать с температуры 30-35 граду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Через каждые 5  дней снижать температуру на 1-2 градуса до 10 градусов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аливание водо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жные ван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оги погружают в ведро или таз с водой. Началь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0- 28 граду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Через каждые 10 дней , ее снижают на 1-2 градусов  до конечн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ы 15-13 граду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аливание воздухом -</a:t>
            </a:r>
            <a:br>
              <a:rPr sz="4400"/>
            </a:br>
            <a:r>
              <a:rPr b="0" i="1" lang="ru-RU" sz="2800" spc="-1" strike="noStrike">
                <a:solidFill>
                  <a:srgbClr val="e3e3ff"/>
                </a:solidFill>
                <a:latin typeface="Arial"/>
              </a:rPr>
              <a:t>криотерапи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ung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unga"/>
              </a:rPr>
              <a:t>Этот тип закаливания 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тите внима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риод острых заболеваний все виды закаливания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тивопоказаны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жно научиться самому следить за своим здоровьем - во время закаливания и нагрузки считать пульс, контролировать дыхание. Постепенное урежение пульса в состоянии покоя говорит о пользе тренировок и наобор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удьте здоровы!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762120" y="1413000"/>
            <a:ext cx="7619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29152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Влияние физических  упражнений и занятий спортом на развитие растущего организма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ют все отделы центральной нервной системы  и головного моз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тические тренировки делают мышцы силь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лучшают  вентиляционные способности легк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ствуют увеличению массы  скелетной мускул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крепляют суставовы, связк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Гиподинамия</a:t>
            </a: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 – это нарушение функций организма (опорно-двигательного аппарата, кровообращения, дыхания, пищеварения) при ограничении двигательной активности, снижении силы сокращения мышц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11280" y="1886040"/>
            <a:ext cx="777708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1.Что я делаю для сохранения своего здоровья?</a:t>
            </a: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2. Чем я наношу вред своему здоровью?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816360" cy="424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ladyflower.ru/uploads/posts/2011-09/1315577820_sport-i-zdorovyj-obraz-zhizni.jpg"/>
          <p:cNvPicPr/>
          <p:nvPr/>
        </p:nvPicPr>
        <p:blipFill>
          <a:blip r:embed="rId2"/>
          <a:stretch/>
        </p:blipFill>
        <p:spPr>
          <a:xfrm>
            <a:off x="155520" y="1773360"/>
            <a:ext cx="49212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инципы оздоровительных физических нагрузок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зировки и оптима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еп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т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ноценного отды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аливание организм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4" descr="DSCN3828.jpg"/>
          <p:cNvPicPr/>
          <p:nvPr/>
        </p:nvPicPr>
        <p:blipFill>
          <a:blip r:embed="rId1"/>
          <a:srcRect l="0" t="21878" r="0" b="21878"/>
          <a:stretch/>
        </p:blipFill>
        <p:spPr>
          <a:xfrm>
            <a:off x="179280" y="1557360"/>
            <a:ext cx="85726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Регулярное закаливание обеспечивает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величение способностей к восприятию и запомина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крепление силы в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ивную физиологическую деятельность и здорову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медление процесса ста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ление срока активной жизни на 20-25 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Arial"/>
              </a:rPr>
              <a:t>Правила закаливания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Закаливание должно быть  систематическим, начинать следует на фоне полного здоровья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ffff"/>
                </a:solidFill>
                <a:latin typeface="Arial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Organization Chart 16"/>
          <p:cNvGrpSpPr/>
          <p:nvPr/>
        </p:nvGrpSpPr>
        <p:grpSpPr>
          <a:xfrm>
            <a:off x="539640" y="981000"/>
            <a:ext cx="8228160" cy="4495680"/>
            <a:chOff x="539640" y="981000"/>
            <a:chExt cx="8228160" cy="4495680"/>
          </a:xfrm>
        </p:grpSpPr>
        <p:cxnSp>
          <p:nvCxnSpPr>
            <p:cNvPr id="141" name="_s1028"/>
            <p:cNvCxnSpPr>
              <a:stCxn id="142" idx="1"/>
              <a:endCxn id="143" idx="2"/>
            </p:cNvCxnSpPr>
            <p:nvPr/>
          </p:nvCxnSpPr>
          <p:spPr>
            <a:xfrm rot="10800000">
              <a:off x="3138840" y="1407600"/>
              <a:ext cx="404640" cy="3868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29"/>
            <p:cNvCxnSpPr>
              <a:stCxn id="145" idx="1"/>
              <a:endCxn id="143" idx="2"/>
            </p:cNvCxnSpPr>
            <p:nvPr/>
          </p:nvCxnSpPr>
          <p:spPr>
            <a:xfrm rot="10800000">
              <a:off x="3138840" y="1407600"/>
              <a:ext cx="404640" cy="32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030"/>
            <p:cNvCxnSpPr>
              <a:stCxn id="147" idx="1"/>
              <a:endCxn id="143" idx="2"/>
            </p:cNvCxnSpPr>
            <p:nvPr/>
          </p:nvCxnSpPr>
          <p:spPr>
            <a:xfrm rot="10800000">
              <a:off x="3138840" y="1407600"/>
              <a:ext cx="404640" cy="2698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1031"/>
            <p:cNvCxnSpPr>
              <a:stCxn id="149" idx="1"/>
              <a:endCxn id="143" idx="2"/>
            </p:cNvCxnSpPr>
            <p:nvPr/>
          </p:nvCxnSpPr>
          <p:spPr>
            <a:xfrm rot="10800000">
              <a:off x="3138840" y="1407600"/>
              <a:ext cx="404640" cy="211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0" name="_s1032"/>
            <p:cNvCxnSpPr>
              <a:stCxn id="151" idx="1"/>
              <a:endCxn id="143" idx="2"/>
            </p:cNvCxnSpPr>
            <p:nvPr/>
          </p:nvCxnSpPr>
          <p:spPr>
            <a:xfrm rot="10800000">
              <a:off x="3138840" y="1407600"/>
              <a:ext cx="404640" cy="1528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2" name="_s1033"/>
            <p:cNvCxnSpPr>
              <a:stCxn id="153" idx="1"/>
              <a:endCxn id="143" idx="2"/>
            </p:cNvCxnSpPr>
            <p:nvPr/>
          </p:nvCxnSpPr>
          <p:spPr>
            <a:xfrm rot="10800000">
              <a:off x="3138840" y="1407600"/>
              <a:ext cx="404640" cy="94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4" name="_s1034"/>
            <p:cNvCxnSpPr>
              <a:stCxn id="155" idx="1"/>
              <a:endCxn id="143" idx="2"/>
            </p:cNvCxnSpPr>
            <p:nvPr/>
          </p:nvCxnSpPr>
          <p:spPr>
            <a:xfrm rot="10800000">
              <a:off x="3138840" y="1407600"/>
              <a:ext cx="404640" cy="358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1035"/>
            <p:cNvSpPr/>
            <p:nvPr/>
          </p:nvSpPr>
          <p:spPr>
            <a:xfrm>
              <a:off x="539640" y="98100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Arial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6"/>
            <p:cNvSpPr/>
            <p:nvPr/>
          </p:nvSpPr>
          <p:spPr>
            <a:xfrm>
              <a:off x="3567960" y="1565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rial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37"/>
            <p:cNvSpPr/>
            <p:nvPr/>
          </p:nvSpPr>
          <p:spPr>
            <a:xfrm>
              <a:off x="3567960" y="2150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rial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>
              <a:off x="3567960" y="2735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rial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1039"/>
            <p:cNvSpPr/>
            <p:nvPr/>
          </p:nvSpPr>
          <p:spPr>
            <a:xfrm>
              <a:off x="3567960" y="3320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rial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1040"/>
            <p:cNvSpPr/>
            <p:nvPr/>
          </p:nvSpPr>
          <p:spPr>
            <a:xfrm>
              <a:off x="3567960" y="3905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rial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1041"/>
            <p:cNvSpPr/>
            <p:nvPr/>
          </p:nvSpPr>
          <p:spPr>
            <a:xfrm>
              <a:off x="3567960" y="4490640"/>
              <a:ext cx="519984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rial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042"/>
            <p:cNvSpPr/>
            <p:nvPr/>
          </p:nvSpPr>
          <p:spPr>
            <a:xfrm>
              <a:off x="3567960" y="5075640"/>
              <a:ext cx="5193000" cy="40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rial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0:55:00Z</dcterms:created>
  <dc:creator>11</dc:creator>
  <dc:description/>
  <dc:language>en-US</dc:language>
  <cp:lastModifiedBy>User</cp:lastModifiedBy>
  <dcterms:modified xsi:type="dcterms:W3CDTF">2023-04-05T13:11:02Z</dcterms:modified>
  <cp:revision>35</cp:revision>
  <dc:subject/>
  <dc:title>Урок 1</dc:title>
</cp:coreProperties>
</file>