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A2A-A137-436E-9657-8D6EF040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1D3-D013-41B4-9415-1AE8C36C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95D-1482-43DC-92E7-B1451E91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03A-36D9-4DB7-B9E9-3E7539E3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8B347-2824-4B4D-896C-6452F4A0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65E18-5E8F-4E33-AA66-375ADF37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41448-D965-4984-B556-C5EDF6DE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BA0F7-7A63-4253-8EEB-643D5379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4CE4B-59C3-4206-B861-0CB9A906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61948-29AB-4E1A-917C-F872FC4A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7B338-E901-4D76-B15C-7DB40190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1A8-E828-4080-8268-692E8D00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6F310-E2E0-4F4E-A1CC-6AB28132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437EF-05F7-4E97-8122-FDF4CDBE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FBC20-8472-49E0-A41B-A1F569D7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5E464-D54D-476C-B3B3-11064F1D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D6144-3A71-4951-945A-61679E28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36C8-D5D7-4D29-8488-5A6FA04B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99FA-CBAD-4D39-936A-D5B05CDA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3A9-13FD-4892-A4A6-92F86192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1468-5A58-485F-AD8B-41A73D66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EB5B-E8ED-49ED-B2A1-1526C946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6DA0-4FB0-4C3C-AFA3-1B8A06CA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8A7F-5F91-4B47-AEDF-5BBEBC22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Полилиния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Полилиния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Группа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Полилиния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Группа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Полилиния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Полилиния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Полилиния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Полилиния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Полилиния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Полилиния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Группа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Полилиния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Полилиния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Полилиния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Полилиния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Полилиния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Полилиния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0DCB-C1BF-4CF4-89CC-204E0F18137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Группа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Полилиния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Полилиния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Полилиния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Группа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Полилиния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Группа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Полилиния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Полилиния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Полилиния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Полилиния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Полилиния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Полилиния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Группа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Полилиния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Полилиния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Полилиния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Полилиния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Полилиния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Полилиния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E445-2DBC-43EC-A71C-36166FD4A73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fbe7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cc"/>
                </a:solidFill>
                <a:latin typeface="Arial"/>
              </a:rPr>
              <a:t>Значение физической активности  и закаливания для здоровья челове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каливание солнце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лнечные инфракрасные лучи обладают ярко выраженным тепловым действием на организм. Они способствуют образованию дополнительного тепла в организме. В результате этого усиливается деятельность потовых желез и увеличивается испарение влаги с поверхности кожи: происходит расширение подкожных сосудов и возникает гиперемия кожи, усиливается кровоток, а это улучшает кровообращение  во  всех тканях организм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523880" y="3141720"/>
            <a:ext cx="60962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авила  приема солнечной ванн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ый раз до 20 минут и увеличение каждый раз на 5-10 мину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час до еды и через 1.5 часов после е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ксимальная продолжительность 1.5-2 ча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льзя принимать солнечные ванны с 12 часов до 14ча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каливание водо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 носоглотки ( полоскание горло прохладной, а затем холодной водо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ливание стоп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 Начинать с температуры 30-35 граду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 Через каждые 5  дней снижать температуру на 1-2 градуса до 10 градусов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каливание водо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жные ванн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Ноги погружают в ведро или таз с водой. Начальна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30- 28 граду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Через каждые 10 дней , ее снижают на 1-2 градусов  до конечной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ы 15-13 граду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каливание воздухом -</a:t>
            </a:r>
            <a:br>
              <a:rPr sz="4400"/>
            </a:br>
            <a:r>
              <a:rPr b="0" i="1" lang="ru-RU" sz="2800" spc="-1" strike="noStrike">
                <a:solidFill>
                  <a:srgbClr val="e3e3ff"/>
                </a:solidFill>
                <a:latin typeface="Arial"/>
              </a:rPr>
              <a:t>криотерапия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ung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unga"/>
              </a:rPr>
              <a:t>Этот тип закаливания  доступный каждому человеку в любое время года. Воздух действует непосредственно на наше тело. Кожу, приводит к ряду биохимических изменений в клетках тканей, раздражает кожные рецепторы нервной системы. Воздушные ванны лучше всего применять на открытом воздухе, их полезно сочетать с различными физическими упражнениями – ходьбой, бегом, гимнасти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u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тите внимани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ериод острых заболеваний все виды закаливания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тивопоказаны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жно научиться самому следить за своим здоровьем - во время закаливания и нагрузки считать пульс, контролировать дыхание. Постепенное урежение пульса в состоянии покоя говорит о пользе тренировок и наоборо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Будьте здоровы!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пасибо за урок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762120" y="1413000"/>
            <a:ext cx="7619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29152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Влияние физических  упражнений и занятий спортом на развитие растущего организма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вают все отделы центральной нервной системы  и головного моз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стематические тренировки делают мышцы сильн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лучшают  вентиляционные способности легк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собствуют увеличению массы  скелетной мускула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крепляют суставовы, связк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Гиподинамия</a:t>
            </a: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 – это нарушение функций организма (опорно-двигательного аппарата, кровообращения, дыхания, пищеварения) при ограничении двигательной активности, снижении силы сокращения мышц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611280" y="1886040"/>
            <a:ext cx="777708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1.Что я делаю для сохранения своего здоровья?</a:t>
            </a:r>
            <a:br>
              <a:rPr sz="2800"/>
            </a:b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2. Чем я наношу вред своему здоровью?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816360" cy="424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://ladyflower.ru/uploads/posts/2011-09/1315577820_sport-i-zdorovyj-obraz-zhizni.jpg"/>
          <p:cNvPicPr/>
          <p:nvPr/>
        </p:nvPicPr>
        <p:blipFill>
          <a:blip r:embed="rId2"/>
          <a:stretch/>
        </p:blipFill>
        <p:spPr>
          <a:xfrm>
            <a:off x="155520" y="1773360"/>
            <a:ext cx="49212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инципы оздоровительных физических нагрузок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нцип контр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зировки и оптима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епен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д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стемати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ноценного отды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каливание организм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Рисунок 4" descr="DSCN3828.jpg"/>
          <p:cNvPicPr/>
          <p:nvPr/>
        </p:nvPicPr>
        <p:blipFill>
          <a:blip r:embed="rId1"/>
          <a:srcRect l="0" t="21878" r="0" b="21878"/>
          <a:stretch/>
        </p:blipFill>
        <p:spPr>
          <a:xfrm>
            <a:off x="179280" y="1557360"/>
            <a:ext cx="857268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Регулярное закаливание обеспечивает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величение способностей к восприятию и запомина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крепление силы в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ивную физиологическую деятельность и здоровую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медление процесса стар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дление срока активной жизни на 20-25 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66ff"/>
                </a:solidFill>
                <a:uFillTx/>
                <a:latin typeface="Arial"/>
              </a:rPr>
              <a:t>Правила закаливания: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ffff"/>
                </a:solidFill>
                <a:latin typeface="Arial"/>
              </a:rPr>
              <a:t>Необходимость психологического настроя на закаливание, заинтересованность в нём . Это самый важный принци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ffff"/>
                </a:solidFill>
                <a:latin typeface="Arial"/>
              </a:rPr>
              <a:t>Закаливание должно быть  систематическим, начинать следует на фоне полного здоровья орган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ffff"/>
                </a:solidFill>
                <a:latin typeface="Arial"/>
              </a:rPr>
              <a:t>Закаливание должно быть комплексным, что предполагает различные виды закаливания: пассивные и активные, общие местные, коллективные   индивидуальные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ffff"/>
                </a:solidFill>
                <a:latin typeface="Arial"/>
              </a:rPr>
              <a:t>Закаливание должно быть постепенным, время контакта с сильным холодом  должно увеличиваться постепен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ffff"/>
                </a:solidFill>
                <a:latin typeface="Arial"/>
              </a:rPr>
              <a:t>Закаливание должно проводиться с учётом индивидуальных особенностей организма и климатических условий конкретного реги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ffff"/>
                </a:solidFill>
                <a:latin typeface="Arial"/>
              </a:rPr>
              <a:t>Закаливание должно быть «на грани удовольствия«, т.е. не насиловать себя чрезмерными нагрузками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Organization Chart 16"/>
          <p:cNvGrpSpPr/>
          <p:nvPr/>
        </p:nvGrpSpPr>
        <p:grpSpPr>
          <a:xfrm>
            <a:off x="539640" y="981000"/>
            <a:ext cx="8228160" cy="4495680"/>
            <a:chOff x="539640" y="981000"/>
            <a:chExt cx="8228160" cy="4495680"/>
          </a:xfrm>
        </p:grpSpPr>
        <p:cxnSp>
          <p:nvCxnSpPr>
            <p:cNvPr id="141" name="_s1028"/>
            <p:cNvCxnSpPr>
              <a:stCxn id="142" idx="1"/>
              <a:endCxn id="143" idx="2"/>
            </p:cNvCxnSpPr>
            <p:nvPr/>
          </p:nvCxnSpPr>
          <p:spPr>
            <a:xfrm rot="10800000">
              <a:off x="3138840" y="1407600"/>
              <a:ext cx="404640" cy="3868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1029"/>
            <p:cNvCxnSpPr>
              <a:stCxn id="145" idx="1"/>
              <a:endCxn id="143" idx="2"/>
            </p:cNvCxnSpPr>
            <p:nvPr/>
          </p:nvCxnSpPr>
          <p:spPr>
            <a:xfrm rot="10800000">
              <a:off x="3138840" y="1407600"/>
              <a:ext cx="404640" cy="3285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1030"/>
            <p:cNvCxnSpPr>
              <a:stCxn id="147" idx="1"/>
              <a:endCxn id="143" idx="2"/>
            </p:cNvCxnSpPr>
            <p:nvPr/>
          </p:nvCxnSpPr>
          <p:spPr>
            <a:xfrm rot="10800000">
              <a:off x="3138840" y="1407600"/>
              <a:ext cx="404640" cy="2698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1031"/>
            <p:cNvCxnSpPr>
              <a:stCxn id="149" idx="1"/>
              <a:endCxn id="143" idx="2"/>
            </p:cNvCxnSpPr>
            <p:nvPr/>
          </p:nvCxnSpPr>
          <p:spPr>
            <a:xfrm rot="10800000">
              <a:off x="3138840" y="1407600"/>
              <a:ext cx="404640" cy="211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0" name="_s1032"/>
            <p:cNvCxnSpPr>
              <a:stCxn id="151" idx="1"/>
              <a:endCxn id="143" idx="2"/>
            </p:cNvCxnSpPr>
            <p:nvPr/>
          </p:nvCxnSpPr>
          <p:spPr>
            <a:xfrm rot="10800000">
              <a:off x="3138840" y="1407600"/>
              <a:ext cx="404640" cy="1528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2" name="_s1033"/>
            <p:cNvCxnSpPr>
              <a:stCxn id="153" idx="1"/>
              <a:endCxn id="143" idx="2"/>
            </p:cNvCxnSpPr>
            <p:nvPr/>
          </p:nvCxnSpPr>
          <p:spPr>
            <a:xfrm rot="10800000">
              <a:off x="3138840" y="1407600"/>
              <a:ext cx="404640" cy="94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4" name="_s1034"/>
            <p:cNvCxnSpPr>
              <a:stCxn id="155" idx="1"/>
              <a:endCxn id="143" idx="2"/>
            </p:cNvCxnSpPr>
            <p:nvPr/>
          </p:nvCxnSpPr>
          <p:spPr>
            <a:xfrm rot="10800000">
              <a:off x="3138840" y="1407600"/>
              <a:ext cx="404640" cy="358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3" name="_s1035"/>
            <p:cNvSpPr/>
            <p:nvPr/>
          </p:nvSpPr>
          <p:spPr>
            <a:xfrm>
              <a:off x="539640" y="981000"/>
              <a:ext cx="5199840" cy="401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490092"/>
                  </a:solidFill>
                  <a:latin typeface="Arial"/>
                </a:rPr>
                <a:t>Способы закаливания: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6"/>
            <p:cNvSpPr/>
            <p:nvPr/>
          </p:nvSpPr>
          <p:spPr>
            <a:xfrm>
              <a:off x="3567960" y="1565640"/>
              <a:ext cx="5199840" cy="401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5f04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rial"/>
                </a:rPr>
                <a:t>Обтира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37"/>
            <p:cNvSpPr/>
            <p:nvPr/>
          </p:nvSpPr>
          <p:spPr>
            <a:xfrm>
              <a:off x="3567960" y="2150640"/>
              <a:ext cx="5199840" cy="401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rial"/>
                </a:rPr>
                <a:t>Облива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1038"/>
            <p:cNvSpPr/>
            <p:nvPr/>
          </p:nvSpPr>
          <p:spPr>
            <a:xfrm>
              <a:off x="3567960" y="2735640"/>
              <a:ext cx="5199840" cy="401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rial"/>
                </a:rPr>
                <a:t>Воздушные ванны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1039"/>
            <p:cNvSpPr/>
            <p:nvPr/>
          </p:nvSpPr>
          <p:spPr>
            <a:xfrm>
              <a:off x="3567960" y="3320640"/>
              <a:ext cx="5199840" cy="401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rial"/>
                </a:rPr>
                <a:t>Солнечные ванны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1040"/>
            <p:cNvSpPr/>
            <p:nvPr/>
          </p:nvSpPr>
          <p:spPr>
            <a:xfrm>
              <a:off x="3567960" y="3905640"/>
              <a:ext cx="5199840" cy="401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90092"/>
                  </a:solidFill>
                  <a:latin typeface="Arial"/>
                </a:rPr>
                <a:t>Купание в открытых водоёма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1041"/>
            <p:cNvSpPr/>
            <p:nvPr/>
          </p:nvSpPr>
          <p:spPr>
            <a:xfrm>
              <a:off x="3567960" y="4490640"/>
              <a:ext cx="5199840" cy="401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rial"/>
                </a:rPr>
                <a:t>Босохожде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042"/>
            <p:cNvSpPr/>
            <p:nvPr/>
          </p:nvSpPr>
          <p:spPr>
            <a:xfrm>
              <a:off x="3567960" y="5075640"/>
              <a:ext cx="5193000" cy="401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90092"/>
                  </a:solidFill>
                  <a:latin typeface="Arial"/>
                </a:rPr>
                <a:t>Моржева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0:55:00Z</dcterms:created>
  <dc:creator>11</dc:creator>
  <dc:description/>
  <dc:language>en-US</dc:language>
  <cp:lastModifiedBy>User</cp:lastModifiedBy>
  <dcterms:modified xsi:type="dcterms:W3CDTF">2023-04-05T13:11:02Z</dcterms:modified>
  <cp:revision>35</cp:revision>
  <dc:subject/>
  <dc:title>Урок 1</dc:title>
</cp:coreProperties>
</file>