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7FB-39D8-4C0C-9061-FA88F388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B27-7070-4734-834B-B2C8D1F4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8F2-9E37-492A-B9C7-FF2B064F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C25-5CDD-483C-B6E0-D1C2CA91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C77-1D06-4FD9-8228-8647E4A8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04BD-043D-4E50-B342-3FEDB54A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600D-883D-481B-BFBF-8D6B92C9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BE24-7938-47EF-9AE5-81FA8DEF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2EE0-6EDF-471B-84DF-23AE1DAD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060-939D-49FD-9C37-91117B22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D5EF-E093-43FF-AC77-0A86CB8F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5FC2-C2EC-48AC-ABCD-5F72F358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668F-6216-458F-B734-185F4456B0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0" y="35676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Фемида -</a:t>
            </a:r>
            <a:br>
              <a:rPr sz="36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ревнегреческая богиня правосуд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00720" y="4221000"/>
            <a:ext cx="4114800" cy="9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яз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а глазах богине символизирует беспристрастнос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572000" y="1628640"/>
            <a:ext cx="4114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572000" y="2924280"/>
            <a:ext cx="4114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572000" y="2781360"/>
            <a:ext cx="4114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4572000" y="2852640"/>
            <a:ext cx="4114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 руках Фемиды -  символ возмезд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4643280" y="4149720"/>
            <a:ext cx="4114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4788000" y="1844640"/>
            <a:ext cx="4114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4572000" y="1773360"/>
            <a:ext cx="4114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евний символ меры и справедл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2"/>
          <a:stretch/>
        </p:blipFill>
        <p:spPr>
          <a:xfrm>
            <a:off x="785880" y="642960"/>
            <a:ext cx="335736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ая соединительная линия 13"/>
          <p:cNvSpPr/>
          <p:nvPr/>
        </p:nvSpPr>
        <p:spPr>
          <a:xfrm flipH="1">
            <a:off x="5651640" y="1773360"/>
            <a:ext cx="71280" cy="14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7"/>
          <p:cNvSpPr/>
          <p:nvPr/>
        </p:nvSpPr>
        <p:spPr>
          <a:xfrm flipV="1">
            <a:off x="5571360" y="4214520"/>
            <a:ext cx="71640" cy="14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 flipH="1">
            <a:off x="6732360" y="333360"/>
            <a:ext cx="142920" cy="2142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огое ли может сделать человек, если ему всего 13-14 ле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71640" y="2997360"/>
          <a:ext cx="7358040" cy="2786040"/>
        </p:xfrm>
        <a:graphic>
          <a:graphicData uri="http://schemas.openxmlformats.org/drawingml/2006/table">
            <a:tbl>
              <a:tblPr/>
              <a:tblGrid>
                <a:gridCol w="3678120"/>
                <a:gridCol w="3679920"/>
              </a:tblGrid>
              <a:tr h="278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Дерево посад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ад посад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акормить плодами своего труда близких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аучиться все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ломать дере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рубить дерев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шать другим учить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Стрелка вправо 6"/>
          <p:cNvSpPr/>
          <p:nvPr/>
        </p:nvSpPr>
        <p:spPr>
          <a:xfrm rot="10800000">
            <a:off x="1547640" y="2060640"/>
            <a:ext cx="2237040" cy="70632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4f81bd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3995640" y="1413000"/>
            <a:ext cx="106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низ 5"/>
          <p:cNvSpPr/>
          <p:nvPr/>
        </p:nvSpPr>
        <p:spPr>
          <a:xfrm rot="16200000">
            <a:off x="6234840" y="1189800"/>
            <a:ext cx="706320" cy="24480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Объект 2" descr=""/>
          <p:cNvPicPr/>
          <p:nvPr/>
        </p:nvPicPr>
        <p:blipFill>
          <a:blip r:embed="rId2"/>
          <a:stretch/>
        </p:blipFill>
        <p:spPr>
          <a:xfrm>
            <a:off x="219240" y="-6480"/>
            <a:ext cx="9016920" cy="4797720"/>
          </a:xfrm>
          <a:prstGeom prst="rect">
            <a:avLst/>
          </a:prstGeom>
          <a:ln w="0">
            <a:noFill/>
          </a:ln>
        </p:spPr>
      </p:pic>
      <p:sp>
        <p:nvSpPr>
          <p:cNvPr id="88" name="Заголовок 1"/>
          <p:cNvSpPr/>
          <p:nvPr/>
        </p:nvSpPr>
        <p:spPr>
          <a:xfrm>
            <a:off x="684360" y="5589720"/>
            <a:ext cx="71294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404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2500"/>
            </a:br>
            <a:r>
              <a:rPr b="1" lang="ru-RU" sz="7200" spc="-1" strike="noStrike">
                <a:solidFill>
                  <a:srgbClr val="7030a0"/>
                </a:solidFill>
                <a:latin typeface="Times New Roman"/>
              </a:rPr>
              <a:t>На весах Фемиды</a:t>
            </a:r>
            <a:br>
              <a:rPr sz="2500"/>
            </a:br>
            <a:br>
              <a:rPr sz="1800"/>
            </a:br>
            <a:br>
              <a:rPr sz="77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4000680" y="4357800"/>
            <a:ext cx="47876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br>
              <a:rPr sz="24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http://www.shareyouressays.com/wp-content/uploads/2015/10/Statutes-of-Limitations.jpg"/>
          <p:cNvPicPr/>
          <p:nvPr/>
        </p:nvPicPr>
        <p:blipFill>
          <a:blip r:embed="rId2"/>
          <a:stretch/>
        </p:blipFill>
        <p:spPr>
          <a:xfrm>
            <a:off x="2195640" y="2349360"/>
            <a:ext cx="489744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2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комиться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2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ъяснить понятия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2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граничить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2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ывать в себе  уважение к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ы-э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28760" y="1483920"/>
            <a:ext cx="8229600" cy="36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авила, которые устанавливает государство. Их должны выполнять все граждане нашей стра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язанности - э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1483920"/>
            <a:ext cx="8229600" cy="36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установленная обществом и государством необходимость вести себя определенным образ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т прав без обязанно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трого соблюдать Конституцию РФ и зако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еприкосновенность жилищ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вобода мысли и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Заботиться о своих детях, их воспита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о достижении 18 лет заботиться о своих нетрудоспособных родител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Свобода пере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Получить основное общее образование (9 клас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Заботиться о сохранении исторического и культурного наследия, беречь памятники ист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Свобода сов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Платить законно установленные налоги и сб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Неприкосновенность частной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Охранять природу и окружающую среду, бережно относиться к природным богатств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Защищать Отечество и нести военную служб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Свобода и личная неприкоснове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Уважение прав и свобод других ли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вовой статус ребен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«С рождения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«10 лет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«14 лет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«16 лет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«17 лет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«18 ле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pic>
        <p:nvPicPr>
          <p:cNvPr id="79" name="Содержимое 5" descr="img13.jpg"/>
          <p:cNvPicPr/>
          <p:nvPr/>
        </p:nvPicPr>
        <p:blipFill>
          <a:blip r:embed="rId2"/>
          <a:stretch/>
        </p:blipFill>
        <p:spPr>
          <a:xfrm>
            <a:off x="539640" y="260280"/>
            <a:ext cx="81439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3-04-05T08:36:37Z</dcterms:modified>
  <cp:revision>69</cp:revision>
  <dc:subject/>
  <dc:title>Слайд 1</dc:title>
</cp:coreProperties>
</file>