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382-7B2D-40C6-97BF-9F5198F4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686-FB1A-4F6A-82AA-31E28413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D1E-67F5-4450-B3C5-3AF075C2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B02-B716-4342-87D9-2AE6DA61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078-95E7-414F-B8B9-6E0249AF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A46-B31A-401D-A934-B83720F5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20C-7FB7-4A5F-BF92-FAA06182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616-900A-4B17-8D4E-5230A50D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258-1514-4E60-8488-475E62F7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BF2-C3CA-46B9-AB10-9464D66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931-5266-4D9C-AD25-2061074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A72-4DA6-4118-BFAE-EEEBEA3B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B0D7-6D7B-4B1B-8368-4331A86D8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0" y="35676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Фемида -</a:t>
            </a:r>
            <a:br>
              <a:rPr sz="36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ревнегреческая богиня правосуд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00720" y="4221000"/>
            <a:ext cx="4114800" cy="9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яз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 глазах богине символизирует беспристраст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572000" y="162864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0" y="292428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572000" y="278136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572000" y="285264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 руках Фемиды -  символ возмез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643280" y="414972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788000" y="184464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4572000" y="1773360"/>
            <a:ext cx="411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евний символ меры и справед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785880" y="642960"/>
            <a:ext cx="335736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ая соединительная линия 13"/>
          <p:cNvSpPr/>
          <p:nvPr/>
        </p:nvSpPr>
        <p:spPr>
          <a:xfrm flipH="1">
            <a:off x="5651640" y="1773360"/>
            <a:ext cx="71280" cy="14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7"/>
          <p:cNvSpPr/>
          <p:nvPr/>
        </p:nvSpPr>
        <p:spPr>
          <a:xfrm flipV="1">
            <a:off x="5571360" y="4214520"/>
            <a:ext cx="71640" cy="14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 flipH="1">
            <a:off x="6732360" y="333360"/>
            <a:ext cx="142920" cy="214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ое ли может сделать человек, если ему всего 13-14 л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71640" y="2997360"/>
          <a:ext cx="7358040" cy="278604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278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ерево посад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ад посад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кормить плодами своего труда близк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учиться вс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ломать дер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убить дере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шать другим учить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Стрелка вправо 6"/>
          <p:cNvSpPr/>
          <p:nvPr/>
        </p:nvSpPr>
        <p:spPr>
          <a:xfrm rot="10800000">
            <a:off x="1547640" y="2060640"/>
            <a:ext cx="2237040" cy="7063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995640" y="1413000"/>
            <a:ext cx="106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5"/>
          <p:cNvSpPr/>
          <p:nvPr/>
        </p:nvSpPr>
        <p:spPr>
          <a:xfrm rot="16200000">
            <a:off x="6234840" y="1189800"/>
            <a:ext cx="706320" cy="2448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Объект 2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9016920" cy="4797720"/>
          </a:xfrm>
          <a:prstGeom prst="rect">
            <a:avLst/>
          </a:prstGeom>
          <a:ln w="0">
            <a:noFill/>
          </a:ln>
        </p:spPr>
      </p:pic>
      <p:sp>
        <p:nvSpPr>
          <p:cNvPr id="88" name="Заголовок 1"/>
          <p:cNvSpPr/>
          <p:nvPr/>
        </p:nvSpPr>
        <p:spPr>
          <a:xfrm>
            <a:off x="684360" y="5589720"/>
            <a:ext cx="71294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500"/>
            </a:br>
            <a:r>
              <a:rPr b="1" lang="ru-RU" sz="7200" spc="-1" strike="noStrike">
                <a:solidFill>
                  <a:srgbClr val="7030a0"/>
                </a:solidFill>
                <a:latin typeface="Times New Roman"/>
              </a:rPr>
              <a:t>На весах Фемиды</a:t>
            </a:r>
            <a:br>
              <a:rPr sz="2500"/>
            </a:br>
            <a:br>
              <a:rPr sz="1800"/>
            </a:br>
            <a:br>
              <a:rPr sz="77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4000680" y="4357800"/>
            <a:ext cx="47876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24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www.shareyouressays.com/wp-content/uploads/2015/10/Statutes-of-Limitations.jpg"/>
          <p:cNvPicPr/>
          <p:nvPr/>
        </p:nvPicPr>
        <p:blipFill>
          <a:blip r:embed="rId2"/>
          <a:stretch/>
        </p:blipFill>
        <p:spPr>
          <a:xfrm>
            <a:off x="2195640" y="2349360"/>
            <a:ext cx="48974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2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ся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2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ъяснить понятия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2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граничить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2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в себе  уважение к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ы-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760" y="1483920"/>
            <a:ext cx="8229600" cy="36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авила, которые устанавливает государство. Их должны выполнять все граждане нашей стр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язанности -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483920"/>
            <a:ext cx="8229600" cy="36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становленная обществом и государством необходимость вести себя определенным обр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т прав без обязан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трого соблюдать Конституцию РФ и зак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прикосновенность жилищ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вобода мысли и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ботиться о своих детях, их воспит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о достижении 18 лет заботиться о своих нетрудоспособных родител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вобода пере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Получить основное общее образование (9 клас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Заботиться о сохранении исторического и культурного наследия, беречь памятники ис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Свобода сов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Платить законно установленные налоги и с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Неприкосновенность частной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Охранять природу и окружающую среду, бережно относиться к природным богатств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Защищать Отечество и нести военную служ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Свобода и личная неприкоснов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Уважение прав и свобод других ли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овой статус ребен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«С рождени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«10 лет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«14 лет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«16 лет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«17 лет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«18 л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pic>
        <p:nvPicPr>
          <p:cNvPr id="79" name="Содержимое 5" descr="img13.jpg"/>
          <p:cNvPicPr/>
          <p:nvPr/>
        </p:nvPicPr>
        <p:blipFill>
          <a:blip r:embed="rId2"/>
          <a:stretch/>
        </p:blipFill>
        <p:spPr>
          <a:xfrm>
            <a:off x="539640" y="260280"/>
            <a:ext cx="81439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4-05T08:36:37Z</dcterms:modified>
  <cp:revision>69</cp:revision>
  <dc:subject/>
  <dc:title>Слайд 1</dc:title>
</cp:coreProperties>
</file>