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16.png" ContentType="image/png"/>
  <Override PartName="/ppt/media/image20.png" ContentType="image/png"/>
  <Override PartName="/ppt/media/image18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CF2-0E6B-48F3-8E0D-1616F947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E766-A174-4787-83B5-6AADB42C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419-D9F4-4E12-BC12-7D750750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9474-1858-4E61-96C1-CE50B8B7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6A51-B063-48CF-BFC5-FD9C2C2D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4ECF-C940-457A-B7C3-C7DD9EE9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2D14-F8DA-486C-BA1E-F93D7D48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27BC-4A01-4837-95D6-5A91E4E0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BBF4-6F02-474C-BEAC-19C338CE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6963-DCFB-43CD-A08C-8B67CF7E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20A7-20B9-4F14-BF3A-1DE1F2D2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EB8C-F395-4BF4-A9A0-5390125B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FEB1-15D3-4EC9-9FF3-46475687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DBAF-9FD8-48C8-89FE-BB16052B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EE0D-4449-4642-A6CA-DEB04AE6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807E-A3B2-4170-B25B-BE7D9C43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CD46-C4C9-4735-BE6B-3407F2A5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0E5EE-2939-4854-9C65-4F2B2B6E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38491-2760-4766-B602-9CBBE603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6D950-1412-4635-85EF-EE227577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DDB51-25CC-40EE-9382-0B7C7363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D21EA-869F-413E-A9DB-9B949A2F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06E-28D7-4B48-870A-7325F855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157D6-4F88-49D6-8C42-04DBF3DE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CDD29-2DE4-47EB-AF2A-6691D9D5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A60BE-1689-4342-A46C-271430E0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0241E-3C4C-4448-AAA6-54D18DCB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44A8-4471-4FE6-8604-EA8152B4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833BC-A674-4C54-8B1E-7CF4D832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A6094-E1A2-46D6-80EF-BA64F9F3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D8FE9-B1CD-4407-A8AE-54EF5ABE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61D51-E8B8-4A72-8E73-1BB85584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73FFF-59DA-4D84-864C-48E38190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6CF-CD04-4E5F-A716-32D71D4F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3F677-77B0-4388-B34B-08895D9E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F8C1D-D97E-40A4-B07D-45C84C42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95005-AAE5-49DD-9BFF-E380DE1C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7F31E-EC7F-4E69-8E58-DBF4D165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A569E-C3DC-4CE5-BE43-D4E40DAC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72B3B-81FE-46D7-B831-DF1B3D77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C9F70-C5BC-4735-AE13-CA130819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DF755-FF27-4F24-9701-D8AE1CDC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E5E7D-D812-4B22-86AB-A66BDA39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99C6E-7CFB-416E-AE5C-CE71FCAA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4CD6-F3D2-45A1-A3B5-911D791E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C9535-4C74-4293-B7C0-814B0F73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0C27F-B0D1-4312-BB54-88CB17CD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92771-E573-46CD-A2E7-CC91F163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D1B53-6104-4889-A482-84B96381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A9667-B417-4246-8909-1494C592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36B29-1DA6-4F2C-A1D0-61FA5970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B98F3-859B-48EF-92D9-CB7FA909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BC6EE-CE43-44FC-A104-7CB9B77F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5F332-26F8-4588-ACF9-DDFD5D5C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AD3BD-329B-4CD9-8BF7-BD2A485E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08DC-9C13-40E4-A209-68107F2C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35433-6DDE-44AF-B4FB-6995633E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15FBC-65E4-48F2-916E-9A32966C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071C6-B911-4AC4-A0BB-F3AA5D1D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92213-A344-45E9-B64D-F8842375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DA33A-EE38-49E6-8C3B-FB8BF16D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BB017-F40C-42E0-8893-0465FBE4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37681-C529-4EC8-AD1E-722034CF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B54C8-7698-4FE3-A9F2-54C058FD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4E68F-82D5-48C9-817D-DDEF6705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012A5-EDB6-41F6-9F25-709DEFAE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095-857B-49AF-8315-260CB6FE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8FD16-E650-4517-AF33-35AD216D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510DD-2A13-45FA-B07C-0A68073C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37036-2021-4E4D-B775-8A96472E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4391B-AE26-4B4A-A649-F1F5E502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06332-6D0B-4E84-93A3-D0E2C409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9BE4F-1138-4288-9B94-7EB88F7B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58107-4419-460B-9E6A-9251CE5D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8ECD3-C8B0-4F7D-860C-CEFAFC0F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052AD-7D99-419A-901F-1249ABA2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BB5C5-611A-40F9-A359-2A16A7E0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5A30-9A04-4B59-8183-4E716AB9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3DDCD-BC50-40A4-AF2F-7E1FCC8C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14EB4-C8B8-48AE-B612-E59CD047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742DE-A7A8-436B-9728-E3B387C9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A96EA-F224-4632-80AC-236212ED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6545E-04FC-4AFB-98CA-C35CBE71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ED1C-E74D-41AB-A8EE-FCBE125F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E6EA-CBBA-4CCE-8DCE-3DA5C459EF1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66DC-3DFC-45A1-9AB5-1FF435CEE0D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6154-32A0-42F6-B211-D0035F79660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018A-1FC8-43C4-8061-878CF982936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5C2A-21D8-4801-BCD3-0F2BD10456B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E8D1-ECB9-4F18-A9B7-8C2E1C3F49B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FA08-83E7-4EE8-A070-FC468914B98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8661240" cy="23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урока: </a:t>
            </a:r>
            <a:r>
              <a:rPr b="0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5400"/>
            </a:br>
            <a:r>
              <a:rPr b="0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уквы  </a:t>
            </a:r>
            <a:r>
              <a:rPr b="0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-А в корне  </a:t>
            </a:r>
            <a:br>
              <a:rPr sz="5400"/>
            </a:br>
            <a:r>
              <a:rPr b="0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г-  -  лож-»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ИЗЛ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Candara"/>
              </a:rPr>
              <a:t>А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ГА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ОЛ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Candara"/>
              </a:rPr>
              <a:t>О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ЖИ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Л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Candara"/>
              </a:rPr>
              <a:t>О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ЖЕ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РИЛ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Candara"/>
              </a:rPr>
              <a:t>А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ГАТЕЛЬНО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РЕДЛ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Candara"/>
              </a:rPr>
              <a:t>О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ЖЕ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ЛЮЧ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3141360"/>
            <a:ext cx="7812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Ж..леть,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возл..гать,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п..хать,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г..мнаст,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д..леко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27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Задание в формате ЕГЭ.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Определите слово, в котором пропущена чередующаяся гласная корня. Выпишите в тетрадь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2"/>
          <a:stretch/>
        </p:blipFill>
        <p:spPr>
          <a:xfrm>
            <a:off x="6718320" y="3213000"/>
            <a:ext cx="2251080" cy="17287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1"/>
          <p:cNvSpPr/>
          <p:nvPr/>
        </p:nvSpPr>
        <p:spPr>
          <a:xfrm>
            <a:off x="4932360" y="595008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озлагать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ndara"/>
              </a:rPr>
              <a:t>Чему учились на уроке?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ndara"/>
              </a:rPr>
              <a:t>От чего зависит написание букв О-А в корнях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ndara"/>
              </a:rPr>
              <a:t> </a:t>
            </a:r>
            <a:r>
              <a:rPr b="1" lang="ru-RU" sz="4000" spc="-1" strike="noStrike" u="sng">
                <a:solidFill>
                  <a:srgbClr val="0033cc"/>
                </a:solidFill>
                <a:uFillTx/>
                <a:latin typeface="Candara"/>
              </a:rPr>
              <a:t>–</a:t>
            </a:r>
            <a:r>
              <a:rPr b="1" lang="ru-RU" sz="4000" spc="-1" strike="noStrike" u="sng">
                <a:solidFill>
                  <a:srgbClr val="0033cc"/>
                </a:solidFill>
                <a:uFillTx/>
                <a:latin typeface="Candara"/>
              </a:rPr>
              <a:t>лаг-, -лож-</a:t>
            </a:r>
            <a:r>
              <a:rPr b="1" lang="ru-RU" sz="4000" spc="-1" strike="noStrike">
                <a:solidFill>
                  <a:srgbClr val="0033cc"/>
                </a:solidFill>
                <a:latin typeface="Candara"/>
              </a:rPr>
              <a:t>?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5" name="Picture 4" descr=""/>
          <p:cNvPicPr/>
          <p:nvPr/>
        </p:nvPicPr>
        <p:blipFill>
          <a:blip r:embed="rId2"/>
          <a:stretch/>
        </p:blipFill>
        <p:spPr>
          <a:xfrm>
            <a:off x="7164360" y="5661000"/>
            <a:ext cx="259704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Прямоугольник 1" descr=""/>
          <p:cNvPicPr/>
          <p:nvPr/>
        </p:nvPicPr>
        <p:blipFill>
          <a:blip r:embed="rId1"/>
          <a:stretch/>
        </p:blipFill>
        <p:spPr>
          <a:xfrm>
            <a:off x="-201600" y="1378080"/>
            <a:ext cx="5969160" cy="479736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3" descr=""/>
          <p:cNvPicPr/>
          <p:nvPr/>
        </p:nvPicPr>
        <p:blipFill>
          <a:blip r:embed="rId2"/>
          <a:stretch/>
        </p:blipFill>
        <p:spPr>
          <a:xfrm>
            <a:off x="5132520" y="1547640"/>
            <a:ext cx="4376520" cy="47977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4"/>
          <p:cNvSpPr/>
          <p:nvPr/>
        </p:nvSpPr>
        <p:spPr>
          <a:xfrm>
            <a:off x="395280" y="2232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блюдаем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 чего зависит написа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Прямая соединительная линия 8" descr=""/>
          <p:cNvPicPr/>
          <p:nvPr/>
        </p:nvPicPr>
        <p:blipFill>
          <a:blip r:embed="rId3"/>
          <a:stretch/>
        </p:blipFill>
        <p:spPr>
          <a:xfrm>
            <a:off x="2951280" y="1474920"/>
            <a:ext cx="371520" cy="50616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3164040" y="1481040"/>
            <a:ext cx="298440" cy="500040"/>
          </a:xfrm>
          <a:prstGeom prst="rect">
            <a:avLst/>
          </a:prstGeom>
          <a:ln w="0">
            <a:noFill/>
          </a:ln>
        </p:spPr>
      </p:pic>
      <p:grpSp>
        <p:nvGrpSpPr>
          <p:cNvPr id="342" name="Дуга 14"/>
          <p:cNvGrpSpPr/>
          <p:nvPr/>
        </p:nvGrpSpPr>
        <p:grpSpPr>
          <a:xfrm>
            <a:off x="1974960" y="1494000"/>
            <a:ext cx="1133280" cy="384120"/>
            <a:chOff x="1974960" y="1494000"/>
            <a:chExt cx="1133280" cy="384120"/>
          </a:xfrm>
        </p:grpSpPr>
        <p:pic>
          <p:nvPicPr>
            <p:cNvPr id="343" name="Дуга 14" descr=""/>
            <p:cNvPicPr/>
            <p:nvPr/>
          </p:nvPicPr>
          <p:blipFill>
            <a:blip r:embed="rId5"/>
            <a:stretch/>
          </p:blipFill>
          <p:spPr>
            <a:xfrm>
              <a:off x="1974960" y="1494000"/>
              <a:ext cx="113328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2052720" y="1546200"/>
              <a:ext cx="97776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Дуга 15"/>
          <p:cNvGrpSpPr/>
          <p:nvPr/>
        </p:nvGrpSpPr>
        <p:grpSpPr>
          <a:xfrm>
            <a:off x="1987560" y="2835360"/>
            <a:ext cx="1212840" cy="541080"/>
            <a:chOff x="1987560" y="2835360"/>
            <a:chExt cx="1212840" cy="541080"/>
          </a:xfrm>
        </p:grpSpPr>
        <p:pic>
          <p:nvPicPr>
            <p:cNvPr id="346" name="Дуга 15" descr=""/>
            <p:cNvPicPr/>
            <p:nvPr/>
          </p:nvPicPr>
          <p:blipFill>
            <a:blip r:embed="rId6"/>
            <a:stretch/>
          </p:blipFill>
          <p:spPr>
            <a:xfrm>
              <a:off x="1987560" y="2835360"/>
              <a:ext cx="1212840" cy="5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 rot="21166200">
              <a:off x="2050920" y="2925720"/>
              <a:ext cx="1051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Прямая соединительная линия 17" descr=""/>
          <p:cNvPicPr/>
          <p:nvPr/>
        </p:nvPicPr>
        <p:blipFill>
          <a:blip r:embed="rId7"/>
          <a:stretch/>
        </p:blipFill>
        <p:spPr>
          <a:xfrm>
            <a:off x="3060720" y="2925720"/>
            <a:ext cx="268200" cy="50652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ая соединительная линия 19" descr=""/>
          <p:cNvPicPr/>
          <p:nvPr/>
        </p:nvPicPr>
        <p:blipFill>
          <a:blip r:embed="rId8"/>
          <a:stretch/>
        </p:blipFill>
        <p:spPr>
          <a:xfrm>
            <a:off x="3164040" y="2919240"/>
            <a:ext cx="401400" cy="513000"/>
          </a:xfrm>
          <a:prstGeom prst="rect">
            <a:avLst/>
          </a:prstGeom>
          <a:ln w="0">
            <a:noFill/>
          </a:ln>
        </p:spPr>
      </p:pic>
      <p:grpSp>
        <p:nvGrpSpPr>
          <p:cNvPr id="350" name="Дуга 26"/>
          <p:cNvGrpSpPr/>
          <p:nvPr/>
        </p:nvGrpSpPr>
        <p:grpSpPr>
          <a:xfrm>
            <a:off x="1322280" y="4370400"/>
            <a:ext cx="1212840" cy="549360"/>
            <a:chOff x="1322280" y="4370400"/>
            <a:chExt cx="1212840" cy="549360"/>
          </a:xfrm>
        </p:grpSpPr>
        <p:pic>
          <p:nvPicPr>
            <p:cNvPr id="351" name="Дуга 26" descr=""/>
            <p:cNvPicPr/>
            <p:nvPr/>
          </p:nvPicPr>
          <p:blipFill>
            <a:blip r:embed="rId9"/>
            <a:stretch/>
          </p:blipFill>
          <p:spPr>
            <a:xfrm>
              <a:off x="1322280" y="4370400"/>
              <a:ext cx="12128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 rot="21166200">
              <a:off x="1387440" y="4465800"/>
              <a:ext cx="1050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Дуга 27"/>
          <p:cNvGrpSpPr/>
          <p:nvPr/>
        </p:nvGrpSpPr>
        <p:grpSpPr>
          <a:xfrm>
            <a:off x="6742080" y="1530360"/>
            <a:ext cx="1305000" cy="554040"/>
            <a:chOff x="6742080" y="1530360"/>
            <a:chExt cx="1305000" cy="554040"/>
          </a:xfrm>
        </p:grpSpPr>
        <p:pic>
          <p:nvPicPr>
            <p:cNvPr id="354" name="Дуга 27" descr=""/>
            <p:cNvPicPr/>
            <p:nvPr/>
          </p:nvPicPr>
          <p:blipFill>
            <a:blip r:embed="rId10"/>
            <a:stretch/>
          </p:blipFill>
          <p:spPr>
            <a:xfrm>
              <a:off x="6742080" y="1530360"/>
              <a:ext cx="130500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 rot="21166200">
              <a:off x="6810120" y="1627200"/>
              <a:ext cx="114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Дуга 28"/>
          <p:cNvGrpSpPr/>
          <p:nvPr/>
        </p:nvGrpSpPr>
        <p:grpSpPr>
          <a:xfrm>
            <a:off x="6461280" y="2938320"/>
            <a:ext cx="1298520" cy="554040"/>
            <a:chOff x="6461280" y="2938320"/>
            <a:chExt cx="1298520" cy="554040"/>
          </a:xfrm>
        </p:grpSpPr>
        <p:pic>
          <p:nvPicPr>
            <p:cNvPr id="357" name="Дуга 28" descr=""/>
            <p:cNvPicPr/>
            <p:nvPr/>
          </p:nvPicPr>
          <p:blipFill>
            <a:blip r:embed="rId11"/>
            <a:stretch/>
          </p:blipFill>
          <p:spPr>
            <a:xfrm>
              <a:off x="6461280" y="2938320"/>
              <a:ext cx="129852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 rot="21166200">
              <a:off x="6525720" y="3036960"/>
              <a:ext cx="113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Дуга 29"/>
          <p:cNvGrpSpPr/>
          <p:nvPr/>
        </p:nvGrpSpPr>
        <p:grpSpPr>
          <a:xfrm>
            <a:off x="6284880" y="4425840"/>
            <a:ext cx="1292400" cy="547920"/>
            <a:chOff x="6284880" y="4425840"/>
            <a:chExt cx="1292400" cy="547920"/>
          </a:xfrm>
        </p:grpSpPr>
        <p:pic>
          <p:nvPicPr>
            <p:cNvPr id="360" name="Дуга 29" descr=""/>
            <p:cNvPicPr/>
            <p:nvPr/>
          </p:nvPicPr>
          <p:blipFill>
            <a:blip r:embed="rId12"/>
            <a:stretch/>
          </p:blipFill>
          <p:spPr>
            <a:xfrm>
              <a:off x="6284880" y="4425840"/>
              <a:ext cx="129240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 rot="21166200">
              <a:off x="6346800" y="4527720"/>
              <a:ext cx="11318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2" name="Прямая соединительная линия 38" descr=""/>
          <p:cNvPicPr/>
          <p:nvPr/>
        </p:nvPicPr>
        <p:blipFill>
          <a:blip r:embed="rId13"/>
          <a:stretch/>
        </p:blipFill>
        <p:spPr>
          <a:xfrm>
            <a:off x="2408400" y="4359240"/>
            <a:ext cx="304560" cy="523800"/>
          </a:xfrm>
          <a:prstGeom prst="rect">
            <a:avLst/>
          </a:prstGeom>
          <a:ln w="0">
            <a:noFill/>
          </a:ln>
        </p:spPr>
      </p:pic>
      <p:pic>
        <p:nvPicPr>
          <p:cNvPr id="363" name="Прямая соединительная линия 40" descr=""/>
          <p:cNvPicPr/>
          <p:nvPr/>
        </p:nvPicPr>
        <p:blipFill>
          <a:blip r:embed="rId14"/>
          <a:stretch/>
        </p:blipFill>
        <p:spPr>
          <a:xfrm>
            <a:off x="2554200" y="4359240"/>
            <a:ext cx="31140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"/>
          <p:cNvSpPr/>
          <p:nvPr/>
        </p:nvSpPr>
        <p:spPr>
          <a:xfrm>
            <a:off x="1258920" y="98100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ло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3"/>
          <p:cNvSpPr/>
          <p:nvPr/>
        </p:nvSpPr>
        <p:spPr>
          <a:xfrm flipH="1">
            <a:off x="1979640" y="800280"/>
            <a:ext cx="216000" cy="36036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250920" y="2276640"/>
            <a:ext cx="76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о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занавеска, закрывающая, загораживающая кр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1258920" y="342900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итцевый полог, марлевый пол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3"/>
          <p:cNvSpPr/>
          <p:nvPr/>
        </p:nvSpPr>
        <p:spPr>
          <a:xfrm>
            <a:off x="4479840" y="2967120"/>
            <a:ext cx="7398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"/>
          <p:cNvSpPr/>
          <p:nvPr/>
        </p:nvSpPr>
        <p:spPr>
          <a:xfrm>
            <a:off x="900000" y="1700280"/>
            <a:ext cx="7272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Bookman Old Style"/>
              </a:rPr>
              <a:t>1 шаг.</a:t>
            </a:r>
            <a:r>
              <a:rPr b="0" lang="ru-RU" sz="2400" spc="-1" strike="noStrike">
                <a:solidFill>
                  <a:srgbClr val="660033"/>
                </a:solidFill>
                <a:latin typeface="Bookman Old Style"/>
              </a:rPr>
              <a:t> Выдели 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Bookman Old Style"/>
              </a:rPr>
              <a:t>2 шаг.</a:t>
            </a:r>
            <a:r>
              <a:rPr b="0" lang="ru-RU" sz="2400" spc="-1" strike="noStrike">
                <a:solidFill>
                  <a:srgbClr val="660033"/>
                </a:solidFill>
                <a:latin typeface="Bookman Old Style"/>
              </a:rPr>
              <a:t> Определи значение кор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3 шаг.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дчеркни соглас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               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Г  </a:t>
            </a:r>
            <a:r>
              <a:rPr b="0" lang="ru-RU" sz="24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</a:t>
            </a:r>
            <a:r>
              <a:rPr b="0" i="1" lang="ru-RU" sz="2400" spc="-1" strike="noStrike">
                <a:solidFill>
                  <a:srgbClr val="660033"/>
                </a:solidFill>
                <a:latin typeface="Bookman Old Style"/>
              </a:rPr>
              <a:t>пиш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Bookman Old Style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Bookman Old Style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Bookman Old Style"/>
              </a:rPr>
              <a:t>               </a:t>
            </a: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А 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                    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"/>
          <p:cNvSpPr/>
          <p:nvPr/>
        </p:nvSpPr>
        <p:spPr>
          <a:xfrm>
            <a:off x="900000" y="333360"/>
            <a:ext cx="73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Console"/>
              </a:rPr>
              <a:t>АЛГОРИТМ ПРАВОПИС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в  О - А в корне  -лаг-  -  -лож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Прямая со стрелкой 5"/>
          <p:cNvCxnSpPr/>
          <p:nvPr/>
        </p:nvCxnSpPr>
        <p:spPr>
          <a:xfrm>
            <a:off x="2663640" y="4724280"/>
            <a:ext cx="1080" cy="112464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372" name="Прямая со стрелкой 7"/>
          <p:cNvCxnSpPr/>
          <p:nvPr/>
        </p:nvCxnSpPr>
        <p:spPr>
          <a:xfrm>
            <a:off x="5219280" y="4723920"/>
            <a:ext cx="1080" cy="108180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373" name="Прямая со стрелкой 10"/>
          <p:cNvCxnSpPr/>
          <p:nvPr/>
        </p:nvCxnSpPr>
        <p:spPr>
          <a:xfrm flipH="1">
            <a:off x="2696760" y="3422160"/>
            <a:ext cx="867600" cy="60084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374" name="Прямая со стрелкой 12"/>
          <p:cNvCxnSpPr/>
          <p:nvPr/>
        </p:nvCxnSpPr>
        <p:spPr>
          <a:xfrm>
            <a:off x="3779640" y="3422160"/>
            <a:ext cx="1224360" cy="60732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416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Распределите слова по группам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-ЛАГ-               -                  -ЛОЖ-. 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ЛАГ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84596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Прил..гать, перел..жить, сл..гать, нал..гать, отл..жить, дол..жить, пол..жение, зал..жить, предпол..гать, изл..жение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7" name="Picture 4" descr="http://klub-drug.ru/wp-content/uploads/2011/04/41.2.gif"/>
          <p:cNvPicPr/>
          <p:nvPr/>
        </p:nvPicPr>
        <p:blipFill>
          <a:blip r:embed="rId1"/>
          <a:stretch/>
        </p:blipFill>
        <p:spPr>
          <a:xfrm>
            <a:off x="179280" y="4653000"/>
            <a:ext cx="216072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8" name=""/>
          <p:cNvGraphicFramePr/>
          <p:nvPr/>
        </p:nvGraphicFramePr>
        <p:xfrm>
          <a:off x="2340000" y="4282920"/>
          <a:ext cx="6095880" cy="1920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рилаг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лаг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алаг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редполаг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ерелож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тлож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олож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ло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зло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1"/>
          <p:cNvSpPr/>
          <p:nvPr/>
        </p:nvSpPr>
        <p:spPr>
          <a:xfrm>
            <a:off x="468360" y="549360"/>
            <a:ext cx="828036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становите текст, используя слова для справок. Вставьте пропущенные буквы. Объясните графически выбор гласной в корне с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упило утро. Мы аккуратн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щи в рюкзак и отправились п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__________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ршруту.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__________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опушке среди молодых берез. Выбранное нами мест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___________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далеко от реки. Взрослы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тер, а дети побежали на берег игр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 для справок: распол..галось, сл..жили, предпол..гаемому, разл..жили, распол..ж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http://klub-drug.ru/wp-content/uploads/2011/04/thumb-150x150.jpg"/>
          <p:cNvPicPr/>
          <p:nvPr/>
        </p:nvPicPr>
        <p:blipFill>
          <a:blip r:embed="rId1"/>
          <a:stretch/>
        </p:blipFill>
        <p:spPr>
          <a:xfrm>
            <a:off x="6535800" y="4703760"/>
            <a:ext cx="23004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1"/>
          <p:cNvSpPr/>
          <p:nvPr/>
        </p:nvSpPr>
        <p:spPr>
          <a:xfrm>
            <a:off x="395280" y="1844640"/>
            <a:ext cx="7561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ПОМНИ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в русском языке сло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ожить, ложу, положь, покласть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ть слова: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д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лож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ложи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http://klub-drug.ru/wp-content/uploads/2011/04/girl_getting_ready_for_school-150x150.jpg"/>
          <p:cNvPicPr/>
          <p:nvPr/>
        </p:nvPicPr>
        <p:blipFill>
          <a:blip r:embed="rId1"/>
          <a:stretch/>
        </p:blipFill>
        <p:spPr>
          <a:xfrm>
            <a:off x="6948360" y="189000"/>
            <a:ext cx="1800360" cy="13888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http://klub-drug.ru/wp-content/uploads/2011/04/bell1-150x150.png"/>
          <p:cNvPicPr/>
          <p:nvPr/>
        </p:nvPicPr>
        <p:blipFill>
          <a:blip r:embed="rId2"/>
          <a:stretch/>
        </p:blipFill>
        <p:spPr>
          <a:xfrm>
            <a:off x="395280" y="189000"/>
            <a:ext cx="115236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1"/>
          <p:cNvSpPr/>
          <p:nvPr/>
        </p:nvSpPr>
        <p:spPr>
          <a:xfrm>
            <a:off x="684360" y="549360"/>
            <a:ext cx="81356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чимся правильно говори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жи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лас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чтите предложения и вместо точек поставьте глаг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ла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ож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.Закончив уроки, я собираю книги, тетради и …….их в портф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Я прочитаю  книгу и ……. её на мес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Для сохранения здоровья  не …….. в еду много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Times New Roman"/>
              </a:rPr>
              <a:t>УЛ..ЖИТЬ, СЛ..ЖИТЬ, ИЗЛ..ГАТЬ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Times New Roman"/>
              </a:rPr>
              <a:t>ПОЛ..АГАТЬ, ПРЕДПОЛ..ГАТЬ, ПОЛ..ЖТЬ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Times New Roman"/>
              </a:rPr>
              <a:t>РАСПОЛ..ГАТЬ, ПРЕДЛ..ГАТЬ, СЛ..ЖЕНИЕ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Times New Roman"/>
              </a:rPr>
              <a:t>ИЗЛ..ЖЕНИЕ, ПРИЛ..ЖЕНИЕ,ПРИЛ..ГАТЕЛЬНОЕ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Times New Roman"/>
              </a:rPr>
              <a:t>ВОЗЛ..ГАТЬ, ПРЕДЛ..ЖЕНИЕ, ПРИЛ..ГАТЬ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АЙТИ ТРЕТЬЕ ЛИШНЕЕ. ЗАПИСАТЬ ЕГО, ГРАФИЧЕСКИ ОБЪЯСНИТЬ ОРФОГРАММУ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05:06:20Z</dcterms:created>
  <dc:creator>Alyona</dc:creator>
  <dc:description/>
  <dc:language>en-US</dc:language>
  <cp:lastModifiedBy>пк</cp:lastModifiedBy>
  <dcterms:modified xsi:type="dcterms:W3CDTF">2023-04-05T18:49:18Z</dcterms:modified>
  <cp:revision>36</cp:revision>
  <dc:subject/>
  <dc:title>Слайд 1</dc:title>
</cp:coreProperties>
</file>