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6.png" ContentType="image/png"/>
  <Override PartName="/ppt/media/image20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C49-77E5-4DE7-A156-27811B53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5C9-E0D5-46D2-8966-813008D1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E17-2824-49BE-8664-6709C0EA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A78-027B-429A-88E4-72C647E5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482D-0CCF-4839-8FB8-F245F79A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39DD-61A9-40A3-85F3-C513E36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30A8-03D7-4066-BF7A-C476F3B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DE63-AF92-4D3E-AEEF-C4175117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F1BA-7CE3-4B75-8A54-E58DE3E4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62DF-1E1D-4A68-97AF-DDAA76CF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217B-127A-4CBB-8225-98B33B8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D0A-8DE8-48F6-9976-FB387230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3C4E-7321-4076-B202-D15D866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79EE-6094-4C5C-923D-9FE776EF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7771-BD4D-44CF-AA7C-AFA700C6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112B-B0F1-4740-A16C-69DB37E4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802C-D7B8-4324-AF1C-4C4D2378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FA6B-E157-4EC1-9952-985ECFFE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523D-3E7C-490A-ABCF-E86A3C05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43EE-9CEC-4B99-91F3-A2F2F12F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44A7-771A-410C-82EB-D9680123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6AE8-3A41-4F75-BA25-92541980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268-4A62-4C1E-8447-6EDCFE23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1669-E819-49DC-8DB7-5C3516B2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D3E4-A189-431C-96B4-CEBCC7CA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05BD-7158-4786-BE43-55D7E9D7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C2D2-4A80-42F0-9244-363FBEB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B719-7678-4D1B-8011-098189E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82F6-BDDA-45A3-9DB3-7D43033B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26EA-C1A5-435F-AEEE-AC63F87B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7CEE-22B2-4EB8-B2E6-61176F63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836D-9D7E-44E3-8A90-BDF0C93F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837B-2479-4597-82CF-84C7C7B0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553-4094-4FDE-837E-DE5E6E7F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10DD-0C13-4105-859E-BBEB5ED0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1AC9-A8C5-4288-BCFD-A0D2A3B0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6A2AA-23C7-4FA9-932B-3BCE88DA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25C8-16A5-483F-9075-C552D513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14EB-0A09-4200-A381-B20A001A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F842-7F1F-4B05-9C1F-A61D3378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EF69B-82DE-4BCC-AD0A-A726BE8E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4E7ED-AE92-494B-A10D-91C24034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C4C39-35BD-4E9B-9294-B191BD7B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F655-0E03-4A9E-877D-5417DDA3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9BD-B0DD-48C3-9DDC-F42BB2AB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5A0DC-6F47-482D-8739-DCAD6571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A200-909C-499E-AEAB-FFC13D7D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066C-3D71-4CFF-8CB6-4036EAAC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AFCF0-F907-4DE2-8872-7CDD69A2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CE30-926B-4CF9-8DEE-BB82F414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95625-43AC-4779-887E-412AD04B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2F111-559C-407A-BED4-C9578714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433B-30BC-489E-BA83-42F1A02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BD59F-B456-4B97-8ACD-22B16817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BD83-EBF3-46EC-B9B3-DED3930B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872-6F35-4647-971E-883AE065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21940-E659-49DE-AB9B-7C709D72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3DC4-4048-466E-AF08-FF74F592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6AB5B-A74A-4B0D-A1CC-3077023E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4A37-5B2F-4A39-87D2-041BC7EB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A3AE-D779-4679-B19E-59B7F69F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E7A4-D7A9-45E6-B534-2108443D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0516A-3AEC-4797-B21A-CA7A4F59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3590-A875-4282-9E27-38730BD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38216-66EB-48BD-90C3-5481BA06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8239-EDFC-4E1A-BB55-39E43BF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FD8-F022-4166-BF21-9156A8D6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4517D-A448-4F40-AF17-ADB17685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F3EAF-2C71-42EC-9003-8D2E1A70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1F57-E1D7-4D3E-AD78-AE99BB3B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D0E1E-C7D9-4286-87F9-84C9F3DF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8B9E-C96F-41DB-BF3A-9871DE2F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C7FFF-172C-4559-9E1C-DB0B7E73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6463F-1C38-4DE9-91D3-1C89C0E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76C45-CED6-428D-997C-9027D14D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76A2-5D87-437D-B8C0-1FD98FD6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93AF-9BA2-46BE-9510-30E14A4C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170-E9FA-4A9F-940E-A5279ED2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74465-8254-4221-8E6A-9821FC43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24A54-F275-4CF3-9144-0C084FD3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70A66-3FE0-4CF8-A971-B9786448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7E6D4-EFD6-4673-A227-B44DB27F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B8182-4582-4966-BE18-CF0875E6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681-E89B-4D11-A5F5-8DECC2E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FED-707A-40FA-A68F-70FFC924FC2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3DA-E08B-4539-A85D-1AB1CFDB92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62DC-E9C8-47AA-A87D-A36B073FF47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A51C-F5C4-453C-8DCB-65437A55501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7F37-3302-47F5-A693-36260E77DBF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0318-C426-40E7-9250-6AA28B4D107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8AA3-E8E1-4697-A707-6475DC32453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66124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: 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уквы  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-А в корне  </a:t>
            </a:r>
            <a:br>
              <a:rPr sz="5400"/>
            </a:b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г-  -  лож-»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З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А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А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О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И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О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И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А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А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ЕД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О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ЛЮ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3141360"/>
            <a:ext cx="7812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Ж..леть,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возл..гать,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..хать,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г..мнаст,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д..леко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Задание в формате ЕГЭ.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Определите слово, в котором пропущена чередующаяся гласная корня. Выпишите в тетрад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6718320" y="3213000"/>
            <a:ext cx="2251080" cy="1728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"/>
          <p:cNvSpPr/>
          <p:nvPr/>
        </p:nvSpPr>
        <p:spPr>
          <a:xfrm>
            <a:off x="4932360" y="595008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злагат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ndara"/>
              </a:rPr>
              <a:t>Чему учились на уроке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ndara"/>
              </a:rPr>
              <a:t>От чего зависит написание букв О-А в корнях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ndara"/>
              </a:rPr>
              <a:t> </a:t>
            </a:r>
            <a:r>
              <a:rPr b="1" lang="ru-RU" sz="4000" spc="-1" strike="noStrike" u="sng">
                <a:solidFill>
                  <a:srgbClr val="0033cc"/>
                </a:solidFill>
                <a:uFillTx/>
                <a:latin typeface="Candara"/>
              </a:rPr>
              <a:t>–</a:t>
            </a:r>
            <a:r>
              <a:rPr b="1" lang="ru-RU" sz="4000" spc="-1" strike="noStrike" u="sng">
                <a:solidFill>
                  <a:srgbClr val="0033cc"/>
                </a:solidFill>
                <a:uFillTx/>
                <a:latin typeface="Candara"/>
              </a:rPr>
              <a:t>лаг-, -лож-</a:t>
            </a:r>
            <a:r>
              <a:rPr b="1" lang="ru-RU" sz="4000" spc="-1" strike="noStrike">
                <a:solidFill>
                  <a:srgbClr val="0033cc"/>
                </a:solidFill>
                <a:latin typeface="Candara"/>
              </a:rPr>
              <a:t>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7164360" y="5661000"/>
            <a:ext cx="25970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Прямоугольник 1" descr=""/>
          <p:cNvPicPr/>
          <p:nvPr/>
        </p:nvPicPr>
        <p:blipFill>
          <a:blip r:embed="rId1"/>
          <a:stretch/>
        </p:blipFill>
        <p:spPr>
          <a:xfrm>
            <a:off x="-201600" y="1378080"/>
            <a:ext cx="5969160" cy="479736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3" descr=""/>
          <p:cNvPicPr/>
          <p:nvPr/>
        </p:nvPicPr>
        <p:blipFill>
          <a:blip r:embed="rId2"/>
          <a:stretch/>
        </p:blipFill>
        <p:spPr>
          <a:xfrm>
            <a:off x="5132520" y="1547640"/>
            <a:ext cx="4376520" cy="47977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4"/>
          <p:cNvSpPr/>
          <p:nvPr/>
        </p:nvSpPr>
        <p:spPr>
          <a:xfrm>
            <a:off x="395280" y="223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блюдаем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 чего зависит напис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Прямая соединительная линия 8" descr=""/>
          <p:cNvPicPr/>
          <p:nvPr/>
        </p:nvPicPr>
        <p:blipFill>
          <a:blip r:embed="rId3"/>
          <a:stretch/>
        </p:blipFill>
        <p:spPr>
          <a:xfrm>
            <a:off x="2951280" y="1474920"/>
            <a:ext cx="371520" cy="50616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3164040" y="1481040"/>
            <a:ext cx="298440" cy="500040"/>
          </a:xfrm>
          <a:prstGeom prst="rect">
            <a:avLst/>
          </a:prstGeom>
          <a:ln w="0">
            <a:noFill/>
          </a:ln>
        </p:spPr>
      </p:pic>
      <p:grpSp>
        <p:nvGrpSpPr>
          <p:cNvPr id="342" name="Дуга 14"/>
          <p:cNvGrpSpPr/>
          <p:nvPr/>
        </p:nvGrpSpPr>
        <p:grpSpPr>
          <a:xfrm>
            <a:off x="1974960" y="1494000"/>
            <a:ext cx="1133280" cy="384120"/>
            <a:chOff x="1974960" y="1494000"/>
            <a:chExt cx="1133280" cy="384120"/>
          </a:xfrm>
        </p:grpSpPr>
        <p:pic>
          <p:nvPicPr>
            <p:cNvPr id="343" name="Дуга 14" descr=""/>
            <p:cNvPicPr/>
            <p:nvPr/>
          </p:nvPicPr>
          <p:blipFill>
            <a:blip r:embed="rId5"/>
            <a:stretch/>
          </p:blipFill>
          <p:spPr>
            <a:xfrm>
              <a:off x="1974960" y="1494000"/>
              <a:ext cx="11332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052720" y="1546200"/>
              <a:ext cx="97776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Дуга 15"/>
          <p:cNvGrpSpPr/>
          <p:nvPr/>
        </p:nvGrpSpPr>
        <p:grpSpPr>
          <a:xfrm>
            <a:off x="1987560" y="2835360"/>
            <a:ext cx="1212840" cy="541080"/>
            <a:chOff x="1987560" y="2835360"/>
            <a:chExt cx="1212840" cy="541080"/>
          </a:xfrm>
        </p:grpSpPr>
        <p:pic>
          <p:nvPicPr>
            <p:cNvPr id="346" name="Дуга 15" descr=""/>
            <p:cNvPicPr/>
            <p:nvPr/>
          </p:nvPicPr>
          <p:blipFill>
            <a:blip r:embed="rId6"/>
            <a:stretch/>
          </p:blipFill>
          <p:spPr>
            <a:xfrm>
              <a:off x="1987560" y="2835360"/>
              <a:ext cx="121284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 rot="21166200">
              <a:off x="2050920" y="2925720"/>
              <a:ext cx="1051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Прямая соединительная линия 17" descr=""/>
          <p:cNvPicPr/>
          <p:nvPr/>
        </p:nvPicPr>
        <p:blipFill>
          <a:blip r:embed="rId7"/>
          <a:stretch/>
        </p:blipFill>
        <p:spPr>
          <a:xfrm>
            <a:off x="3060720" y="2925720"/>
            <a:ext cx="268200" cy="50652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ая соединительная линия 19" descr=""/>
          <p:cNvPicPr/>
          <p:nvPr/>
        </p:nvPicPr>
        <p:blipFill>
          <a:blip r:embed="rId8"/>
          <a:stretch/>
        </p:blipFill>
        <p:spPr>
          <a:xfrm>
            <a:off x="3164040" y="2919240"/>
            <a:ext cx="401400" cy="513000"/>
          </a:xfrm>
          <a:prstGeom prst="rect">
            <a:avLst/>
          </a:prstGeom>
          <a:ln w="0">
            <a:noFill/>
          </a:ln>
        </p:spPr>
      </p:pic>
      <p:grpSp>
        <p:nvGrpSpPr>
          <p:cNvPr id="350" name="Дуга 26"/>
          <p:cNvGrpSpPr/>
          <p:nvPr/>
        </p:nvGrpSpPr>
        <p:grpSpPr>
          <a:xfrm>
            <a:off x="1322280" y="4370400"/>
            <a:ext cx="1212840" cy="549360"/>
            <a:chOff x="1322280" y="4370400"/>
            <a:chExt cx="1212840" cy="549360"/>
          </a:xfrm>
        </p:grpSpPr>
        <p:pic>
          <p:nvPicPr>
            <p:cNvPr id="351" name="Дуга 26" descr=""/>
            <p:cNvPicPr/>
            <p:nvPr/>
          </p:nvPicPr>
          <p:blipFill>
            <a:blip r:embed="rId9"/>
            <a:stretch/>
          </p:blipFill>
          <p:spPr>
            <a:xfrm>
              <a:off x="1322280" y="4370400"/>
              <a:ext cx="12128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 rot="21166200">
              <a:off x="1387440" y="4465800"/>
              <a:ext cx="1050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Дуга 27"/>
          <p:cNvGrpSpPr/>
          <p:nvPr/>
        </p:nvGrpSpPr>
        <p:grpSpPr>
          <a:xfrm>
            <a:off x="6742080" y="1530360"/>
            <a:ext cx="1305000" cy="554040"/>
            <a:chOff x="6742080" y="1530360"/>
            <a:chExt cx="1305000" cy="554040"/>
          </a:xfrm>
        </p:grpSpPr>
        <p:pic>
          <p:nvPicPr>
            <p:cNvPr id="354" name="Дуга 27" descr=""/>
            <p:cNvPicPr/>
            <p:nvPr/>
          </p:nvPicPr>
          <p:blipFill>
            <a:blip r:embed="rId10"/>
            <a:stretch/>
          </p:blipFill>
          <p:spPr>
            <a:xfrm>
              <a:off x="6742080" y="1530360"/>
              <a:ext cx="13050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21166200">
              <a:off x="6810120" y="1627200"/>
              <a:ext cx="11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Дуга 28"/>
          <p:cNvGrpSpPr/>
          <p:nvPr/>
        </p:nvGrpSpPr>
        <p:grpSpPr>
          <a:xfrm>
            <a:off x="6461280" y="2938320"/>
            <a:ext cx="1298520" cy="554040"/>
            <a:chOff x="6461280" y="2938320"/>
            <a:chExt cx="1298520" cy="554040"/>
          </a:xfrm>
        </p:grpSpPr>
        <p:pic>
          <p:nvPicPr>
            <p:cNvPr id="357" name="Дуга 28" descr=""/>
            <p:cNvPicPr/>
            <p:nvPr/>
          </p:nvPicPr>
          <p:blipFill>
            <a:blip r:embed="rId11"/>
            <a:stretch/>
          </p:blipFill>
          <p:spPr>
            <a:xfrm>
              <a:off x="6461280" y="2938320"/>
              <a:ext cx="12985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 rot="21166200">
              <a:off x="6525720" y="3036960"/>
              <a:ext cx="113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Дуга 29"/>
          <p:cNvGrpSpPr/>
          <p:nvPr/>
        </p:nvGrpSpPr>
        <p:grpSpPr>
          <a:xfrm>
            <a:off x="6284880" y="4425840"/>
            <a:ext cx="1292400" cy="547920"/>
            <a:chOff x="6284880" y="4425840"/>
            <a:chExt cx="1292400" cy="547920"/>
          </a:xfrm>
        </p:grpSpPr>
        <p:pic>
          <p:nvPicPr>
            <p:cNvPr id="360" name="Дуга 29" descr=""/>
            <p:cNvPicPr/>
            <p:nvPr/>
          </p:nvPicPr>
          <p:blipFill>
            <a:blip r:embed="rId12"/>
            <a:stretch/>
          </p:blipFill>
          <p:spPr>
            <a:xfrm>
              <a:off x="6284880" y="4425840"/>
              <a:ext cx="129240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 rot="21166200">
              <a:off x="6346800" y="4527720"/>
              <a:ext cx="1131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Прямая соединительная линия 38" descr=""/>
          <p:cNvPicPr/>
          <p:nvPr/>
        </p:nvPicPr>
        <p:blipFill>
          <a:blip r:embed="rId13"/>
          <a:stretch/>
        </p:blipFill>
        <p:spPr>
          <a:xfrm>
            <a:off x="2408400" y="4359240"/>
            <a:ext cx="304560" cy="52380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ая соединительная линия 40" descr=""/>
          <p:cNvPicPr/>
          <p:nvPr/>
        </p:nvPicPr>
        <p:blipFill>
          <a:blip r:embed="rId14"/>
          <a:stretch/>
        </p:blipFill>
        <p:spPr>
          <a:xfrm>
            <a:off x="2554200" y="4359240"/>
            <a:ext cx="3114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1258920" y="981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л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3"/>
          <p:cNvSpPr/>
          <p:nvPr/>
        </p:nvSpPr>
        <p:spPr>
          <a:xfrm flipH="1">
            <a:off x="1979640" y="800280"/>
            <a:ext cx="216000" cy="36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250920" y="2276640"/>
            <a:ext cx="76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занавеска, закрывающая, загораживающая к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1258920" y="342900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итцевый полог, марлевый по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3"/>
          <p:cNvSpPr/>
          <p:nvPr/>
        </p:nvSpPr>
        <p:spPr>
          <a:xfrm>
            <a:off x="4479840" y="2967120"/>
            <a:ext cx="739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900000" y="1700280"/>
            <a:ext cx="7272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Bookman Old Style"/>
              </a:rPr>
              <a:t>1 шаг.</a:t>
            </a: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 Выдели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Bookman Old Style"/>
              </a:rPr>
              <a:t>2 шаг.</a:t>
            </a: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 Определи значение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3 шаг.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черкни соглас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               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Г  </a:t>
            </a:r>
            <a:r>
              <a:rPr b="0" lang="ru-RU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660033"/>
                </a:solidFill>
                <a:latin typeface="Bookman Old Style"/>
              </a:rPr>
              <a:t>пиш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А 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               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"/>
          <p:cNvSpPr/>
          <p:nvPr/>
        </p:nvSpPr>
        <p:spPr>
          <a:xfrm>
            <a:off x="900000" y="333360"/>
            <a:ext cx="73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Console"/>
              </a:rPr>
              <a:t>АЛГОРИТМ ПРАВОПИС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  О - А в корне  -лаг-  -  -лож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5"/>
          <p:cNvCxnSpPr/>
          <p:nvPr/>
        </p:nvCxnSpPr>
        <p:spPr>
          <a:xfrm>
            <a:off x="2663640" y="4724280"/>
            <a:ext cx="1080" cy="11246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72" name="Прямая со стрелкой 7"/>
          <p:cNvCxnSpPr/>
          <p:nvPr/>
        </p:nvCxnSpPr>
        <p:spPr>
          <a:xfrm>
            <a:off x="5219280" y="4723920"/>
            <a:ext cx="1080" cy="108180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73" name="Прямая со стрелкой 10"/>
          <p:cNvCxnSpPr/>
          <p:nvPr/>
        </p:nvCxnSpPr>
        <p:spPr>
          <a:xfrm flipH="1">
            <a:off x="2696760" y="3422160"/>
            <a:ext cx="867600" cy="6008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74" name="Прямая со стрелкой 12"/>
          <p:cNvCxnSpPr/>
          <p:nvPr/>
        </p:nvCxnSpPr>
        <p:spPr>
          <a:xfrm>
            <a:off x="3779640" y="3422160"/>
            <a:ext cx="1224360" cy="60732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416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Распределите слова по группа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-ЛАГ-               -                  -ЛОЖ-.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ЛАГ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84596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рил..гать, перел..жить, сл..гать, нал..гать, отл..жить, дол..жить, пол..жение, зал..жить, предпол..гать, изл..жение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7" name="Picture 4" descr="http://klub-drug.ru/wp-content/uploads/2011/04/41.2.gif"/>
          <p:cNvPicPr/>
          <p:nvPr/>
        </p:nvPicPr>
        <p:blipFill>
          <a:blip r:embed="rId1"/>
          <a:stretch/>
        </p:blipFill>
        <p:spPr>
          <a:xfrm>
            <a:off x="179280" y="4653000"/>
            <a:ext cx="21607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2340000" y="4282920"/>
          <a:ext cx="6095880" cy="1920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ила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ла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ла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пола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ерелож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тлож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олож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468360" y="549360"/>
            <a:ext cx="828036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становите текст, используя слова для справок. Вставьте пропущенные буквы. Объясните графически выбор гласной в корне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упило утро. Мы аккуратн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щи в рюкзак и отправились п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ршруту.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пушке среди молодых берез. Выбранное нами мес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далеко от реки. Взрослы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ер, а дети побежали на берег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для справок: распол..галось, сл..жили, предпол..гаемому, разл..жили, распол..ж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://klub-drug.ru/wp-content/uploads/2011/04/thumb-150x150.jpg"/>
          <p:cNvPicPr/>
          <p:nvPr/>
        </p:nvPicPr>
        <p:blipFill>
          <a:blip r:embed="rId1"/>
          <a:stretch/>
        </p:blipFill>
        <p:spPr>
          <a:xfrm>
            <a:off x="6535800" y="4703760"/>
            <a:ext cx="2300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395280" y="1844640"/>
            <a:ext cx="756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ОМНИ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в русском языке сл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жить, ложу, положь, покласть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слова: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д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лож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лож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http://klub-drug.ru/wp-content/uploads/2011/04/girl_getting_ready_for_school-150x150.jpg"/>
          <p:cNvPicPr/>
          <p:nvPr/>
        </p:nvPicPr>
        <p:blipFill>
          <a:blip r:embed="rId1"/>
          <a:stretch/>
        </p:blipFill>
        <p:spPr>
          <a:xfrm>
            <a:off x="6948360" y="189000"/>
            <a:ext cx="1800360" cy="13888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klub-drug.ru/wp-content/uploads/2011/04/bell1-150x150.png"/>
          <p:cNvPicPr/>
          <p:nvPr/>
        </p:nvPicPr>
        <p:blipFill>
          <a:blip r:embed="rId2"/>
          <a:stretch/>
        </p:blipFill>
        <p:spPr>
          <a:xfrm>
            <a:off x="395280" y="189000"/>
            <a:ext cx="115236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684360" y="549360"/>
            <a:ext cx="8135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чимся правильно говор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лас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тите предложения и вместо точек поставьте глаг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л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ж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Закончив уроки, я собираю книги, тетради и …….их в портф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Я прочитаю  книгу и ……. её на мес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Для сохранения здоровья  не …….. в еду много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УЛ..ЖИТЬ, СЛ..ЖИТЬ, ИЗЛ..ГАТЬ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ПОЛ..АГАТЬ, ПРЕДПОЛ..ГАТЬ, ПОЛ..ЖТЬ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РАСПОЛ..ГАТЬ, ПРЕДЛ..ГАТЬ, СЛ..ЖЕНИЕ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ИЗЛ..ЖЕНИЕ, ПРИЛ..ЖЕНИЕ,ПРИЛ..ГАТЕЛЬНОЕ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ВОЗЛ..ГАТЬ, ПРЕДЛ..ЖЕНИЕ, ПРИЛ..ГАТЬ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ТИ ТРЕТЬЕ ЛИШНЕЕ. ЗАПИСАТЬ ЕГО, ГРАФИЧЕСКИ ОБЪЯСНИТЬ ОРФОГРАММУ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05:06:20Z</dcterms:created>
  <dc:creator>Alyona</dc:creator>
  <dc:description/>
  <dc:language>en-US</dc:language>
  <cp:lastModifiedBy>пк</cp:lastModifiedBy>
  <dcterms:modified xsi:type="dcterms:W3CDTF">2023-04-05T18:49:18Z</dcterms:modified>
  <cp:revision>36</cp:revision>
  <dc:subject/>
  <dc:title>Слайд 1</dc:title>
</cp:coreProperties>
</file>