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550-025D-4528-B590-258214A2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31E-0179-458E-8960-0C21D329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3CC-A648-477D-80C9-FCBF8591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4E6-8B73-42A4-AE45-07568620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A7A-EF01-4EE3-B688-92003295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AB9-491F-43DF-B1F8-208E18DE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58A-3CD2-4230-B580-7A886EA3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969-585A-4545-9983-FD643D54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10F-C1EF-48FE-BDFF-CFB38DC7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C02-F832-4CA1-BCFA-D029F2DA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016-4C35-471C-94F0-5D7BD6F0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D4C-FCAB-42B4-8A7C-5130576C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38DC-AFBD-4013-8761-360FFE06B6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Desktop\АТтеСТАЦИЯ\работы на конкурс\конкурс педагогический дебют\1613672632_40-p-fon-dlya-prezentatsii-vospitatelya-detskog-42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116000" y="404280"/>
            <a:ext cx="734544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общеразвивающего вида с приоритетным направлением физического развития воспитанников «Колосок» с. Ивановка Оренбургского района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утешествие в страну       сенсори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Лобанова Е. 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7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24000" y="475920"/>
            <a:ext cx="424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еселые прищеп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8" descr="D:\Desktop\АТтеСТАЦИЯ\работы на конкурс\конкурс педагогический дебют\e19a4f382ac22ec9dad9e911219316ba.jpg"/>
          <p:cNvPicPr/>
          <p:nvPr/>
        </p:nvPicPr>
        <p:blipFill>
          <a:blip r:embed="rId2"/>
          <a:stretch/>
        </p:blipFill>
        <p:spPr>
          <a:xfrm>
            <a:off x="4967280" y="947880"/>
            <a:ext cx="3527280" cy="1652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D:\Desktop\АТтеСТАЦИЯ\работы на конкурс\конкурс педагогический дебют\prish2.jpg"/>
          <p:cNvPicPr/>
          <p:nvPr/>
        </p:nvPicPr>
        <p:blipFill>
          <a:blip r:embed="rId3"/>
          <a:stretch/>
        </p:blipFill>
        <p:spPr>
          <a:xfrm rot="20670000">
            <a:off x="738360" y="153936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D:\Desktop\АТтеСТАЦИЯ\работы на конкурс\конкурс педагогический дебют\9e61019a33a18ddba83dfc1e232d5b4f.jpg"/>
          <p:cNvPicPr/>
          <p:nvPr/>
        </p:nvPicPr>
        <p:blipFill>
          <a:blip r:embed="rId4"/>
          <a:stretch/>
        </p:blipFill>
        <p:spPr>
          <a:xfrm>
            <a:off x="3700440" y="3789360"/>
            <a:ext cx="2602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 rot="20563800">
            <a:off x="1411920" y="1060920"/>
            <a:ext cx="500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27000" y="12600"/>
            <a:ext cx="9117000" cy="684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4360" y="692280"/>
            <a:ext cx="6983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нсорное развитие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развитие восприятия ребенка, формирование представлений о внешних свойствах предметов: их форме, цвете, величине, положение в пространстве, а также запахе и вкусе, именно ранний возраст благоприятен для совершенствования органов чувств, накоплений представлений об окружающем ми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-7920" y="17640"/>
            <a:ext cx="9151920" cy="6840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279360" y="552600"/>
            <a:ext cx="8066160" cy="57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ение сенсорного развития состоит в том, что о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вляется основой для интеллектуального развит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орядочивает хаотичные представления ребенка, полученные при взаимодействии с внешним мир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ет наблюдате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ит к реальной жизн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итивно влияет на эстетическое чувств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вляется основой для развития воображения и вним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ет ребенку возможность овладеть новыми способами предметно-позна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спечивает усвоение сенсорных эталон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спечивает освоение навыков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ияет на расширение словарного запаса ребе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ияет на развитие зрительной, слуховой, моторной, образной и др. видов памяти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образовательной деятельности по сенсорному развит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овать умения детей ориентироваться в различных свойствах предметов: цвете (красный, желтый, синий, зеленый), величине (круг, квадрат), форме (куб, шар, конус- крыша, кирпичик), количестве (много, один) различать величину: большой – маленький, узкий – широкий, высокий – низкий, длинный – коротк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ть условия для обогащения и накопления сенсор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ыта детей в ходе предметно-игров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ятельности через игры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им материал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 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ть у детей умение не отвлека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поставленной задачи, доводить 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завершения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Desktop\АТтеСТАЦИЯ\работы на конкурс\конкурс педагогический дебют\slide-2.jpg"/>
          <p:cNvPicPr/>
          <p:nvPr/>
        </p:nvPicPr>
        <p:blipFill>
          <a:blip r:embed="rId2"/>
          <a:stretch/>
        </p:blipFill>
        <p:spPr>
          <a:xfrm>
            <a:off x="539640" y="692280"/>
            <a:ext cx="624204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357560" y="366840"/>
            <a:ext cx="62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 «Заплат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:\Desktop\АТтеСТАЦИЯ\работы на конкурс\конкурс педагогический дебют\detsad-467088-1523885014.jpg"/>
          <p:cNvPicPr/>
          <p:nvPr/>
        </p:nvPicPr>
        <p:blipFill>
          <a:blip r:embed="rId2"/>
          <a:stretch/>
        </p:blipFill>
        <p:spPr>
          <a:xfrm>
            <a:off x="3824280" y="1469880"/>
            <a:ext cx="3435480" cy="260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Desktop\АТтеСТАЦИЯ\работы на конкурс\конкурс педагогический дебют\zaplatki.jpg"/>
          <p:cNvPicPr/>
          <p:nvPr/>
        </p:nvPicPr>
        <p:blipFill>
          <a:blip r:embed="rId3"/>
          <a:stretch/>
        </p:blipFill>
        <p:spPr>
          <a:xfrm>
            <a:off x="611280" y="1704960"/>
            <a:ext cx="2448000" cy="346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D:\Desktop\АТтеСТАЦИЯ\работы на конкурс\конкурс педагогический дебют\slide-11.jpg"/>
          <p:cNvPicPr/>
          <p:nvPr/>
        </p:nvPicPr>
        <p:blipFill>
          <a:blip r:embed="rId4"/>
          <a:stretch/>
        </p:blipFill>
        <p:spPr>
          <a:xfrm>
            <a:off x="3059280" y="4075200"/>
            <a:ext cx="28400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98600" y="382680"/>
            <a:ext cx="42177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еселый  зонт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цвет, фор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04880" y="4368600"/>
            <a:ext cx="3311640" cy="155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крась елочку шар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цвет, фор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1bb694b3d9deac73d1ccabe6ed906e92"/>
          <p:cNvPicPr/>
          <p:nvPr/>
        </p:nvPicPr>
        <p:blipFill>
          <a:blip r:embed="rId2"/>
          <a:stretch/>
        </p:blipFill>
        <p:spPr>
          <a:xfrm rot="991800">
            <a:off x="5433480" y="624960"/>
            <a:ext cx="2546640" cy="339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87ebaab3f3541b65d9519e86ea19daf3"/>
          <p:cNvPicPr/>
          <p:nvPr/>
        </p:nvPicPr>
        <p:blipFill>
          <a:blip r:embed="rId3"/>
          <a:stretch/>
        </p:blipFill>
        <p:spPr>
          <a:xfrm>
            <a:off x="468360" y="1687680"/>
            <a:ext cx="38401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4680" y="23760"/>
            <a:ext cx="9139320" cy="683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для развития осязательного восприят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2680" y="1320480"/>
            <a:ext cx="239220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юрприз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D:\Desktop\АТтеСТАЦИЯ\работы на конкурс\конкурс педагогический дебют\02de13b1f89438cf2ee0bee341bfe4bf.jpg"/>
          <p:cNvPicPr/>
          <p:nvPr/>
        </p:nvPicPr>
        <p:blipFill>
          <a:blip r:embed="rId2"/>
          <a:stretch/>
        </p:blipFill>
        <p:spPr>
          <a:xfrm>
            <a:off x="2941560" y="4262400"/>
            <a:ext cx="3265560" cy="217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D:\Desktop\АТтеСТАЦИЯ\работы на конкурс\конкурс педагогический дебют\SSLs4IVcMpI.jpg"/>
          <p:cNvPicPr/>
          <p:nvPr/>
        </p:nvPicPr>
        <p:blipFill>
          <a:blip r:embed="rId3"/>
          <a:stretch/>
        </p:blipFill>
        <p:spPr>
          <a:xfrm>
            <a:off x="5292720" y="1557360"/>
            <a:ext cx="3024360" cy="243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D:\Desktop\АТтеСТАЦИЯ\работы на конкурс\конкурс педагогический дебют\sensory+box+0141.jpg"/>
          <p:cNvPicPr/>
          <p:nvPr/>
        </p:nvPicPr>
        <p:blipFill>
          <a:blip r:embed="rId4"/>
          <a:stretch/>
        </p:blipFill>
        <p:spPr>
          <a:xfrm>
            <a:off x="395280" y="1916280"/>
            <a:ext cx="35272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Desktop\АТтеСТАЦИЯ\работы на конкурс\конкурс педагогический дебют\1614804920_4-p-fon-dlya-prezentatsii-detskii-sad-4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Desktop\АТтеСТАЦИЯ\работы на конкурс\конкурс педагогический дебют\detsad-267717-1469212114.jpg"/>
          <p:cNvPicPr/>
          <p:nvPr/>
        </p:nvPicPr>
        <p:blipFill>
          <a:blip r:embed="rId2"/>
          <a:stretch/>
        </p:blipFill>
        <p:spPr>
          <a:xfrm rot="1074600">
            <a:off x="4581000" y="1055160"/>
            <a:ext cx="3822840" cy="286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D:\Desktop\АТтеСТАЦИЯ\работы на конкурс\конкурс педагогический дебют\13549.970.png"/>
          <p:cNvPicPr/>
          <p:nvPr/>
        </p:nvPicPr>
        <p:blipFill>
          <a:blip r:embed="rId3"/>
          <a:stretch/>
        </p:blipFill>
        <p:spPr>
          <a:xfrm>
            <a:off x="2236680" y="3689280"/>
            <a:ext cx="3994200" cy="2710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377640" y="623880"/>
            <a:ext cx="47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идактическая игра на разви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ктильного восприя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«Золуш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D:\Desktop\АТтеСТАЦИЯ\работы на конкурс\конкурс педагогический дебют\394c97e36479591c69d42f526dze--materialy-dlya-tvorchestva-galka-tsvetnaya-ya-8-12-mm-rozovyj.jpg"/>
          <p:cNvPicPr/>
          <p:nvPr/>
        </p:nvPicPr>
        <p:blipFill>
          <a:blip r:embed="rId4"/>
          <a:stretch/>
        </p:blipFill>
        <p:spPr>
          <a:xfrm rot="20586000">
            <a:off x="730080" y="1981080"/>
            <a:ext cx="32497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6:56:04Z</dcterms:created>
  <dc:creator>555</dc:creator>
  <dc:description/>
  <dc:language>en-US</dc:language>
  <cp:lastModifiedBy>User</cp:lastModifiedBy>
  <dcterms:modified xsi:type="dcterms:W3CDTF">2023-04-05T05:07:57Z</dcterms:modified>
  <cp:revision>32</cp:revision>
  <dc:subject/>
  <dc:title>«Путешествие в страну сенсорику»</dc:title>
</cp:coreProperties>
</file>