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686-C64C-474F-9C0E-88DAA30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8A5-18ED-4648-94B6-007BFE0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DF4-F37B-494E-A6DF-C51BB631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18A-F605-4FF0-9FAC-726D2E0C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204-94FC-49DE-9DDB-F62CC543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084-150F-43B2-B2E0-9C50B9A6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C74-7FFE-4276-BF94-1E09DDD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11C-A67E-4530-8201-B50F474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585-8DE9-4B3F-91EF-7F502F9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490-7C9D-4D85-AB20-54615AF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CBB-797E-46DC-8194-70E906D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4BA-DAE1-4A96-9360-305168D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689-9B2B-4AF5-A8D1-C430C4A909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sktop\АТтеСТАЦИЯ\работы на конкурс\конкурс педагогический дебют\1613672632_40-p-fon-dlya-prezentatsii-vospitatelya-detskog-42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3454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направлением физического развития воспитанников «Колосок» с. Ивановка Оренбургского района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е в страну       сенсори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Лобанова Е.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7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47592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елые прищеп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8" descr="D:\Desktop\АТтеСТАЦИЯ\работы на конкурс\конкурс педагогический дебют\e19a4f382ac22ec9dad9e911219316ba.jpg"/>
          <p:cNvPicPr/>
          <p:nvPr/>
        </p:nvPicPr>
        <p:blipFill>
          <a:blip r:embed="rId2"/>
          <a:stretch/>
        </p:blipFill>
        <p:spPr>
          <a:xfrm>
            <a:off x="4967280" y="947880"/>
            <a:ext cx="3527280" cy="165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D:\Desktop\АТтеСТАЦИЯ\работы на конкурс\конкурс педагогический дебют\prish2.jpg"/>
          <p:cNvPicPr/>
          <p:nvPr/>
        </p:nvPicPr>
        <p:blipFill>
          <a:blip r:embed="rId3"/>
          <a:stretch/>
        </p:blipFill>
        <p:spPr>
          <a:xfrm rot="20670000">
            <a:off x="738360" y="153936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Desktop\АТтеСТАЦИЯ\работы на конкурс\конкурс педагогический дебют\9e61019a33a18ddba83dfc1e232d5b4f.jpg"/>
          <p:cNvPicPr/>
          <p:nvPr/>
        </p:nvPicPr>
        <p:blipFill>
          <a:blip r:embed="rId4"/>
          <a:stretch/>
        </p:blipFill>
        <p:spPr>
          <a:xfrm>
            <a:off x="3700440" y="3789360"/>
            <a:ext cx="2602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 rot="20563800">
            <a:off x="1411920" y="1060920"/>
            <a:ext cx="500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27000" y="12600"/>
            <a:ext cx="9117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692280"/>
            <a:ext cx="698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нсорное развитие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развитие восприятия ребенка, формирование представлений о внешних свойствах предметов: их форме, цвете, величине, положение в пространстве, а также запахе и вкусе, именно ранний возраст благоприятен для совершенствования органов чувств, накоплений представлений об окружающем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-7920" y="17640"/>
            <a:ext cx="9151920" cy="684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79360" y="552600"/>
            <a:ext cx="806616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сенсорного развития состоит в том, что о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ется основой для интеллектуального развит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орядочивает хаотичные представления ребенка, полученные при взаимодействии с внешним мир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т наблюда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ит к реальной жиз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итивно влияет на эстетическое чув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ется основой для развития воображения и вним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ет ребенку возможность овладеть новыми способами предметно-позна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вает усвоение сенсорных эталон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вает освоение навыко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ияет на расширение словарного запаса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ияет на развитие зрительной, слуховой, моторной, образной и др. видов памя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образовательной деятельности по сенсорному развит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ть умения детей ориентироваться в различных свойствах предметов: цвете (красный, желтый, синий, зеленый), величине (круг, квадрат), форме (куб, шар, конус- крыша, кирпичик), количестве (много, один) различать величину: большой – маленький, узкий – широкий, высокий – низкий, длинный – корот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ть условия для обогащения и накопления сенсор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а детей в ходе предметно-игро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и через игры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м материа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ть у детей умение не отвлека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поставленной задачи, доводить 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завершен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Desktop\АТтеСТАЦИЯ\работы на конкурс\конкурс педагогический дебют\slide-2.jpg"/>
          <p:cNvPicPr/>
          <p:nvPr/>
        </p:nvPicPr>
        <p:blipFill>
          <a:blip r:embed="rId2"/>
          <a:stretch/>
        </p:blipFill>
        <p:spPr>
          <a:xfrm>
            <a:off x="539640" y="692280"/>
            <a:ext cx="62420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357560" y="366840"/>
            <a:ext cx="62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 «Запл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:\Desktop\АТтеСТАЦИЯ\работы на конкурс\конкурс педагогический дебют\detsad-467088-1523885014.jpg"/>
          <p:cNvPicPr/>
          <p:nvPr/>
        </p:nvPicPr>
        <p:blipFill>
          <a:blip r:embed="rId2"/>
          <a:stretch/>
        </p:blipFill>
        <p:spPr>
          <a:xfrm>
            <a:off x="3824280" y="1469880"/>
            <a:ext cx="3435480" cy="26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esktop\АТтеСТАЦИЯ\работы на конкурс\конкурс педагогический дебют\zaplatki.jpg"/>
          <p:cNvPicPr/>
          <p:nvPr/>
        </p:nvPicPr>
        <p:blipFill>
          <a:blip r:embed="rId3"/>
          <a:stretch/>
        </p:blipFill>
        <p:spPr>
          <a:xfrm>
            <a:off x="611280" y="1704960"/>
            <a:ext cx="2448000" cy="346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esktop\АТтеСТАЦИЯ\работы на конкурс\конкурс педагогический дебют\slide-11.jpg"/>
          <p:cNvPicPr/>
          <p:nvPr/>
        </p:nvPicPr>
        <p:blipFill>
          <a:blip r:embed="rId4"/>
          <a:stretch/>
        </p:blipFill>
        <p:spPr>
          <a:xfrm>
            <a:off x="3059280" y="4075200"/>
            <a:ext cx="28400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98600" y="382680"/>
            <a:ext cx="42177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елый  зонт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цвет, фор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04880" y="4368600"/>
            <a:ext cx="3311640" cy="15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крась елочку шар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цвет, фор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1bb694b3d9deac73d1ccabe6ed906e92"/>
          <p:cNvPicPr/>
          <p:nvPr/>
        </p:nvPicPr>
        <p:blipFill>
          <a:blip r:embed="rId2"/>
          <a:stretch/>
        </p:blipFill>
        <p:spPr>
          <a:xfrm rot="991800">
            <a:off x="5433480" y="624960"/>
            <a:ext cx="2546640" cy="339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87ebaab3f3541b65d9519e86ea19daf3"/>
          <p:cNvPicPr/>
          <p:nvPr/>
        </p:nvPicPr>
        <p:blipFill>
          <a:blip r:embed="rId3"/>
          <a:stretch/>
        </p:blipFill>
        <p:spPr>
          <a:xfrm>
            <a:off x="468360" y="1687680"/>
            <a:ext cx="38401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4680" y="23760"/>
            <a:ext cx="9139320" cy="683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для развития осязательного восприят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2680" y="1320480"/>
            <a:ext cx="239220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юрпри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D:\Desktop\АТтеСТАЦИЯ\работы на конкурс\конкурс педагогический дебют\02de13b1f89438cf2ee0bee341bfe4bf.jpg"/>
          <p:cNvPicPr/>
          <p:nvPr/>
        </p:nvPicPr>
        <p:blipFill>
          <a:blip r:embed="rId2"/>
          <a:stretch/>
        </p:blipFill>
        <p:spPr>
          <a:xfrm>
            <a:off x="2941560" y="4262400"/>
            <a:ext cx="326556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Desktop\АТтеСТАЦИЯ\работы на конкурс\конкурс педагогический дебют\SSLs4IVcMpI.jpg"/>
          <p:cNvPicPr/>
          <p:nvPr/>
        </p:nvPicPr>
        <p:blipFill>
          <a:blip r:embed="rId3"/>
          <a:stretch/>
        </p:blipFill>
        <p:spPr>
          <a:xfrm>
            <a:off x="5292720" y="1557360"/>
            <a:ext cx="3024360" cy="24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D:\Desktop\АТтеСТАЦИЯ\работы на конкурс\конкурс педагогический дебют\sensory+box+0141.jpg"/>
          <p:cNvPicPr/>
          <p:nvPr/>
        </p:nvPicPr>
        <p:blipFill>
          <a:blip r:embed="rId4"/>
          <a:stretch/>
        </p:blipFill>
        <p:spPr>
          <a:xfrm>
            <a:off x="395280" y="1916280"/>
            <a:ext cx="35272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Desktop\АТтеСТАЦИЯ\работы на конкурс\конкурс педагогический дебют\detsad-267717-1469212114.jpg"/>
          <p:cNvPicPr/>
          <p:nvPr/>
        </p:nvPicPr>
        <p:blipFill>
          <a:blip r:embed="rId2"/>
          <a:stretch/>
        </p:blipFill>
        <p:spPr>
          <a:xfrm rot="1074600">
            <a:off x="4581000" y="1055160"/>
            <a:ext cx="3822840" cy="286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Desktop\АТтеСТАЦИЯ\работы на конкурс\конкурс педагогический дебют\13549.970.png"/>
          <p:cNvPicPr/>
          <p:nvPr/>
        </p:nvPicPr>
        <p:blipFill>
          <a:blip r:embed="rId3"/>
          <a:stretch/>
        </p:blipFill>
        <p:spPr>
          <a:xfrm>
            <a:off x="2236680" y="3689280"/>
            <a:ext cx="39942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77640" y="623880"/>
            <a:ext cx="47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идактическая игра на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ктильного вос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Золу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D:\Desktop\АТтеСТАЦИЯ\работы на конкурс\конкурс педагогический дебют\394c97e36479591c69d42f526dze--materialy-dlya-tvorchestva-galka-tsvetnaya-ya-8-12-mm-rozovyj.jpg"/>
          <p:cNvPicPr/>
          <p:nvPr/>
        </p:nvPicPr>
        <p:blipFill>
          <a:blip r:embed="rId4"/>
          <a:stretch/>
        </p:blipFill>
        <p:spPr>
          <a:xfrm rot="20586000">
            <a:off x="730080" y="1981080"/>
            <a:ext cx="3249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6:56:04Z</dcterms:created>
  <dc:creator>555</dc:creator>
  <dc:description/>
  <dc:language>en-US</dc:language>
  <cp:lastModifiedBy>User</cp:lastModifiedBy>
  <dcterms:modified xsi:type="dcterms:W3CDTF">2023-04-05T05:07:57Z</dcterms:modified>
  <cp:revision>32</cp:revision>
  <dc:subject/>
  <dc:title>«Путешествие в страну сенсорику»</dc:title>
</cp:coreProperties>
</file>