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9135-CCAB-436F-A887-148638291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1C1-4B1B-4D8A-BD37-34F1C5239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878D-1FD7-436E-8F15-568CCB4C3E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81B-78E9-45F9-952E-4A2BFEAA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56F-5CC8-44BC-AFCD-19A3506C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969EF-332C-4D10-B1B1-250FA35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B0060-7BF6-4D25-BBFE-D2E6DE0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F9FE3-2DA5-47C6-A8A1-7FBCA863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62682-6BBF-48B1-A875-613D1A8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5F93D-DF4D-4670-B805-1F9FDD9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9FF30-4526-4473-AB6C-CBB427CF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EF60A-EE8E-42C8-A84F-B2B8948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A2BD-8EC2-40C8-BD9C-60B0FB02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168F-8B07-4813-888E-41B2D3D7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EE85E-325A-4380-B469-EE673494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FBD-601B-4F54-B00A-09859D42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3C445-031E-45BC-84D7-A221398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1E064-960F-4F5E-B663-C0CF221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3718A-2F08-4C6E-9B75-ED31B267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A364E-96B5-43B9-9069-85F7EE76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1237-FBEA-4C95-A6CA-F978A0C4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2A70-2E00-4A8A-8A9C-36D27E9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99075-0694-4F14-A308-1E8B3B6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787F4-8D0F-4925-95AA-D67B15A7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6C16C-4817-4F5C-8306-24B3B417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76F18-28FB-405F-A63B-37E14820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B4A-EF1E-422D-8DC2-84E1DA3D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640A7-5057-4849-ADA4-3548A81A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8AEDC-0C41-4244-9C52-C48C6C03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109E8-67C4-49FB-A420-3332073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D4DE1-C6DD-454E-9797-1CE1E60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31D06-1041-4BA1-9CF3-F61E800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275B-69E7-44A5-AA5F-091696FA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3BCE-ACF3-4E0F-82D9-3867FD3D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7904-D754-4B2A-87B1-FB42B452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FC860-2465-4F35-92FC-956CC42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327BC-2650-406B-B15E-EA258F9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98B9-463A-41CF-B603-D62FFD10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D002-A4C3-4191-8E33-F5EBD38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42B23-523D-405A-85F2-317198A3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0288-3212-4D9A-90E6-5211B66B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7BD7-0824-4D77-8A6B-437726CA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29576-A088-48B4-9123-4044531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76027-2125-4574-9365-273246DB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6DD3F-96E4-4890-A053-1D71A38B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C7403-94A3-48E2-8AAE-A36A63C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BD275-0D39-4B1A-9425-C165526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80B08-5E2B-4572-A6DC-932B749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2606-6ABF-4957-AD06-785873B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C02B4-CD2D-4C17-ACA4-53FE5DE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1868B-E074-4004-AF61-F5EDA8D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D27EE-7044-43FF-A3DE-AC63FF8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85884-74CB-4538-A337-A1D62D2F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55ACE-4EBF-45D0-AD26-B53801C7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01C5-CB9B-4BD7-B8C0-A481E6F8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9BD-6661-4C86-A205-6FBF6FF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6025-C416-4255-82E2-D6EBEA90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2BD-527B-4ED1-879E-851BDDA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04B5-9407-4EB7-B14C-420EDA4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153-81B9-4B12-A61D-4676B996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5E15-CF2F-4E1B-9D67-C0C3BACC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4F5D-9300-433D-8035-EBA129E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BF3B-3863-4791-8975-B06776C9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F4F-C15C-4183-9449-62118242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AD63-2D62-42B7-8F90-F1EFEBCC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42AE-0637-4768-BC1C-F7956659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F27B-8221-4A5B-B2E1-CB822D74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0FFE-4869-4761-B0AF-0FD3D438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FDF6-7891-40DB-BFD7-BE0F5FD9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939E-BD4F-4BF3-BE16-06F60CA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87F-E5E5-44BC-98E7-3144973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7498-1403-4D8C-9BB8-7C508944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C946-067D-4830-A6C1-80293558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A777-B7D6-4B62-AF8D-1482E16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A7A3-BEB8-472A-BBF5-8EF37FC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651D-0E1D-4FB4-8F5D-C45115A7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E54F-20B3-48ED-ABD5-608757C5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7AD9-CA24-4845-B992-2B58FCCE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0692-C80A-4025-B302-274971DD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1C08-A584-4EB0-B7E6-879EE78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887F-B081-4D67-A36B-9E95B09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19B-1289-4D77-A3C2-4CEC06D8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DF4D-D5C5-4359-A21C-4AE6FC84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27CB-EC81-4F7E-9BEA-481B31A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6951-59A5-441F-B3EB-B966E5D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7DA7-E846-45F9-AA82-D7D158B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0D78-DAEB-4534-9182-EE5639F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E109-AAAC-4820-9FFA-75AEA77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CDDD-6EDB-4DD5-81DD-A07483FD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FFC8-2738-478B-A3AE-DCF473E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2297-6621-4037-B881-78B50EE0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49098-3EC1-4C1E-861A-4F840A7D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09E-FE64-4E90-8113-AA3EA82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C61AC-E2D7-4BBE-9D41-F5F6E74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41D8-9264-4635-BCAD-CFBC9723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1884-3F3D-432C-9611-3F8A8202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9A89-29D3-4B34-B4B7-265EE1A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34F1-CFD4-4BF2-806D-B529A3AF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F1F1-C2FE-4D9C-A037-573B9F2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C4B1-9A3E-42D1-9A00-A77B6EC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3F76-CB95-48C5-82BD-5F540FC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4352-1599-47FF-BF7A-0F925ACA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B12DF-56FD-43DA-ABAB-50A7780C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BC7-5E91-4050-88DC-9E9C39F5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2E5F-D27C-4BB1-A39B-2C2D96E7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310C-8F6D-48E2-B39A-9AC53BCD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28006-FF39-4E1D-AD63-E4DD64B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6540-DF54-4838-A886-A25DE3EA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9D86-1D96-4A4A-B523-DE2A8265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7BE5-37F9-4049-9B96-A92AAF3F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89029-A7B9-4FE3-899F-B8512445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18F8-4C1A-44B6-A7D0-753C4A3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D851-C43D-4743-B66E-9082D11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1A4A-8E0F-4227-AE66-DCFD61B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631-A8A3-4F26-A76A-49A01AE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59E8-9A91-4D17-B7A9-A903FF4F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4F90-CE38-4614-8354-D0FD3099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C990-5198-4FE3-9826-65835C34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DC7F5-1121-43A8-A2D9-8282ED30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81FC-3E03-49C5-904C-0087B083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26B7D-2C8F-4966-9D21-EB9220C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F7FC-6FE2-47C0-A89B-39A6793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3869-3E44-477F-BA52-1FBF111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0A281-37E7-4A5A-9C59-8EE17E4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CF65C-8F1F-45E3-A728-0CFE9E79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9F7-E2D5-4C22-A3BF-FBBF6AB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4EEE4-535C-40E9-8FB1-DF1C106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E2845-BE4F-4A94-BFFD-B8D4913A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B0F0-E84D-4DE6-ADFE-4F969C14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BC8DA-58EB-427F-861E-5D117A27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09AEB-8EF7-4162-8790-84CD3A67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3AFA-94F5-4CB7-8ADD-753F431C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D30B-8CA3-4DED-A223-97BF80C4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42E0B-984A-4314-A3BC-1B1A256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1977C-789F-4BC2-AB8F-F50B332C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20FFB-DDD0-47B7-AFF5-C0337D7E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39F-1B1F-42C7-ABBE-E518419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7DCA-3053-41C1-AFF3-DDA44736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C3BE5-A0E4-4B40-B4EE-F9E7C9E2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BE96-3171-4EF6-9C88-4F782B0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97B7F-F542-48F7-96BC-5EBFE866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3943-1E5C-49FB-B2F7-7F281F6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AB991-4E09-4062-A40E-2066579B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97193-864F-43F8-BFFC-817DF79F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AEDE3-53B5-4D88-B7A1-4584BEA0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88AAB-AF17-485B-9FE7-1F2B1C4D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E9479-92BA-4506-95BB-93700B4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70B7-F6ED-46A4-B701-E4476B355A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2BEE-2A63-4CD8-A529-DE6146A197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BD54-ABA3-4724-BC92-3BF4126406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52F3-A47E-45CD-A821-A419828B09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D7B-E530-413F-A510-417F1969C8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9324-5F03-4A56-AC73-CFDFC3582C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4D75-BC17-4720-B297-3F5989749C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FDEE-E350-4528-BA88-A4C7D2E449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20EB-D183-4540-9A1B-6E1DA2BC2E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FAAF-D8FE-466A-B9DD-3723D35E1A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CE95-976A-4876-AACE-B42B73D156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91C-AE37-484A-9352-B439089658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indow.edu.ru/resource/592/38592/files/kolledz.pdf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0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5"/>
          <p:cNvSpPr/>
          <p:nvPr/>
        </p:nvSpPr>
        <p:spPr>
          <a:xfrm>
            <a:off x="468360" y="3333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лиал МБОУ Староюрьевской СОШ в с. Подгор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1866960" y="32846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ы:  Баева Анастасия Дмитри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ь: Клишина Валентина Егоровна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0" y="6372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2018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-11160" y="148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всень – живая тради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"/>
          <p:cNvSpPr/>
          <p:nvPr/>
        </p:nvSpPr>
        <p:spPr>
          <a:xfrm>
            <a:off x="2661840" y="62064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757080" y="2637000"/>
            <a:ext cx="772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юности я вместе с женщинами, живущими по соседству, ходила кликать Овсень. Это была группа из шести-семи человек. Чтобы оставаться неузнанными, женщины выворачивали шубы наизнанку и надевали их. Юбки были длинные. На юбки нашивали железные пробки от пивных бутылок. При движении они издавали шум и звон. За исполнение песни, за пожелание хозяевам дома добра и процветания на весь год получали подарки. Это были пироги, пышки, реже день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971640" y="15159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жительницей села Подгорное Мачневой Т. А. 1941 г.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9080" y="1033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обряда  колядования в селе Подгор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Видео для слайда 11.wmv" descr=""/>
          <p:cNvPicPr/>
          <p:nvPr/>
        </p:nvPicPr>
        <p:blipFill>
          <a:blip r:embed="rId2"/>
          <a:stretch/>
        </p:blipFill>
        <p:spPr>
          <a:xfrm>
            <a:off x="480960" y="1557360"/>
            <a:ext cx="8136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158760" y="-133200"/>
            <a:ext cx="9461520" cy="71737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84360" y="620640"/>
            <a:ext cx="7704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сни-овсени были длинными и содержали много интересных сюжетов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настоящее время их тексты забыты, остались только фраг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лены общие и специфические черты обряда колядования Староюрье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тремлении общества к изучению  традиционной культуры сохраняет формы культуры, прошедшие многовековой путь и сохранение языкового своеобразия традиционных обрядовых тек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2"/>
          <p:cNvSpPr/>
          <p:nvPr/>
        </p:nvSpPr>
        <p:spPr>
          <a:xfrm>
            <a:off x="576360" y="1413000"/>
            <a:ext cx="79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ещенко А. В. История культуры русского народа. М.: ЭКСМО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.edu.ru/resource/592/38592/files/kolledz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енкова М.И. Тамбовская художественная культура: учебное пособ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30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Box 1"/>
          <p:cNvSpPr/>
          <p:nvPr/>
        </p:nvSpPr>
        <p:spPr>
          <a:xfrm>
            <a:off x="566640" y="1022400"/>
            <a:ext cx="80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обычаями и традициями русского на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566640" y="2133720"/>
            <a:ext cx="809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е обычаи и традиции сохранились и соблюдаются жителями земли Тамбовс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роль и значение традиций в современно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66640" y="3936960"/>
            <a:ext cx="809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культурной жизни русского народа  - вариант обряда колядования жителей села Подгорное Староюрьевского района Тамбов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6"/>
          <p:cNvSpPr/>
          <p:nvPr/>
        </p:nvSpPr>
        <p:spPr>
          <a:xfrm>
            <a:off x="0" y="14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с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женый, разновозра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ть, гулять, прославл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, исполняемая во время хождения по до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"/>
          <p:cNvSpPr/>
          <p:nvPr/>
        </p:nvSpPr>
        <p:spPr>
          <a:xfrm>
            <a:off x="539640" y="3645000"/>
            <a:ext cx="8064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культура – это то, чем слав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ён Владимира наш народ больш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Вадим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-19080" y="-176040"/>
            <a:ext cx="9144000" cy="732924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сень, старинный русский посыпальный обря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зные его наз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5435640" y="1760400"/>
            <a:ext cx="273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 обсевания сохранился в  Рязанской, Владимирской, Нижегородской, Пензенской, Саратовской и Тамбовской областях. Нет сомнения, что все эти названия означают овёс, которым посыпают в то время, и само поздравление поэтому называют овсе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826920" y="1268280"/>
            <a:ext cx="22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с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"/>
          <p:cNvSpPr/>
          <p:nvPr/>
        </p:nvSpPr>
        <p:spPr>
          <a:xfrm>
            <a:off x="0" y="466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2"/>
          <p:cNvSpPr/>
          <p:nvPr/>
        </p:nvSpPr>
        <p:spPr>
          <a:xfrm>
            <a:off x="682560" y="1590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и изучение статей книги «История   культуры русского народа» А. В. Терещ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682560" y="4221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общими и специфическими чертами обряда колядования Староюрьев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717480" y="285264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ческий опрос учащихся 5–7 классов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ого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"/>
          <p:cNvSpPr/>
          <p:nvPr/>
        </p:nvSpPr>
        <p:spPr>
          <a:xfrm>
            <a:off x="36360" y="404640"/>
            <a:ext cx="91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социологического опр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Диаграмма 2" descr=""/>
          <p:cNvPicPr/>
          <p:nvPr/>
        </p:nvPicPr>
        <p:blipFill>
          <a:blip r:embed="rId2"/>
          <a:stretch/>
        </p:blipFill>
        <p:spPr>
          <a:xfrm>
            <a:off x="1019160" y="955800"/>
            <a:ext cx="7419960" cy="540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Box 1"/>
          <p:cNvSpPr/>
          <p:nvPr/>
        </p:nvSpPr>
        <p:spPr>
          <a:xfrm>
            <a:off x="20520" y="40464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20520" y="981000"/>
            <a:ext cx="91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ая традиция живёт благодаря интерпретации  / Поль Рикер 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826920" y="530064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юрьевский район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одгорное, ул. Лозин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"/>
          <p:cNvSpPr/>
          <p:nvPr/>
        </p:nvSpPr>
        <p:spPr>
          <a:xfrm>
            <a:off x="826920" y="1916280"/>
            <a:ext cx="42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ень, Авсен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тораста гус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сот порос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ниточках вис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дите пирога – мы корову за рог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дите пышку – свинью за лодыжк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дите ложку – разобьём окош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абушки - пирожо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дедушки - пятач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5076720" y="1916280"/>
            <a:ext cx="395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ень, авсе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ай, не лома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целому дава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аст пирога – тому двор живо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и мелкой скоти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даст пирога –  мы корову за рог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то не даст лепёшки –  забросаем око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ем, веем, посева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овым годом поздравляем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4"/>
          <p:cNvSpPr/>
          <p:nvPr/>
        </p:nvSpPr>
        <p:spPr>
          <a:xfrm>
            <a:off x="5076720" y="53323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юрьевский район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одгорное, ул. Набереж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2"/>
          <p:cNvSpPr/>
          <p:nvPr/>
        </p:nvSpPr>
        <p:spPr>
          <a:xfrm>
            <a:off x="20520" y="395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ычаи чтут, там люди весело жив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590400" y="5961240"/>
            <a:ext cx="79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одные гуляния, 13 января 2018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6" descr="H:\сканы\2222222.jpg"/>
          <p:cNvPicPr/>
          <p:nvPr/>
        </p:nvPicPr>
        <p:blipFill>
          <a:blip r:embed="rId2"/>
          <a:srcRect l="6325" t="8985" r="6395" b="7941"/>
          <a:stretch/>
        </p:blipFill>
        <p:spPr>
          <a:xfrm>
            <a:off x="1077840" y="1447920"/>
            <a:ext cx="7118280" cy="413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C:\Users\ПК\Desktop\09312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"/>
          <p:cNvSpPr/>
          <p:nvPr/>
        </p:nvSpPr>
        <p:spPr>
          <a:xfrm>
            <a:off x="503280" y="60706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я и Даниил Печагины кличут Овс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1"/>
          <p:cNvSpPr/>
          <p:nvPr/>
        </p:nvSpPr>
        <p:spPr>
          <a:xfrm>
            <a:off x="2589120" y="4334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ы взрослые и 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2"/>
          <a:stretch/>
        </p:blipFill>
        <p:spPr>
          <a:xfrm>
            <a:off x="749160" y="996840"/>
            <a:ext cx="7645680" cy="503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17:50:26Z</dcterms:created>
  <dc:creator>ПК</dc:creator>
  <dc:description/>
  <dc:language>en-US</dc:language>
  <cp:lastModifiedBy>ПК</cp:lastModifiedBy>
  <dcterms:modified xsi:type="dcterms:W3CDTF">2018-01-19T22:29:36Z</dcterms:modified>
  <cp:revision>120</cp:revision>
  <dc:subject/>
  <dc:title>Презентация PowerPoint</dc:title>
</cp:coreProperties>
</file>