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B25A-E683-48C1-BF4B-6027651FBE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B1CC-4A64-4B9D-9BFC-2D02B03C4B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E3D5-0F69-4CB7-8502-D07794AF37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8B59-E32C-4EE6-9D1A-3368585A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E96A-49F5-4403-8063-F6EFCCFA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CF9FF-49F6-42CF-9A70-CA3BF505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4B710-0D06-4FC9-A681-15BC6161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95635-EAD6-49E1-A128-975CF435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98005-7DB0-4DE9-BA2D-CD34CDE6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2EE6A-B736-41C8-A833-42455B75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69DDB-C7B3-4EAB-A19D-7C813FDC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284AB-0506-47DE-897A-6A6F2FF9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7A1E7-23AB-4B60-B9AF-08EB6080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068F9-AC31-49ED-B3B8-54D1BCF2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4F3A9-24CF-4AC8-BF6F-9A55063B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D8D4-251F-4831-B024-81B1935B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02D69-7151-41B6-938C-1BB3F45C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70351-6E8B-4F10-84DE-A6B1D72C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54611-2A2D-4F70-AE5C-4DC3BFDC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6B10F-A0FD-4AE7-86C4-A0E343DA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B4925-D7BC-453E-B8FB-3EC36975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2A9AA-10C6-4CA3-8720-D6491526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5CA16-3C13-4C2C-9B2F-A3F1C980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21761-52FF-4986-97BA-BDF83776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C40F7-6EA1-424E-B2A5-A63B22E3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34CC6-FF11-4313-A9F2-1BBA61D9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B1EF-BAEC-4901-A042-DFDFDDD2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C3E26-05DA-48ED-88D3-7B415760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C8B2D-E3C5-4BB4-ADEE-E75C3D2C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F3667-40BA-4A91-8407-CF7F3459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CB102-7667-4641-B609-D0A41ED9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54EA8-E048-499B-A282-D873054C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365A5-7FF5-4A71-B66A-5F394CC6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88507-14EA-48FF-B208-10C53131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62464-7E5F-407C-94EA-78EF9C68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0B300-6693-4015-BE6B-10E60118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96288-D84E-4F43-92B3-F1341B55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17C6-16D2-43F1-84EB-18544B7F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1A4E8-FBBA-44BE-A8FA-C26A2219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A8792-1BE9-4C9D-BC7E-5EC158BF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1EF3C-D728-4F81-8711-AD874F05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EB212-A664-4927-922A-EEFCD3C6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840CC-A55C-49E5-BAC5-66ED5431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31540-7DA6-4A69-8886-CD9AA7F5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2A62C-7E0A-48E9-9267-9BB62AB3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F82BF-1050-4FA7-918A-6D38A3F8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D0A98-91EF-4F5C-84BB-07879031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EC222-4C5A-4238-90FC-5F60CA4A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4762-9734-4ECC-B609-F0CAF332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FB636-10E0-486F-AD20-959B1695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CB6EA-DB4E-4149-9C60-4EE035E9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E48E4-E67E-4AB6-8787-F6B5DDD7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9A662B-E0C0-442A-A287-17304714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37B07-99AA-42EC-97E8-91915A99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B3C9-69C1-43AF-AD82-86D19E9F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C875-329F-49F7-9CD5-7A4F18F5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6D94-870B-4A5C-8836-CD98290C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4005-8CFB-47EA-9EE1-32BBE82C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B782-1703-4F84-8208-BA0B3889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50E-CAD3-4A3B-9972-8F672EC9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D954-0C10-4F5E-8859-F163635D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F321-FBD4-4459-915D-85118B03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68A3-ECCA-4021-AC1C-CFFA7CDC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8E66-92DD-4DAA-9093-C6B19032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9057-7658-466E-BA5B-00E396F0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DF49C-526E-476D-BBE8-E4322460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E1B64-93CF-455E-9118-963E981A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05420-217A-4622-BE5E-2D927206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C8719-2DD3-47F4-B8D3-2F5A8C86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D3B51-C782-4AF3-8EBD-EA74F097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0BE4-3B1F-49C2-B97F-898BDB82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40D92-78DB-4E32-815D-68000096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43D93-46E2-4730-88AC-1C982B7E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A38C9-297B-499F-8091-37FC750A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ED1B1-F6F0-4203-A551-6B4B2282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32FB5-1294-4C3F-A65E-81C3E45A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DFDEF-5B5E-4E7C-968D-7C923764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29734-0EFD-4839-A8AF-BFE14663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E20A6-B00A-4650-B415-CCC31CD7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436D3-EF83-4EA4-8024-CD93C84C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5204E-60B4-48FA-BD94-10DA425F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8BF-06BA-446E-9595-1B581EB6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E2262-D3A9-4274-AE65-C94EEDD2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86D3B-FA10-4C35-8EEE-85CF885A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FE3ED-FABC-4692-9218-E07BE4E2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5B504-5081-489F-A674-878D6276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049C4-46EB-4D2D-8D89-1F4607A6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62957-B6DF-441F-93DC-C7486C26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F0C10-26A3-4A82-9374-5CA66AE9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C0E25-BDDF-470A-AE02-06351223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7B277-8432-489E-ABCF-D8BA4818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317D9-9A7B-46C9-A64B-84BD8D18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BAA-8708-4A12-AF0C-A0F513F9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1519D-4F95-4214-A205-9C3AF15A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9BC69-EE8D-42D4-8A80-7F94C5F2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561D4-915E-4A35-A6B6-E874218E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C1090-D481-4ACB-92A3-E17BCF6F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54B16-3561-4167-887E-F08133AC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46F20-1449-4AF9-81FE-35572B88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BEBEB-6B6F-48E8-841B-6A2BDE03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A42DD-4794-464D-9C15-58688A17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957D3-12D6-43C0-BE1C-9DC446BB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10034-F617-495C-8F85-50F4B2B7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E290-3A3C-4327-A379-0CA73D52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A581B-89E3-4AC7-B39B-088159F2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63395-FEE0-4F5B-8239-3392AA2E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4E447-5605-47BD-9D57-B3A54CE9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6C8EC-5A4E-4B7F-944C-71E75AEC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DCF36-09B0-4AB5-A215-23BDC5D1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6D825-632A-4E5B-9AC9-511F1FF3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E623D-FEDC-491E-8A23-94C8ADD8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987FE-320E-4B84-9B65-161A1570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E409D-AC8B-48F5-A964-9E4FBC53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C897C-7A4F-49C7-AC69-CBD94544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DDAB-9840-43C2-BA86-4AD09A87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7684E-A614-449A-8D64-1D8FF198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4C467-1A2A-4126-9E96-374FE094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67AD0-BF20-45E1-BDB0-ADB08223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D7DE6-195F-4F82-A300-CF7EF571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6EA6D-BFA3-4AB5-BD62-D061223A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E6E5D-7E0D-4F87-BA50-4BBD50A7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8F0D7-C1E3-476D-B5CC-4458FEDC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D5436-0FA4-4F1E-8FD1-40BEBDD3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1DB78-8B73-4170-A365-F7B4A772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519BC-4B67-44DD-ADCD-296D8333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0727-9DFF-4E39-9F31-48134E9A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8BFCF-8A32-4C32-A630-B9F8A01E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15335-BCB9-45D5-A2C6-3310487A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33841-8C89-4912-8298-1988F7A5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82617-CD54-41A6-A50E-2824CA4E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72305-C755-4B6D-B5B5-E52DA47C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AC0C8-FCCF-4431-B4D7-FD8B8CC5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4B49F-B2C8-46E7-B6F7-F11CAEA1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98ACD-BE79-4825-897B-EC404D5B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E4293-7C78-4DEE-8B79-1B00BC8F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36809-D64B-4BBF-A088-250330C1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D381-E651-4D07-83F3-9F7EC04D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C4C52-1E95-45C4-81BF-AD9FE585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8BC34-9A1D-4112-9D07-77070A08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1462A-313C-4A72-9894-60590B81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0A8C5-76B7-4E25-B738-437B1EA4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2B615-1EEA-493F-B57B-2A97B202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26A67-FA1E-45F1-9E29-768C3336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7D7BC-972B-408E-87FA-B003DCE6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C745C-730A-4A3A-B62D-A21B941E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9C63C-6AC5-4363-9B0B-4DCE33DD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912F3-135F-49FE-A5F4-80734616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F8A8-E7FE-4777-B891-7012D397E73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9601-668A-41D3-8C92-63A2E8EDEA4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6AA8-FC43-4C79-8661-E188AD8B32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2E58-270E-46B6-9374-ABD112F10E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AA1C-C165-47EA-921B-19F0A124D21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E63E-924E-4BC4-AF30-24EDB7317C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C176-520E-4F99-8E8F-8C21F940BE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E816-E1B8-4C2E-822E-59ED3D6AAD0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0E65-74D2-45FB-A765-E54F25BABDE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895E-5514-4719-A943-CC1C1B0D6D3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9237-D4CE-4CAC-99B1-41F3153DAB0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CDC9-8240-4EE5-B473-5D87F4435A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indow.edu.ru/resource/592/38592/files/kolledz.pdf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Рисунок 10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TextBox 5"/>
          <p:cNvSpPr/>
          <p:nvPr/>
        </p:nvSpPr>
        <p:spPr>
          <a:xfrm>
            <a:off x="468360" y="33336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илиал МБОУ Староюрьевской СОШ в с. Подгорн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6"/>
          <p:cNvSpPr/>
          <p:nvPr/>
        </p:nvSpPr>
        <p:spPr>
          <a:xfrm>
            <a:off x="1866960" y="328464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вторы:  Баева Анастасия Дмитри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уководитель: Клишина Валентина Егоровна, 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7"/>
          <p:cNvSpPr/>
          <p:nvPr/>
        </p:nvSpPr>
        <p:spPr>
          <a:xfrm>
            <a:off x="0" y="6372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2018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Box 2"/>
          <p:cNvSpPr/>
          <p:nvPr/>
        </p:nvSpPr>
        <p:spPr>
          <a:xfrm>
            <a:off x="-11160" y="1484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всень – живая традиц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7" descr="C:\Users\ПК\Desktop\093126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Прямоугольник 2"/>
          <p:cNvSpPr/>
          <p:nvPr/>
        </p:nvSpPr>
        <p:spPr>
          <a:xfrm>
            <a:off x="2661840" y="620640"/>
            <a:ext cx="381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 реал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4"/>
          <p:cNvSpPr/>
          <p:nvPr/>
        </p:nvSpPr>
        <p:spPr>
          <a:xfrm>
            <a:off x="757080" y="2637000"/>
            <a:ext cx="772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 юности я вместе с женщинами, живущими по соседству, ходила кликать Овсень. Это была группа из шести-семи человек. Чтобы оставаться неузнанными, женщины выворачивали шубы наизнанку и надевали их. Юбки были длинные. На юбки нашивали железные пробки от пивных бутылок. При движении они издавали шум и звон. За исполнение песни, за пожелание хозяевам дома добра и процветания на весь год получали подарки. Это были пироги, пышки, реже деньг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5"/>
          <p:cNvSpPr/>
          <p:nvPr/>
        </p:nvSpPr>
        <p:spPr>
          <a:xfrm>
            <a:off x="971640" y="151596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с жительницей села Подгорное Мачневой Т. А. 1941 г.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7" descr="C:\Users\ПК\Desktop\09312671.jpg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TextBox 2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 реал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1"/>
          <p:cNvSpPr/>
          <p:nvPr/>
        </p:nvSpPr>
        <p:spPr>
          <a:xfrm>
            <a:off x="19080" y="10335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обряда  колядования в селе Подгор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Видео для слайда 11.wmv" descr=""/>
          <p:cNvPicPr/>
          <p:nvPr/>
        </p:nvPicPr>
        <p:blipFill>
          <a:blip r:embed="rId2"/>
          <a:stretch/>
        </p:blipFill>
        <p:spPr>
          <a:xfrm>
            <a:off x="480960" y="1557360"/>
            <a:ext cx="813600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C:\Users\ПК\Desktop\09312671.jpg"/>
          <p:cNvPicPr/>
          <p:nvPr/>
        </p:nvPicPr>
        <p:blipFill>
          <a:blip r:embed="rId1"/>
          <a:stretch/>
        </p:blipFill>
        <p:spPr>
          <a:xfrm>
            <a:off x="-158760" y="-133200"/>
            <a:ext cx="9461520" cy="7173720"/>
          </a:xfrm>
          <a:prstGeom prst="rect">
            <a:avLst/>
          </a:prstGeom>
          <a:ln w="0">
            <a:noFill/>
          </a:ln>
        </p:spPr>
      </p:pic>
      <p:sp>
        <p:nvSpPr>
          <p:cNvPr id="548" name="TextBox 5"/>
          <p:cNvSpPr/>
          <p:nvPr/>
        </p:nvSpPr>
        <p:spPr>
          <a:xfrm>
            <a:off x="684360" y="620640"/>
            <a:ext cx="770400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сни-овсени были длинными и содержали много интересных сюжетов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 настоящее время их тексты забыты, остались только фрагмен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явлены общие и специфические черты обряда колядования Староюрьевского рай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стремлении общества к изучению  традиционной культуры сохраняет формы культуры, прошедшие многовековой путь и сохранение языкового своеобразия традиционных обрядовых текс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7" descr="C:\Users\ПК\Desktop\093126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0" name="TextBox 1"/>
          <p:cNvSpPr/>
          <p:nvPr/>
        </p:nvSpPr>
        <p:spPr>
          <a:xfrm>
            <a:off x="0" y="549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формационные ресур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Box 2"/>
          <p:cNvSpPr/>
          <p:nvPr/>
        </p:nvSpPr>
        <p:spPr>
          <a:xfrm>
            <a:off x="576360" y="1413000"/>
            <a:ext cx="799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рещенко А. В. История культуры русского народа. М.: ЭКСМО,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indow.edu.ru/resource/592/38592/files/kolledz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лженкова М.И. Тамбовская художественная культура: учебное пособ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7" descr="C:\Users\ПК\Desktop\09312671.jpg"/>
          <p:cNvPicPr/>
          <p:nvPr/>
        </p:nvPicPr>
        <p:blipFill>
          <a:blip r:embed="rId1"/>
          <a:stretch/>
        </p:blipFill>
        <p:spPr>
          <a:xfrm>
            <a:off x="-302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TextBox 1"/>
          <p:cNvSpPr/>
          <p:nvPr/>
        </p:nvSpPr>
        <p:spPr>
          <a:xfrm>
            <a:off x="566640" y="1022400"/>
            <a:ext cx="809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обычаями и традициями русского нар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2"/>
          <p:cNvSpPr/>
          <p:nvPr/>
        </p:nvSpPr>
        <p:spPr>
          <a:xfrm>
            <a:off x="566640" y="2133720"/>
            <a:ext cx="809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, какие обычаи и традиции сохранились и соблюдаются жителями земли Тамбовск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роль и значение традиций в современной жиз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5"/>
          <p:cNvSpPr/>
          <p:nvPr/>
        </p:nvSpPr>
        <p:spPr>
          <a:xfrm>
            <a:off x="566640" y="3936960"/>
            <a:ext cx="809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гмент культурной жизни русского народа  - вариант обряда колядования жителей села Подгорное Староюрьевского района Тамбовской обла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7" descr="C:\Users\ПК\Desktop\093126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9" name="TextBox 6"/>
          <p:cNvSpPr/>
          <p:nvPr/>
        </p:nvSpPr>
        <p:spPr>
          <a:xfrm>
            <a:off x="0" y="1413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с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женый, разновозраст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кать, гулять, прославля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ня, исполняемая во время хождения по дом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2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1"/>
          <p:cNvSpPr/>
          <p:nvPr/>
        </p:nvSpPr>
        <p:spPr>
          <a:xfrm>
            <a:off x="539640" y="3645000"/>
            <a:ext cx="8064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ая культура – это то, чем слави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времён Владимира наш народ большой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гений Вадим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7" descr="C:\Users\ПК\Desktop\09312671.jpg"/>
          <p:cNvPicPr/>
          <p:nvPr/>
        </p:nvPicPr>
        <p:blipFill>
          <a:blip r:embed="rId1"/>
          <a:stretch/>
        </p:blipFill>
        <p:spPr>
          <a:xfrm>
            <a:off x="-19080" y="-176040"/>
            <a:ext cx="9144000" cy="7329240"/>
          </a:xfrm>
          <a:prstGeom prst="rect">
            <a:avLst/>
          </a:prstGeom>
          <a:ln w="0">
            <a:noFill/>
          </a:ln>
        </p:spPr>
      </p:pic>
      <p:sp>
        <p:nvSpPr>
          <p:cNvPr id="513" name="TextBox 1"/>
          <p:cNvSpPr/>
          <p:nvPr/>
        </p:nvSpPr>
        <p:spPr>
          <a:xfrm>
            <a:off x="0" y="333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сень, старинный русский посыпальный обряд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азные его наз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5"/>
          <p:cNvSpPr/>
          <p:nvPr/>
        </p:nvSpPr>
        <p:spPr>
          <a:xfrm>
            <a:off x="5435640" y="1760400"/>
            <a:ext cx="273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яд обсевания сохранился в  Рязанской, Владимирской, Нижегородской, Пензенской, Саратовской и Тамбовской областях. Нет сомнения, что все эти названия означают овёс, которым посыпают в то время, и само поздравление поэтому называют овсен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2"/>
          <p:cNvSpPr/>
          <p:nvPr/>
        </p:nvSpPr>
        <p:spPr>
          <a:xfrm>
            <a:off x="826920" y="1268280"/>
            <a:ext cx="2232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с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ус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ус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с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7" descr="C:\Users\ПК\Desktop\093126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1"/>
          <p:cNvSpPr/>
          <p:nvPr/>
        </p:nvSpPr>
        <p:spPr>
          <a:xfrm>
            <a:off x="0" y="4665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 реал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Box 2"/>
          <p:cNvSpPr/>
          <p:nvPr/>
        </p:nvSpPr>
        <p:spPr>
          <a:xfrm>
            <a:off x="682560" y="15908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и изучение статей книги «История   культуры русского народа» А. В. Терещен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Box 4"/>
          <p:cNvSpPr/>
          <p:nvPr/>
        </p:nvSpPr>
        <p:spPr>
          <a:xfrm>
            <a:off x="682560" y="422100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 за общими и специфическими чертами обряда колядования Староюрьевского рай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5"/>
          <p:cNvSpPr/>
          <p:nvPr/>
        </p:nvSpPr>
        <p:spPr>
          <a:xfrm>
            <a:off x="717480" y="285264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ологический опрос учащихся 5–7 классов и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ого нас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7" descr="C:\Users\ПК\Desktop\093126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TextBox 1"/>
          <p:cNvSpPr/>
          <p:nvPr/>
        </p:nvSpPr>
        <p:spPr>
          <a:xfrm>
            <a:off x="36360" y="404640"/>
            <a:ext cx="910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социологического опро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Диаграмма 2" descr=""/>
          <p:cNvPicPr/>
          <p:nvPr/>
        </p:nvPicPr>
        <p:blipFill>
          <a:blip r:embed="rId2"/>
          <a:stretch/>
        </p:blipFill>
        <p:spPr>
          <a:xfrm>
            <a:off x="1019160" y="955800"/>
            <a:ext cx="7419960" cy="5403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7" descr="C:\Users\ПК\Desktop\09312671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TextBox 1"/>
          <p:cNvSpPr/>
          <p:nvPr/>
        </p:nvSpPr>
        <p:spPr>
          <a:xfrm>
            <a:off x="20520" y="40464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 реал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2"/>
          <p:cNvSpPr/>
          <p:nvPr/>
        </p:nvSpPr>
        <p:spPr>
          <a:xfrm>
            <a:off x="20520" y="981000"/>
            <a:ext cx="91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кая традиция живёт благодаря интерпретации  / Поль Рикер 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1"/>
          <p:cNvSpPr/>
          <p:nvPr/>
        </p:nvSpPr>
        <p:spPr>
          <a:xfrm>
            <a:off x="826920" y="530064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оюрьевский район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Подгорное, ул. Лозино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1"/>
          <p:cNvSpPr/>
          <p:nvPr/>
        </p:nvSpPr>
        <p:spPr>
          <a:xfrm>
            <a:off x="826920" y="1916280"/>
            <a:ext cx="4249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ень, Авсень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тораста гус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сот порося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на ниточках вися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адите пирога – мы корову за рог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адите пышку – свинью за лодыжку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адите ложку – разобьём окошко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абушки - пирожок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 дедушки - пятач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3"/>
          <p:cNvSpPr/>
          <p:nvPr/>
        </p:nvSpPr>
        <p:spPr>
          <a:xfrm>
            <a:off x="5076720" y="1916280"/>
            <a:ext cx="3959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ень, авсен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вай, не лома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 целому дава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даст пирога – тому двор живо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щё и мелкой скотин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не даст пирога –  мы корову за рог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то не даст лепёшки –  забросаем окош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ем, веем, посева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овым годом поздравляем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4"/>
          <p:cNvSpPr/>
          <p:nvPr/>
        </p:nvSpPr>
        <p:spPr>
          <a:xfrm>
            <a:off x="5076720" y="53323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оюрьевский район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Подгорное, ул. Набережн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C:\Users\ПК\Desktop\093126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TextBox 2"/>
          <p:cNvSpPr/>
          <p:nvPr/>
        </p:nvSpPr>
        <p:spPr>
          <a:xfrm>
            <a:off x="20520" y="39528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бычаи чтут, там люди весело жив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Box 1"/>
          <p:cNvSpPr/>
          <p:nvPr/>
        </p:nvSpPr>
        <p:spPr>
          <a:xfrm>
            <a:off x="590400" y="5961240"/>
            <a:ext cx="79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родные гуляния, 13 января 2018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Picture 6" descr="H:\сканы\2222222.jpg"/>
          <p:cNvPicPr/>
          <p:nvPr/>
        </p:nvPicPr>
        <p:blipFill>
          <a:blip r:embed="rId2"/>
          <a:srcRect l="6325" t="8985" r="6395" b="7941"/>
          <a:stretch/>
        </p:blipFill>
        <p:spPr>
          <a:xfrm>
            <a:off x="1077840" y="1447920"/>
            <a:ext cx="7118280" cy="4136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7" descr="C:\Users\ПК\Desktop\093126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TextBox 1"/>
          <p:cNvSpPr/>
          <p:nvPr/>
        </p:nvSpPr>
        <p:spPr>
          <a:xfrm>
            <a:off x="503280" y="607068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ия и Даниил Печагины кличут Овсе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1"/>
          <p:cNvSpPr/>
          <p:nvPr/>
        </p:nvSpPr>
        <p:spPr>
          <a:xfrm>
            <a:off x="2589120" y="4334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ы взрослые и де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6" descr=""/>
          <p:cNvPicPr/>
          <p:nvPr/>
        </p:nvPicPr>
        <p:blipFill>
          <a:blip r:embed="rId2"/>
          <a:stretch/>
        </p:blipFill>
        <p:spPr>
          <a:xfrm>
            <a:off x="749160" y="996840"/>
            <a:ext cx="7645680" cy="5037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8T17:50:26Z</dcterms:created>
  <dc:creator>ПК</dc:creator>
  <dc:description/>
  <dc:language>en-US</dc:language>
  <cp:lastModifiedBy>ПК</cp:lastModifiedBy>
  <dcterms:modified xsi:type="dcterms:W3CDTF">2018-01-19T22:29:36Z</dcterms:modified>
  <cp:revision>120</cp:revision>
  <dc:subject/>
  <dc:title>Презентация PowerPoint</dc:title>
</cp:coreProperties>
</file>