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8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6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4932-0E3F-497D-9167-5D12B718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18FE-66A3-4294-BFDE-8014E3FA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7835-300D-4895-93C2-045069AC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0F7-5726-4979-976E-D1EFCB96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406B-1ACA-49AD-9B1C-553CDF6E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7014-9CD9-4336-95F0-16E34420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74F7-93F6-4E75-BE43-3A40B904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C7B9-A3A9-4CCB-952B-E64D1CFF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6DA0-B416-4E32-A2ED-86FE374F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0F49-F06F-48AC-967B-29CA7723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47D2-ED5D-47E3-BBC6-14EAB353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D051-2623-430E-AA88-D4CDEFB3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7C12-1437-4147-A58B-AC44340F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EB36-AB9F-4396-8A85-94A453A0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19C3-C47A-4183-AEC1-39C853CF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D316-5D0E-4CBA-8329-73C4315D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9515-B4AF-416E-B7D5-71953A4C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93C11-E1B1-486A-95CB-5294F70F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DB697-5BD3-49F7-84CD-50F3BAC1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DB3E5-E648-48B3-B332-B7DDEF1A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1D2FB-1C2E-45BB-9643-8966ED42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4F3CD-8593-4F8A-BC0A-3B0F90F3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3AB4-3047-4DC3-95E0-62B50CC9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BF967-8ABC-43DD-82C1-5C47289E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E3B4F-A89D-4B2E-A852-1EF44CAA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95D92-6795-4898-BE5B-E67A1C68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77177-3ED4-459F-809D-6172B37B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5683D-1073-4FF2-A9A2-C708B856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661F0-E0BE-47E4-A35A-434A6985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D017B-AEC3-4826-86C3-F199B4C0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C97F-092E-4BE8-890E-3D650487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67E3-57FE-406D-AC39-C03403F5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C7B-19B3-4FDF-BD58-B9FE1876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95A-B5DB-4E32-9513-A20262EB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2FD-8736-4E77-A36E-639031E5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1D1D-9118-4AF3-A675-07BE1150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5520"/>
            <a:ext cx="9143640" cy="1752120"/>
            <a:chOff x="0" y="5105520"/>
            <a:chExt cx="9143640" cy="175212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8400"/>
              <a:ext cx="9143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364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3640" cy="5108040"/>
            <a:chOff x="0" y="0"/>
            <a:chExt cx="9143640" cy="510804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3640" cy="51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3640" cy="51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sp>
        <p:nvSpPr>
          <p:cNvPr id="6" name="Rectangle 8" hidden="1"/>
          <p:cNvSpPr/>
          <p:nvPr/>
        </p:nvSpPr>
        <p:spPr>
          <a:xfrm>
            <a:off x="0" y="376884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58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3640" cy="5101920"/>
            <a:chOff x="0" y="1603440"/>
            <a:chExt cx="9143640" cy="5101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364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3800" cy="36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grpSp>
        <p:nvGrpSpPr>
          <p:cNvPr id="10" name="Rectangle 10"/>
          <p:cNvGrpSpPr/>
          <p:nvPr/>
        </p:nvGrpSpPr>
        <p:grpSpPr>
          <a:xfrm>
            <a:off x="0" y="3865680"/>
            <a:ext cx="9143640" cy="2991960"/>
            <a:chOff x="0" y="3865680"/>
            <a:chExt cx="9143640" cy="2991960"/>
          </a:xfrm>
        </p:grpSpPr>
        <p:pic>
          <p:nvPicPr>
            <p:cNvPr id="11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3640" cy="29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" name=""/>
            <p:cNvSpPr/>
            <p:nvPr/>
          </p:nvSpPr>
          <p:spPr>
            <a:xfrm>
              <a:off x="0" y="3867120"/>
              <a:ext cx="9143640" cy="29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grpSp>
        <p:nvGrpSpPr>
          <p:cNvPr id="13" name="Rectangle 11"/>
          <p:cNvGrpSpPr/>
          <p:nvPr/>
        </p:nvGrpSpPr>
        <p:grpSpPr>
          <a:xfrm>
            <a:off x="0" y="0"/>
            <a:ext cx="9143640" cy="3866760"/>
            <a:chOff x="0" y="0"/>
            <a:chExt cx="9143640" cy="3866760"/>
          </a:xfrm>
        </p:grpSpPr>
        <p:pic>
          <p:nvPicPr>
            <p:cNvPr id="14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3640" cy="38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"/>
            <p:cNvSpPr/>
            <p:nvPr/>
          </p:nvSpPr>
          <p:spPr>
            <a:xfrm>
              <a:off x="0" y="0"/>
              <a:ext cx="9143640" cy="38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sp>
        <p:nvSpPr>
          <p:cNvPr id="16" name="Rectangle 12"/>
          <p:cNvSpPr/>
          <p:nvPr/>
        </p:nvSpPr>
        <p:spPr>
          <a:xfrm>
            <a:off x="0" y="265284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58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grpSp>
        <p:nvGrpSpPr>
          <p:cNvPr id="17" name="Oval 13"/>
          <p:cNvGrpSpPr/>
          <p:nvPr/>
        </p:nvGrpSpPr>
        <p:grpSpPr>
          <a:xfrm>
            <a:off x="0" y="1603440"/>
            <a:ext cx="9143640" cy="5101920"/>
            <a:chOff x="0" y="1603440"/>
            <a:chExt cx="9143640" cy="5101920"/>
          </a:xfrm>
        </p:grpSpPr>
        <p:pic>
          <p:nvPicPr>
            <p:cNvPr id="18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364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" name=""/>
            <p:cNvSpPr/>
            <p:nvPr/>
          </p:nvSpPr>
          <p:spPr>
            <a:xfrm>
              <a:off x="1339920" y="2347920"/>
              <a:ext cx="6463800" cy="36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Trebuchet MS"/>
                <a:ea typeface="Arial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73DEB878-CDE2-460F-8456-5270D57014F2}" type="slidenum">
              <a:rPr b="1" lang="ru-RU" sz="1200" spc="-1" strike="noStrike">
                <a:solidFill>
                  <a:srgbClr val="7f7f7f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Rectangle 6"/>
          <p:cNvGrpSpPr/>
          <p:nvPr/>
        </p:nvGrpSpPr>
        <p:grpSpPr>
          <a:xfrm>
            <a:off x="0" y="5105520"/>
            <a:ext cx="9143640" cy="1752120"/>
            <a:chOff x="0" y="5105520"/>
            <a:chExt cx="9143640" cy="1752120"/>
          </a:xfrm>
        </p:grpSpPr>
        <p:pic>
          <p:nvPicPr>
            <p:cNvPr id="6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8400"/>
              <a:ext cx="9143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5105520"/>
              <a:ext cx="914364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grpSp>
        <p:nvGrpSpPr>
          <p:cNvPr id="64" name="Rectangle 7"/>
          <p:cNvGrpSpPr/>
          <p:nvPr/>
        </p:nvGrpSpPr>
        <p:grpSpPr>
          <a:xfrm>
            <a:off x="0" y="0"/>
            <a:ext cx="9143640" cy="5108040"/>
            <a:chOff x="0" y="0"/>
            <a:chExt cx="9143640" cy="5108040"/>
          </a:xfrm>
        </p:grpSpPr>
        <p:pic>
          <p:nvPicPr>
            <p:cNvPr id="6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3640" cy="51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3640" cy="51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sp>
        <p:nvSpPr>
          <p:cNvPr id="67" name="Rectangle 8"/>
          <p:cNvSpPr/>
          <p:nvPr/>
        </p:nvSpPr>
        <p:spPr>
          <a:xfrm>
            <a:off x="0" y="376884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58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grpSp>
        <p:nvGrpSpPr>
          <p:cNvPr id="68" name="Oval 9"/>
          <p:cNvGrpSpPr/>
          <p:nvPr/>
        </p:nvGrpSpPr>
        <p:grpSpPr>
          <a:xfrm>
            <a:off x="0" y="1603440"/>
            <a:ext cx="9143640" cy="5101920"/>
            <a:chOff x="0" y="1603440"/>
            <a:chExt cx="9143640" cy="5101920"/>
          </a:xfrm>
        </p:grpSpPr>
        <p:pic>
          <p:nvPicPr>
            <p:cNvPr id="6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364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3800" cy="36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  <a:ea typeface="Arial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18252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  <a:ea typeface="Arial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Arial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Arial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  <a:ea typeface="Arial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52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  <a:ea typeface="Arial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DC3FEAFB-F4D5-40D9-BAD7-BC37A3BFE42F}" type="slidenum">
              <a:rPr b="1" lang="ru-RU" sz="1200" spc="-1" strike="noStrike">
                <a:solidFill>
                  <a:srgbClr val="7f7f7f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0" y="5105520"/>
            <a:ext cx="9143640" cy="1752120"/>
            <a:chOff x="0" y="5105520"/>
            <a:chExt cx="9143640" cy="175212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8400"/>
              <a:ext cx="9143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364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3640" cy="5108040"/>
            <a:chOff x="0" y="0"/>
            <a:chExt cx="9143640" cy="510804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3640" cy="51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3640" cy="51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58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3640" cy="5101920"/>
            <a:chOff x="0" y="1603440"/>
            <a:chExt cx="9143640" cy="510192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364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3800" cy="36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  <a:ea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9C4C7910-4001-4028-A2F4-FB6DD9CF2832}" type="slidenum">
              <a:rPr b="1" lang="ru-RU" sz="1200" spc="-1" strike="noStrike">
                <a:solidFill>
                  <a:srgbClr val="7f7f7f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473120" y="5052960"/>
            <a:ext cx="5636880" cy="88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  <a:ea typeface="Arial"/>
              </a:rPr>
              <a:t>Походяева С.Б., учитель начальных классов, МБОУ ШР «СОШ № 4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404040"/>
                </a:solidFill>
                <a:latin typeface="Trebuchet MS"/>
                <a:ea typeface="Arial"/>
              </a:rPr>
              <a:t>Окружающий мир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5"/>
          <p:cNvSpPr/>
          <p:nvPr/>
        </p:nvSpPr>
        <p:spPr>
          <a:xfrm>
            <a:off x="826920" y="404640"/>
            <a:ext cx="7705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куд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 наш дом приходит в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338040" y="1989000"/>
            <a:ext cx="6825960" cy="3241440"/>
          </a:xfrm>
          <a:prstGeom prst="rect">
            <a:avLst/>
          </a:prstGeom>
          <a:ln w="0">
            <a:noFill/>
          </a:ln>
        </p:spPr>
      </p:pic>
      <p:cxnSp>
        <p:nvCxnSpPr>
          <p:cNvPr id="193" name="Прямая со стрелкой 7"/>
          <p:cNvCxnSpPr/>
          <p:nvPr/>
        </p:nvCxnSpPr>
        <p:spPr>
          <a:xfrm>
            <a:off x="1187280" y="3573360"/>
            <a:ext cx="289440" cy="466920"/>
          </a:xfrm>
          <a:prstGeom prst="straightConnector1">
            <a:avLst/>
          </a:prstGeom>
          <a:ln w="381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4" name="Прямая со стрелкой 9"/>
          <p:cNvCxnSpPr/>
          <p:nvPr/>
        </p:nvCxnSpPr>
        <p:spPr>
          <a:xfrm>
            <a:off x="2916000" y="4468680"/>
            <a:ext cx="959400" cy="505080"/>
          </a:xfrm>
          <a:prstGeom prst="straightConnector1">
            <a:avLst/>
          </a:prstGeom>
          <a:ln w="381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5" name="Прямая соединительная линия 14"/>
          <p:cNvCxnSpPr/>
          <p:nvPr/>
        </p:nvCxnSpPr>
        <p:spPr>
          <a:xfrm>
            <a:off x="8100720" y="1989000"/>
            <a:ext cx="360" cy="316908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96" name="Прямая соединительная линия 16"/>
          <p:cNvCxnSpPr/>
          <p:nvPr/>
        </p:nvCxnSpPr>
        <p:spPr>
          <a:xfrm>
            <a:off x="7812000" y="1989000"/>
            <a:ext cx="57636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97" name="Прямая соединительная линия 19"/>
          <p:cNvCxnSpPr/>
          <p:nvPr/>
        </p:nvCxnSpPr>
        <p:spPr>
          <a:xfrm>
            <a:off x="7848360" y="5157720"/>
            <a:ext cx="50364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98" name="Прямая соединительная линия 21"/>
          <p:cNvCxnSpPr/>
          <p:nvPr/>
        </p:nvCxnSpPr>
        <p:spPr>
          <a:xfrm>
            <a:off x="7812000" y="3609720"/>
            <a:ext cx="54000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pic>
        <p:nvPicPr>
          <p:cNvPr id="199" name="Стирка - POLKA_(x-Minusovka.ru).mp3" descr=""/>
          <p:cNvPicPr/>
          <p:nvPr/>
        </p:nvPicPr>
        <p:blipFill>
          <a:blip r:embed="rId2"/>
          <a:stretch/>
        </p:blipFill>
        <p:spPr>
          <a:xfrm>
            <a:off x="7850160" y="5732640"/>
            <a:ext cx="609120" cy="6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delay="0" evt="onClick">
                    <p:tgtEl>
                      <p:spTgt spid="199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delay="0"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39636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1187280" y="333360"/>
            <a:ext cx="7561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уда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з дома уходит вод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Прямая со стрелкой 3"/>
          <p:cNvCxnSpPr/>
          <p:nvPr/>
        </p:nvCxnSpPr>
        <p:spPr>
          <a:xfrm>
            <a:off x="2195280" y="3028680"/>
            <a:ext cx="100836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5148360" y="2878200"/>
            <a:ext cx="1176120" cy="328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2"/>
          <a:stretch/>
        </p:blipFill>
        <p:spPr>
          <a:xfrm>
            <a:off x="108000" y="2133720"/>
            <a:ext cx="1847520" cy="1792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3"/>
          <a:stretch/>
        </p:blipFill>
        <p:spPr>
          <a:xfrm>
            <a:off x="3492360" y="2146320"/>
            <a:ext cx="1274400" cy="1792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4"/>
          <a:stretch/>
        </p:blipFill>
        <p:spPr>
          <a:xfrm>
            <a:off x="6659640" y="2171880"/>
            <a:ext cx="1731600" cy="1792080"/>
          </a:xfrm>
          <a:prstGeom prst="rect">
            <a:avLst/>
          </a:prstGeom>
          <a:ln w="0">
            <a:noFill/>
          </a:ln>
        </p:spPr>
      </p:pic>
      <p:cxnSp>
        <p:nvCxnSpPr>
          <p:cNvPr id="206" name="Прямая соединительная линия 6"/>
          <p:cNvCxnSpPr/>
          <p:nvPr/>
        </p:nvCxnSpPr>
        <p:spPr>
          <a:xfrm>
            <a:off x="7308720" y="4149720"/>
            <a:ext cx="360" cy="2232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207" name="Прямая соединительная линия 12"/>
          <p:cNvCxnSpPr/>
          <p:nvPr/>
        </p:nvCxnSpPr>
        <p:spPr>
          <a:xfrm>
            <a:off x="7092720" y="4149720"/>
            <a:ext cx="43380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208" name="Прямая соединительная линия 14"/>
          <p:cNvCxnSpPr/>
          <p:nvPr/>
        </p:nvCxnSpPr>
        <p:spPr>
          <a:xfrm>
            <a:off x="7092720" y="6381720"/>
            <a:ext cx="43380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209" name="Прямая соединительная линия 16"/>
          <p:cNvCxnSpPr/>
          <p:nvPr/>
        </p:nvCxnSpPr>
        <p:spPr>
          <a:xfrm>
            <a:off x="7092720" y="5171760"/>
            <a:ext cx="43380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3"/>
          <p:cNvSpPr/>
          <p:nvPr/>
        </p:nvSpPr>
        <p:spPr>
          <a:xfrm>
            <a:off x="1042920" y="765000"/>
            <a:ext cx="73450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куд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 наш дом приходит вода и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уд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на уходи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5687640" cy="2303280"/>
          </a:xfrm>
          <a:prstGeom prst="rect">
            <a:avLst/>
          </a:prstGeom>
          <a:ln w="0">
            <a:noFill/>
          </a:ln>
        </p:spPr>
      </p:pic>
      <p:cxnSp>
        <p:nvCxnSpPr>
          <p:cNvPr id="212" name="Прямая со стрелкой 7"/>
          <p:cNvCxnSpPr/>
          <p:nvPr/>
        </p:nvCxnSpPr>
        <p:spPr>
          <a:xfrm>
            <a:off x="755640" y="4365360"/>
            <a:ext cx="432000" cy="216360"/>
          </a:xfrm>
          <a:prstGeom prst="straightConnector1">
            <a:avLst/>
          </a:prstGeom>
          <a:ln w="381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3" name="Прямая со стрелкой 9"/>
          <p:cNvCxnSpPr/>
          <p:nvPr/>
        </p:nvCxnSpPr>
        <p:spPr>
          <a:xfrm>
            <a:off x="2050920" y="4868640"/>
            <a:ext cx="505080" cy="432360"/>
          </a:xfrm>
          <a:prstGeom prst="straightConnector1">
            <a:avLst/>
          </a:prstGeom>
          <a:ln w="381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4" name="Прямая со стрелкой 11"/>
          <p:cNvCxnSpPr/>
          <p:nvPr/>
        </p:nvCxnSpPr>
        <p:spPr>
          <a:xfrm flipV="1">
            <a:off x="4284360" y="4941720"/>
            <a:ext cx="575280" cy="359280"/>
          </a:xfrm>
          <a:prstGeom prst="straightConnector1">
            <a:avLst/>
          </a:prstGeom>
          <a:ln w="381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5" name="Прямая со стрелкой 13"/>
          <p:cNvCxnSpPr/>
          <p:nvPr/>
        </p:nvCxnSpPr>
        <p:spPr>
          <a:xfrm flipV="1">
            <a:off x="5724360" y="4149720"/>
            <a:ext cx="287640" cy="432000"/>
          </a:xfrm>
          <a:prstGeom prst="straightConnector1">
            <a:avLst/>
          </a:prstGeom>
          <a:ln w="381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6" name="Прямая соединительная линия 15"/>
          <p:cNvCxnSpPr/>
          <p:nvPr/>
        </p:nvCxnSpPr>
        <p:spPr>
          <a:xfrm>
            <a:off x="7451640" y="2781000"/>
            <a:ext cx="360" cy="273564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217" name="Прямая соединительная линия 17"/>
          <p:cNvCxnSpPr/>
          <p:nvPr/>
        </p:nvCxnSpPr>
        <p:spPr>
          <a:xfrm>
            <a:off x="7164360" y="2781000"/>
            <a:ext cx="5032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7199280" y="4005360"/>
            <a:ext cx="506160" cy="3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7205760" y="5499000"/>
            <a:ext cx="506160" cy="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Trebuchet MS"/>
              <a:ea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908640"/>
            <a:ext cx="8424720" cy="17906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Откуда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в наш дом приходит вода и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куда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она уходит? 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20600" y="115920"/>
            <a:ext cx="652572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 algn="ctr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урока</a:t>
            </a:r>
            <a:endParaRPr b="0" lang="ru-RU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4986360" y="2846520"/>
            <a:ext cx="3444480" cy="6187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2592000" cy="39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5"/>
          <p:cNvSpPr/>
          <p:nvPr/>
        </p:nvSpPr>
        <p:spPr>
          <a:xfrm>
            <a:off x="611280" y="549360"/>
            <a:ext cx="7489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чем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человеку в доме нужна в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11280" y="3213000"/>
            <a:ext cx="80640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Trebuchet MS"/>
              <a:ea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79280" y="1565280"/>
            <a:ext cx="7056000" cy="4925520"/>
          </a:xfrm>
          <a:prstGeom prst="rect">
            <a:avLst/>
          </a:prstGeom>
          <a:ln w="0">
            <a:noFill/>
          </a:ln>
        </p:spPr>
      </p:pic>
      <p:cxnSp>
        <p:nvCxnSpPr>
          <p:cNvPr id="174" name="Прямая со стрелкой 8"/>
          <p:cNvCxnSpPr/>
          <p:nvPr/>
        </p:nvCxnSpPr>
        <p:spPr>
          <a:xfrm flipV="1">
            <a:off x="3563640" y="4503600"/>
            <a:ext cx="360" cy="93708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5" name="Прямая со стрелкой 15"/>
          <p:cNvCxnSpPr/>
          <p:nvPr/>
        </p:nvCxnSpPr>
        <p:spPr>
          <a:xfrm flipH="1" flipV="1">
            <a:off x="3850920" y="4027320"/>
            <a:ext cx="1008720" cy="554400"/>
          </a:xfrm>
          <a:prstGeom prst="straightConnector1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Прямая соединительная линия 18"/>
          <p:cNvCxnSpPr/>
          <p:nvPr/>
        </p:nvCxnSpPr>
        <p:spPr>
          <a:xfrm>
            <a:off x="7992720" y="2133360"/>
            <a:ext cx="360" cy="2664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77" name="Прямая соединительная линия 20"/>
          <p:cNvCxnSpPr/>
          <p:nvPr/>
        </p:nvCxnSpPr>
        <p:spPr>
          <a:xfrm>
            <a:off x="7596000" y="2133360"/>
            <a:ext cx="79236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78" name="Прямая соединительная линия 22"/>
          <p:cNvCxnSpPr/>
          <p:nvPr/>
        </p:nvCxnSpPr>
        <p:spPr>
          <a:xfrm>
            <a:off x="7667280" y="4797360"/>
            <a:ext cx="721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79" name="Прямая соединительная линия 24"/>
          <p:cNvCxnSpPr/>
          <p:nvPr/>
        </p:nvCxnSpPr>
        <p:spPr>
          <a:xfrm>
            <a:off x="7596000" y="3396960"/>
            <a:ext cx="721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pic>
        <p:nvPicPr>
          <p:cNvPr id="180" name="Стирка - POLKA_(x-Minusovka.ru).mp3" descr=""/>
          <p:cNvPicPr/>
          <p:nvPr/>
        </p:nvPicPr>
        <p:blipFill>
          <a:blip r:embed="rId2"/>
          <a:stretch/>
        </p:blipFill>
        <p:spPr>
          <a:xfrm>
            <a:off x="7796160" y="5440320"/>
            <a:ext cx="609120" cy="6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delay="0" evt="onClick">
                    <p:tgtEl>
                      <p:spTgt spid="180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delay="0"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39636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2"/>
          <p:cNvSpPr/>
          <p:nvPr/>
        </p:nvSpPr>
        <p:spPr>
          <a:xfrm>
            <a:off x="900000" y="549360"/>
            <a:ext cx="748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куд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 наш дом приходит в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206600" cy="4103280"/>
          </a:xfrm>
          <a:prstGeom prst="rect">
            <a:avLst/>
          </a:prstGeom>
          <a:ln w="0">
            <a:noFill/>
          </a:ln>
          <a:effectLst>
            <a:outerShdw algn="tl" blurRad="291960" dir="2700000" dist="139498">
              <a:srgbClr val="333333">
                <a:alpha val="65000"/>
              </a:srgbClr>
            </a:outerShdw>
          </a:effectLst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4176360" cy="3122280"/>
          </a:xfrm>
          <a:prstGeom prst="rect">
            <a:avLst/>
          </a:prstGeom>
          <a:ln w="0">
            <a:noFill/>
          </a:ln>
          <a:effectLst>
            <a:outerShdw algn="tl" blurRad="291960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3779640" cy="514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rcRect l="0" t="35293" r="88199" b="0"/>
          <a:stretch/>
        </p:blipFill>
        <p:spPr>
          <a:xfrm>
            <a:off x="5148360" y="620640"/>
            <a:ext cx="30240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Users\PSB\Desktop\3c75e50a94096bd7f83ce37055a8d12a_XL.jpg"/>
          <p:cNvPicPr/>
          <p:nvPr/>
        </p:nvPicPr>
        <p:blipFill>
          <a:blip r:embed="rId1"/>
          <a:stretch/>
        </p:blipFill>
        <p:spPr>
          <a:xfrm>
            <a:off x="2050920" y="189000"/>
            <a:ext cx="4212720" cy="2808000"/>
          </a:xfrm>
          <a:prstGeom prst="rect">
            <a:avLst/>
          </a:prstGeom>
          <a:ln w="0">
            <a:noFill/>
          </a:ln>
          <a:effectLst>
            <a:outerShdw algn="tl" blurRad="291960" dir="2700000" dist="139498">
              <a:srgbClr val="333333">
                <a:alpha val="65000"/>
              </a:srgbClr>
            </a:outerShdw>
          </a:effectLst>
        </p:spPr>
      </p:pic>
      <p:pic>
        <p:nvPicPr>
          <p:cNvPr id="187" name="Picture 3" descr="C:\Users\PSB\Desktop\proektirovanie-vodosnabzheniya.gif"/>
          <p:cNvPicPr/>
          <p:nvPr/>
        </p:nvPicPr>
        <p:blipFill>
          <a:blip r:embed="rId2"/>
          <a:stretch/>
        </p:blipFill>
        <p:spPr>
          <a:xfrm>
            <a:off x="971640" y="3357720"/>
            <a:ext cx="6784560" cy="3095280"/>
          </a:xfrm>
          <a:prstGeom prst="rect">
            <a:avLst/>
          </a:prstGeom>
          <a:ln w="0">
            <a:noFill/>
          </a:ln>
          <a:effectLst>
            <a:outerShdw algn="tl" blurRad="291960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163680" cy="381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rcRect l="15953" t="0" r="21133" b="0"/>
          <a:stretch/>
        </p:blipFill>
        <p:spPr>
          <a:xfrm>
            <a:off x="826920" y="1074600"/>
            <a:ext cx="4074840" cy="44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95680"/>
          </a:xfrm>
          <a:prstGeom prst="rect">
            <a:avLst/>
          </a:prstGeom>
          <a:ln w="0">
            <a:noFill/>
          </a:ln>
          <a:effectLst>
            <a:outerShdw algn="tl" blurRad="291960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186</TotalTime>
  <Application>LibreOffice/7.4.7.2$Linux_X86_64 LibreOffice_project/40$Build-2</Application>
  <AppVersion>15.0000</AppVersion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8:05:37Z</dcterms:created>
  <dc:creator>1</dc:creator>
  <dc:description/>
  <dc:language>en-US</dc:language>
  <cp:lastModifiedBy>PSB</cp:lastModifiedBy>
  <dcterms:modified xsi:type="dcterms:W3CDTF">2023-04-06T11:38:18Z</dcterms:modified>
  <cp:revision>3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703391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  <property fmtid="{D5CDD505-2E9C-101B-9397-08002B2CF9AE}" pid="5" name="PresentationFormat">
    <vt:lpwstr>On-screen Show (4:3)</vt:lpwstr>
  </property>
  <property fmtid="{D5CDD505-2E9C-101B-9397-08002B2CF9AE}" pid="6" name="Slides">
    <vt:r8>12</vt:r8>
  </property>
</Properties>
</file>