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6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BE7-2A88-4C4E-AB0F-9DBB014E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694-B58A-4E72-98D8-79144535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7B4-71C7-4D13-88DF-5D2AFD4A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175-7327-4FA3-B762-7C5F8941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8164-44EA-4304-93C6-EF911EA5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D11-E106-4F19-BD22-469A69B9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A039-B6FF-43C0-AE31-583A0674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C88E-45E3-4511-B2AB-6A9DE05F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89E-093F-4ED4-8E97-74240CC8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8FA8-1CCF-4554-9023-B7633619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0416-4092-4248-AC92-B8F82139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660-9FAE-46E7-99D9-820DEA54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CAF-11BC-466E-8F52-8423A5E0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1533-85E4-4B2C-B6BB-E83596C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328D-AC43-4522-A2ED-CA61B8A3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47BD-84DA-42AF-B284-B60D7763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59AA-6545-4A98-B2C2-2ED05A5C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D4F9-3C72-4AB1-B433-BB0A9834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FF68-E10A-4486-8EB1-05268BB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A5E2-EF23-4814-B1BD-59D13DEB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91A1-862B-4C4D-BB8B-B1425C25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7C87-1244-4B03-9295-F4321F89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9D6-A61F-452F-B24F-48706C38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D266-FA86-424E-AF5E-97B5EAA1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DDF3-932F-411A-8BEF-CE154E0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4FCC-A1EE-4A1B-909D-3BB65D0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FB63-8860-4318-857A-4D8D1EA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E7B2-0B90-41E2-914F-FC8CFD0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9796-491D-446A-8006-26840071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E505-540B-4891-8706-A5F14B91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175-B0A1-4275-A446-C28C1DCE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B2E-70D7-4C93-B697-BFC52928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61A-D477-4E54-AC68-21261377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588-59D9-459F-BD16-A53FFEC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B4E-375D-4E38-8818-C1265562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150-C06E-4AD5-BAD3-C48797F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5520"/>
            <a:ext cx="9143640" cy="1752120"/>
            <a:chOff x="0" y="5105520"/>
            <a:chExt cx="9143640" cy="17521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8400"/>
              <a:ext cx="9143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36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3640" cy="5108040"/>
            <a:chOff x="0" y="0"/>
            <a:chExt cx="9143640" cy="510804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51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3640" cy="51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6" name="Rectangle 8" hidden="1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10" name="Rectangle 10"/>
          <p:cNvGrpSpPr/>
          <p:nvPr/>
        </p:nvGrpSpPr>
        <p:grpSpPr>
          <a:xfrm>
            <a:off x="0" y="3865680"/>
            <a:ext cx="9143640" cy="2991960"/>
            <a:chOff x="0" y="3865680"/>
            <a:chExt cx="9143640" cy="2991960"/>
          </a:xfrm>
        </p:grpSpPr>
        <p:pic>
          <p:nvPicPr>
            <p:cNvPr id="11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3640" cy="29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0" y="3867120"/>
              <a:ext cx="9143640" cy="29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13" name="Rectangle 11"/>
          <p:cNvGrpSpPr/>
          <p:nvPr/>
        </p:nvGrpSpPr>
        <p:grpSpPr>
          <a:xfrm>
            <a:off x="0" y="0"/>
            <a:ext cx="9143640" cy="3866760"/>
            <a:chOff x="0" y="0"/>
            <a:chExt cx="9143640" cy="3866760"/>
          </a:xfrm>
        </p:grpSpPr>
        <p:pic>
          <p:nvPicPr>
            <p:cNvPr id="14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3640" cy="38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0" y="0"/>
              <a:ext cx="9143640" cy="38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6" name="Rectangle 12"/>
          <p:cNvSpPr/>
          <p:nvPr/>
        </p:nvSpPr>
        <p:spPr>
          <a:xfrm>
            <a:off x="0" y="2652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grpSp>
        <p:nvGrpSpPr>
          <p:cNvPr id="17" name="Oval 13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18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  <a:ea typeface="Arial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DF2B191A-370C-45FE-80EC-8EA27D5741A2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Rectangle 6"/>
          <p:cNvGrpSpPr/>
          <p:nvPr/>
        </p:nvGrpSpPr>
        <p:grpSpPr>
          <a:xfrm>
            <a:off x="0" y="5105520"/>
            <a:ext cx="9143640" cy="1752120"/>
            <a:chOff x="0" y="5105520"/>
            <a:chExt cx="9143640" cy="1752120"/>
          </a:xfrm>
        </p:grpSpPr>
        <p:pic>
          <p:nvPicPr>
            <p:cNvPr id="6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8400"/>
              <a:ext cx="9143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5105520"/>
              <a:ext cx="91436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64" name="Rectangle 7"/>
          <p:cNvGrpSpPr/>
          <p:nvPr/>
        </p:nvGrpSpPr>
        <p:grpSpPr>
          <a:xfrm>
            <a:off x="0" y="0"/>
            <a:ext cx="9143640" cy="5108040"/>
            <a:chOff x="0" y="0"/>
            <a:chExt cx="9143640" cy="5108040"/>
          </a:xfrm>
        </p:grpSpPr>
        <p:pic>
          <p:nvPicPr>
            <p:cNvPr id="6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51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3640" cy="51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67" name="Rectangle 8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grpSp>
        <p:nvGrpSpPr>
          <p:cNvPr id="68" name="Oval 9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6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  <a:ea typeface="Arial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18252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Arial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Arial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52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  <a:ea typeface="Arial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876C9261-EC65-4E31-9AD5-35EDF930E7DD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5520"/>
            <a:ext cx="9143640" cy="1752120"/>
            <a:chOff x="0" y="5105520"/>
            <a:chExt cx="9143640" cy="175212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8400"/>
              <a:ext cx="9143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36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3640" cy="5108040"/>
            <a:chOff x="0" y="0"/>
            <a:chExt cx="9143640" cy="510804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51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3640" cy="51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510790CA-EE7D-47C0-8FD8-487CE5AC09BF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73120" y="5052960"/>
            <a:ext cx="5636880" cy="88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  <a:ea typeface="Arial"/>
              </a:rPr>
              <a:t>Походяева С.Б., учитель начальных классов, МБОУ ШР «СОШ № 4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404040"/>
                </a:solidFill>
                <a:latin typeface="Trebuchet MS"/>
                <a:ea typeface="Arial"/>
              </a:rPr>
              <a:t>Окружающий мир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5"/>
          <p:cNvSpPr/>
          <p:nvPr/>
        </p:nvSpPr>
        <p:spPr>
          <a:xfrm>
            <a:off x="826920" y="404640"/>
            <a:ext cx="7705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куд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наш дом приходит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38040" y="1989000"/>
            <a:ext cx="6825960" cy="3241440"/>
          </a:xfrm>
          <a:prstGeom prst="rect">
            <a:avLst/>
          </a:prstGeom>
          <a:ln w="0">
            <a:noFill/>
          </a:ln>
        </p:spPr>
      </p:pic>
      <p:cxnSp>
        <p:nvCxnSpPr>
          <p:cNvPr id="193" name="Прямая со стрелкой 7"/>
          <p:cNvCxnSpPr/>
          <p:nvPr/>
        </p:nvCxnSpPr>
        <p:spPr>
          <a:xfrm>
            <a:off x="1187280" y="3573360"/>
            <a:ext cx="289440" cy="46692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Прямая со стрелкой 9"/>
          <p:cNvCxnSpPr/>
          <p:nvPr/>
        </p:nvCxnSpPr>
        <p:spPr>
          <a:xfrm>
            <a:off x="2916000" y="4468680"/>
            <a:ext cx="959400" cy="50508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Прямая соединительная линия 14"/>
          <p:cNvCxnSpPr/>
          <p:nvPr/>
        </p:nvCxnSpPr>
        <p:spPr>
          <a:xfrm>
            <a:off x="8100720" y="1989000"/>
            <a:ext cx="360" cy="316908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96" name="Прямая соединительная линия 16"/>
          <p:cNvCxnSpPr/>
          <p:nvPr/>
        </p:nvCxnSpPr>
        <p:spPr>
          <a:xfrm>
            <a:off x="7812000" y="1989000"/>
            <a:ext cx="57636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97" name="Прямая соединительная линия 19"/>
          <p:cNvCxnSpPr/>
          <p:nvPr/>
        </p:nvCxnSpPr>
        <p:spPr>
          <a:xfrm>
            <a:off x="7848360" y="5157720"/>
            <a:ext cx="50364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98" name="Прямая соединительная линия 21"/>
          <p:cNvCxnSpPr/>
          <p:nvPr/>
        </p:nvCxnSpPr>
        <p:spPr>
          <a:xfrm>
            <a:off x="7812000" y="3609720"/>
            <a:ext cx="54000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pic>
        <p:nvPicPr>
          <p:cNvPr id="199" name="Стирка - POLKA_(x-Minusovka.ru).mp3" descr=""/>
          <p:cNvPicPr/>
          <p:nvPr/>
        </p:nvPicPr>
        <p:blipFill>
          <a:blip r:embed="rId2"/>
          <a:stretch/>
        </p:blipFill>
        <p:spPr>
          <a:xfrm>
            <a:off x="7850160" y="5732640"/>
            <a:ext cx="60912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delay="0" evt="onClick">
                    <p:tgtEl>
                      <p:spTgt spid="19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delay="0"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3963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1187280" y="333360"/>
            <a:ext cx="7561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уд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з дома уходит в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 стрелкой 3"/>
          <p:cNvCxnSpPr/>
          <p:nvPr/>
        </p:nvCxnSpPr>
        <p:spPr>
          <a:xfrm>
            <a:off x="2195280" y="3028680"/>
            <a:ext cx="100836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5148360" y="2878200"/>
            <a:ext cx="1176120" cy="328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1847520" cy="1792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3"/>
          <a:stretch/>
        </p:blipFill>
        <p:spPr>
          <a:xfrm>
            <a:off x="3492360" y="2146320"/>
            <a:ext cx="1274400" cy="1792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4"/>
          <a:stretch/>
        </p:blipFill>
        <p:spPr>
          <a:xfrm>
            <a:off x="6659640" y="2171880"/>
            <a:ext cx="1731600" cy="1792080"/>
          </a:xfrm>
          <a:prstGeom prst="rect">
            <a:avLst/>
          </a:prstGeom>
          <a:ln w="0">
            <a:noFill/>
          </a:ln>
        </p:spPr>
      </p:pic>
      <p:cxnSp>
        <p:nvCxnSpPr>
          <p:cNvPr id="206" name="Прямая соединительная линия 6"/>
          <p:cNvCxnSpPr/>
          <p:nvPr/>
        </p:nvCxnSpPr>
        <p:spPr>
          <a:xfrm>
            <a:off x="7308720" y="4149720"/>
            <a:ext cx="360" cy="2232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207" name="Прямая соединительная линия 12"/>
          <p:cNvCxnSpPr/>
          <p:nvPr/>
        </p:nvCxnSpPr>
        <p:spPr>
          <a:xfrm>
            <a:off x="7092720" y="4149720"/>
            <a:ext cx="43380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208" name="Прямая соединительная линия 14"/>
          <p:cNvCxnSpPr/>
          <p:nvPr/>
        </p:nvCxnSpPr>
        <p:spPr>
          <a:xfrm>
            <a:off x="7092720" y="6381720"/>
            <a:ext cx="43380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209" name="Прямая соединительная линия 16"/>
          <p:cNvCxnSpPr/>
          <p:nvPr/>
        </p:nvCxnSpPr>
        <p:spPr>
          <a:xfrm>
            <a:off x="7092720" y="5171760"/>
            <a:ext cx="43380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1042920" y="765000"/>
            <a:ext cx="7345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куд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наш дом приходит вода и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уд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на уходи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5687640" cy="2303280"/>
          </a:xfrm>
          <a:prstGeom prst="rect">
            <a:avLst/>
          </a:prstGeom>
          <a:ln w="0">
            <a:noFill/>
          </a:ln>
        </p:spPr>
      </p:pic>
      <p:cxnSp>
        <p:nvCxnSpPr>
          <p:cNvPr id="212" name="Прямая со стрелкой 7"/>
          <p:cNvCxnSpPr/>
          <p:nvPr/>
        </p:nvCxnSpPr>
        <p:spPr>
          <a:xfrm>
            <a:off x="755640" y="4365360"/>
            <a:ext cx="432000" cy="21636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3" name="Прямая со стрелкой 9"/>
          <p:cNvCxnSpPr/>
          <p:nvPr/>
        </p:nvCxnSpPr>
        <p:spPr>
          <a:xfrm>
            <a:off x="2050920" y="4868640"/>
            <a:ext cx="505080" cy="43236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4" name="Прямая со стрелкой 11"/>
          <p:cNvCxnSpPr/>
          <p:nvPr/>
        </p:nvCxnSpPr>
        <p:spPr>
          <a:xfrm flipV="1">
            <a:off x="4284360" y="4941720"/>
            <a:ext cx="575280" cy="35928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5" name="Прямая со стрелкой 13"/>
          <p:cNvCxnSpPr/>
          <p:nvPr/>
        </p:nvCxnSpPr>
        <p:spPr>
          <a:xfrm flipV="1">
            <a:off x="5724360" y="4149720"/>
            <a:ext cx="287640" cy="43200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Прямая соединительная линия 15"/>
          <p:cNvCxnSpPr/>
          <p:nvPr/>
        </p:nvCxnSpPr>
        <p:spPr>
          <a:xfrm>
            <a:off x="7451640" y="2781000"/>
            <a:ext cx="360" cy="2735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217" name="Прямая соединительная линия 17"/>
          <p:cNvCxnSpPr/>
          <p:nvPr/>
        </p:nvCxnSpPr>
        <p:spPr>
          <a:xfrm>
            <a:off x="7164360" y="2781000"/>
            <a:ext cx="5032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7199280" y="4005360"/>
            <a:ext cx="506160" cy="3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7205760" y="5499000"/>
            <a:ext cx="506160" cy="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  <a:ea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908640"/>
            <a:ext cx="8424720" cy="17906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Откуд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в наш дом приходит вода и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куд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она уходит? 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0600" y="115920"/>
            <a:ext cx="652572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986360" y="2846520"/>
            <a:ext cx="3444480" cy="618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259200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/>
          <p:cNvSpPr/>
          <p:nvPr/>
        </p:nvSpPr>
        <p:spPr>
          <a:xfrm>
            <a:off x="611280" y="549360"/>
            <a:ext cx="7489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чем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человеку в доме нужна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11280" y="3213000"/>
            <a:ext cx="80640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  <a:ea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9280" y="1565280"/>
            <a:ext cx="7056000" cy="4925520"/>
          </a:xfrm>
          <a:prstGeom prst="rect">
            <a:avLst/>
          </a:prstGeom>
          <a:ln w="0">
            <a:noFill/>
          </a:ln>
        </p:spPr>
      </p:pic>
      <p:cxnSp>
        <p:nvCxnSpPr>
          <p:cNvPr id="174" name="Прямая со стрелкой 8"/>
          <p:cNvCxnSpPr/>
          <p:nvPr/>
        </p:nvCxnSpPr>
        <p:spPr>
          <a:xfrm flipV="1">
            <a:off x="3563640" y="4503600"/>
            <a:ext cx="360" cy="93708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Прямая со стрелкой 15"/>
          <p:cNvCxnSpPr/>
          <p:nvPr/>
        </p:nvCxnSpPr>
        <p:spPr>
          <a:xfrm flipH="1" flipV="1">
            <a:off x="3850920" y="4027320"/>
            <a:ext cx="1008720" cy="55440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единительная линия 18"/>
          <p:cNvCxnSpPr/>
          <p:nvPr/>
        </p:nvCxnSpPr>
        <p:spPr>
          <a:xfrm>
            <a:off x="7992720" y="2133360"/>
            <a:ext cx="360" cy="2664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77" name="Прямая соединительная линия 20"/>
          <p:cNvCxnSpPr/>
          <p:nvPr/>
        </p:nvCxnSpPr>
        <p:spPr>
          <a:xfrm>
            <a:off x="7596000" y="2133360"/>
            <a:ext cx="79236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78" name="Прямая соединительная линия 22"/>
          <p:cNvCxnSpPr/>
          <p:nvPr/>
        </p:nvCxnSpPr>
        <p:spPr>
          <a:xfrm>
            <a:off x="7667280" y="4797360"/>
            <a:ext cx="721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79" name="Прямая соединительная линия 24"/>
          <p:cNvCxnSpPr/>
          <p:nvPr/>
        </p:nvCxnSpPr>
        <p:spPr>
          <a:xfrm>
            <a:off x="7596000" y="3396960"/>
            <a:ext cx="721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pic>
        <p:nvPicPr>
          <p:cNvPr id="180" name="Стирка - POLKA_(x-Minusovka.ru).mp3" descr=""/>
          <p:cNvPicPr/>
          <p:nvPr/>
        </p:nvPicPr>
        <p:blipFill>
          <a:blip r:embed="rId2"/>
          <a:stretch/>
        </p:blipFill>
        <p:spPr>
          <a:xfrm>
            <a:off x="7796160" y="5440320"/>
            <a:ext cx="60912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39636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900000" y="549360"/>
            <a:ext cx="74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куд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наш дом приходит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06600" cy="41032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176360" cy="31222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779640" cy="514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35293" r="88199" b="0"/>
          <a:stretch/>
        </p:blipFill>
        <p:spPr>
          <a:xfrm>
            <a:off x="5148360" y="620640"/>
            <a:ext cx="30240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PSB\Desktop\3c75e50a94096bd7f83ce37055a8d12a_XL.jpg"/>
          <p:cNvPicPr/>
          <p:nvPr/>
        </p:nvPicPr>
        <p:blipFill>
          <a:blip r:embed="rId1"/>
          <a:stretch/>
        </p:blipFill>
        <p:spPr>
          <a:xfrm>
            <a:off x="2050920" y="189000"/>
            <a:ext cx="4212720" cy="280800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  <p:pic>
        <p:nvPicPr>
          <p:cNvPr id="187" name="Picture 3" descr="C:\Users\PSB\Desktop\proektirovanie-vodosnabzheniya.gif"/>
          <p:cNvPicPr/>
          <p:nvPr/>
        </p:nvPicPr>
        <p:blipFill>
          <a:blip r:embed="rId2"/>
          <a:stretch/>
        </p:blipFill>
        <p:spPr>
          <a:xfrm>
            <a:off x="971640" y="3357720"/>
            <a:ext cx="6784560" cy="30952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163680" cy="381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rcRect l="15953" t="0" r="21133" b="0"/>
          <a:stretch/>
        </p:blipFill>
        <p:spPr>
          <a:xfrm>
            <a:off x="826920" y="1074600"/>
            <a:ext cx="4074840" cy="44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956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186</TotalTime>
  <Application>LibreOffice/7.4.7.2$Linux_X86_64 LibreOffice_project/40$Build-2</Application>
  <AppVersion>15.0000</AppVersion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5:37Z</dcterms:created>
  <dc:creator>1</dc:creator>
  <dc:description/>
  <dc:language>en-US</dc:language>
  <cp:lastModifiedBy>PSB</cp:lastModifiedBy>
  <dcterms:modified xsi:type="dcterms:W3CDTF">2023-04-06T11:38:18Z</dcterms:modified>
  <cp:revision>3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703391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PresentationFormat">
    <vt:lpwstr>On-screen Show (4:3)</vt:lpwstr>
  </property>
  <property fmtid="{D5CDD505-2E9C-101B-9397-08002B2CF9AE}" pid="6" name="Slides">
    <vt:r8>12</vt:r8>
  </property>
</Properties>
</file>