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860544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1240" y="4266000"/>
            <a:ext cx="860544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088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1240" y="42660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0880" y="42660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50760" y="159696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0280" y="159696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1240" y="426600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50760" y="426600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0280" y="426600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41240" y="1596960"/>
            <a:ext cx="860544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860544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19940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0880" y="1596960"/>
            <a:ext cx="419940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41240" y="255600"/>
            <a:ext cx="860544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880" y="1596960"/>
            <a:ext cx="419940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1240" y="42660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1240" y="1596960"/>
            <a:ext cx="860544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19940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088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0880" y="42660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88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1240" y="4266000"/>
            <a:ext cx="860544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860544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41240" y="4266000"/>
            <a:ext cx="860544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088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41240" y="42660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0880" y="42660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50760" y="159696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60280" y="159696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41240" y="426600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50760" y="426600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60280" y="426600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41240" y="1596960"/>
            <a:ext cx="860544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860544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19940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880" y="1596960"/>
            <a:ext cx="419940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860544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41240" y="255600"/>
            <a:ext cx="860544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0880" y="1596960"/>
            <a:ext cx="419940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41240" y="42660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19940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5088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50880" y="42660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088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1240" y="4266000"/>
            <a:ext cx="860544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860544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41240" y="4266000"/>
            <a:ext cx="860544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088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41240" y="42660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50880" y="42660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50760" y="159696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0280" y="159696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741240" y="426600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50760" y="426600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0280" y="4266000"/>
            <a:ext cx="277056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19940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0880" y="1596960"/>
            <a:ext cx="419940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1240" y="255600"/>
            <a:ext cx="860544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880" y="1596960"/>
            <a:ext cx="419940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1240" y="42660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19940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88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0880" y="42660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880" y="159696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266000"/>
            <a:ext cx="860544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1289160"/>
            <a:ext cx="10080360" cy="115380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  <p:sp>
        <p:nvSpPr>
          <p:cNvPr id="1" name="AutoShape 2"/>
          <p:cNvSpPr/>
          <p:nvPr/>
        </p:nvSpPr>
        <p:spPr>
          <a:xfrm rot="10800000">
            <a:off x="-1440" y="1800"/>
            <a:ext cx="10080360" cy="131076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0" y="6645240"/>
            <a:ext cx="10080360" cy="9140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  <p:sp>
        <p:nvSpPr>
          <p:cNvPr id="3" name="Freeform 4"/>
          <p:cNvSpPr/>
          <p:nvPr/>
        </p:nvSpPr>
        <p:spPr>
          <a:xfrm>
            <a:off x="4370400" y="6753240"/>
            <a:ext cx="5706720" cy="52992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525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5"/>
          <p:cNvSpPr/>
          <p:nvPr/>
        </p:nvSpPr>
        <p:spPr>
          <a:xfrm>
            <a:off x="131760" y="6634080"/>
            <a:ext cx="5762160" cy="38052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525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2108160" y="6788160"/>
            <a:ext cx="2260080" cy="23292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525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0" y="6678720"/>
            <a:ext cx="5893920" cy="71712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525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080" cy="16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разец заголовка</a:t>
            </a: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0" y="1289160"/>
            <a:ext cx="10080360" cy="115380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  <p:sp>
        <p:nvSpPr>
          <p:cNvPr id="46" name="AutoShape 2"/>
          <p:cNvSpPr/>
          <p:nvPr/>
        </p:nvSpPr>
        <p:spPr>
          <a:xfrm rot="10800000">
            <a:off x="-1440" y="1800"/>
            <a:ext cx="10080360" cy="131076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0" y="6645240"/>
            <a:ext cx="10080360" cy="9140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  <p:sp>
        <p:nvSpPr>
          <p:cNvPr id="48" name="Freeform 4"/>
          <p:cNvSpPr/>
          <p:nvPr/>
        </p:nvSpPr>
        <p:spPr>
          <a:xfrm>
            <a:off x="4370400" y="6753240"/>
            <a:ext cx="5706720" cy="52992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525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131760" y="6634080"/>
            <a:ext cx="5762160" cy="38052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525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2108160" y="6788160"/>
            <a:ext cx="2260080" cy="23292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525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0" y="6678720"/>
            <a:ext cx="5893920" cy="71712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525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разец заголовка</a:t>
            </a: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41240" y="1596960"/>
            <a:ext cx="860544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5280" indent="-324000">
              <a:lnSpc>
                <a:spcPct val="100000"/>
              </a:lnSpc>
              <a:spcAft>
                <a:spcPts val="1426"/>
              </a:spcAft>
              <a:buSzPct val="107048"/>
              <a:buBlip>
                <a:blip r:embed="rId2"/>
              </a:buBlip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разец текста</a:t>
            </a: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287280">
              <a:lnSpc>
                <a:spcPct val="100000"/>
              </a:lnSpc>
              <a:spcAft>
                <a:spcPts val="1137"/>
              </a:spcAft>
              <a:buSzPct val="124060"/>
              <a:buBlip>
                <a:blip r:embed="rId3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торой уровень</a:t>
            </a: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6000">
              <a:lnSpc>
                <a:spcPct val="100000"/>
              </a:lnSpc>
              <a:spcAft>
                <a:spcPts val="850"/>
              </a:spcAft>
              <a:buSzPct val="125991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етий уровень</a:t>
            </a: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SzPct val="100000"/>
              <a:buBlip>
                <a:blip r:embed="rId5"/>
              </a:buBlip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етвертый уровень</a:t>
            </a:r>
            <a:endParaRPr b="0" lang="en-GB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6000">
              <a:lnSpc>
                <a:spcPct val="100000"/>
              </a:lnSpc>
              <a:spcAft>
                <a:spcPts val="289"/>
              </a:spcAft>
              <a:buSzPct val="112100"/>
              <a:buBlip>
                <a:blip r:embed="rId6"/>
              </a:buBlip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ый уровень</a:t>
            </a:r>
            <a:endParaRPr b="0" lang="en-GB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>
            <a:off x="0" y="1289160"/>
            <a:ext cx="10080360" cy="115380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  <p:sp>
        <p:nvSpPr>
          <p:cNvPr id="91" name="AutoShape 2"/>
          <p:cNvSpPr/>
          <p:nvPr/>
        </p:nvSpPr>
        <p:spPr>
          <a:xfrm rot="10800000">
            <a:off x="-1440" y="1800"/>
            <a:ext cx="10080360" cy="131076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0" y="6645240"/>
            <a:ext cx="10080360" cy="9140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  <p:sp>
        <p:nvSpPr>
          <p:cNvPr id="93" name="Freeform 4"/>
          <p:cNvSpPr/>
          <p:nvPr/>
        </p:nvSpPr>
        <p:spPr>
          <a:xfrm>
            <a:off x="4370400" y="6753240"/>
            <a:ext cx="5706720" cy="52992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525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"/>
          <p:cNvSpPr/>
          <p:nvPr/>
        </p:nvSpPr>
        <p:spPr>
          <a:xfrm>
            <a:off x="131760" y="6634080"/>
            <a:ext cx="5762160" cy="38052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525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2108160" y="6788160"/>
            <a:ext cx="2260080" cy="23292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525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0" y="6678720"/>
            <a:ext cx="5893920" cy="71712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525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080" cy="16203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Полезные ископаемые</a:t>
            </a: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512720" y="4282920"/>
            <a:ext cx="705600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ходяева С.Б., учитель начальных классов, МБОУ ШР «СОШ № 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  <p:graphicFrame>
        <p:nvGraphicFramePr>
          <p:cNvPr id="185" name="Объект 6"/>
          <p:cNvGraphicFramePr/>
          <p:nvPr/>
        </p:nvGraphicFramePr>
        <p:xfrm>
          <a:off x="144360" y="0"/>
          <a:ext cx="9864360" cy="7306920"/>
        </p:xfrm>
        <a:graphic>
          <a:graphicData uri="http://schemas.openxmlformats.org/drawingml/2006/table">
            <a:tbl>
              <a:tblPr/>
              <a:tblGrid>
                <a:gridCol w="3287520"/>
                <a:gridCol w="3287520"/>
                <a:gridCol w="3288960"/>
              </a:tblGrid>
              <a:tr h="1029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Способ добы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aae2ca"/>
                      </a:solidFill>
                    </a:lnL>
                    <a:lnR>
                      <a:noFill/>
                    </a:lnR>
                    <a:lnT w="12240">
                      <a:solidFill>
                        <a:srgbClr val="aae2ca"/>
                      </a:solidFill>
                    </a:lnT>
                    <a:lnB w="12240">
                      <a:solidFill>
                        <a:srgbClr val="aae2ca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Рисун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aae2ca"/>
                      </a:solidFill>
                    </a:lnT>
                    <a:lnB w="12240">
                      <a:solidFill>
                        <a:srgbClr val="aae2ca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олезные ископа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aae2ca"/>
                      </a:solidFill>
                    </a:lnR>
                    <a:lnT w="12240">
                      <a:solidFill>
                        <a:srgbClr val="aae2ca"/>
                      </a:solidFill>
                    </a:lnT>
                    <a:lnB w="12240">
                      <a:solidFill>
                        <a:srgbClr val="aae2ca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092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ри помощи буровых установ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aae2ca"/>
                      </a:solidFill>
                    </a:lnL>
                    <a:lnR>
                      <a:noFill/>
                    </a:lnR>
                    <a:lnT w="12240">
                      <a:solidFill>
                        <a:srgbClr val="aae2ca"/>
                      </a:solidFill>
                    </a:lnT>
                    <a:lnB w="1224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aae2ca"/>
                      </a:solidFill>
                    </a:lnT>
                    <a:lnB w="1224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 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Нефть, природный газ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aae2ca"/>
                      </a:solidFill>
                    </a:lnR>
                    <a:lnT w="12240">
                      <a:solidFill>
                        <a:srgbClr val="aae2ca"/>
                      </a:solidFill>
                    </a:lnT>
                    <a:lnB w="1224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2092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В шахт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aae2ca"/>
                      </a:solidFill>
                    </a:lnL>
                    <a:lnR>
                      <a:noFill/>
                    </a:lnR>
                    <a:lnT w="12240">
                      <a:solidFill>
                        <a:srgbClr val="aae2ca"/>
                      </a:solidFill>
                    </a:lnT>
                    <a:lnB w="12240">
                      <a:solidFill>
                        <a:srgbClr val="aae2c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aae2ca"/>
                      </a:solidFill>
                    </a:lnT>
                    <a:lnB w="12240">
                      <a:solidFill>
                        <a:srgbClr val="aae2c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 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Каменный уголь, железная руд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aae2ca"/>
                      </a:solidFill>
                    </a:lnR>
                    <a:lnT w="12240">
                      <a:solidFill>
                        <a:srgbClr val="aae2ca"/>
                      </a:solidFill>
                    </a:lnT>
                    <a:lnB w="12240">
                      <a:solidFill>
                        <a:srgbClr val="aae2c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92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В карьерах -  котлован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aae2ca"/>
                      </a:solidFill>
                    </a:lnL>
                    <a:lnR>
                      <a:noFill/>
                    </a:lnR>
                    <a:lnT w="12240">
                      <a:solidFill>
                        <a:srgbClr val="aae2ca"/>
                      </a:solidFill>
                    </a:lnT>
                    <a:lnB w="1224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aae2ca"/>
                      </a:solidFill>
                    </a:lnT>
                    <a:lnB w="1224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 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есок, глина, известняк,       грани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aae2ca"/>
                      </a:solidFill>
                    </a:lnR>
                    <a:lnT w="12240">
                      <a:solidFill>
                        <a:srgbClr val="aae2ca"/>
                      </a:solidFill>
                    </a:lnT>
                    <a:lnB w="1224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</a:tr>
            </a:tbl>
          </a:graphicData>
        </a:graphic>
      </p:graphicFrame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873600" y="1187280"/>
            <a:ext cx="1439640" cy="1841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3672000" y="3419640"/>
            <a:ext cx="2412720" cy="1485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3"/>
          <a:stretch/>
        </p:blipFill>
        <p:spPr>
          <a:xfrm>
            <a:off x="3865680" y="5292720"/>
            <a:ext cx="2211120" cy="181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Тест</a:t>
            </a: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860544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85720" indent="-514440" algn="just">
              <a:lnSpc>
                <a:spcPct val="100000"/>
              </a:lnSpc>
              <a:spcAft>
                <a:spcPts val="1426"/>
              </a:spcAft>
              <a:buSzPct val="107048"/>
              <a:buBlip>
                <a:blip r:embed="rId1"/>
              </a:buBlip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езные ископаемые – это богатства земных кладовых, которые человек использует в хозяйственной деятельности.</a:t>
            </a: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-514440" algn="just">
              <a:lnSpc>
                <a:spcPct val="100000"/>
              </a:lnSpc>
              <a:spcAft>
                <a:spcPts val="1426"/>
              </a:spcAft>
              <a:buSzPct val="107048"/>
              <a:buBlip>
                <a:blip r:embed="rId2"/>
              </a:buBlip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есторождение – это место, где залегают полезные ископаемые. </a:t>
            </a: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-514440" algn="just">
              <a:lnSpc>
                <a:spcPct val="100000"/>
              </a:lnSpc>
              <a:spcAft>
                <a:spcPts val="1426"/>
              </a:spcAft>
              <a:buSzPct val="107048"/>
              <a:buBlip>
                <a:blip r:embed="rId3"/>
              </a:buBlip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о полезное ископаемое – </a:t>
            </a: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иродный газ.</a:t>
            </a: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4"/>
          <a:stretch/>
        </p:blipFill>
        <p:spPr>
          <a:xfrm>
            <a:off x="6551640" y="4788000"/>
            <a:ext cx="244764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860544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128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Каменный уголь добывают в шахта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</a:t>
            </a: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5.Геолог отыскивает месторождения полезных ископаемых.</a:t>
            </a: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+ + - + +</a:t>
            </a:r>
            <a:endParaRPr b="0" lang="en-GB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Окружающий мир</a:t>
            </a: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9600840" cy="6082920"/>
          </a:xfrm>
          <a:prstGeom prst="rect">
            <a:avLst/>
          </a:prstGeom>
          <a:ln w="9525">
            <a:noFill/>
          </a:ln>
          <a:effectLst>
            <a:outerShdw algn="tl" blurRad="291960" dir="2700000" dist="139498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860544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1280" indent="0" algn="ctr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основа экономики</a:t>
            </a: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труд людей              </a:t>
            </a: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                                  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природные </a:t>
            </a: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                             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богатства</a:t>
            </a: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Прямая со стрелкой 3"/>
          <p:cNvCxnSpPr/>
          <p:nvPr/>
        </p:nvCxnSpPr>
        <p:spPr>
          <a:xfrm flipH="1">
            <a:off x="2303280" y="2195280"/>
            <a:ext cx="1657800" cy="1224360"/>
          </a:xfrm>
          <a:prstGeom prst="straightConnector1">
            <a:avLst/>
          </a:prstGeom>
          <a:ln w="5715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 rot="15420000">
            <a:off x="5156280" y="2248200"/>
            <a:ext cx="2276280" cy="1777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820800" y="4140360"/>
            <a:ext cx="3139560" cy="2195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6192720" y="5724360"/>
            <a:ext cx="2731680" cy="162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ПОЛЕЗНЫЕ ИСКОПАЕМЫЕ</a:t>
            </a:r>
            <a:br>
              <a:rPr sz="4400"/>
            </a:b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03280" y="1619280"/>
            <a:ext cx="4330440" cy="3239640"/>
          </a:xfrm>
          <a:prstGeom prst="rect">
            <a:avLst/>
          </a:prstGeom>
          <a:ln w="9525">
            <a:noFill/>
          </a:ln>
          <a:effectLst>
            <a:outerShdw algn="tl" blurRad="291960" dir="2700000" dist="139498">
              <a:srgbClr val="808080"/>
            </a:outerShdw>
          </a:effectLst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5389560" y="2590920"/>
            <a:ext cx="4235040" cy="31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284640" y="1547640"/>
            <a:ext cx="987120" cy="9871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2" descr=""/>
          <p:cNvPicPr/>
          <p:nvPr/>
        </p:nvPicPr>
        <p:blipFill>
          <a:blip r:embed="rId2"/>
          <a:stretch/>
        </p:blipFill>
        <p:spPr>
          <a:xfrm>
            <a:off x="3201840" y="2771640"/>
            <a:ext cx="1085400" cy="813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ПОЛЕЗНЫЕ ИСКОПАЕМЫЕ</a:t>
            </a: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3300480" y="3851280"/>
            <a:ext cx="987120" cy="890280"/>
          </a:xfrm>
          <a:prstGeom prst="rect">
            <a:avLst/>
          </a:prstGeom>
          <a:ln w="9525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3314880" y="5219640"/>
            <a:ext cx="1036440" cy="84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5"/>
          <a:stretch/>
        </p:blipFill>
        <p:spPr>
          <a:xfrm>
            <a:off x="4824360" y="1547640"/>
            <a:ext cx="1158480" cy="864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6"/>
          <a:stretch/>
        </p:blipFill>
        <p:spPr>
          <a:xfrm>
            <a:off x="4792680" y="2717640"/>
            <a:ext cx="1206000" cy="1049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7"/>
          <a:stretch/>
        </p:blipFill>
        <p:spPr>
          <a:xfrm>
            <a:off x="4930920" y="4095720"/>
            <a:ext cx="1068120" cy="725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8"/>
          <a:stretch/>
        </p:blipFill>
        <p:spPr>
          <a:xfrm>
            <a:off x="4956120" y="5219640"/>
            <a:ext cx="1042560" cy="8902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216000" y="1474920"/>
            <a:ext cx="298584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Г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ес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ф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звестня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6335640" y="1619280"/>
            <a:ext cx="316836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Железная р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родный г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Гран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аменный уг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Прямая со стрелкой 8"/>
          <p:cNvCxnSpPr/>
          <p:nvPr/>
        </p:nvCxnSpPr>
        <p:spPr>
          <a:xfrm flipV="1">
            <a:off x="1857240" y="1979280"/>
            <a:ext cx="1402200" cy="1153080"/>
          </a:xfrm>
          <a:prstGeom prst="straightConnector1">
            <a:avLst/>
          </a:prstGeom>
          <a:ln w="5715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Прямая со стрелкой 11"/>
          <p:cNvCxnSpPr/>
          <p:nvPr/>
        </p:nvCxnSpPr>
        <p:spPr>
          <a:xfrm>
            <a:off x="1857240" y="1979280"/>
            <a:ext cx="1344960" cy="1369080"/>
          </a:xfrm>
          <a:prstGeom prst="straightConnector1">
            <a:avLst/>
          </a:prstGeom>
          <a:ln w="5715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Прямая со стрелкой 13"/>
          <p:cNvCxnSpPr/>
          <p:nvPr/>
        </p:nvCxnSpPr>
        <p:spPr>
          <a:xfrm>
            <a:off x="1857240" y="4284360"/>
            <a:ext cx="1427400" cy="1224360"/>
          </a:xfrm>
          <a:prstGeom prst="straightConnector1">
            <a:avLst/>
          </a:prstGeom>
          <a:ln w="5715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Прямая со стрелкой 15"/>
          <p:cNvCxnSpPr>
            <a:endCxn id="151" idx="1"/>
          </p:cNvCxnSpPr>
          <p:nvPr/>
        </p:nvCxnSpPr>
        <p:spPr>
          <a:xfrm flipV="1">
            <a:off x="1944360" y="4297320"/>
            <a:ext cx="1356120" cy="1067040"/>
          </a:xfrm>
          <a:prstGeom prst="straightConnector1">
            <a:avLst/>
          </a:prstGeom>
          <a:ln w="5715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Прямая со стрелкой 18"/>
          <p:cNvCxnSpPr/>
          <p:nvPr/>
        </p:nvCxnSpPr>
        <p:spPr>
          <a:xfrm flipH="1">
            <a:off x="5999040" y="2011320"/>
            <a:ext cx="481320" cy="1665360"/>
          </a:xfrm>
          <a:prstGeom prst="straightConnector1">
            <a:avLst/>
          </a:prstGeom>
          <a:ln w="5715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Прямая со стрелкой 20"/>
          <p:cNvCxnSpPr/>
          <p:nvPr/>
        </p:nvCxnSpPr>
        <p:spPr>
          <a:xfrm flipH="1" flipV="1">
            <a:off x="5500440" y="2412720"/>
            <a:ext cx="1269000" cy="1263960"/>
          </a:xfrm>
          <a:prstGeom prst="straightConnector1">
            <a:avLst/>
          </a:prstGeom>
          <a:ln w="5715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Прямая со стрелкой 23"/>
          <p:cNvCxnSpPr/>
          <p:nvPr/>
        </p:nvCxnSpPr>
        <p:spPr>
          <a:xfrm flipH="1" flipV="1">
            <a:off x="5903640" y="4830480"/>
            <a:ext cx="721080" cy="833760"/>
          </a:xfrm>
          <a:prstGeom prst="straightConnector1">
            <a:avLst/>
          </a:prstGeom>
          <a:ln w="5715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Прямая со стрелкой 25"/>
          <p:cNvCxnSpPr>
            <a:endCxn id="156" idx="3"/>
          </p:cNvCxnSpPr>
          <p:nvPr/>
        </p:nvCxnSpPr>
        <p:spPr>
          <a:xfrm flipH="1">
            <a:off x="5999040" y="4457520"/>
            <a:ext cx="489240" cy="1206720"/>
          </a:xfrm>
          <a:prstGeom prst="straightConnector1">
            <a:avLst/>
          </a:prstGeom>
          <a:ln w="5715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108000"/>
            <a:ext cx="1004868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Кто добывает полезные ископаемые?</a:t>
            </a: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16000" y="1619280"/>
            <a:ext cx="2839680" cy="2130120"/>
          </a:xfrm>
          <a:prstGeom prst="rect">
            <a:avLst/>
          </a:prstGeom>
          <a:ln w="9525">
            <a:noFill/>
          </a:ln>
          <a:effectLst>
            <a:outerShdw algn="tl" blurRad="291960" dir="2700000" dist="139498">
              <a:srgbClr val="808080"/>
            </a:outerShdw>
          </a:effectLst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3232080" y="3298680"/>
            <a:ext cx="3228480" cy="2460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6553080" y="1474920"/>
            <a:ext cx="3246120" cy="2274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44360" y="4067280"/>
            <a:ext cx="2734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Геоло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3456000" y="5867280"/>
            <a:ext cx="3004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Шахтё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6624720" y="3995640"/>
            <a:ext cx="3455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Бурильщ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Способы добычи полезных ископаемых</a:t>
            </a:r>
            <a:endParaRPr b="0" lang="en-GB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860544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арьер – котлован</a:t>
            </a: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Шахта</a:t>
            </a: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</a:t>
            </a: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6696000" y="1403280"/>
            <a:ext cx="2090520" cy="1395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4535640" y="1403280"/>
            <a:ext cx="1872720" cy="1395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"/>
          <p:cNvPicPr/>
          <p:nvPr/>
        </p:nvPicPr>
        <p:blipFill>
          <a:blip r:embed="rId3"/>
          <a:srcRect l="11874" t="53212" r="9145" b="11933"/>
          <a:stretch/>
        </p:blipFill>
        <p:spPr>
          <a:xfrm>
            <a:off x="2735280" y="3348000"/>
            <a:ext cx="4752720" cy="3063600"/>
          </a:xfrm>
          <a:prstGeom prst="rect">
            <a:avLst/>
          </a:prstGeom>
          <a:ln w="0">
            <a:noFill/>
          </a:ln>
          <a:effectLst>
            <a:outerShdw algn="tl" blurRad="291960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54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Способы добычи полезных ископаемых</a:t>
            </a:r>
            <a:endParaRPr b="0" lang="en-GB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8605440" cy="51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уровая установка</a:t>
            </a: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кважина  </a:t>
            </a: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688000" y="1187280"/>
            <a:ext cx="2822040" cy="3444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3240000" y="4411800"/>
            <a:ext cx="305712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  <Paragraphs>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SB</cp:lastModifiedBy>
  <dcterms:modified xsi:type="dcterms:W3CDTF">2023-04-06T11:30:31Z</dcterms:modified>
  <cp:revision>41</cp:revision>
  <dc:subject/>
  <dc:title>Окружающий мир. 3 класс.  Полезные ископаемые.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Произвольный</vt:lpwstr>
  </property>
  <property fmtid="{D5CDD505-2E9C-101B-9397-08002B2CF9AE}" pid="4" name="Slides">
    <vt:r8>12</vt:r8>
  </property>
</Properties>
</file>