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42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.jpeg" ContentType="image/jpeg"/>
  <Override PartName="/ppt/media/image40.png" ContentType="image/png"/>
  <Override PartName="/ppt/media/image9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ADBE-2CB6-4189-980C-15DB26E265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50C8-4B1B-4F03-938E-D2EF9272C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AB7-A0BA-48C2-92B0-DBA08FBC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096-4335-4A4F-987A-24F5E37B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F1F-4FC9-400D-A7EA-34BBD988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A0D-7D48-477A-81F4-38CFED1A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FCCB-85F9-4090-B992-B5E167E7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5A31-F20F-4ED6-989E-CB195B00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01C3-3087-48E6-8695-91EC0BFC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7978-9F06-45CE-8811-916D2737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A58D-56FD-4367-A299-30AA6E01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C1CB-C123-4040-A218-AB79FE43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BC34-6CF8-43BB-84FB-C4FE577B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511-7DB0-4333-9A66-CD11E307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D25E-A81E-4D6D-A102-2B76D0A8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2574-7141-41C5-AF05-3BFDC23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1933-6EC1-4869-88CF-851D47FD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A9F3-E2C8-4F81-9332-574E1819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DF68-B0D6-452A-A5E4-C97B171E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5192-CF50-449F-A3E7-E7A3B7B8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EDDF6-ABF7-4659-BD4C-1C53FE67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C793-A219-4363-B98A-D7E99ADB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07B3-28D5-445B-A797-1EF2F5D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DCEE-58D8-46F4-B874-07D14629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670-E8F9-4BF1-91D8-52BB958D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63C2-77DF-47AB-B4AD-E6E34F4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4DECA-E96B-44A1-9236-B068701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27AF-ECE4-4C29-A631-C425E248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0270-A8BC-4BFC-9CC9-3E84B3BC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62D7-8346-4EDD-A4D1-4EF13595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0F6A-7075-48FF-B6BD-054F8D27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4F2C-C8D1-46CB-BD5B-1957B139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BE0E5-5DAB-4564-B927-7E9F5E41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DE8E-CE38-4603-AC0A-C4EF052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4283-5FC8-470F-B9B0-AF31161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7B3-93E5-4FA8-A4F4-9EEB319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043C-FBC6-4B7D-BEF2-364313D6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7D74B-F90A-4A3D-9F41-3C0E304B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E6FF-80BA-464F-BAE0-AE3FB2A6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5076F-D6CF-4B6D-B2AB-195AA44B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15B1-C374-4C10-8657-AECBBBAE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B752-A464-4C7F-AF39-475758FE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BC18-8775-4C9C-84C6-A6F9B2F8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09F0-B222-4605-84D8-0D275FA5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581C-2A21-43FD-BADA-0C6E57BC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AD2-D65D-4B42-93F5-23056671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B7E-47EA-4D3D-B4FD-DAD11ACB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4F4-79C4-42E6-BC48-8B19CE6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D23-82EE-4750-8283-27B75B3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B57-7685-44F1-A639-67AC8418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6947-34E9-4A0F-B1F5-EF7759A9A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E187-379E-4BDA-95C9-87BC3D155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B012-A8DF-4AFC-80AF-405B39FD3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800E-FF9A-42AF-B5D4-8CA7AD578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6920" y="155160"/>
            <a:ext cx="8713800" cy="20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Тема занятия:</a:t>
            </a:r>
            <a:br>
              <a:rPr sz="4300"/>
            </a:br>
            <a:r>
              <a:rPr b="0" i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4900" spc="-1" strike="noStrike">
                <a:solidFill>
                  <a:srgbClr val="c00000"/>
                </a:solidFill>
                <a:latin typeface="Arial"/>
                <a:ea typeface="Arial"/>
              </a:rPr>
              <a:t>Разговор о правильном питании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Documents and Settings\Александр\Мои документы\Мои рисунки\49737752_vkusnaya_zdorovaya_pischa.jpg"/>
          <p:cNvPicPr/>
          <p:nvPr/>
        </p:nvPicPr>
        <p:blipFill>
          <a:blip r:embed="rId2"/>
          <a:stretch/>
        </p:blipFill>
        <p:spPr>
          <a:xfrm>
            <a:off x="1763640" y="2276640"/>
            <a:ext cx="60008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C:\Documents and Settings\Александр\Мои документы\ЖОНКИНА ПИСАНИНА\large_carrotshoboken.jpg"/>
          <p:cNvPicPr/>
          <p:nvPr/>
        </p:nvPicPr>
        <p:blipFill>
          <a:blip r:embed="rId2"/>
          <a:stretch/>
        </p:blipFill>
        <p:spPr>
          <a:xfrm>
            <a:off x="3143160" y="214200"/>
            <a:ext cx="6000840" cy="5378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Александр\Мои документы\ЖОНКИНА ПИСАНИНА\2f32b5f3a9ee.png"/>
          <p:cNvPicPr/>
          <p:nvPr/>
        </p:nvPicPr>
        <p:blipFill>
          <a:blip r:embed="rId3"/>
          <a:stretch/>
        </p:blipFill>
        <p:spPr>
          <a:xfrm>
            <a:off x="0" y="4357800"/>
            <a:ext cx="250020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-1000080" y="0"/>
            <a:ext cx="10429920" cy="7215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E:\Учительская\жонкино\внекл. работа\картинки\b8d46241d13b.jpg"/>
          <p:cNvPicPr/>
          <p:nvPr/>
        </p:nvPicPr>
        <p:blipFill>
          <a:blip r:embed="rId2"/>
          <a:stretch/>
        </p:blipFill>
        <p:spPr>
          <a:xfrm>
            <a:off x="0" y="214200"/>
            <a:ext cx="6572160" cy="43815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"/>
          <p:cNvSpPr/>
          <p:nvPr/>
        </p:nvSpPr>
        <p:spPr>
          <a:xfrm>
            <a:off x="0" y="442908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итамин С - самый известный витам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н оберегает от простуды и укрепляет 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WordArt 9"/>
          <p:cNvGrpSpPr/>
          <p:nvPr/>
        </p:nvGrpSpPr>
        <p:grpSpPr>
          <a:xfrm>
            <a:off x="3554280" y="5413320"/>
            <a:ext cx="4999320" cy="1195560"/>
            <a:chOff x="3554280" y="5413320"/>
            <a:chExt cx="4999320" cy="1195560"/>
          </a:xfrm>
        </p:grpSpPr>
        <p:pic>
          <p:nvPicPr>
            <p:cNvPr id="213" name="WordArt 9" descr=""/>
            <p:cNvPicPr/>
            <p:nvPr/>
          </p:nvPicPr>
          <p:blipFill>
            <a:blip r:embed="rId2"/>
            <a:stretch/>
          </p:blipFill>
          <p:spPr>
            <a:xfrm>
              <a:off x="3554280" y="5413320"/>
              <a:ext cx="49993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571920" y="5429160"/>
              <a:ext cx="496728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ff"/>
                  </a:solidFill>
                  <a:latin typeface="Century Schoolbook"/>
                </a:rPr>
                <a:t>капуст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Прямоугольник 9" descr=""/>
          <p:cNvPicPr/>
          <p:nvPr/>
        </p:nvPicPr>
        <p:blipFill>
          <a:blip r:embed="rId3"/>
          <a:stretch/>
        </p:blipFill>
        <p:spPr>
          <a:xfrm>
            <a:off x="500040" y="212760"/>
            <a:ext cx="6643800" cy="101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C:\Documents and Settings\Александр\Мои документы\ЖОНКИНА ПИСАНИНА\1776.gif"/>
          <p:cNvPicPr/>
          <p:nvPr/>
        </p:nvPicPr>
        <p:blipFill>
          <a:blip r:embed="rId4"/>
          <a:stretch/>
        </p:blipFill>
        <p:spPr>
          <a:xfrm>
            <a:off x="-428760" y="4324320"/>
            <a:ext cx="2533680" cy="2533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Documents and Settings\Александр\Мои документы\ЖОНКИНА ПИСАНИНА\503324_2.jpg"/>
          <p:cNvPicPr/>
          <p:nvPr/>
        </p:nvPicPr>
        <p:blipFill>
          <a:blip r:embed="rId5"/>
          <a:stretch/>
        </p:blipFill>
        <p:spPr>
          <a:xfrm>
            <a:off x="2214720" y="1000080"/>
            <a:ext cx="5559120" cy="4572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Documents and Settings\Александр\Мои документы\Мои рисунки\Рисунок7.jpg"/>
          <p:cNvPicPr/>
          <p:nvPr/>
        </p:nvPicPr>
        <p:blipFill>
          <a:blip r:embed="rId6"/>
          <a:stretch/>
        </p:blipFill>
        <p:spPr>
          <a:xfrm>
            <a:off x="214200" y="1214280"/>
            <a:ext cx="5934240" cy="445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Documents and Settings\Александр\Мои документы\Мои рисунки\Рисунок8.jpg"/>
          <p:cNvPicPr/>
          <p:nvPr/>
        </p:nvPicPr>
        <p:blipFill>
          <a:blip r:embed="rId7"/>
          <a:stretch/>
        </p:blipFill>
        <p:spPr>
          <a:xfrm>
            <a:off x="1714680" y="2286000"/>
            <a:ext cx="6389640" cy="43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WordArt 10"/>
          <p:cNvSpPr txBox="1"/>
          <p:nvPr/>
        </p:nvSpPr>
        <p:spPr>
          <a:xfrm>
            <a:off x="0" y="260280"/>
            <a:ext cx="857268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2" name="WordArt 11"/>
          <p:cNvSpPr txBox="1"/>
          <p:nvPr/>
        </p:nvSpPr>
        <p:spPr>
          <a:xfrm>
            <a:off x="0" y="5500800"/>
            <a:ext cx="85010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214280" y="50720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итамин Д – укрепляет наши кости и зу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E:\Учительская\жонкино\внекл. работа\картинки\62d363d128c6.jpg"/>
          <p:cNvPicPr/>
          <p:nvPr/>
        </p:nvPicPr>
        <p:blipFill>
          <a:blip r:embed="rId2"/>
          <a:stretch/>
        </p:blipFill>
        <p:spPr>
          <a:xfrm>
            <a:off x="285840" y="428760"/>
            <a:ext cx="6537240" cy="4357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072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E:\Учительская\жонкино\внекл. работа\картинки\c9b604ca3293.jpg"/>
          <p:cNvPicPr/>
          <p:nvPr/>
        </p:nvPicPr>
        <p:blipFill>
          <a:blip r:embed="rId2"/>
          <a:stretch/>
        </p:blipFill>
        <p:spPr>
          <a:xfrm>
            <a:off x="0" y="2858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2357280" y="4786200"/>
            <a:ext cx="607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итамин В - нужен н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тобы быть си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Он отвечает за хорошее з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WordArt 4"/>
          <p:cNvGrpSpPr/>
          <p:nvPr/>
        </p:nvGrpSpPr>
        <p:grpSpPr>
          <a:xfrm>
            <a:off x="341280" y="201600"/>
            <a:ext cx="8315280" cy="1150920"/>
            <a:chOff x="341280" y="201600"/>
            <a:chExt cx="8315280" cy="1150920"/>
          </a:xfrm>
        </p:grpSpPr>
        <p:pic>
          <p:nvPicPr>
            <p:cNvPr id="230" name="WordArt 4" descr=""/>
            <p:cNvPicPr/>
            <p:nvPr/>
          </p:nvPicPr>
          <p:blipFill>
            <a:blip r:embed="rId2"/>
            <a:stretch/>
          </p:blipFill>
          <p:spPr>
            <a:xfrm>
              <a:off x="341280" y="201600"/>
              <a:ext cx="8315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57120" y="214200"/>
              <a:ext cx="82868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Impact"/>
                </a:rPr>
                <a:t>Загадки об овоща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Прямоугольник 5"/>
          <p:cNvSpPr/>
          <p:nvPr/>
        </p:nvSpPr>
        <p:spPr>
          <a:xfrm>
            <a:off x="500040" y="157176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Александр\Мои документы\Мои рисунки\0_c607_cc19a52c_XL.jpg"/>
          <p:cNvPicPr/>
          <p:nvPr/>
        </p:nvPicPr>
        <p:blipFill>
          <a:blip r:embed="rId3"/>
          <a:stretch/>
        </p:blipFill>
        <p:spPr>
          <a:xfrm>
            <a:off x="2571840" y="20718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7"/>
          <p:cNvSpPr/>
          <p:nvPr/>
        </p:nvSpPr>
        <p:spPr>
          <a:xfrm>
            <a:off x="3786120" y="442908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Documents and Settings\Александр\Мои документы\Мои рисунки\160_21_03_10_repka.jpg"/>
          <p:cNvPicPr/>
          <p:nvPr/>
        </p:nvPicPr>
        <p:blipFill>
          <a:blip r:embed="rId4"/>
          <a:stretch/>
        </p:blipFill>
        <p:spPr>
          <a:xfrm>
            <a:off x="0" y="1509840"/>
            <a:ext cx="3571920" cy="4848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Documents and Settings\Александр\Мои документы\Мои рисунки\111-1.jpg"/>
          <p:cNvPicPr/>
          <p:nvPr/>
        </p:nvPicPr>
        <p:blipFill>
          <a:blip r:embed="rId5"/>
          <a:stretch/>
        </p:blipFill>
        <p:spPr>
          <a:xfrm>
            <a:off x="2786040" y="214200"/>
            <a:ext cx="5872320" cy="587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00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Documents and Settings\Александр\Мои документы\Мои рисунки\51736709_svekla.jpg"/>
          <p:cNvPicPr/>
          <p:nvPr/>
        </p:nvPicPr>
        <p:blipFill>
          <a:blip r:embed="rId2"/>
          <a:stretch/>
        </p:blipFill>
        <p:spPr>
          <a:xfrm>
            <a:off x="0" y="428760"/>
            <a:ext cx="5643720" cy="570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Documents and Settings\Александр\Мои документы\ЖОНКИНА ПИСАНИНА\l_4.jpg"/>
          <p:cNvPicPr/>
          <p:nvPr/>
        </p:nvPicPr>
        <p:blipFill>
          <a:blip r:embed="rId3"/>
          <a:stretch/>
        </p:blipFill>
        <p:spPr>
          <a:xfrm>
            <a:off x="4143240" y="830160"/>
            <a:ext cx="4714920" cy="6027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Александр\Мои документы\ЖОНКИНА ПИСАНИНА\i-4867.jpg"/>
          <p:cNvPicPr/>
          <p:nvPr/>
        </p:nvPicPr>
        <p:blipFill>
          <a:blip r:embed="rId4"/>
          <a:stretch/>
        </p:blipFill>
        <p:spPr>
          <a:xfrm>
            <a:off x="762120" y="571680"/>
            <a:ext cx="7881840" cy="59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редные продукт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Содержимое 6" descr="33747a68bc6428d2fd50418ab3717099.jpg"/>
          <p:cNvPicPr/>
          <p:nvPr/>
        </p:nvPicPr>
        <p:blipFill>
          <a:blip r:embed="rId1"/>
          <a:stretch/>
        </p:blipFill>
        <p:spPr>
          <a:xfrm>
            <a:off x="4284720" y="981000"/>
            <a:ext cx="4460760" cy="3229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Администратор\Рабочий стол\Картинки\i (31).jpg"/>
          <p:cNvPicPr/>
          <p:nvPr/>
        </p:nvPicPr>
        <p:blipFill>
          <a:blip r:embed="rId2"/>
          <a:stretch/>
        </p:blipFill>
        <p:spPr>
          <a:xfrm>
            <a:off x="5651640" y="4365720"/>
            <a:ext cx="2305080" cy="23032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Pepsi_Cola_1_Lt_Light_Pet_-600x600.jpg"/>
          <p:cNvPicPr/>
          <p:nvPr/>
        </p:nvPicPr>
        <p:blipFill>
          <a:blip r:embed="rId3"/>
          <a:srcRect l="21417" t="0" r="21417" b="0"/>
          <a:stretch/>
        </p:blipFill>
        <p:spPr>
          <a:xfrm>
            <a:off x="2268360" y="3860640"/>
            <a:ext cx="1646280" cy="28814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_00001524.jpeg"/>
          <p:cNvPicPr/>
          <p:nvPr/>
        </p:nvPicPr>
        <p:blipFill>
          <a:blip r:embed="rId4"/>
          <a:srcRect l="6142" t="8819" r="5197" b="0"/>
          <a:stretch/>
        </p:blipFill>
        <p:spPr>
          <a:xfrm>
            <a:off x="179280" y="981000"/>
            <a:ext cx="3799080" cy="2928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50920" y="907560"/>
            <a:ext cx="388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1785960" y="225720"/>
            <a:ext cx="7143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Calibri"/>
              </a:rPr>
              <a:t>Прежде, чем за стол мне сесть – я подумаю, что съес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C:\Documents and Settings\Александр\Мои документы\ЖОНКИНА ПИСАНИНА\e3a8de38d15b.jpg"/>
          <p:cNvPicPr/>
          <p:nvPr/>
        </p:nvPicPr>
        <p:blipFill>
          <a:blip r:embed="rId1"/>
          <a:stretch/>
        </p:blipFill>
        <p:spPr>
          <a:xfrm>
            <a:off x="285840" y="3071880"/>
            <a:ext cx="385740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000080" y="428760"/>
            <a:ext cx="7786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ые    прави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1" name="Picture 1" descr="C:\Documents and Settings\Александр\Мои документы\ЖОНКИНА ПИСАНИНА\2f32b5f3a9ee.png"/>
          <p:cNvPicPr/>
          <p:nvPr/>
        </p:nvPicPr>
        <p:blipFill>
          <a:blip r:embed="rId4"/>
          <a:stretch/>
        </p:blipFill>
        <p:spPr>
          <a:xfrm>
            <a:off x="0" y="4857840"/>
            <a:ext cx="1889280" cy="164304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5"/>
          <p:cNvSpPr/>
          <p:nvPr/>
        </p:nvSpPr>
        <p:spPr>
          <a:xfrm>
            <a:off x="1214280" y="1500120"/>
            <a:ext cx="7715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лавное – не переедай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Ешьте в одно и то же время простую, свежеприготовленную пищу, которая легко усваивается и соответствует потребностям орган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Тщательно пережёвывайте пищу, не спешите гло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2195640" y="260280"/>
            <a:ext cx="466236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нужно есть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стать и чтобы сесть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ыгать, кувыркаться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 петь, дружить, смеяться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расти и развиватьс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 этом не болеть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авильно питатьс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ых юных лет уме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2" descr="Kids-Lunch-Ideas.jpg"/>
          <p:cNvPicPr/>
          <p:nvPr/>
        </p:nvPicPr>
        <p:blipFill>
          <a:blip r:embed="rId1"/>
          <a:stretch/>
        </p:blipFill>
        <p:spPr>
          <a:xfrm>
            <a:off x="108000" y="2205000"/>
            <a:ext cx="2503440" cy="19447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sehat (1).jpg"/>
          <p:cNvPicPr/>
          <p:nvPr/>
        </p:nvPicPr>
        <p:blipFill>
          <a:blip r:embed="rId2"/>
          <a:stretch/>
        </p:blipFill>
        <p:spPr>
          <a:xfrm>
            <a:off x="6469200" y="1954080"/>
            <a:ext cx="26748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Прямоугольник 9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4645080" cy="3975120"/>
          </a:xfrm>
          <a:prstGeom prst="rect">
            <a:avLst/>
          </a:prstGeom>
          <a:ln w="0">
            <a:noFill/>
          </a:ln>
        </p:spPr>
      </p:pic>
      <p:sp>
        <p:nvSpPr>
          <p:cNvPr id="254" name="WordArt 4"/>
          <p:cNvSpPr txBox="1"/>
          <p:nvPr/>
        </p:nvSpPr>
        <p:spPr>
          <a:xfrm>
            <a:off x="285840" y="285840"/>
            <a:ext cx="7929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entury Schoolbook"/>
              </a:rPr>
              <a:t>Светофор</a:t>
            </a:r>
            <a:endParaRPr b="0" lang="en-US" sz="1800" spc="1" strike="noStrike">
              <a:ln w="12600">
                <a:solidFill>
                  <a:srgbClr val="0000ff"/>
                </a:solidFill>
                <a:prstDash val="sysDot"/>
                <a:miter/>
              </a:ln>
              <a:solidFill>
                <a:srgbClr val="00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entury Schoolbook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entury Schoolbook"/>
              </a:rPr>
              <a:t>питания</a:t>
            </a:r>
            <a:endParaRPr b="0" lang="en-US" sz="1800" spc="1" strike="noStrike">
              <a:ln w="12600">
                <a:solidFill>
                  <a:srgbClr val="0000ff"/>
                </a:solidFill>
                <a:prstDash val="sysDot"/>
                <a:miter/>
              </a:ln>
              <a:solidFill>
                <a:srgbClr val="00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255" name="Picture 6" descr="C:\Documents and Settings\Александр\Мои документы\Мои рисунки\fruits-and-vegetables1.jpg"/>
          <p:cNvPicPr/>
          <p:nvPr/>
        </p:nvPicPr>
        <p:blipFill>
          <a:blip r:embed="rId2"/>
          <a:stretch/>
        </p:blipFill>
        <p:spPr>
          <a:xfrm>
            <a:off x="5508720" y="4005360"/>
            <a:ext cx="3024000" cy="27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C:\Documents and Settings\Александр\Мои документы\Мои рисунки\e5218d58b4f62025fce5c98a59c05f99_big.jpg"/>
          <p:cNvPicPr/>
          <p:nvPr/>
        </p:nvPicPr>
        <p:blipFill>
          <a:blip r:embed="rId3"/>
          <a:stretch/>
        </p:blipFill>
        <p:spPr>
          <a:xfrm>
            <a:off x="5435640" y="1700280"/>
            <a:ext cx="294336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C:\Documents and Settings\Admin\Мои документы\Мои рисунки\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2"/>
          <p:cNvSpPr/>
          <p:nvPr/>
        </p:nvSpPr>
        <p:spPr>
          <a:xfrm>
            <a:off x="3780000" y="260280"/>
            <a:ext cx="512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Жёлтый свет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это продук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о не овощи и фр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Сыр, сметана и твор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глазированный сы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ивезли изда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три бидона молока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это всё полезно оч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шьте через день по оч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0" descr="сыр"/>
          <p:cNvPicPr/>
          <p:nvPr/>
        </p:nvPicPr>
        <p:blipFill>
          <a:blip r:embed="rId2"/>
          <a:stretch/>
        </p:blipFill>
        <p:spPr>
          <a:xfrm>
            <a:off x="5796000" y="4292640"/>
            <a:ext cx="3024000" cy="242100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6" descr="03b1c8be9d36fa0b32ad17abeca97145.jpg"/>
          <p:cNvPicPr/>
          <p:nvPr/>
        </p:nvPicPr>
        <p:blipFill>
          <a:blip r:embed="rId3"/>
          <a:stretch/>
        </p:blipFill>
        <p:spPr>
          <a:xfrm>
            <a:off x="108000" y="333360"/>
            <a:ext cx="3384360" cy="33037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7" descr="file1394107896.jpg"/>
          <p:cNvPicPr/>
          <p:nvPr/>
        </p:nvPicPr>
        <p:blipFill>
          <a:blip r:embed="rId4"/>
          <a:stretch/>
        </p:blipFill>
        <p:spPr>
          <a:xfrm>
            <a:off x="179280" y="4149720"/>
            <a:ext cx="332424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5"/>
          <p:cNvSpPr/>
          <p:nvPr/>
        </p:nvSpPr>
        <p:spPr>
          <a:xfrm>
            <a:off x="285840" y="500040"/>
            <a:ext cx="5643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от кто хочет толстым стать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олжен целый день жева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Плюшки, торт, конфеты, сахар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Мясо, жареное в масл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сть печенье, шоколад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Фанту пить и лимонад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Красный свет подметит метко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шь такое крайне редко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C:\Documents and Settings\Александр\Мои документы\Мои рисунки\Tort.jpg"/>
          <p:cNvPicPr/>
          <p:nvPr/>
        </p:nvPicPr>
        <p:blipFill>
          <a:blip r:embed="rId1"/>
          <a:stretch/>
        </p:blipFill>
        <p:spPr>
          <a:xfrm>
            <a:off x="5695920" y="4005360"/>
            <a:ext cx="3448080" cy="2647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C:\Documents and Settings\Александр\Мои документы\Мои рисунки\c15b913b79bc.jpg"/>
          <p:cNvPicPr/>
          <p:nvPr/>
        </p:nvPicPr>
        <p:blipFill>
          <a:blip r:embed="rId2"/>
          <a:stretch/>
        </p:blipFill>
        <p:spPr>
          <a:xfrm>
            <a:off x="5940360" y="333360"/>
            <a:ext cx="297648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WordArt 5"/>
          <p:cNvSpPr txBox="1"/>
          <p:nvPr/>
        </p:nvSpPr>
        <p:spPr>
          <a:xfrm>
            <a:off x="468360" y="0"/>
            <a:ext cx="417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ь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6"/>
          <p:cNvSpPr txBox="1"/>
          <p:nvPr/>
        </p:nvSpPr>
        <p:spPr>
          <a:xfrm>
            <a:off x="5940360" y="765000"/>
            <a:ext cx="57636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7"/>
          <p:cNvSpPr txBox="1"/>
          <p:nvPr/>
        </p:nvSpPr>
        <p:spPr>
          <a:xfrm>
            <a:off x="1187280" y="2205000"/>
            <a:ext cx="712800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орошего аппети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8"/>
          <p:cNvSpPr txBox="1"/>
          <p:nvPr/>
        </p:nvSpPr>
        <p:spPr>
          <a:xfrm>
            <a:off x="2340000" y="3789360"/>
            <a:ext cx="201600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м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9"/>
          <p:cNvSpPr txBox="1"/>
          <p:nvPr/>
        </p:nvSpPr>
        <p:spPr>
          <a:xfrm rot="21237000">
            <a:off x="3779640" y="4941360"/>
            <a:ext cx="496872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ят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14720" y="642600"/>
            <a:ext cx="647208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Arial"/>
              </a:rPr>
              <a:t>Нужно есть то, что требуется моему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Arial"/>
              </a:rPr>
              <a:t>организму, а не то, что хочу есть 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C:\Documents and Settings\Александр\Мои документы\ЖОНКИНА ПИСАНИНА\2f32b5f3a9ee.png"/>
          <p:cNvPicPr/>
          <p:nvPr/>
        </p:nvPicPr>
        <p:blipFill>
          <a:blip r:embed="rId1"/>
          <a:stretch/>
        </p:blipFill>
        <p:spPr>
          <a:xfrm>
            <a:off x="0" y="3786120"/>
            <a:ext cx="32036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октор Айболит совету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00360" y="2214720"/>
            <a:ext cx="442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тобы правильно питаться нужно выполнять два условия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МЕРЕН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Александр\Мои документы\Мои рисунки\obed_gz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0040" cy="3214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Documents and Settings\Александр\Мои документы\ЖОНКИНА ПИСАНИНА\1776.gif"/>
          <p:cNvPicPr/>
          <p:nvPr/>
        </p:nvPicPr>
        <p:blipFill>
          <a:blip r:embed="rId3"/>
          <a:stretch/>
        </p:blipFill>
        <p:spPr>
          <a:xfrm>
            <a:off x="6215040" y="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ревним людям принадлежат мудрые слова:</a:t>
            </a: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ы едим для того, чтобы жить,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не живём для того, чтобы есть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4200" y="2708280"/>
            <a:ext cx="4143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ереедать очень вредно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, желудок и кишечник не успевают всё перевар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Documents and Settings\Александр\Мои документы\ЖОНКИНА ПИСАНИНА\image_118.jpg"/>
          <p:cNvPicPr/>
          <p:nvPr/>
        </p:nvPicPr>
        <p:blipFill>
          <a:blip r:embed="rId1"/>
          <a:stretch/>
        </p:blipFill>
        <p:spPr>
          <a:xfrm>
            <a:off x="6072120" y="2786040"/>
            <a:ext cx="2428920" cy="36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Что значит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WordArt 5"/>
          <p:cNvSpPr txBox="1"/>
          <p:nvPr/>
        </p:nvSpPr>
        <p:spPr>
          <a:xfrm>
            <a:off x="4067280" y="4857840"/>
            <a:ext cx="1079280" cy="1452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>
            <a:off x="468360" y="260280"/>
            <a:ext cx="3313080" cy="3313080"/>
          </a:xfrm>
          <a:prstGeom prst="ellipse">
            <a:avLst/>
          </a:prstGeom>
          <a:solidFill>
            <a:srgbClr val="ffff00">
              <a:alpha val="9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203640" y="3213000"/>
            <a:ext cx="3313080" cy="331308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ff66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Ягоды, зел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апу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орковь, бана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5076720" y="260280"/>
            <a:ext cx="3313080" cy="331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ворог, рыб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ясо, яй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ре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" descr="VITAMINS"/>
          <p:cNvPicPr/>
          <p:nvPr/>
        </p:nvPicPr>
        <p:blipFill>
          <a:blip r:embed="rId2"/>
          <a:stretch/>
        </p:blipFill>
        <p:spPr>
          <a:xfrm>
            <a:off x="2050920" y="3933720"/>
            <a:ext cx="1017720" cy="20415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3"/>
          <p:cNvSpPr/>
          <p:nvPr/>
        </p:nvSpPr>
        <p:spPr>
          <a:xfrm>
            <a:off x="826920" y="1700280"/>
            <a:ext cx="252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ёд, гречка, геркулес, изюм, ма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4"/>
          <p:cNvSpPr txBox="1"/>
          <p:nvPr/>
        </p:nvSpPr>
        <p:spPr>
          <a:xfrm>
            <a:off x="1258920" y="620640"/>
            <a:ext cx="20336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нерги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5"/>
          <p:cNvSpPr txBox="1"/>
          <p:nvPr/>
        </p:nvSpPr>
        <p:spPr>
          <a:xfrm>
            <a:off x="5940360" y="692280"/>
            <a:ext cx="1576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16"/>
          <p:cNvSpPr txBox="1"/>
          <p:nvPr/>
        </p:nvSpPr>
        <p:spPr>
          <a:xfrm>
            <a:off x="3924360" y="335772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17"/>
          <p:cNvSpPr txBox="1"/>
          <p:nvPr/>
        </p:nvSpPr>
        <p:spPr>
          <a:xfrm>
            <a:off x="3924360" y="5589720"/>
            <a:ext cx="201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714240" y="-61560"/>
            <a:ext cx="8429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ас тревожит бледност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хватает вам жел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шай яйца, почки, сы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гласи друзей на п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емляника, свёкла, 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болезней вас изле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ат, шпинат и авакад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снова жизни будем рад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олосы не глад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м помогут в форме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не дружит прядка с прядко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тамина группы Р(п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хватает здесь т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ло, рыбу и оре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цион включи ско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око, бобы, ря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олос необход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Documents and Settings\Admin\Мои документы\Мои рисунки\GE140_350A.jpg"/>
          <p:cNvPicPr/>
          <p:nvPr/>
        </p:nvPicPr>
        <p:blipFill>
          <a:blip r:embed="rId1"/>
          <a:stretch/>
        </p:blipFill>
        <p:spPr>
          <a:xfrm>
            <a:off x="0" y="0"/>
            <a:ext cx="9429840" cy="7072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E:\Учительская\жонкино\внекл. работа\картинки\cb5691b42ac8.jpg"/>
          <p:cNvPicPr/>
          <p:nvPr/>
        </p:nvPicPr>
        <p:blipFill>
          <a:blip r:embed="rId2"/>
          <a:stretch/>
        </p:blipFill>
        <p:spPr>
          <a:xfrm>
            <a:off x="285840" y="357120"/>
            <a:ext cx="6929280" cy="46195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1428840" y="514368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итамин А - витамин р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Он отвечает за здоровую ко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и хорошее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TA</dc:creator>
  <dc:description/>
  <dc:language>en-US</dc:language>
  <cp:lastModifiedBy>Татьяна Крюкова</cp:lastModifiedBy>
  <dcterms:modified xsi:type="dcterms:W3CDTF">2017-11-04T10:25:18Z</dcterms:modified>
  <cp:revision>25</cp:revision>
  <dc:subject/>
  <dc:title>Внеклассное занятие для учащихся  4 класса</dc:title>
</cp:coreProperties>
</file>