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12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42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.jpeg" ContentType="image/jpeg"/>
  <Override PartName="/ppt/media/image40.png" ContentType="image/png"/>
  <Override PartName="/ppt/media/image9.jpeg" ContentType="image/jpeg"/>
  <Override PartName="/ppt/media/image11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6463-E39B-4564-8AE3-8EA2C8AA4B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A2DB-8EC3-4F64-983A-EF7EA772D1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A90-0FDE-4D96-AB41-B633FD73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C19-915B-4F48-A1F2-6C059ABD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1EF-03FB-4A75-8D3A-3200F20D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644-469F-4B6B-908F-C05EEA59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11AD-7A80-4535-827E-B80C9C23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E630-D640-4705-BFC1-EC0C54DD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EB4A-AC13-46A9-BCCF-67125A03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F021-74ED-48F0-98CC-ADB14127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DB2F-89BA-45FB-8555-1C460EDF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7706-ED03-4628-B473-2EEBF350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E25C-2867-490B-818B-D334E2D6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847A-F0A7-40CE-9C5E-55572A89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DFB0-A392-4BFC-8523-C38247DF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3EC6-8AD5-4D2C-9410-A742C0E1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ECC2-4A0B-4BF9-BDAB-E6611E80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B8E9-36AA-48B6-8F1A-EF2CEF88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D55D-950E-4BF3-BE56-A3C28619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6E6B9-4698-44A0-87ED-4959C919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822E9-5DF7-44D0-9943-ED42AAC2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3E30E-5E2C-40FE-8A86-F7E35832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B849-1BDF-405C-96C3-B3BD910D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EC8CE-CED7-4E03-A1B7-4402C43A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BBC-D82B-4A07-9CE8-F39FE1E6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78524-9B3F-411A-9CB1-4B1D6341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6F8FE-1E10-4F24-A965-495B1FB6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6E9BE-EF7A-4FA7-922B-0C2019C2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7EDB9-3D94-43F8-A746-F4129DF3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48121-B5AC-4D7D-AA4B-8833D432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34EE9-09AE-4F5A-83FB-94CBC4B1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6D157-450D-4EAD-867E-D1E2B70B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D022D-F779-4D8C-A8A6-0AE59923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3E9C2-2579-4612-8D31-B592CC02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1EA85-1952-4630-9230-FA132BD3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8F9-D761-4407-9DDE-F5730698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5C190-D2D5-40B6-AEBF-29458799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EC553-1FD7-4F75-86C5-B2050B0B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5EE2D-6BB8-40C1-9E88-955A0411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473A9-2026-4EE8-9356-7968C9C7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C18C2-372A-4DED-A3DC-B67B42DF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93A0C-C7B4-4DBE-AC5C-6FAB7EDB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D5636-30FF-4C9B-AD4F-B95F78FB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3297-8CA3-4D86-965C-F93B039C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92C71-A28B-42F0-9CA4-0463319E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A3E-CEA1-4BB0-9F1A-79E6A145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416-55ED-4118-9CE5-7BECDDF8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0169-F6EE-42C4-9AFC-5C5C6E47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F14-8F38-4EC7-9C45-91A90B11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E48-0EA1-4B65-BB64-9446B65F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69C6-0CE1-4465-A657-33A8D5BA56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BC95-481D-436B-A8C5-B037E56E5F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44E9-5087-4FC1-A0D2-6900E8223F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1433-4187-438A-B9F9-FB86CA17F2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6920" y="155160"/>
            <a:ext cx="8713800" cy="20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ff0000"/>
                </a:solidFill>
                <a:latin typeface="Arial"/>
                <a:ea typeface="Arial"/>
              </a:rPr>
              <a:t>Тема занятия:</a:t>
            </a:r>
            <a:br>
              <a:rPr sz="4300"/>
            </a:br>
            <a:r>
              <a:rPr b="0" i="1" lang="ru-RU" sz="43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4900" spc="-1" strike="noStrike">
                <a:solidFill>
                  <a:srgbClr val="c00000"/>
                </a:solidFill>
                <a:latin typeface="Arial"/>
                <a:ea typeface="Arial"/>
              </a:rPr>
              <a:t>Разговор о правильном питании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C:\Documents and Settings\Александр\Мои документы\Мои рисунки\49737752_vkusnaya_zdorovaya_pischa.jpg"/>
          <p:cNvPicPr/>
          <p:nvPr/>
        </p:nvPicPr>
        <p:blipFill>
          <a:blip r:embed="rId2"/>
          <a:stretch/>
        </p:blipFill>
        <p:spPr>
          <a:xfrm>
            <a:off x="1763640" y="2276640"/>
            <a:ext cx="600084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C:\Documents and Settings\Александр\Мои документы\ЖОНКИНА ПИСАНИНА\large_carrotshoboken.jpg"/>
          <p:cNvPicPr/>
          <p:nvPr/>
        </p:nvPicPr>
        <p:blipFill>
          <a:blip r:embed="rId2"/>
          <a:stretch/>
        </p:blipFill>
        <p:spPr>
          <a:xfrm>
            <a:off x="3143160" y="214200"/>
            <a:ext cx="6000840" cy="5378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Александр\Мои документы\ЖОНКИНА ПИСАНИНА\2f32b5f3a9ee.png"/>
          <p:cNvPicPr/>
          <p:nvPr/>
        </p:nvPicPr>
        <p:blipFill>
          <a:blip r:embed="rId3"/>
          <a:stretch/>
        </p:blipFill>
        <p:spPr>
          <a:xfrm>
            <a:off x="0" y="4357800"/>
            <a:ext cx="2500200" cy="21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-1000080" y="0"/>
            <a:ext cx="10429920" cy="7215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E:\Учительская\жонкино\внекл. работа\картинки\b8d46241d13b.jpg"/>
          <p:cNvPicPr/>
          <p:nvPr/>
        </p:nvPicPr>
        <p:blipFill>
          <a:blip r:embed="rId2"/>
          <a:stretch/>
        </p:blipFill>
        <p:spPr>
          <a:xfrm>
            <a:off x="0" y="214200"/>
            <a:ext cx="6572160" cy="43815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3"/>
          <p:cNvSpPr/>
          <p:nvPr/>
        </p:nvSpPr>
        <p:spPr>
          <a:xfrm>
            <a:off x="0" y="4429080"/>
            <a:ext cx="87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Витамин С - самый известный витами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Он оберегает от простуды и укрепляет 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8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WordArt 9"/>
          <p:cNvGrpSpPr/>
          <p:nvPr/>
        </p:nvGrpSpPr>
        <p:grpSpPr>
          <a:xfrm>
            <a:off x="3554280" y="5413320"/>
            <a:ext cx="4999320" cy="1195560"/>
            <a:chOff x="3554280" y="5413320"/>
            <a:chExt cx="4999320" cy="1195560"/>
          </a:xfrm>
        </p:grpSpPr>
        <p:pic>
          <p:nvPicPr>
            <p:cNvPr id="213" name="WordArt 9" descr=""/>
            <p:cNvPicPr/>
            <p:nvPr/>
          </p:nvPicPr>
          <p:blipFill>
            <a:blip r:embed="rId2"/>
            <a:stretch/>
          </p:blipFill>
          <p:spPr>
            <a:xfrm>
              <a:off x="3554280" y="5413320"/>
              <a:ext cx="499932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571920" y="5429160"/>
              <a:ext cx="496728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ff"/>
                  </a:solidFill>
                  <a:latin typeface="Century Schoolbook"/>
                </a:rPr>
                <a:t>капуст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Прямоугольник 9" descr=""/>
          <p:cNvPicPr/>
          <p:nvPr/>
        </p:nvPicPr>
        <p:blipFill>
          <a:blip r:embed="rId3"/>
          <a:stretch/>
        </p:blipFill>
        <p:spPr>
          <a:xfrm>
            <a:off x="500040" y="212760"/>
            <a:ext cx="6643800" cy="1019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" descr="C:\Documents and Settings\Александр\Мои документы\ЖОНКИНА ПИСАНИНА\1776.gif"/>
          <p:cNvPicPr/>
          <p:nvPr/>
        </p:nvPicPr>
        <p:blipFill>
          <a:blip r:embed="rId4"/>
          <a:stretch/>
        </p:blipFill>
        <p:spPr>
          <a:xfrm>
            <a:off x="-428760" y="4324320"/>
            <a:ext cx="2533680" cy="2533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:\Documents and Settings\Александр\Мои документы\ЖОНКИНА ПИСАНИНА\503324_2.jpg"/>
          <p:cNvPicPr/>
          <p:nvPr/>
        </p:nvPicPr>
        <p:blipFill>
          <a:blip r:embed="rId5"/>
          <a:stretch/>
        </p:blipFill>
        <p:spPr>
          <a:xfrm>
            <a:off x="2214720" y="1000080"/>
            <a:ext cx="5559120" cy="4572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C:\Documents and Settings\Александр\Мои документы\Мои рисунки\Рисунок7.jpg"/>
          <p:cNvPicPr/>
          <p:nvPr/>
        </p:nvPicPr>
        <p:blipFill>
          <a:blip r:embed="rId6"/>
          <a:stretch/>
        </p:blipFill>
        <p:spPr>
          <a:xfrm>
            <a:off x="214200" y="1214280"/>
            <a:ext cx="5934240" cy="4453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C:\Documents and Settings\Александр\Мои документы\Мои рисунки\Рисунок8.jpg"/>
          <p:cNvPicPr/>
          <p:nvPr/>
        </p:nvPicPr>
        <p:blipFill>
          <a:blip r:embed="rId7"/>
          <a:stretch/>
        </p:blipFill>
        <p:spPr>
          <a:xfrm>
            <a:off x="1714680" y="2286000"/>
            <a:ext cx="6389640" cy="43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WordArt 10"/>
          <p:cNvSpPr txBox="1"/>
          <p:nvPr/>
        </p:nvSpPr>
        <p:spPr>
          <a:xfrm>
            <a:off x="0" y="260280"/>
            <a:ext cx="8572680" cy="13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2" name="WordArt 11"/>
          <p:cNvSpPr txBox="1"/>
          <p:nvPr/>
        </p:nvSpPr>
        <p:spPr>
          <a:xfrm>
            <a:off x="0" y="5500800"/>
            <a:ext cx="85010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Century Schoolbook"/>
              <a:ea typeface="Century Schoolbook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1214280" y="50720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Витамин Д – укрепляет наши кости и зу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E:\Учительская\жонкино\внекл. работа\картинки\62d363d128c6.jpg"/>
          <p:cNvPicPr/>
          <p:nvPr/>
        </p:nvPicPr>
        <p:blipFill>
          <a:blip r:embed="rId2"/>
          <a:stretch/>
        </p:blipFill>
        <p:spPr>
          <a:xfrm>
            <a:off x="285840" y="428760"/>
            <a:ext cx="6537240" cy="4357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7072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E:\Учительская\жонкино\внекл. работа\картинки\c9b604ca3293.jpg"/>
          <p:cNvPicPr/>
          <p:nvPr/>
        </p:nvPicPr>
        <p:blipFill>
          <a:blip r:embed="rId2"/>
          <a:stretch/>
        </p:blipFill>
        <p:spPr>
          <a:xfrm>
            <a:off x="0" y="28584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5"/>
          <p:cNvSpPr/>
          <p:nvPr/>
        </p:nvSpPr>
        <p:spPr>
          <a:xfrm>
            <a:off x="2357280" y="4786200"/>
            <a:ext cx="6072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Витамин В - нужен на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чтобы быть силь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Он отвечает за хорошее з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9" name="WordArt 4"/>
          <p:cNvGrpSpPr/>
          <p:nvPr/>
        </p:nvGrpSpPr>
        <p:grpSpPr>
          <a:xfrm>
            <a:off x="341280" y="201600"/>
            <a:ext cx="8315280" cy="1150920"/>
            <a:chOff x="341280" y="201600"/>
            <a:chExt cx="8315280" cy="1150920"/>
          </a:xfrm>
        </p:grpSpPr>
        <p:pic>
          <p:nvPicPr>
            <p:cNvPr id="230" name="WordArt 4" descr=""/>
            <p:cNvPicPr/>
            <p:nvPr/>
          </p:nvPicPr>
          <p:blipFill>
            <a:blip r:embed="rId2"/>
            <a:stretch/>
          </p:blipFill>
          <p:spPr>
            <a:xfrm>
              <a:off x="341280" y="201600"/>
              <a:ext cx="83152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57120" y="214200"/>
              <a:ext cx="82868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Impact"/>
                </a:rPr>
                <a:t>Загадки об овоща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Прямоугольник 5"/>
          <p:cNvSpPr/>
          <p:nvPr/>
        </p:nvSpPr>
        <p:spPr>
          <a:xfrm>
            <a:off x="500040" y="1571760"/>
            <a:ext cx="50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Documents and Settings\Александр\Мои документы\Мои рисунки\0_c607_cc19a52c_XL.jpg"/>
          <p:cNvPicPr/>
          <p:nvPr/>
        </p:nvPicPr>
        <p:blipFill>
          <a:blip r:embed="rId3"/>
          <a:stretch/>
        </p:blipFill>
        <p:spPr>
          <a:xfrm>
            <a:off x="2571840" y="20718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7"/>
          <p:cNvSpPr/>
          <p:nvPr/>
        </p:nvSpPr>
        <p:spPr>
          <a:xfrm>
            <a:off x="3786120" y="4429080"/>
            <a:ext cx="492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C:\Documents and Settings\Александр\Мои документы\Мои рисунки\160_21_03_10_repka.jpg"/>
          <p:cNvPicPr/>
          <p:nvPr/>
        </p:nvPicPr>
        <p:blipFill>
          <a:blip r:embed="rId4"/>
          <a:stretch/>
        </p:blipFill>
        <p:spPr>
          <a:xfrm>
            <a:off x="0" y="1509840"/>
            <a:ext cx="3571920" cy="4848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Documents and Settings\Александр\Мои документы\Мои рисунки\111-1.jpg"/>
          <p:cNvPicPr/>
          <p:nvPr/>
        </p:nvPicPr>
        <p:blipFill>
          <a:blip r:embed="rId5"/>
          <a:stretch/>
        </p:blipFill>
        <p:spPr>
          <a:xfrm>
            <a:off x="2786040" y="214200"/>
            <a:ext cx="5872320" cy="587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7000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Documents and Settings\Александр\Мои документы\Мои рисунки\51736709_svekla.jpg"/>
          <p:cNvPicPr/>
          <p:nvPr/>
        </p:nvPicPr>
        <p:blipFill>
          <a:blip r:embed="rId2"/>
          <a:stretch/>
        </p:blipFill>
        <p:spPr>
          <a:xfrm>
            <a:off x="0" y="428760"/>
            <a:ext cx="5643720" cy="5707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Documents and Settings\Александр\Мои документы\ЖОНКИНА ПИСАНИНА\l_4.jpg"/>
          <p:cNvPicPr/>
          <p:nvPr/>
        </p:nvPicPr>
        <p:blipFill>
          <a:blip r:embed="rId3"/>
          <a:stretch/>
        </p:blipFill>
        <p:spPr>
          <a:xfrm>
            <a:off x="4143240" y="830160"/>
            <a:ext cx="4714920" cy="6027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Documents and Settings\Александр\Мои документы\ЖОНКИНА ПИСАНИНА\i-4867.jpg"/>
          <p:cNvPicPr/>
          <p:nvPr/>
        </p:nvPicPr>
        <p:blipFill>
          <a:blip r:embed="rId4"/>
          <a:stretch/>
        </p:blipFill>
        <p:spPr>
          <a:xfrm>
            <a:off x="762120" y="571680"/>
            <a:ext cx="7881840" cy="59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редные продукт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Содержимое 6" descr="33747a68bc6428d2fd50418ab3717099.jpg"/>
          <p:cNvPicPr/>
          <p:nvPr/>
        </p:nvPicPr>
        <p:blipFill>
          <a:blip r:embed="rId1"/>
          <a:stretch/>
        </p:blipFill>
        <p:spPr>
          <a:xfrm>
            <a:off x="4284720" y="981000"/>
            <a:ext cx="4460760" cy="3229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Documents and Settings\Администратор\Рабочий стол\Картинки\i (31).jpg"/>
          <p:cNvPicPr/>
          <p:nvPr/>
        </p:nvPicPr>
        <p:blipFill>
          <a:blip r:embed="rId2"/>
          <a:stretch/>
        </p:blipFill>
        <p:spPr>
          <a:xfrm>
            <a:off x="5651640" y="4365720"/>
            <a:ext cx="2305080" cy="230328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Pepsi_Cola_1_Lt_Light_Pet_-600x600.jpg"/>
          <p:cNvPicPr/>
          <p:nvPr/>
        </p:nvPicPr>
        <p:blipFill>
          <a:blip r:embed="rId3"/>
          <a:srcRect l="21417" t="0" r="21417" b="0"/>
          <a:stretch/>
        </p:blipFill>
        <p:spPr>
          <a:xfrm>
            <a:off x="2268360" y="3860640"/>
            <a:ext cx="1646280" cy="28814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8" descr="_00001524.jpeg"/>
          <p:cNvPicPr/>
          <p:nvPr/>
        </p:nvPicPr>
        <p:blipFill>
          <a:blip r:embed="rId4"/>
          <a:srcRect l="6142" t="8819" r="5197" b="0"/>
          <a:stretch/>
        </p:blipFill>
        <p:spPr>
          <a:xfrm>
            <a:off x="179280" y="981000"/>
            <a:ext cx="3799080" cy="29289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250920" y="907560"/>
            <a:ext cx="3889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1785960" y="225720"/>
            <a:ext cx="7143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  <a:ea typeface="Calibri"/>
              </a:rPr>
              <a:t>Прежде, чем за стол мне сесть – я подумаю, что съес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C:\Documents and Settings\Александр\Мои документы\ЖОНКИНА ПИСАНИНА\e3a8de38d15b.jpg"/>
          <p:cNvPicPr/>
          <p:nvPr/>
        </p:nvPicPr>
        <p:blipFill>
          <a:blip r:embed="rId1"/>
          <a:stretch/>
        </p:blipFill>
        <p:spPr>
          <a:xfrm>
            <a:off x="285840" y="3071880"/>
            <a:ext cx="3857400" cy="34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WordArt 4"/>
          <p:cNvSpPr txBox="1"/>
          <p:nvPr/>
        </p:nvSpPr>
        <p:spPr>
          <a:xfrm>
            <a:off x="1000080" y="428760"/>
            <a:ext cx="7786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ые    правил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1" name="Picture 1" descr="C:\Documents and Settings\Александр\Мои документы\ЖОНКИНА ПИСАНИНА\2f32b5f3a9ee.png"/>
          <p:cNvPicPr/>
          <p:nvPr/>
        </p:nvPicPr>
        <p:blipFill>
          <a:blip r:embed="rId4"/>
          <a:stretch/>
        </p:blipFill>
        <p:spPr>
          <a:xfrm>
            <a:off x="0" y="4857840"/>
            <a:ext cx="1889280" cy="164304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5"/>
          <p:cNvSpPr/>
          <p:nvPr/>
        </p:nvSpPr>
        <p:spPr>
          <a:xfrm>
            <a:off x="1214280" y="1500120"/>
            <a:ext cx="7715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Главное – не переедай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Ешьте в одно и то же время простую, свежеприготовленную пищу, которая легко усваивается и соответствует потребностям орган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Тщательно пережёвывайте пищу, не спешите глот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2195640" y="260280"/>
            <a:ext cx="466236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у нужно есть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стать и чтобы сесть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ыгать, кувыркаться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и петь, дружить, смеяться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расти и развиваться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и этом не болеть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правильно питаться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амых юных лет умет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2" descr="Kids-Lunch-Ideas.jpg"/>
          <p:cNvPicPr/>
          <p:nvPr/>
        </p:nvPicPr>
        <p:blipFill>
          <a:blip r:embed="rId1"/>
          <a:stretch/>
        </p:blipFill>
        <p:spPr>
          <a:xfrm>
            <a:off x="108000" y="2205000"/>
            <a:ext cx="2503440" cy="19447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3" descr="sehat (1).jpg"/>
          <p:cNvPicPr/>
          <p:nvPr/>
        </p:nvPicPr>
        <p:blipFill>
          <a:blip r:embed="rId2"/>
          <a:stretch/>
        </p:blipFill>
        <p:spPr>
          <a:xfrm>
            <a:off x="6469200" y="1954080"/>
            <a:ext cx="26748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Прямоугольник 9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4645080" cy="3975120"/>
          </a:xfrm>
          <a:prstGeom prst="rect">
            <a:avLst/>
          </a:prstGeom>
          <a:ln w="0">
            <a:noFill/>
          </a:ln>
        </p:spPr>
      </p:pic>
      <p:sp>
        <p:nvSpPr>
          <p:cNvPr id="254" name="WordArt 4"/>
          <p:cNvSpPr txBox="1"/>
          <p:nvPr/>
        </p:nvSpPr>
        <p:spPr>
          <a:xfrm>
            <a:off x="285840" y="285840"/>
            <a:ext cx="7929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prstDash val="sysDot"/>
                  <a:miter/>
                </a:ln>
                <a:solidFill>
                  <a:srgbClr val="00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entury Schoolbook"/>
              </a:rPr>
              <a:t>Светофор</a:t>
            </a:r>
            <a:endParaRPr b="0" lang="en-US" sz="1800" spc="1" strike="noStrike">
              <a:ln w="12600">
                <a:solidFill>
                  <a:srgbClr val="0000ff"/>
                </a:solidFill>
                <a:prstDash val="sysDot"/>
                <a:miter/>
              </a:ln>
              <a:solidFill>
                <a:srgbClr val="00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prstDash val="sysDot"/>
                  <a:miter/>
                </a:ln>
                <a:solidFill>
                  <a:srgbClr val="00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entury Schoolbook"/>
              </a:rPr>
              <a:t> </a:t>
            </a:r>
            <a:r>
              <a:rPr b="0" lang="en-US" sz="1800" spc="1" strike="noStrike">
                <a:ln w="12600">
                  <a:solidFill>
                    <a:srgbClr val="0000ff"/>
                  </a:solidFill>
                  <a:prstDash val="sysDot"/>
                  <a:miter/>
                </a:ln>
                <a:solidFill>
                  <a:srgbClr val="00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entury Schoolbook"/>
              </a:rPr>
              <a:t>питания</a:t>
            </a:r>
            <a:endParaRPr b="0" lang="en-US" sz="1800" spc="1" strike="noStrike">
              <a:ln w="12600">
                <a:solidFill>
                  <a:srgbClr val="0000ff"/>
                </a:solidFill>
                <a:prstDash val="sysDot"/>
                <a:miter/>
              </a:ln>
              <a:solidFill>
                <a:srgbClr val="00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255" name="Picture 6" descr="C:\Documents and Settings\Александр\Мои документы\Мои рисунки\fruits-and-vegetables1.jpg"/>
          <p:cNvPicPr/>
          <p:nvPr/>
        </p:nvPicPr>
        <p:blipFill>
          <a:blip r:embed="rId2"/>
          <a:stretch/>
        </p:blipFill>
        <p:spPr>
          <a:xfrm>
            <a:off x="5508720" y="4005360"/>
            <a:ext cx="3024000" cy="2714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C:\Documents and Settings\Александр\Мои документы\Мои рисунки\e5218d58b4f62025fce5c98a59c05f99_big.jpg"/>
          <p:cNvPicPr/>
          <p:nvPr/>
        </p:nvPicPr>
        <p:blipFill>
          <a:blip r:embed="rId3"/>
          <a:stretch/>
        </p:blipFill>
        <p:spPr>
          <a:xfrm>
            <a:off x="5435640" y="1700280"/>
            <a:ext cx="294336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C:\Documents and Settings\Admin\Мои документы\Мои рисунки\Безымянный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2"/>
          <p:cNvSpPr/>
          <p:nvPr/>
        </p:nvSpPr>
        <p:spPr>
          <a:xfrm>
            <a:off x="3780000" y="260280"/>
            <a:ext cx="5121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Жёлтый свет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это продук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но не овощи и фр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Сыр, сметана и твор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глазированный сыр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привезли издал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три бидона молока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это всё полезно очен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ешьте через день по оч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0" descr="сыр"/>
          <p:cNvPicPr/>
          <p:nvPr/>
        </p:nvPicPr>
        <p:blipFill>
          <a:blip r:embed="rId2"/>
          <a:stretch/>
        </p:blipFill>
        <p:spPr>
          <a:xfrm>
            <a:off x="5796000" y="4292640"/>
            <a:ext cx="3024000" cy="242100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6" descr="03b1c8be9d36fa0b32ad17abeca97145.jpg"/>
          <p:cNvPicPr/>
          <p:nvPr/>
        </p:nvPicPr>
        <p:blipFill>
          <a:blip r:embed="rId3"/>
          <a:stretch/>
        </p:blipFill>
        <p:spPr>
          <a:xfrm>
            <a:off x="108000" y="333360"/>
            <a:ext cx="3384360" cy="33037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7" descr="file1394107896.jpg"/>
          <p:cNvPicPr/>
          <p:nvPr/>
        </p:nvPicPr>
        <p:blipFill>
          <a:blip r:embed="rId4"/>
          <a:stretch/>
        </p:blipFill>
        <p:spPr>
          <a:xfrm>
            <a:off x="179280" y="4149720"/>
            <a:ext cx="332424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5"/>
          <p:cNvSpPr/>
          <p:nvPr/>
        </p:nvSpPr>
        <p:spPr>
          <a:xfrm>
            <a:off x="285840" y="500040"/>
            <a:ext cx="56433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Тот кто хочет толстым стать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Должен целый день жева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Плюшки, торт, конфеты, сахар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Мясо, жареное в масл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Есть печенье, шоколад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Фанту пить и лимонад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Красный свет подметит метко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Ешь такое крайне редко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C:\Documents and Settings\Александр\Мои документы\Мои рисунки\Tort.jpg"/>
          <p:cNvPicPr/>
          <p:nvPr/>
        </p:nvPicPr>
        <p:blipFill>
          <a:blip r:embed="rId1"/>
          <a:stretch/>
        </p:blipFill>
        <p:spPr>
          <a:xfrm>
            <a:off x="5695920" y="4005360"/>
            <a:ext cx="3448080" cy="2647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C:\Documents and Settings\Александр\Мои документы\Мои рисунки\c15b913b79bc.jpg"/>
          <p:cNvPicPr/>
          <p:nvPr/>
        </p:nvPicPr>
        <p:blipFill>
          <a:blip r:embed="rId2"/>
          <a:stretch/>
        </p:blipFill>
        <p:spPr>
          <a:xfrm>
            <a:off x="5940360" y="333360"/>
            <a:ext cx="2976480" cy="29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WordArt 5"/>
          <p:cNvSpPr txBox="1"/>
          <p:nvPr/>
        </p:nvSpPr>
        <p:spPr>
          <a:xfrm>
            <a:off x="468360" y="0"/>
            <a:ext cx="4176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доровь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6"/>
          <p:cNvSpPr txBox="1"/>
          <p:nvPr/>
        </p:nvSpPr>
        <p:spPr>
          <a:xfrm>
            <a:off x="5940360" y="765000"/>
            <a:ext cx="57636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7"/>
          <p:cNvSpPr txBox="1"/>
          <p:nvPr/>
        </p:nvSpPr>
        <p:spPr>
          <a:xfrm>
            <a:off x="1187280" y="2205000"/>
            <a:ext cx="712800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хорошего аппети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WordArt 8"/>
          <p:cNvSpPr txBox="1"/>
          <p:nvPr/>
        </p:nvSpPr>
        <p:spPr>
          <a:xfrm>
            <a:off x="2340000" y="3789360"/>
            <a:ext cx="201600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м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WordArt 9"/>
          <p:cNvSpPr txBox="1"/>
          <p:nvPr/>
        </p:nvSpPr>
        <p:spPr>
          <a:xfrm rot="21237000">
            <a:off x="3779640" y="4941360"/>
            <a:ext cx="496872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ята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14720" y="642600"/>
            <a:ext cx="647208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  <a:ea typeface="Arial"/>
              </a:rPr>
              <a:t>Нужно есть то, что требуется моему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Calibri"/>
                <a:ea typeface="Arial"/>
              </a:rPr>
              <a:t>организму, а не то, что хочу есть 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C:\Documents and Settings\Александр\Мои документы\ЖОНКИНА ПИСАНИНА\2f32b5f3a9ee.png"/>
          <p:cNvPicPr/>
          <p:nvPr/>
        </p:nvPicPr>
        <p:blipFill>
          <a:blip r:embed="rId1"/>
          <a:stretch/>
        </p:blipFill>
        <p:spPr>
          <a:xfrm>
            <a:off x="0" y="3786120"/>
            <a:ext cx="320364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58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октор Айболит совету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00360" y="2214720"/>
            <a:ext cx="442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чтобы правильно питаться нужно выполнять два условия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МЕРЕННОС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ЗНООБРАЗ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Documents and Settings\Александр\Мои документы\Мои рисунки\obed_gz.jpg"/>
          <p:cNvPicPr/>
          <p:nvPr/>
        </p:nvPicPr>
        <p:blipFill>
          <a:blip r:embed="rId2"/>
          <a:stretch/>
        </p:blipFill>
        <p:spPr>
          <a:xfrm>
            <a:off x="179280" y="2924280"/>
            <a:ext cx="4280040" cy="3214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Documents and Settings\Александр\Мои документы\ЖОНКИНА ПИСАНИНА\1776.gif"/>
          <p:cNvPicPr/>
          <p:nvPr/>
        </p:nvPicPr>
        <p:blipFill>
          <a:blip r:embed="rId3"/>
          <a:stretch/>
        </p:blipFill>
        <p:spPr>
          <a:xfrm>
            <a:off x="6215040" y="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ревним людям принадлежат мудрые слова:</a:t>
            </a:r>
            <a:br>
              <a:rPr sz="36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Мы едим для того, чтобы жить,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не живём для того, чтобы есть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14200" y="2708280"/>
            <a:ext cx="4143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ереедать очень вредно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, желудок и кишечник не успевают всё перевар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Documents and Settings\Александр\Мои документы\ЖОНКИНА ПИСАНИНА\image_118.jpg"/>
          <p:cNvPicPr/>
          <p:nvPr/>
        </p:nvPicPr>
        <p:blipFill>
          <a:blip r:embed="rId1"/>
          <a:stretch/>
        </p:blipFill>
        <p:spPr>
          <a:xfrm>
            <a:off x="6072120" y="2786040"/>
            <a:ext cx="2428920" cy="3643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Что значит 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разнообразие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WordArt 5"/>
          <p:cNvSpPr txBox="1"/>
          <p:nvPr/>
        </p:nvSpPr>
        <p:spPr>
          <a:xfrm>
            <a:off x="4067280" y="4857840"/>
            <a:ext cx="1079280" cy="1452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>
            <a:off x="468360" y="260280"/>
            <a:ext cx="3313080" cy="3313080"/>
          </a:xfrm>
          <a:prstGeom prst="ellipse">
            <a:avLst/>
          </a:prstGeom>
          <a:solidFill>
            <a:srgbClr val="ffff00">
              <a:alpha val="9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3203640" y="3213000"/>
            <a:ext cx="3313080" cy="331308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ff66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Ягоды, зелен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апу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морковь, банан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"/>
          <p:cNvSpPr/>
          <p:nvPr/>
        </p:nvSpPr>
        <p:spPr>
          <a:xfrm>
            <a:off x="5076720" y="260280"/>
            <a:ext cx="3313080" cy="331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ворог, рыб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мясо, яй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ре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2" descr="VITAMINS"/>
          <p:cNvPicPr/>
          <p:nvPr/>
        </p:nvPicPr>
        <p:blipFill>
          <a:blip r:embed="rId2"/>
          <a:stretch/>
        </p:blipFill>
        <p:spPr>
          <a:xfrm>
            <a:off x="2050920" y="3933720"/>
            <a:ext cx="1017720" cy="20415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3"/>
          <p:cNvSpPr/>
          <p:nvPr/>
        </p:nvSpPr>
        <p:spPr>
          <a:xfrm>
            <a:off x="826920" y="1700280"/>
            <a:ext cx="252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Мёд, гречка, геркулес, изюм, ма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14"/>
          <p:cNvSpPr txBox="1"/>
          <p:nvPr/>
        </p:nvSpPr>
        <p:spPr>
          <a:xfrm>
            <a:off x="1258920" y="620640"/>
            <a:ext cx="203364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нергия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15"/>
          <p:cNvSpPr txBox="1"/>
          <p:nvPr/>
        </p:nvSpPr>
        <p:spPr>
          <a:xfrm>
            <a:off x="5940360" y="692280"/>
            <a:ext cx="1576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л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WordArt 16"/>
          <p:cNvSpPr txBox="1"/>
          <p:nvPr/>
        </p:nvSpPr>
        <p:spPr>
          <a:xfrm>
            <a:off x="3924360" y="3357720"/>
            <a:ext cx="201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WordArt 17"/>
          <p:cNvSpPr txBox="1"/>
          <p:nvPr/>
        </p:nvSpPr>
        <p:spPr>
          <a:xfrm>
            <a:off x="3924360" y="5589720"/>
            <a:ext cx="2016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вит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714240" y="-61560"/>
            <a:ext cx="84297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ас тревожит бледность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хватает вам желе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шай яйца, почки, сыр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гласи друзей на п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емляника, свёкла, пе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болезней вас излеч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лат, шпинат и авакад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снова жизни будем рад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олосы не глад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м помогут в форме бы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не дружит прядка с прядкой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тамина группы Р(пэ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хватает здесь т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сло, рыбу и оре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цион включи ско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локо, бобы, ря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волос необход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0" y="0"/>
            <a:ext cx="9429840" cy="7072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E:\Учительская\жонкино\внекл. работа\картинки\cb5691b42ac8.jpg"/>
          <p:cNvPicPr/>
          <p:nvPr/>
        </p:nvPicPr>
        <p:blipFill>
          <a:blip r:embed="rId2"/>
          <a:stretch/>
        </p:blipFill>
        <p:spPr>
          <a:xfrm>
            <a:off x="285840" y="357120"/>
            <a:ext cx="6929280" cy="461952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1428840" y="5143680"/>
            <a:ext cx="70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Витамин А - витамин ро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Он отвечает за здоровую кож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и хорошее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TA</dc:creator>
  <dc:description/>
  <dc:language>en-US</dc:language>
  <cp:lastModifiedBy>Татьяна Крюкова</cp:lastModifiedBy>
  <dcterms:modified xsi:type="dcterms:W3CDTF">2017-11-04T10:25:18Z</dcterms:modified>
  <cp:revision>25</cp:revision>
  <dc:subject/>
  <dc:title>Внеклассное занятие для учащихся  4 класса</dc:title>
</cp:coreProperties>
</file>