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3C2-A4BB-41B7-B6FF-0575EDDD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7F4-0362-4DD9-8F1C-629DBB6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780-746F-40D2-AC39-400AB4F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15C-80A3-4DDD-8076-B56C2143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F90-A721-47AA-8E77-C874C59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E84-316F-487F-95DD-9CE7C485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69A-2AF0-436C-83D0-203BE3F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978-2BD3-4B16-BC32-751EE393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E93-D39D-4E01-867F-0FB71884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C87-3A0C-43F5-8BB5-AA679FF0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504-3326-4A4B-A85F-4CEE4F7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4D6-EB4D-4B47-B414-2B4C69E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A7A-9D70-4795-A33C-9EEDEAEF3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q2J2T8lI98&amp;embeds_euri=https%3A%2F%2Fyastatic.net%2F&amp;feature=emb_logo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q2J2T8lI98" TargetMode="External"/><Relationship Id="rId2" Type="http://schemas.openxmlformats.org/officeDocument/2006/relationships/hyperlink" Target="https://www.google.ru/url?sa=i&amp;rct=j&amp;q=&amp;esrc=s&amp;source=imgres&amp;cd=&amp;cad=rja&amp;uact=8&amp;ved=0ahUKEwiQgby21qrSAhXmNJoKHbsDAsgQjRwIBw&amp;url=https%3A%2F%2Fru.wikipedia.org%2Fwiki%2F%25D0%259B%25D0%25B5%25D0%25B9%25D0%25B1%25D0%25BD%25D0%25B8%25D1%2586%2C_%25D0%2593%25D0%25BE%25D1%2582%25D1%2584%25D1%2580%25D0%25B8%25D0%25B4_%25D0%2592%25D0%25B8%25D0%25BB%25D1%258C%25D0%25B3%25D0%25B5%25D0%25BB%25D1%258C%25D0%25BC&amp;psig=AFQjCNEXKzAAdlX7hnUaRmAUyOhFvXakMg&amp;ust=1488092418318659" TargetMode="External"/><Relationship Id="rId3" Type="http://schemas.openxmlformats.org/officeDocument/2006/relationships/hyperlink" Target="file:///%258C%25D0%25B3%25D0%25B5%25D0%25BB%25D1%258C%25D0%25BC&amp;psig=AFQjCNEXKzAAdlX7hnUaRmAUyOhFvXakMg&amp;ust=1488092418318659" TargetMode="External"/><Relationship Id="rId4" Type="http://schemas.openxmlformats.org/officeDocument/2006/relationships/hyperlink" Target="https://www.google.ru/url?sa=i&amp;rct=j&amp;q=&amp;esrc=s&amp;source=imgres&amp;cd=&amp;cad=rja&amp;uact=8&amp;ved=0ahUKEwiEn6yX1arSAhWqC5oKHVoVC-8QjRwIBw&amp;url=http%3A%2F%2Fm.diary.ru%2F~neko-zoi%2F%3Ftag%3D425514&amp;psig=AFQjCNGcLqtX7szaER8CaccLDClFYBRkLw&amp;ust=1488092077995563" TargetMode="External"/><Relationship Id="rId5" Type="http://schemas.openxmlformats.org/officeDocument/2006/relationships/hyperlink" Target="https://www.google.ru/url?sa=i&amp;rct=j&amp;q=&amp;esrc=s&amp;source=images&amp;cd=&amp;cad=rja&amp;uact=8&amp;ved=0ahUKEwjLrOnm0qrSAhUHCywKHem3CJ4QjRwIBw&amp;url=http%3A%2F%2F1v14.21420s24.edusite.ru%2Fp12aa1.html&amp;bvm=bv.148073327,d.bGg&amp;psig=AFQjCNFPWymRBH9YU-CY6Q9ad2BFrBlhKA&amp;ust=1488091357297119" TargetMode="External"/><Relationship Id="rId6" Type="http://schemas.openxmlformats.org/officeDocument/2006/relationships/hyperlink" Target="https://www.google.ru/url?sa=i&amp;rct=j&amp;q=&amp;esrc=s&amp;source=images&amp;cd=&amp;cad=rja&amp;uact=8&amp;ved=0ahUKEwjDhdzx0KrSAhUEWSwKHVn-AfQQjRwIBw&amp;url=https%3A%2F%2Fsvetlogorsk-2.schools.by%2Fpages%2Fonlajn-testy-po-matematike-1-11-klass&amp;bvm=bv.148073327,d.bGg&amp;psig=AFQjCNECw0VX7BfMbGnNGRAYxxGMeQErDg&amp;ust=1488090865761780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Cambria"/>
              </a:rPr>
              <a:t>Умножение рациона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2670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пина Наталья Васи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Ребрих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828800" y="990720"/>
            <a:ext cx="685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761760" y="1643040"/>
            <a:ext cx="821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24(1,3,5,7)- у д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3786120" y="2143080"/>
            <a:ext cx="50277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26 (2,4,6) –решаем в па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1571760" y="2857680"/>
            <a:ext cx="585792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вальная выноска 8" descr=""/>
          <p:cNvPicPr/>
          <p:nvPr/>
        </p:nvPicPr>
        <p:blipFill>
          <a:blip r:embed="rId3"/>
          <a:stretch/>
        </p:blipFill>
        <p:spPr>
          <a:xfrm>
            <a:off x="5730840" y="2243160"/>
            <a:ext cx="3247920" cy="2389320"/>
          </a:xfrm>
          <a:prstGeom prst="rect">
            <a:avLst/>
          </a:prstGeom>
          <a:ln w="0">
            <a:noFill/>
          </a:ln>
        </p:spPr>
      </p:pic>
      <p:sp>
        <p:nvSpPr>
          <p:cNvPr id="104" name="Выноска-облако 9"/>
          <p:cNvSpPr/>
          <p:nvPr/>
        </p:nvSpPr>
        <p:spPr>
          <a:xfrm>
            <a:off x="2000160" y="2071800"/>
            <a:ext cx="3357720" cy="928440"/>
          </a:xfrm>
          <a:prstGeom prst="cloudCallout">
            <a:avLst>
              <a:gd name="adj1" fmla="val -24074"/>
              <a:gd name="adj2" fmla="val 8359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1" descr=""/>
          <p:cNvPicPr/>
          <p:nvPr/>
        </p:nvPicPr>
        <p:blipFill>
          <a:blip r:embed="rId4"/>
          <a:stretch/>
        </p:blipFill>
        <p:spPr>
          <a:xfrm>
            <a:off x="2590920" y="2182680"/>
            <a:ext cx="234612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пражнение «Тел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2120" y="685800"/>
          <a:ext cx="8229600" cy="564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43720">
                <a:tc>
                  <a:txBody>
                    <a:bodyPr lIns="102960" rIns="102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А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значение выраж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А) -12·2-2;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Б) -2·(-2, 1)·(-5)·(-3)·(- 1,1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В) -4, 9 · 10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В. 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Не выполняя вычислений, сравните значение выражения: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213·(-8716)·(-507) и  -405·(-378)·(-912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С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 значение произведения всех нечетных чисел от -24 до -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2960" rIns="102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А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значение выраж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А) 6-3·5;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Б)  -2·(-5,2)·(-0,2)·0,3·(-3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В) -8 ·0,0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В. 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Не выполняя вычислений, сравните значение выражения: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-463·(-903)·71,5 и 356,8·(-558)·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С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значение произведения всех нечетных чисел от -18  до -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2c24"/>
                </a:solidFill>
                <a:latin typeface="Comic Sans MS"/>
              </a:rPr>
              <a:t>Критери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Верно решен  уровень А – 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Верно решен  уровень В – 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Верно решен  уровень С –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С 1 ошибкой: – 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С 2 ошибками: – 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74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ные сего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щё раз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и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ешен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№1025(2,4,6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27(2,4)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, а тот кто хочет логику и смекалку развива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одно из двух дополнительных заданий для себя подоб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невник не забудьте задание за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старайтесь выполнить его на «5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№1054*(задача от мудрой сов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сообщение о Луке Пач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Comic Sans MS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ео: 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5q2J2T8lI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Лейбни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tps://www.google.ru/url?sa=i&amp;rct=j&amp;q=&amp;esrc=s&amp;source=imgres&amp;cd=&amp;cad=rja&amp;uact=8&amp;ved=0ahUKEwiQgby21qrSAhXmNJoKHbsDAsgQjRwIBw&amp;url=https%3A%2F%2Fru.wikipedia.org%2Fwiki%2F%25D0%259B%25D0%25B5%25D0%25B9%25D0%25B1%25D0%25BD%25D0%25B8%25D1%2586%2C_%25D0%2593%25D0%25BE%25D1%2582%25D1%2584%25D1%2580%25D0%25B8%25D0%25B4_%25D0%2592%25D0%25B8%25D0%25BB%25D1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%258C%25D0%25B3%25D0%25B5%25D0%25BB%25D1%258C%25D0%25BC&amp;psig=AFQjCNEXKzAAdlX7hnUaRmAUyOhFvXakMg&amp;ust=14880924183186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ка Пачо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google.ru/url?sa=i&amp;rct=j&amp;q=&amp;esrc=s&amp;source=imgres&amp;cd=&amp;cad=rja&amp;uact=8&amp;ved=0ahUKEwiEn6yX1arSAhWqC5oKHVoVC-8QjRwIBw&amp;url=http%3A%2F%2Fm.diary.ru%2F~neko-zoi%2F%3Ftag%3D425514&amp;psig=AFQjCNGcLqtX7szaER8CaccLDClFYBRkLw&amp;ust=14880920779955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льчик и девоч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google.ru/url?sa=i&amp;rct=j&amp;q=&amp;esrc=s&amp;source=images&amp;cd=&amp;cad=rja&amp;uact=8&amp;ved=0ahUKEwjLrOnm0qrSAhUHCywKHem3CJ4QjRwIBw&amp;url=http%3A%2F%2F1v14.21420s24.edusite.ru%2Fp12aa1.html&amp;bvm=bv.148073327,d.bGg&amp;psig=AFQjCNFPWymRBH9YU-CY6Q9ad2BFrBlhKA&amp;ust=1488091357297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А думает: </a:t>
            </a:r>
            <a:r>
              <a:rPr b="1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s://www.google.ru/url?sa=i&amp;rct=j&amp;q=&amp;esrc=s&amp;source=images&amp;cd=&amp;cad=rja&amp;uact=8&amp;ved=0ahUKEwjDhdzx0KrSAhUEWSwKHVn-AfQQjRwIBw&amp;url=https%3A%2F%2Fsvetlogorsk-2.schools.by%2Fpages%2Fonlajn-testy-po-matematike-1-11-klass&amp;bvm=bv.148073327,d.bGg&amp;psig=AFQjCNECw0VX7BfMbGnNGRAYxxGMeQErDg&amp;ust=14880908657617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А с книгами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s://www.google.ru/url?sa=i&amp;rct=j&amp;q=&amp;esrc=s&amp;source=images&amp;cd=&amp;cad=rja&amp;uact=8&amp;ved=0ahUKEwiuno_D0arSAhUCfywKHXDEAeEQjRwIBw&amp;url=https%3A%2F%2Fvk.com%2Fid216868222&amp;bvm=bv.148073327,d.bGg&amp;psig=AFQjCNECw0VX7BfMbGnNGRAYxxGMeQErDg&amp;ust=14880908657617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-алгоритм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s://www.google.ru/url?sa=i&amp;rct=j&amp;q=&amp;esrc=s&amp;source=images&amp;cd=&amp;cad=rja&amp;uact=8&amp;ved=0ahUKEwiGpYyQ16rSAhVkOJoKHZrtBaIQjRwIBw&amp;url=http%3A%2F%2Ffestival.1september.ru%2Farticles%2F592542%2F&amp;psig=AFQjCNHK2emXeGSpP7XpKZFUQ1i1JU-rbg&amp;ust=1488092594922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ы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s://klub-drug.ru/shkolniki/kartinki-shkola-animacii-knigi-shkolny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554040" y="0"/>
            <a:ext cx="8650440" cy="192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4b3b"/>
                </a:solidFill>
                <a:latin typeface="Arial"/>
              </a:rPr>
              <a:t>Сегодн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1857240"/>
          <a:ext cx="8381880" cy="496908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54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695008"/>
                          </a:solidFill>
                          <a:uFillTx/>
                          <a:latin typeface="Arial"/>
                        </a:rPr>
                        <a:t>Учебные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Анализировать…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Вычисля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бъясня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бобща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писыва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существля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Повторя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тработ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695008"/>
                          </a:solidFill>
                          <a:uFillTx/>
                          <a:latin typeface="Arial"/>
                        </a:rPr>
                        <a:t>Познава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познав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Характеризов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Выясня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Использов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Владе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3, -25, -18, -5, -9, -43, 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, 6, 9, 41, 29, 63,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5832360" cy="8384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6072120" y="142920"/>
            <a:ext cx="3071880" cy="1500120"/>
          </a:xfrm>
          <a:prstGeom prst="cloudCallout">
            <a:avLst>
              <a:gd name="adj1" fmla="val -59888"/>
              <a:gd name="adj2" fmla="val 33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13" descr=""/>
          <p:cNvPicPr/>
          <p:nvPr/>
        </p:nvPicPr>
        <p:blipFill>
          <a:blip r:embed="rId2"/>
          <a:stretch/>
        </p:blipFill>
        <p:spPr>
          <a:xfrm>
            <a:off x="6242040" y="542880"/>
            <a:ext cx="2371680" cy="103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I:\Конкурс\Новое изображение.GIF"/>
          <p:cNvPicPr/>
          <p:nvPr/>
        </p:nvPicPr>
        <p:blipFill>
          <a:blip r:embed="rId3"/>
          <a:stretch/>
        </p:blipFill>
        <p:spPr>
          <a:xfrm>
            <a:off x="5651640" y="4076640"/>
            <a:ext cx="27144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974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380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«подумай лучше»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Критерии оценива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,7 - 4,8=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5,2 - 4,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5,6 - (- 3,6)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1,1 + 1,1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«подумай хорошо»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0,3 * 0,6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0,08 * 1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 * 0,01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 * 0,3 + 2 * 0,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аллы за все правильные ответы суммируют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2444760" y="1816200"/>
            <a:ext cx="901800" cy="6458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3"/>
          <a:stretch/>
        </p:blipFill>
        <p:spPr>
          <a:xfrm>
            <a:off x="2212920" y="2212920"/>
            <a:ext cx="121284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4"/>
          <a:stretch/>
        </p:blipFill>
        <p:spPr>
          <a:xfrm>
            <a:off x="2633760" y="2603520"/>
            <a:ext cx="71280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5"/>
          <a:stretch/>
        </p:blipFill>
        <p:spPr>
          <a:xfrm>
            <a:off x="2425680" y="2955960"/>
            <a:ext cx="54288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7" descr=""/>
          <p:cNvPicPr/>
          <p:nvPr/>
        </p:nvPicPr>
        <p:blipFill>
          <a:blip r:embed="rId6"/>
          <a:stretch/>
        </p:blipFill>
        <p:spPr>
          <a:xfrm>
            <a:off x="2305080" y="3743280"/>
            <a:ext cx="96840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8" descr=""/>
          <p:cNvPicPr/>
          <p:nvPr/>
        </p:nvPicPr>
        <p:blipFill>
          <a:blip r:embed="rId7"/>
          <a:stretch/>
        </p:blipFill>
        <p:spPr>
          <a:xfrm>
            <a:off x="2494080" y="4102200"/>
            <a:ext cx="925560" cy="645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9" descr=""/>
          <p:cNvPicPr/>
          <p:nvPr/>
        </p:nvPicPr>
        <p:blipFill>
          <a:blip r:embed="rId8"/>
          <a:stretch/>
        </p:blipFill>
        <p:spPr>
          <a:xfrm>
            <a:off x="2309760" y="45291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0" descr=""/>
          <p:cNvPicPr/>
          <p:nvPr/>
        </p:nvPicPr>
        <p:blipFill>
          <a:blip r:embed="rId9"/>
          <a:stretch/>
        </p:blipFill>
        <p:spPr>
          <a:xfrm>
            <a:off x="3260880" y="4889520"/>
            <a:ext cx="542880" cy="646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1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643200" y="2000160"/>
            <a:ext cx="3357720" cy="1285920"/>
          </a:xfrm>
          <a:prstGeom prst="cloudCallout">
            <a:avLst>
              <a:gd name="adj1" fmla="val -60425"/>
              <a:gd name="adj2" fmla="val 4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13" descr=""/>
          <p:cNvPicPr/>
          <p:nvPr/>
        </p:nvPicPr>
        <p:blipFill>
          <a:blip r:embed="rId10"/>
          <a:stretch/>
        </p:blipFill>
        <p:spPr>
          <a:xfrm>
            <a:off x="3932280" y="2114640"/>
            <a:ext cx="2639880" cy="10303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4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3857760" y="3929040"/>
            <a:ext cx="32702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429080" y="3500280"/>
            <a:ext cx="3714840" cy="1785960"/>
          </a:xfrm>
          <a:prstGeom prst="cloudCallout">
            <a:avLst>
              <a:gd name="adj1" fmla="val -63217"/>
              <a:gd name="adj2" fmla="val 37199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9" descr=""/>
          <p:cNvPicPr/>
          <p:nvPr/>
        </p:nvPicPr>
        <p:blipFill>
          <a:blip r:embed="rId11"/>
          <a:stretch/>
        </p:blipFill>
        <p:spPr>
          <a:xfrm>
            <a:off x="5029200" y="4048200"/>
            <a:ext cx="23716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016000" y="2967120"/>
            <a:ext cx="3699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016000" y="500040"/>
            <a:ext cx="18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2016000" y="3286080"/>
            <a:ext cx="511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9749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Уильям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193356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Похожее изображение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4" descr="E:\ЗАМАНОВА ДОК\Заманова Е.В\документы по ЭД\конкурс ЦИДО\10-11\Пичугина И.А\схема 1.png"/>
          <p:cNvPicPr/>
          <p:nvPr/>
        </p:nvPicPr>
        <p:blipFill>
          <a:blip r:embed="rId1"/>
          <a:stretch/>
        </p:blipFill>
        <p:spPr>
          <a:xfrm>
            <a:off x="0" y="189000"/>
            <a:ext cx="8929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747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авила умножения можно истолковать и так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руг моего друга – мой друг»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· + =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раг моего врага – мой друг»: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· -  =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руг моего врага – мой враг»: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 · -  =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раг моего друга – мой враг»: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· +  =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19749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7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2·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·(-1,5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3·(-5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2·(-6)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·(-4)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6·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5638680" y="1554120"/>
            <a:ext cx="1219320" cy="9637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3"/>
          <a:stretch/>
        </p:blipFill>
        <p:spPr>
          <a:xfrm>
            <a:off x="6566040" y="233532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4"/>
          <a:stretch/>
        </p:blipFill>
        <p:spPr>
          <a:xfrm>
            <a:off x="6175440" y="3121200"/>
            <a:ext cx="1292040" cy="9633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7" descr=""/>
          <p:cNvPicPr/>
          <p:nvPr/>
        </p:nvPicPr>
        <p:blipFill>
          <a:blip r:embed="rId5"/>
          <a:stretch/>
        </p:blipFill>
        <p:spPr>
          <a:xfrm>
            <a:off x="6516720" y="3949560"/>
            <a:ext cx="1066680" cy="9572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8" descr=""/>
          <p:cNvPicPr/>
          <p:nvPr/>
        </p:nvPicPr>
        <p:blipFill>
          <a:blip r:embed="rId6"/>
          <a:stretch/>
        </p:blipFill>
        <p:spPr>
          <a:xfrm>
            <a:off x="6437160" y="4784760"/>
            <a:ext cx="121932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9" descr=""/>
          <p:cNvPicPr/>
          <p:nvPr/>
        </p:nvPicPr>
        <p:blipFill>
          <a:blip r:embed="rId7"/>
          <a:stretch/>
        </p:blipFill>
        <p:spPr>
          <a:xfrm>
            <a:off x="6022800" y="5546880"/>
            <a:ext cx="1219320" cy="96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Картинки по запросу Анимации на тему школа."/>
          <p:cNvPicPr/>
          <p:nvPr/>
        </p:nvPicPr>
        <p:blipFill>
          <a:blip r:embed="rId8"/>
          <a:stretch/>
        </p:blipFill>
        <p:spPr>
          <a:xfrm>
            <a:off x="762120" y="2666880"/>
            <a:ext cx="35049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Matematika</cp:lastModifiedBy>
  <dcterms:modified xsi:type="dcterms:W3CDTF">2023-04-06T09:10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