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66E-4A2C-4588-853A-D9B3EF97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C6E-835A-4AA7-83C8-3C32F2AD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1B5-B636-4D4C-90F9-3A34E6E5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D6C-4EE2-42D0-81A4-106342D5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7DA0-49DD-436B-B29F-F852C7D0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38B1-133C-4D6D-9932-4B1F812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0664-189F-4CA8-B58F-0560A98B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59A2-568E-42F5-855A-789E6D73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2B14-C6DA-4CB7-8DEB-68DB925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4A65-32EA-4AE9-9F8B-6180AA0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46A5-15EF-4F1D-8EB0-DAEE2D2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7FA-5134-4280-829E-3564625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D2FB-41F6-45F0-BA68-5281239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C305-BF45-4EA9-8A27-30047AD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4B90-BC60-4B4C-9760-E58BD0C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C53A-29B0-4232-8891-AE4B65EE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41C5-4C56-4B81-BB43-7261BDFC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1FF6-66CB-4801-9BB5-F9BE8D05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8E6D-167C-40A3-8DEA-48325D8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C783-1EDB-47A7-8AE8-E4D03DE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8B57-833C-4A13-B392-D2FB5D9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9382-CF87-48FF-831B-BAF93E0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DD0-B8DF-491D-AA04-3CAEA86E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FC55-4881-4A01-9C98-5FC1078C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85AC-6D5F-43C0-8BA3-123A51F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66D6-2EEF-4449-BA2C-2ABE4B2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0D87-A164-4B91-A600-70306285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FBE0-F85D-4F92-B0D4-7FAD1954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F83F-4559-4000-A955-0749F36B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CE4F-DADE-4945-86CB-B2282C65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4289-8F5A-4CE6-9AF5-7148C186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1B68-DB9B-4A0E-A223-ED0E7EF4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5DE6-C4E1-4156-9F65-AAA24E4D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07F-3D52-4412-B929-F31CF38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5230-DDCF-4625-A008-2429BF70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0FB3-FB6C-4C29-B7C8-C462ED4C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E966-0BB9-4A13-85AA-3CF4D96C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F178-DC2B-48CB-90EC-FBECCBA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968D-1DCE-4DEC-99D7-E235417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4A73-72C0-4F7D-ABA1-16CE39BF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4AD90-BE2D-4202-9D37-04CBD855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4F0B-4D12-4769-98F8-20331321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7EF4-CE5E-4AF2-8994-EC6B60AE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7EAA8-21B4-4897-80F9-3ABA1FE5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F77-7EC0-487E-8E39-2C078E8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8CC9E-CA1D-426B-82B9-8CC1210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8444D-FE42-4A77-8C79-8508CC8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19B80-EA09-49A0-8250-575DD03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A4C3B-9B11-496C-8730-41F2FEF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7E8D0-3FC2-469A-8E20-404AB0B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F502B-31F0-4F9E-92C8-11CF45CB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C3AA4-CE4B-48A0-99CF-1B6488A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D1CAC-2235-4F6B-B4D1-B735227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236B2-5313-42C4-8A18-30753665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7040B-21C7-4EB6-8834-25E71C9E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8E7-CDC4-4F1C-A7FE-45C916AC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940D1-53CE-4FF1-BCE9-65E8C366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27E80-297F-4AD8-8315-C85605DC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A793-70FC-4B08-9CF0-5FD0107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D91A3-E9CC-467A-82F0-8622171F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6FD90-FEB8-4132-90BB-CD772E78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8737-A752-4E3E-949F-9F5DA5B3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ADD4-2982-4F6B-A3FA-4F599E9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F597-6E04-4BE6-B64F-7282093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E802E-B2D7-49C7-AE23-88D0F5A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718B-70B5-471B-A999-FE2DBD7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45C-24D0-4A22-84B0-D2BAA77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9236-C2BC-43AE-8595-B261D483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81DB-E1FB-4FA3-9E51-40F2FA81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2C55-F491-461A-81B2-02783C87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76B-B8A0-493D-AC6D-69491352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423-7BE2-4FC6-8F62-EA3E8F1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DB8-AA92-4C11-9DC5-31242506AF5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B1B8-1FF6-48DB-81F5-A54BED8DDD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A79E-3D33-40A4-878F-60E774D8D12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1AA-0547-4A1B-AE54-4659693E72F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8AB4-3677-4756-9FC6-A3E723908F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7EE7-7980-42F6-8245-805095866B2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73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КУ «Центр социальной помощи семье и детям Асиновского райо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Возрастные кризис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Заголовок 3"/>
          <p:cNvSpPr/>
          <p:nvPr/>
        </p:nvSpPr>
        <p:spPr>
          <a:xfrm>
            <a:off x="380880" y="2971800"/>
            <a:ext cx="8534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одзаголовок 4"/>
          <p:cNvSpPr/>
          <p:nvPr/>
        </p:nvSpPr>
        <p:spPr>
          <a:xfrm>
            <a:off x="5353200" y="4267080"/>
            <a:ext cx="4114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ина Елена Валерьев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мните!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ризис носит временный характер и когда-нибудь обязательно закончи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3"/>
          <p:cNvSpPr/>
          <p:nvPr/>
        </p:nvSpPr>
        <p:spPr>
          <a:xfrm>
            <a:off x="380880" y="2971800"/>
            <a:ext cx="8534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одзаголовок 4"/>
          <p:cNvSpPr/>
          <p:nvPr/>
        </p:nvSpPr>
        <p:spPr>
          <a:xfrm>
            <a:off x="228600" y="380880"/>
            <a:ext cx="853452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ознакомление родителей с особенностями протекания возрастных кризи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ть родителям общее представление о протекании возрастных кризисов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учить родителей приемам конструктивного общения с детьми с учетом их возраст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ая группа: кандидаты в замещающие родители, которые посещают занятия в Школе приемного р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87120" y="1291680"/>
            <a:ext cx="7550640" cy="14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Кризисы детства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растной кризис 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еотъемлемая часть успешного развития ребен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бычно кризисы длятся не очень долго (до нескольких месяцев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ак понять, что наступил кризис?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едение ребенка резко меняется - бурные проявления характера, упрямства. Ребенок как бы выходит из под контроля взрослых, трудно поддается влиянию на него, те способы воспитания, которые раньше действовали, перестают вдруг рабо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-800280"/>
            <a:ext cx="784872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одного год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кий всплеск самостоятель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пытка манипулировать родител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иление привязанности к матер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ксимально обезопасить ребен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ся переключать внимание ребенка с опасного объек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возмутимое спокойствие и терп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-800280"/>
            <a:ext cx="784872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трех л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гативиз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прямств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роптиво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евол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тест-бун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есценива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спотиз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бегание авторитарного стиля и гиперопе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диная тактика воспитания в семь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вместный поиск компромиссных реш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ребенка навыкам общ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ощрение самостоятельности ребен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ъяснение правил поведения ребенку в доступной форм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-800280"/>
            <a:ext cx="784872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семи л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томляемость, раздражительнос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ривлянье и манерничань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грессивность, либо излишняя застенчивост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бенок очень хочет быть похожим на взрослых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ребенок уже ходит в школу, то его успеваемость неожиданно снижаетс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рой появляются страхи, повышается тревожность и неуверенность в себ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1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Не вмешивайтесь в дело, которым занят ребенок, если он не просит о помощи. Своим невмешательством вы будете сообщать ему: "С тобой все в порядке! Ты, конечно, справишься!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2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Постепенно, но неуклонно снимайте с себя заботу и ответственность за личные дела вашего ребенка и передавайте их ем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3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Позволяйте вашему ребенку почувствовать отрицательные последствия своих действий (или своего бездействия). Только тогда он будет взрослеть и становиться "сознательным"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-9144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изис подросткового возраст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Comic Sans MS"/>
              </a:rPr>
              <a:t>Признаки: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овышенное стремление к общению со сверстниками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Стремление утвердить свою самостоятельность, независимость и автономию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b800"/>
                </a:solidFill>
                <a:latin typeface="Comic Sans MS"/>
              </a:rPr>
              <a:t>Советы родителям: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Компромисс – один из выходов в конфликтной ситуации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ребования в семье должны быть едиными для всех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ринятие подростка на равных с взрослым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омощь своему ребенку в управлении эмоциями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Интерес к увлечениям ребенк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Поощрение и поддержка подростк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Сравнение своего ребенка со сверстниками недопустимо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Выслушивание подрост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04-06T08:36:4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