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647-6F2E-4FAF-876E-3427782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738-27E8-43DF-940D-5267C5E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ACB-3108-40BA-85D4-C11BF50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1CD-3C99-40AA-B716-3937249C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2CA7-552B-48C7-A61F-7CF50264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974F-4723-4A44-BDE7-B40334E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3724-7653-4DD8-A6A3-C544CE4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3044-9ED8-43A5-9438-5B763549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73D-69EB-49B7-B13E-EB59C09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49F-17E3-4985-89E8-41C2BFA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47A2-31E2-447F-BFD2-57AA4A1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48D-ACC0-44CA-BB62-C63FB27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249-5F17-406F-B87B-4420508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936-EFCC-4EC2-849F-0AC020D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96B1-5BDB-4EF2-AEC6-051629A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CCD8-4B34-4EE1-A93E-3FD1893B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123C-99AC-4390-B173-9D6C27AC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0C2D-FC58-47DA-821E-EC8DF24D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21A0-638D-4B17-8821-67FB1150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D939-D88E-4732-8461-68C7BD3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B329-7357-4750-8380-07FE6950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0476-F51B-4C90-B9AF-9F508E6E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19C-C5AF-412C-A9E1-1E0AEDA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3D0C-8914-4FEB-A929-4C8D6B28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FAE9-194D-4DB3-9BDD-7ACAB70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BA15-0B73-4622-A023-FA62975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9FED-80B7-4402-967C-2CFC71A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EFF5C-C2C3-43C5-8EDB-B59C8AC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A8A8-9157-4592-BAA0-65749759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B680-A4AD-45BA-BEB5-CECD862B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B9D6-3D67-4785-8F11-CC9D7CBB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9B5F-C923-49DE-83B5-FAB1893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FC62-AD0C-4FE5-9CEE-0193176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CF8-4201-4182-BF68-6B1A237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9984-AB4C-4EFC-B466-0D27C3F5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8094-7987-45DE-81D7-B17F8C9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719C-66D9-45F0-8738-1BE0C616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B053-E3E7-42BA-952B-5E7C5C2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F41B-BFD3-460E-833C-88E5FA9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1A29-65B5-4EDB-AAF2-6CAB1FE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3F8C-9FC0-43BC-8F3B-E1C80D1E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7B37-C62A-40D8-9C03-B1E2A47B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67B8-26C2-43EF-8E47-BE07A6E4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ED794-1609-4868-9757-F4600802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606-2C02-4FB6-B2E0-B88C861D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FFBBB-7AAE-4F0B-A484-3FDC1E1E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2909E-009B-49CF-8D40-A728D1FF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9016F-F912-40F8-9891-D4DBC6E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CCFB3-5413-4C71-A789-A297A1A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1EBC5-108D-46EF-ADF0-28C8DEC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F0912-326A-469E-BEF1-9085B52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8255-2F4E-4870-8317-766D7F1D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7AA6D-A60A-4B66-93E3-43237B4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1A993-4E7A-4497-9DF5-E87BB5A5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D5F6B-1725-4FD5-9914-BE44C5D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FF4-DF55-4745-919F-9EC1090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CD71E-FF01-4C8C-9FF5-834B0240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FAD4A-4AC1-4319-9779-15D6B071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F1C5-F036-4CBF-A7B5-5128811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55CE-8BDA-4397-9088-984C676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65C3-293B-45B6-B970-456F2A5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90B1-023E-4376-B8F0-F9B6E4E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E2AB-181F-4C0A-B5E0-255D19F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EF8A3-E0EE-43CC-93CD-93CC44A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8017-58B8-41EC-A2F6-7210C80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9B0E-A2BE-4D9A-8D85-8565440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010-E939-4C25-9F6D-6A117B2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75162-2398-4D44-B21A-81F0E9A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E6A9-4906-41BC-A3CF-02575C6B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FCE3-17D0-47A7-97A8-4903B9CD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C8C-CA80-4D06-9B9A-BB3A426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7EA-8C99-4C8F-9FEC-B6182F4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554-179D-4F4D-A9BA-54B67FEB5C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3CA2-CD14-467F-A5B0-CCD671F2E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4618-D27A-4866-B1BC-9F55AB6640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035-3BB5-4466-A3B1-A1AF766B659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78D-C916-4C99-A672-0586C97C8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550-6209-4AB6-9049-94E80C6969E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73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КУ «Центр социальной помощи семье и детям Асиновского райо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Возрастные кризис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Заголовок 3"/>
          <p:cNvSpPr/>
          <p:nvPr/>
        </p:nvSpPr>
        <p:spPr>
          <a:xfrm>
            <a:off x="380880" y="2971800"/>
            <a:ext cx="8534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одзаголовок 4"/>
          <p:cNvSpPr/>
          <p:nvPr/>
        </p:nvSpPr>
        <p:spPr>
          <a:xfrm>
            <a:off x="5353200" y="4267080"/>
            <a:ext cx="4114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ина Елена Валерьев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изис носит временный характер и когда-нибудь обязательно закончи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3"/>
          <p:cNvSpPr/>
          <p:nvPr/>
        </p:nvSpPr>
        <p:spPr>
          <a:xfrm>
            <a:off x="380880" y="2971800"/>
            <a:ext cx="8534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дзаголовок 4"/>
          <p:cNvSpPr/>
          <p:nvPr/>
        </p:nvSpPr>
        <p:spPr>
          <a:xfrm>
            <a:off x="228600" y="380880"/>
            <a:ext cx="853452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знакомление родителей с особенностями протекания возрастных кризи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родителям общее представление о протекании возрастных кризисов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ить родителей приемам конструктивного общения с детьми с учетом их возраст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группа: кандидаты в замещающие родители, которые посещают занятия в Школе приемного р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87120" y="1291680"/>
            <a:ext cx="7550640" cy="14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Кризисы детства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растной кризис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еотъемлемая часть успешного развития ребен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бычно кризисы длятся не очень долго (до нескольких месяцев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 понять, что наступил кризис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едение ребенка резко меняется - бурные проявления характера, упрямства. Ребенок как бы выходит из под контроля взрослых, трудно поддается влиянию на него, те способы воспитания, которые раньше действовали, перестают вдруг рабо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одного год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кий всплеск самостоятель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ытка манипулировать родител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иление привязанности к мате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ксимально обезопасить ребе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ся переключать внимание ребенка с опасного объек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возмутимое спокойствие и терп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трех 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гативиз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прямств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роптив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евол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тест-бун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есцени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спотиз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бегание авторитарного стиля и гиперопе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диная тактика воспитания в семь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вместный поиск компромиссных реш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ребенка навыкам общ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ощрение самостоятельности ребен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ъяснение правил поведения ребенку в доступной форм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семи 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томляемость, раздражительнос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ривлянье и манерничань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грессивность, либо излишняя застенчивост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бенок очень хочет быть похожим на взрослы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ребенок уже ходит в школу, то его успеваемость неожиданно снижаетс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рой появляются страхи, повышается тревожность и неуверенность в себ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1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Не вмешивайтесь в дело, которым занят ребенок, если он не просит о помощи. Своим невмешательством вы будете сообщать ему: "С тобой все в порядке! Ты, конечно, справишься!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остепенно, но неуклонно снимайте с себя заботу и ответственность за личные дела вашего ребенка и передавайте их ем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3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озволяйте вашему ребенку почувствовать отрицательные последствия своих действий (или своего бездействия). Только тогда он будет взрослеть и становиться "сознательным"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-9144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подросткового возраст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вышенное стремление к общению со сверстникам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Стремление утвердить свою самостоятельность, независимость и автономию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Компромисс – один из выходов в конфликтной ситуаци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ребования в семье должны быть едиными для всех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ринятие подростка на равных с взрослым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мощь своему ребенку в управлении эмоциям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Интерес к увлечениям ребенк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ощрение и поддержка подростк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Сравнение своего ребенка со сверстниками недопустимо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ыслушивание подрост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4-06T08:36:4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