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drumroll.wav" ContentType="audio/x-wav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674-AF7C-48DF-9238-FCD2FEBB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D57-F6A0-4C25-8B10-4E6C9D0C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EE4-F83D-435B-B941-637F6ACC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778-D45E-4467-A7C1-C350B4D8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CB43-6F44-4F72-B36C-DA1E1F61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08ED-CDC4-4C45-A228-B5F1D24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6304-1FFD-43F2-93A6-5C144842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7266-5B9C-4C5C-89FE-A7A0F2DC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2A6C-A71C-4032-995F-1B681B41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C6B6-24CD-4DE8-BD6B-7A91E1A0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C99E-3FD1-4B40-9DC6-79B63F87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B9D-E7B3-494F-8C49-85260386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758E-45B8-414C-8EEE-DBB8F31C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E51C-10CD-41C1-A30C-2F1C3287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50C6-0CFA-4657-8A3A-FC284C63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AA53-6153-4185-ADF2-12C7895B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BC3D-6223-47F6-A583-47604238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A6445-17C3-4B08-8795-57D8F873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B430F-9B92-4B1F-9CB0-1C70B78A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FF980-CDA0-4CF1-8CBB-BFF3F7C6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10B96-11B4-4F32-8ACD-625749A0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A29E1-80E7-4067-ACA0-D9B60D38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EF1-3ECD-4BA4-8ED7-2726ED60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095D2-E83D-48D4-9399-DDE8CC76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A10AC-E5D0-49FB-958F-43198E2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24CDA-79B0-42B0-B25C-7439EBCF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6B752-CB91-42D4-A51E-782E1041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231B5-B8BA-4843-854E-ED484820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B140B-71A1-4942-A744-3DAA8B6E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93D3C-9793-492F-B8DB-E62F18FB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59493-9DBF-488B-8ABE-DD0A1293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55488-1E30-4490-AEF3-5F457597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90120-BA2D-4BC8-8B6F-D484BC16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A59-22F6-4E40-A1FC-6D0FCA1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BB249-C452-44C6-8648-E1512D7B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100EA-C63D-4509-8335-BBC9A826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8E223-0ED2-45DB-A1AB-080CF592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76CE7-3287-469F-8DED-C699790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2E0E9-63DE-4D4F-ABAD-D0C47E8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C0A80-CB85-483B-A60C-192B4C87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C7C11-5E59-4860-8D34-F92315DD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76FBA-1D90-46D9-AE5D-C8BCB6EF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C7BE2-6BFF-4EEE-A68D-436E0081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92F-BF03-4EB3-9795-E3DDFD73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064-8E83-4E4B-BD19-56619FCA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8A5-6A92-45EE-84E0-5FE9E1F5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E80-225C-4B10-9B85-F7D5099E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DAB-14AD-45FF-A165-0B3EFD8D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BDE3-3FFF-4B51-9141-9E24CAA06F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3B39-F056-40DB-8656-CC11A4AFCE2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7400-56FF-4E51-94B2-70500E97C3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F41F-9E9F-4EF9-B669-931FBA66ADA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ru-RU" sz="8800" spc="-1" strike="noStrike">
                <a:solidFill>
                  <a:srgbClr val="e3e3ff"/>
                </a:solidFill>
                <a:latin typeface="comic"/>
              </a:rPr>
              <a:t>Знатоки</a:t>
            </a:r>
            <a:r>
              <a:rPr b="0" lang="en-US" sz="8800" spc="-1" strike="noStrike">
                <a:solidFill>
                  <a:srgbClr val="e3e3ff"/>
                </a:solidFill>
                <a:latin typeface="comic"/>
              </a:rPr>
              <a:t>       </a:t>
            </a:r>
            <a:r>
              <a:rPr b="0" lang="ru-RU" sz="8800" spc="-1" strike="noStrike">
                <a:solidFill>
                  <a:srgbClr val="e3e3ff"/>
                </a:solidFill>
                <a:latin typeface="comic"/>
              </a:rPr>
              <a:t>  географии 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4" descr="глобус"/>
          <p:cNvPicPr/>
          <p:nvPr/>
        </p:nvPicPr>
        <p:blipFill>
          <a:blip r:embed="rId1"/>
          <a:stretch/>
        </p:blipFill>
        <p:spPr>
          <a:xfrm>
            <a:off x="7050240" y="4457880"/>
            <a:ext cx="1463400" cy="1800000"/>
          </a:xfrm>
          <a:prstGeom prst="rect">
            <a:avLst/>
          </a:prstGeom>
          <a:ln w="0">
            <a:noFill/>
          </a:ln>
        </p:spPr>
      </p:pic>
      <p:pic>
        <p:nvPicPr>
          <p:cNvPr id="247" name="09 Дорожка 9.wma" descr=""/>
          <p:cNvPicPr/>
          <p:nvPr/>
        </p:nvPicPr>
        <p:blipFill>
          <a:blip r:embed="rId2"/>
          <a:stretch/>
        </p:blipFill>
        <p:spPr>
          <a:xfrm>
            <a:off x="946800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066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8.  По  какому  материку протекает  река  Оранжевая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1. Австралия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2. Африка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3. Евразия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4. Южная  Амер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16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9.  Назвать день равноденстви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1. 21 март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2. 22 декабр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22 июн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 21 сентябр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1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6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0.  Кто создал первый в мире глобус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1. Аристотель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2. Эратосфе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3. М. Бехайм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Пифаго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916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49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1.  Какого  цветного  моря  не  существует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Черн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Красн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Оранжевог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Белог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992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2.  Самая длинная река в мир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1. Амазон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Нил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3. Волг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4. Миссисип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91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3.   В  какой  части  атмосферы  находится  озоновый  слой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Тропосфер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тратосфер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Мезосфер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Ионосф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916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4.   Самая большая планета Солнечной системы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1. Юпитер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2. Сатур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Непту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ен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916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5.  Самая длинная горная цепь суш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1. Кордильеры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Кавказ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Гималаи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н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16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6.  На каком материке обитает самая маленькая птица в мир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Еврази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 2. Сев. Амери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3. Юж. Амери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встралия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916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7.  Назвать самый широкий пролив в мир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1. Берингов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Магелланов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Дрей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Лаперу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916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77840" y="522000"/>
            <a:ext cx="7024680" cy="47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3e3ff"/>
                </a:solidFill>
                <a:latin typeface="Arial"/>
              </a:rPr>
              <a:t>ПЕРВЫЙ  ТУР</a:t>
            </a:r>
            <a:endParaRPr b="0" lang="en-US" sz="5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075520" cy="563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8. Причиной  какого  природного  явления служит подводное  землетрясение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Цунами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Тайфун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Торнад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Смерч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992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9.  Самая сухая пустыня в мире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1. Нами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ахар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Атакам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4. Виктор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916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0. Какое  морское  течение  является  холодным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Куроси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Гольфстрим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Гвинейское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Канарск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16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21. Самое маленькое по площади государство в мире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9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атик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9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нгапу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9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на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9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ру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383760"/>
            <a:ext cx="7010280" cy="57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1.Как  называется  самая  высокая  вершина  на  земном  шаре?</a:t>
            </a: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1. Килиманджаро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Эльбрус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3. Аконкагуа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4. Джомолунгм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745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3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В каком океане находится Марианский желоб?</a:t>
            </a: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006600"/>
                </a:solidFill>
                <a:latin typeface="Arial"/>
              </a:rPr>
              <a:t>1. Тихий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Атлантический</a:t>
            </a:r>
            <a:br>
              <a:rPr sz="4100"/>
            </a:b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3. Индийский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4. Южный</a:t>
            </a:r>
            <a:endParaRPr b="0" lang="en-US" sz="41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745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651960"/>
            <a:ext cx="8532720" cy="551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Самое высокое дерево в мире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Эвкалипт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Секво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Баоба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Гевея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4745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63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Какого  происхождения  Гавайские  острова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Материков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Вулканическог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Кораллов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Искусственног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745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362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 Кто  совершил  первое  кругосветное  путешестви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Х.  Колум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Ф.  Магеллан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Д.  Кук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.  Берин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745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358920"/>
            <a:ext cx="7010280" cy="58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Как  называется  самая  высокая  вершина  на  земном  шаре?</a:t>
            </a: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1. Килиманджаро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Эльбрус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3. Аконкагуа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4. Джомолунгма</a:t>
            </a:r>
            <a:endParaRPr b="0" lang="en-US" sz="41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6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6. «Эму» - это  название…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Верблюд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Страус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Слон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Попуга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4745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7. Назвать самый большой остров в мире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1. Калиманта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Исланди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Гренландия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встрал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4745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6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8. По  какому  материку протекает  река  Оранжевая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1. Австралия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2. Африка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3. Евразия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4. Южная  Амер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4745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7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9. Назвать день равноденстви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1. 21 март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2. 22 декабр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22 июн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 21 сентябр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4745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6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0. Кто создал первый в мире глобус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1. Аристотель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Эратосфе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М. Бехайм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Пифаго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4745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362800" cy="549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1. Какого  цветного  моря  не  существует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Черн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Красн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Оранжевог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Белог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4745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2. Самая длинная река в мир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1. Амазонка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Нил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3. Волг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4. Миссисип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4745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8000" y="456840"/>
            <a:ext cx="8578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3.В  какой  части  атмосферы  находится  озоновый  слой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Тропосфер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2. Стратосфер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Мезосфер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Ионосф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745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56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4.Самая большая планета Солнечной системы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1. Юпитер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атур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3. Непту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ен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4745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9152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5.Самая длинная горная цепь суш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1. Кордильеры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Кавказ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Гималаи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4. Ан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4745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56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2.  В каком океане находится Марианский желоб?</a:t>
            </a: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1. Тихий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              2. Атлантический</a:t>
            </a:r>
            <a:br>
              <a:rPr sz="4100"/>
            </a:b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3. Индийский</a:t>
            </a:r>
            <a:br>
              <a:rPr sz="4100"/>
            </a:br>
            <a:r>
              <a:rPr b="0" lang="en-US" sz="41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e3e3ff"/>
                </a:solidFill>
                <a:latin typeface="Arial"/>
              </a:rPr>
              <a:t>4. Южный</a:t>
            </a:r>
            <a:endParaRPr b="0" lang="en-US" sz="41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2" name="drumroll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92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6. На каком материке  обитает самая маленькая птица в мир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Еврази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 2. Сев. Амери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Юж. Америка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встралия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4745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7. Назвать самый широкий пролив в мир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1. Берингов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Магелланов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Дрей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Лаперу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4745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549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8. Причиной  какого  природного  явления служит подводное  землетрясение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1. Цунами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Тайфун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Торнад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Смерч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4745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50752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9.Самая сухая пустыня в мире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1. Нами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ахар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3. Атакама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иктор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4745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0.Какое  морское  течение  является  холодным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Куроси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Гольфстрим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Гвинейское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4. Канарск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4745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1. Самое маленькое по площади государство в мир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                                   </a:t>
            </a: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1. Ватик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Сингапу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Мона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 Брун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57600" y="22824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Bauhaus 93"/>
              </a:rPr>
              <a:t>ФИНА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Атм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Гидр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Би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0560" y="1600200"/>
            <a:ext cx="402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Литосф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Страны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651960"/>
            <a:ext cx="8532720" cy="551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Самое высокое дерево в мире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1. Эвкалипт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Секвоя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Баоба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Гевея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56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 Какого  происхождения  Гавайские  острова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Материков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Вулканического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Кораллового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Искусственног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92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390240"/>
            <a:ext cx="7010280" cy="575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  Кто  совершил  первое  кругосветное  путешестви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Х.  Колумб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Ф.  Магеллан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Д.  Кук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В.  Берин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16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27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6.  «Эму» - это  название…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Верблюд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Страуса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 Слон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Попуга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992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7.  Назвать самый большой остров в мире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 Калимантан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. Исландия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3. Гренландия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4. Австрал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16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8:49:12Z</dcterms:created>
  <dc:creator> Admin</dc:creator>
  <dc:description/>
  <dc:language>en-US</dc:language>
  <cp:lastModifiedBy>user user</cp:lastModifiedBy>
  <dcterms:modified xsi:type="dcterms:W3CDTF">2023-01-09T15:32:20Z</dcterms:modified>
  <cp:revision>87</cp:revision>
  <dc:subject/>
  <dc:title>Слайд 1</dc:title>
</cp:coreProperties>
</file>