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drumroll.wav" ContentType="audio/x-wav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61E-AE3A-4247-96FC-933CDA59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569-A3B4-491F-8415-216AFFE3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66C-1F3F-46B0-B216-B927A3B5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F2B-EC98-4236-BAA2-3929BEA5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D524-D5A8-4BBE-92DC-B3045A02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1B35-C85A-44A1-B286-E9E6214C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67C2-E345-47A3-844F-EFE19298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8149-9BAA-4065-826B-2CC6D72C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DF71-F450-423A-B019-3579F86E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0073-E0D7-414C-9C9F-A5EAA983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81E2-0060-4B0E-9CFE-C173FA56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0B9-B081-4A5E-9BF3-84B691FC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31A4-D5C4-4088-9264-6572E4BD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CE30-14AD-4559-BC86-27127787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7621-A96D-496E-8463-97F1DD9E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17FA-09A2-42EF-A928-B4482AB2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7565-C944-4548-A841-145E5787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40315-DE80-4163-9ECF-87934187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C6478-BAEB-4404-AD7D-2E7092FC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9F216-561B-475F-83D7-C1150E86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E1790-2744-49F5-AB21-8B49C2E7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7D2FD-E67B-4977-8CD5-9D544EA9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ACF-7934-4378-9DF6-39B98C90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C93A0-622A-4D8C-BF67-E44F2BD6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FE5FD-EEE0-4673-81BB-84E1EDEC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421E9-E11E-41C7-BAB4-A2E84CD3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7C2E9-306B-41CB-B879-F7D09FFC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BF383-CEF5-48BF-B5E1-44E92A66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2190D-50B2-4857-BAFC-D4C64271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538E4-71E7-40B3-B4E4-0E6DF6AA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75C6F-6F39-4081-979E-E283AA4D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8C232-0589-4122-9005-D02F2C9C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DDC43-D767-45E6-9C47-7646141E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527-00FD-4D89-9094-0B6E0DA8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48291-B426-4C25-A35F-3FBE4FAC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3E90A-667A-444C-B414-2DE208E4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71D72-F6A4-4316-A96A-CA16FFAE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BDC0E-5630-426A-B178-080E3B88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F0E34-049B-46DC-A333-331BA824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5C23E-05EB-4D09-AF37-41EF61A3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746EB-8F44-4659-8544-06C03698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2F41E-A11F-499A-AE79-155F519E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9977E-1E08-43B2-B2A7-3C878E69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A18-5DB5-4C6D-90A9-CE2770BF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E7D-1080-407D-B9D8-6C7A24E9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C93-7453-4139-9C5B-464791C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729-7726-4BC2-B9D9-BE43B7F7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814-2005-4CAD-ABA1-E09CBDC0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F69F-E048-471C-8294-9264560648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73B3-3F25-45A4-9F33-F0CF76F1CF5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A27D-F742-4DA6-8F6A-1A94F607EE1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94A8-C685-427B-B6FB-931CEA54558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ru-RU" sz="8800" spc="-1" strike="noStrike">
                <a:solidFill>
                  <a:srgbClr val="e3e3ff"/>
                </a:solidFill>
                <a:latin typeface="comic"/>
              </a:rPr>
              <a:t>Знатоки</a:t>
            </a:r>
            <a:r>
              <a:rPr b="0" lang="en-US" sz="8800" spc="-1" strike="noStrike">
                <a:solidFill>
                  <a:srgbClr val="e3e3ff"/>
                </a:solidFill>
                <a:latin typeface="comic"/>
              </a:rPr>
              <a:t>       </a:t>
            </a:r>
            <a:r>
              <a:rPr b="0" lang="ru-RU" sz="8800" spc="-1" strike="noStrike">
                <a:solidFill>
                  <a:srgbClr val="e3e3ff"/>
                </a:solidFill>
                <a:latin typeface="comic"/>
              </a:rPr>
              <a:t>  географии 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4" descr="глобус"/>
          <p:cNvPicPr/>
          <p:nvPr/>
        </p:nvPicPr>
        <p:blipFill>
          <a:blip r:embed="rId1"/>
          <a:stretch/>
        </p:blipFill>
        <p:spPr>
          <a:xfrm>
            <a:off x="7050240" y="4457880"/>
            <a:ext cx="1463400" cy="1800000"/>
          </a:xfrm>
          <a:prstGeom prst="rect">
            <a:avLst/>
          </a:prstGeom>
          <a:ln w="0">
            <a:noFill/>
          </a:ln>
        </p:spPr>
      </p:pic>
      <p:pic>
        <p:nvPicPr>
          <p:cNvPr id="247" name="09 Дорожка 9.wma" descr=""/>
          <p:cNvPicPr/>
          <p:nvPr/>
        </p:nvPicPr>
        <p:blipFill>
          <a:blip r:embed="rId2"/>
          <a:stretch/>
        </p:blipFill>
        <p:spPr>
          <a:xfrm>
            <a:off x="946800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066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8.  По  какому  материку протекает  река  Оранжевая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1. Австралия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2. Африка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3. Евразия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4. Южная  Амер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16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9.  Назвать день равноденствия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1. 21 март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2. 22 декабря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22 июня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 21 сентябр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91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6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0.  Кто создал первый в мире глобус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1. Аристотель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2. Эратосфе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3. М. Бехайм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Пифагор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916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49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1.  Какого  цветного  моря  не  существует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Черн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Красн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Оранжевого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Белог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992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2.  Самая длинная река в мир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1. Амазон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Нил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3. Волг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  4. Миссисип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91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3.   В  какой  части  атмосферы  находится  озоновый  слой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Тропосфер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Стратосфер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Мезосфер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Ионосф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916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4.   Самая большая планета Солнечной системы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1. Юпитер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2. Сатур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Непту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Вен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916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5.  Самая длинная горная цепь суш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1. Кордильеры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Кавказ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Гималаи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Ан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16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6.  На каком материке обитает самая маленькая птица в мире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Евразия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   2. Сев. Амери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3. Юж. Амери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Австралия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916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7.  Назвать самый широкий пролив в мир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1. Берингов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Магелланов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Дрей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Лаперу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916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77840" y="522000"/>
            <a:ext cx="7024680" cy="47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3e3ff"/>
                </a:solidFill>
                <a:latin typeface="Arial"/>
              </a:rPr>
              <a:t>ПЕРВЫЙ  ТУР</a:t>
            </a:r>
            <a:endParaRPr b="0" lang="en-US" sz="5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075520" cy="563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8. Причиной  какого  природного  явления служит подводное  землетрясение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Цунами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Тайфун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Торнад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Смерч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992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9.  Самая сухая пустыня в мире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1. Намиб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Сахар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Атакам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4. Виктор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916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0. Какое  морское  течение  является  холодным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Куроси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Гольфстрим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Гвинейское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Канарско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916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21. Самое маленькое по площади государство в мире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9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атик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9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нгапу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9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нак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9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ру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383760"/>
            <a:ext cx="7010280" cy="57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1.Как  называется  самая  высокая  вершина  на  земном  шаре?</a:t>
            </a: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1. Килиманджаро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2. Эльбрус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3. Аконкагуа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4. Джомолунгм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745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3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2. В каком океане находится Марианский желоб?</a:t>
            </a:r>
            <a:br>
              <a:rPr sz="4100"/>
            </a:br>
            <a:br>
              <a:rPr sz="4100"/>
            </a:br>
            <a:r>
              <a:rPr b="0" lang="ru-RU" sz="4100" spc="-1" strike="noStrike">
                <a:solidFill>
                  <a:srgbClr val="006600"/>
                </a:solidFill>
                <a:latin typeface="Arial"/>
              </a:rPr>
              <a:t>1. Тихий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2. Атлантический</a:t>
            </a:r>
            <a:br>
              <a:rPr sz="4100"/>
            </a:b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3. Индийский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4. Южный</a:t>
            </a:r>
            <a:endParaRPr b="0" lang="en-US" sz="41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745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651960"/>
            <a:ext cx="8532720" cy="551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Самое высокое дерево в мире?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Эвкалипт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2. Секвоя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Баобаб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Гевея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4745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563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Какого  происхождения  Гавайские  острова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Материков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2. Вулканического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Кораллов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Искусственног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4745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36280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5. Кто  совершил  первое  кругосветное  путешествие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Х.  Колумб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2. Ф.  Магеллан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Д.  Кук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В.  Берин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745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358920"/>
            <a:ext cx="7010280" cy="58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Как  называется  самая  высокая  вершина  на  земном  шаре?</a:t>
            </a: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1. Килиманджаро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2. Эльбрус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3. Аконкагуа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4. Джомолунгма</a:t>
            </a:r>
            <a:endParaRPr b="0" lang="en-US" sz="41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6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6. «Эму» - это  название…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Верблюд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2. Страус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Слон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Попуга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4745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7. Назвать самый большой остров в мире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1. Калиманта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Исландия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3. Гренландия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Австрал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4745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56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8. По  какому  материку протекает  река  Оранжевая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1. Австралия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2. Африка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3. Евразия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4. Южная  Амер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4745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570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9. Назвать день равноденствия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1. 21 март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2. 22 декабря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22 июня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.  21 сентябр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4745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56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0. Кто создал первый в мире глобус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1. Аристотель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Эратосфе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3. М. Бехайм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Пифагор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4745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362800" cy="549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1. Какого  цветного  моря  не  существует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Черн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Красн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3. Оранжевого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Белог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4745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570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2. Самая длинная река в мир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1. Амазонка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Нил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3. Волг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  4. Миссисип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4745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8000" y="456840"/>
            <a:ext cx="857880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3.В  какой  части  атмосферы  находится  озоновый  слой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Тропосфер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2. Стратосфер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Мезосфер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Ионосф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745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56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4.Самая большая планета Солнечной системы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1. Юпитер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Сатур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3. Непту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Вен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4745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9152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5.Самая длинная горная цепь суш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1. Кордильеры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Кавказ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Гималаи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4. Ан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4745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56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2.  В каком океане находится Марианский желоб?</a:t>
            </a:r>
            <a:br>
              <a:rPr sz="4100"/>
            </a:br>
            <a:br>
              <a:rPr sz="4100"/>
            </a:b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1. Тихий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              2. Атлантический</a:t>
            </a:r>
            <a:br>
              <a:rPr sz="4100"/>
            </a:b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3. Индийский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4. Южный</a:t>
            </a:r>
            <a:endParaRPr b="0" lang="en-US" sz="41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2" name="drumroll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92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8680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6. На каком материке  обитает самая маленькая птица в мире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Евразия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   2. Сев. Амери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3. Юж. Америка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Австралия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4745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8680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7. Назвать самый широкий пролив в мир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1. Берингов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Магелланов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3. Дрей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Лаперу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4745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549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8. Причиной  какого  природного  явления служит подводное  землетрясение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1. Цунами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Тайфун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Торнадо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Смерч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4745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50752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9.Самая сухая пустыня в мире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1. Намиб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Сахар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3. Атакама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Виктор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4745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8680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0.Какое  морское  течение  является  холодным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Куроси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Гольфстрим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Гвинейское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4. Канарско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4745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1. Самое маленькое по площади государство в мир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                                   </a:t>
            </a: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1. Ватик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Сингапу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Мона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. Брун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57600" y="22824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Bauhaus 93"/>
              </a:rPr>
              <a:t>ФИНА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Атмосф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Гидросф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Биосф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0560" y="1600200"/>
            <a:ext cx="402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Литосф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Страны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651960"/>
            <a:ext cx="8532720" cy="551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Самое высокое дерево в мире?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1. Эвкалипт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Секвоя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Баобаб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Гевея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56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 Какого  происхождения  Гавайские  острова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Материков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Вулканического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Кораллов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Искусственног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92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390240"/>
            <a:ext cx="7010280" cy="575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5.  Кто  совершил  первое  кругосветное  путешествие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Х.  Колумб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Ф.  Магеллан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Д.  Кук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В.  Берин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16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27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6.  «Эму» - это  название…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Верблюд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Страус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Слон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Попуга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992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7.  Назвать самый большой остров в мире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Калиманта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Исландия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3. Гренландия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Австрал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16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8:49:12Z</dcterms:created>
  <dc:creator> Admin</dc:creator>
  <dc:description/>
  <dc:language>en-US</dc:language>
  <cp:lastModifiedBy>user user</cp:lastModifiedBy>
  <dcterms:modified xsi:type="dcterms:W3CDTF">2023-01-09T15:32:20Z</dcterms:modified>
  <cp:revision>87</cp:revision>
  <dc:subject/>
  <dc:title>Слайд 1</dc:title>
</cp:coreProperties>
</file>