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0F0F-8BA5-4A16-8DAF-2CB0A75677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E7F1-5DA9-47EA-BD99-9EBA4F0D566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4FC7F-AE4D-43E2-A47B-9C8AB2FF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28D7-A391-47FF-BAFC-6BDE5B7F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FB910-EBE1-48BA-ACD1-12DABCD6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6E9CD-1272-476A-A3DA-C8BAE018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C3A4E-170B-42B4-9D4A-53E619D3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F390D-C0EA-483F-8EF3-F81DD6FD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2C7CD-A965-4B08-9154-283A84B7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01283-9932-46E5-9953-F21CE1BD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54EE4-7B06-44EF-ADD2-0476F10A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B27E0-6B81-4620-89A6-83EE76E5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02B70-829A-4CF3-A738-BFD34D2C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C0573-4787-46D7-BA95-9B5957C4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F94C3-85AA-4486-88F9-B0B97821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1DE1B-2532-43A4-B4C4-FA85DCB8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805A1-7FD2-499F-B303-59A5E222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05A0B-0A9F-4636-8EB2-4295ADAB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76406-111A-4BA2-B9AA-F4A32DC7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A9D8E-BBA4-47C9-966E-F1733BD0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193FD-CB9D-4A19-B309-276999C9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5F76D-BD66-4008-8A80-910044AD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C24BD-9913-4E3B-A602-090ED78F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05472-844A-426A-8FD7-11731C76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0F6D5-F856-4729-A739-B888C0E5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D47A0-67B2-4376-962C-9A886EC0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03D99-1281-4853-BD93-DC2139DF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67F57-01E5-4E7B-AE7B-BDFA786F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81A3A-9256-4F05-946D-C27DE7B1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82BE7-C823-4E2A-9AAF-9651E3D3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D5902-C18C-47DD-97F8-F23C2F62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913E8-DDA6-49C0-AED6-06980CC7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FDB26-5346-4ADB-ABC3-61BEB589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E220F-2FF9-4BED-BBE2-D9B483EA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E7160-93CE-40C8-94A8-D745359D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2E3D4-4AAB-43C6-815F-B0999622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85D8-8D29-4680-A5FC-E34A45F4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88391-BD78-4F35-9288-8A1AD5FF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63147-94AB-4CE3-9B10-2C3714C4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69A3F-4B8D-4130-92DC-CE454228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255FC-2F2B-4669-97C0-678213AA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1D0F8-ABD0-450D-9896-291AC0F3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40570-54B1-4802-8823-620B964B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BD9BA-6070-4FAC-AA13-2ED5D248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65EB6-41D3-4B63-8D75-023FF82D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734C8-23D9-465D-928C-CA92D843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A746B-6FFA-4264-BDAA-38D5798B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92EC-991E-4890-A0B0-B82D1AC4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2F6AC-C423-4E31-AB24-AEBFA7B6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9AFE5-342C-4010-AA83-60F61FAF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69D5E-BA3D-4EBE-8F62-EF525346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AB152-5A11-4DC4-B588-B2A96879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6C2AB-72C3-40A5-91AA-51EDDB3A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534C-9873-4093-8E0F-C6BD9D65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F5CD-F5B6-4417-A3EF-D76A55A2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0D9C-B143-4F67-9B1F-61888525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FF5C-4DDE-48EE-A04D-0AA22C4F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11B7-5B34-434E-8245-3DC11490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9BAA1-E639-4826-A815-14427283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744E-1D5F-4154-AABE-E598A816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FB3A-9AF7-45B3-9E54-22D65711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94BA-57E9-45A1-9029-DC12295F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6559-C6FB-417A-A2CD-1126485E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3B4F-FCD2-4CC3-A061-37934DBA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689D2-9DB3-467D-83D2-1D392599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7106F-E137-4138-B907-946B4FEF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6268C-7580-4485-BF91-562D1412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BFB35-86C4-48E6-A3B6-0A9996E7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CF30C-C190-4509-B214-3FDAF259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9088-C0A3-4174-9B6F-EA15D08D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40404-FE02-4719-ACD3-94345F54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B4DA7-2B4E-4D56-AE15-5B139DAE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8115A-F701-4D03-BBDB-027FEEAC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CA547-66D0-4DD9-BF6B-D9013548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0AD5E-53B3-4CBD-BFBD-5117AED3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AFCA-E431-4CA1-B10A-9214E6EE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3A384-708D-4B81-8B69-BD3840FE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6C562-0B15-4CC2-A444-E7BDB3D6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3531C-37C8-40B6-A0AC-CFCE24F3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96965-A10F-4D73-BD02-B61B76C4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F5136-46E1-4191-BF76-4E9976E6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50FFF-AACB-415B-82C5-7D95BA1F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7CAC5-7A1B-45CC-8521-D2079B30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5A400-6618-4CA5-B78D-E95CA232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E7999-9C07-468A-8278-80D02803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ED688-36A0-450D-8FBC-5179E696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99424-26AB-4BE0-BD1C-DCDE9EAA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B1775-F89A-4267-A538-D92DB0C7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6D8B5-0DD3-4410-B157-9989B53D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20445-89AA-4FCC-A5E9-E73A5A0E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7FC61-A8BA-434A-9372-A4FC0DC0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59BFD-FD45-4589-9B61-CDB556B5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247E5-B079-49DC-A5E2-2868C773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9B1CC-858F-437B-BD99-27610902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464EE-B979-4D20-A228-CEF3AD53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FEAAC-A27F-4441-92B0-1CF48A83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ED9F4-DF23-489D-AA26-9E842986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A052C-C56B-4944-ABA8-CBE3AE24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E6E3E-3FF8-415E-AC24-E9F0A9F6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D5B5B-BF06-4DAE-8B07-E91F4FD0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99385-9656-4255-8B63-C6E42CE9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58FB8-0F05-4A56-B335-3C589BB9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CC624-76F4-4C43-AC4C-661942E3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BC335-409F-4750-8A29-CCA62D01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63CCE-35C7-467C-9E88-C884E521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89962-007B-4477-B1DE-08030354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43B08-3C13-418D-A25B-1ED9DFB6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6B34D-3389-4C3D-AC7A-D84EF06C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A0967-B3A4-4382-873F-A7BA320D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CC8FA-1880-43CD-AACD-B3793F76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840A2-FC4B-4212-AC50-54A29065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C4DF7-B642-4DA2-B491-F25CE4FB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5DE6B-8B85-46CE-AAE0-A4BCCB6A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E8AAF-6E79-4F42-ADB4-A81669C8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28932-B680-4217-900D-7400F287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5BE2E-C9D4-479C-AD91-148C0B5A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E7E73-F3EE-46A3-BDB7-BC8864B9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6E8AB-E812-442F-91C5-E043C9A6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BB07F-AAD3-452D-86D5-EDB3F04D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0FE75-21A8-4E08-B240-BF10062E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843F9-3307-44A0-B73B-393B4C9E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7D3EA-E241-4E02-9226-8AEE76F6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2F12D-6006-45B4-8CA8-BC977C3A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C4A6D-586E-4F87-8BE5-3C154566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018EF-C620-45E0-990F-573A1028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9FD96-D4E6-495F-89E9-481AD8C0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9C226-B9DE-4C62-9F78-E49B93F6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BAD7B-AA3C-4398-81E6-88D57DCA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C93AA-BB0D-4343-B905-E3E1E72B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E3B21-614C-46C7-BFC2-1BCDAF36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1169E-255A-46C2-B4F4-16431B42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69430-2877-438E-92CD-4CE1E974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54783-D404-479F-B753-EDB9AD4B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8A202-2D23-4B3D-8DB7-3BEDE221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98FB5-5481-42BE-818A-92D793F6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AB48-083A-41B4-8BBC-42C225E9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7AA82-B8B0-4661-BB89-8011CC1A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22C83-F77E-42AD-9560-A96CE911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63B81-3A26-43A0-80BA-8C8C1534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F39BA-5B21-4080-A736-C47D89D5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05076-9833-483A-894F-E560BEA6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886BD-2723-4631-AAA2-80052863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FD8EC-9FA2-464B-A85C-86CC7C8D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B3D3F-A0C9-47A8-BFBE-0E96041B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1951D-DE6E-4419-91F4-E0773099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4E0C0-638E-44CD-836F-87C82B88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6E27-3A6A-4BD1-B275-E0FAA59421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асечник Е. А.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40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08B9-4C1F-479A-84EF-C1233717D5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45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3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5B39-F0B8-43FC-BB49-1E9B6D19B2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49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8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D10C-B9E3-4421-B16F-2F9B31C094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4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A4D8-7EC4-4EB0-A34F-B6DB3B4757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9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5863-33C1-4E50-B86B-17D96CF790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13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A09A-3DD0-4167-BC9F-2AE53CFE44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18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B5C6-6B5D-4E6A-8D68-0003DC7FA6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634F-AC1C-492C-986A-873FDD04A0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27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770A-E1F6-4AAB-BB7B-1C4CC17439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31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8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491B-DA59-4A4F-9093-713793D175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36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D51C-8CEB-4B2E-97A1-41937C97C1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dou23.ucoz.com/fon/ptica.png" TargetMode="External"/><Relationship Id="rId2" Type="http://schemas.openxmlformats.org/officeDocument/2006/relationships/hyperlink" Target="http://www.niceimage.ru/large/201304/12957.jpg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84000" y="4652640"/>
            <a:ext cx="75596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узыкальный руководи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У детский сад №2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сильева О.П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662040" y="98064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Стилизованные русские народные танц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Picture 4" descr="C:\Users\Прогимназия\Desktop\хоровод картинки\8099.jpg"/>
          <p:cNvPicPr/>
          <p:nvPr/>
        </p:nvPicPr>
        <p:blipFill>
          <a:blip r:embed="rId1"/>
          <a:stretch/>
        </p:blipFill>
        <p:spPr>
          <a:xfrm>
            <a:off x="771480" y="3129120"/>
            <a:ext cx="3440160" cy="323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комя детей с традициями и обычаями, взрослые прививают им любовь к истории и культуре собственного народа, и русский народный танец – отличный помощник в деле воспитания маленьких патриотов. </a:t>
            </a: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Танец как часть фольклора – это нить, соединяющая прошлое, настоящее и будущее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3" descr="C:\Users\Прогимназия\Desktop\хоровод картинки\16710678.gif"/>
          <p:cNvPicPr/>
          <p:nvPr/>
        </p:nvPicPr>
        <p:blipFill>
          <a:blip r:embed="rId1"/>
          <a:stretch/>
        </p:blipFill>
        <p:spPr>
          <a:xfrm>
            <a:off x="3027240" y="2035080"/>
            <a:ext cx="2840040" cy="4273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mdou23.ucoz.com/fon/ptica.png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www.niceimage.ru/large/201304/12957.jpg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Автор шабло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Пасечник Елена Аркадьевн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учитель истории МБОУ «СОШ №6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г. Братска Иркут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ие народные танцы несут в себе особую энергетику всего русского народа. Они способны раскрыть его огромную душу, одновременно помогая показать таланты каждого танцора. Русские народные танцы на протяжении веков передаются из поколения в поколение как огромное культурное наследие. Их движения кажутся очень простыми, но за счет пластики танцоров общий рисунок танца получается весьма замысловатым. Он красиво выглядит как в быту, так и на сцен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38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ременные русские народные танцы, так же, как и танцы наших предков отличаются детской наивность, легкость, поэтичностью. Когда видишь исполнение народного танца, невольно осознаешь, что такие движения и рисунки могли родиться только на благодатной земле нашей Родины с ее широкой неизведанной душой. Вместе с этим русский народный современный танец показывает молодецкую удаль и храбрость, а также может носить юмористический характ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3" descr="C:\Users\Прогимназия\Desktop\хоровод картинки\af757b60561e5cb637e9dc5f50709b92.jpg"/>
          <p:cNvPicPr/>
          <p:nvPr/>
        </p:nvPicPr>
        <p:blipFill>
          <a:blip r:embed="rId1"/>
          <a:stretch/>
        </p:blipFill>
        <p:spPr>
          <a:xfrm>
            <a:off x="2411280" y="3357720"/>
            <a:ext cx="4918320" cy="3271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годня, и старые и новые танцы не только уживаются рядом, но и взаимодополняют  друг на друга, творчески  обогащая,  развивая тем самым русский народный тане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3" descr="C:\Users\Прогимназия\Desktop\хоровод картинки\hqdefault.jpg"/>
          <p:cNvPicPr/>
          <p:nvPr/>
        </p:nvPicPr>
        <p:blipFill>
          <a:blip r:embed="rId1"/>
          <a:stretch/>
        </p:blipFill>
        <p:spPr>
          <a:xfrm>
            <a:off x="226836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 современном  культурном  пространстве  России  всё  большую популярность  приобретают  современные  направления  хореографического  искусства. Современный  русский  танец - это  взгляд  на него с позиции  нашего  времен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нец  получает  много  различных  разветвлений, одним  из  которых является  </a:t>
            </a:r>
            <a:br>
              <a:rPr sz="2400"/>
            </a:b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тилизация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3" descr="C:\Users\Прогимназия\Desktop\хоровод картинки\4655iVP039y32kF9Ou04Y9x4g43U4z.jpg"/>
          <p:cNvPicPr/>
          <p:nvPr/>
        </p:nvPicPr>
        <p:blipFill>
          <a:blip r:embed="rId1"/>
          <a:stretch/>
        </p:blipFill>
        <p:spPr>
          <a:xfrm>
            <a:off x="2484360" y="3600360"/>
            <a:ext cx="4410000" cy="2940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ля чего нужна стилизац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 сохранения  национальной  куль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несения фольклорного материала  до зрител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нимания  национальной  индивидуальности  в  музыке  и тан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снове стилизации  номера  лежит,  прежде  всего, изучение  фольклорно-этнографического материала, владение законами композиции, чувства стиля и все то, что в совокупности создает нужный образ или ощущение образа, своеобразного национального характера народа, его образа жизни и особенности мыш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3" descr="C:\Users\Прогимназия\Desktop\хоровод картинки\1 (4).jpg"/>
          <p:cNvPicPr/>
          <p:nvPr/>
        </p:nvPicPr>
        <p:blipFill>
          <a:blip r:embed="rId1"/>
          <a:stretch/>
        </p:blipFill>
        <p:spPr>
          <a:xfrm>
            <a:off x="2119320" y="3149640"/>
            <a:ext cx="4829040" cy="3375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 силе  и  яркости  образов, содержательности, богатству  движений, выразительности, красоте  формы  танец  представляет  превосходный  материал  для  воспитания  художественного  вкуса  детей, эстетического  воспитания, для  воспитания   моральных  качест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Picture 3" descr="C:\Users\Прогимназия\Desktop\хоровод картинки\DSC00224.jpg"/>
          <p:cNvPicPr/>
          <p:nvPr/>
        </p:nvPicPr>
        <p:blipFill>
          <a:blip r:embed="rId1"/>
          <a:stretch/>
        </p:blipFill>
        <p:spPr>
          <a:xfrm>
            <a:off x="1692360" y="2825640"/>
            <a:ext cx="5521320" cy="3699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помощи танца можно донести до каждого ребенка мысль о том, что именно он является носителем русской народной культуры. Очень важно, чтобы наши дети воспитывались в национальных традициях, иначе просто невозможно дать им полноценное развит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3" descr="C:\Users\Прогимназия\Desktop\хоровод картинки\84664.jpg"/>
          <p:cNvPicPr/>
          <p:nvPr/>
        </p:nvPicPr>
        <p:blipFill>
          <a:blip r:embed="rId1"/>
          <a:stretch/>
        </p:blipFill>
        <p:spPr>
          <a:xfrm>
            <a:off x="1908000" y="2855880"/>
            <a:ext cx="5543640" cy="3678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02:40:13Z</dcterms:created>
  <dc:creator>Lenovo</dc:creator>
  <dc:description/>
  <dc:language>en-US</dc:language>
  <cp:lastModifiedBy>JHY</cp:lastModifiedBy>
  <dcterms:modified xsi:type="dcterms:W3CDTF">2023-04-07T07:53:34Z</dcterms:modified>
  <cp:revision>22</cp:revision>
  <dc:subject/>
  <dc:title>Слайд 1</dc:title>
</cp:coreProperties>
</file>