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D550-8009-4CE3-90CD-A0B92A9CC5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2AD0-FEFE-468B-BA6D-C46C162FDA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FEE6-6BBB-4E10-86DF-5621852A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786B-D6F3-4AB5-B9DC-8154574E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E4EC4-8476-4F6A-9BA3-59EA5901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16139-13A7-4729-8EF9-63C604DB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38449-F0CA-46B2-95E5-C384670B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34A7C-F5A0-4CC5-ABA7-E180E865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538E6-76CE-4C41-9BED-A5935692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A61EA-EBD4-4DB7-B969-ED40C65C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24E45-A4BC-4158-B1F5-499BF7E7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A21AE-5B8F-46E1-98AC-BFD35FB8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FC23F-9250-4BF4-9CA4-730BF443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A2141-8C48-4C27-BB69-B9E4545E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D6AF-25F1-4C32-98E7-CD21FF4F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A20FF-3499-4414-82A3-B400DE68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ED0E2-7455-419C-B69D-8E53833D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7833E-FAB3-4567-B877-D0AC561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C6BD6-2150-4068-AB53-0919EFF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33DDE-A0B9-4B47-A1F6-694CEC24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485EF-F9C4-4259-BA97-D68FBF59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C37C6-771E-485A-87FF-8B17BF54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D993B-B855-4EA1-9701-1E8BE192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4DE34-1EB9-48A6-8159-17608C67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414A6-8DF2-48EB-AE29-9F2DFD72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CC31-2DA4-4C08-A3FD-4CA61C0D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F8AA1-C82C-4046-9500-1E4120DC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CB528-5C2C-4C41-882C-7A31347E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D44AC-77DC-486C-AC3B-9E2544C6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1C1AB-1D85-4CAE-9D57-FF759A52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9A229-E688-41F4-BFF9-1FB7D7FD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89084-B151-4192-9892-516EBAED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B3E06-8900-4EA3-A14A-7F0C3E08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680D8-A2B4-4C69-AADA-F854554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D86D-1A97-489B-ACB4-AB30486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2718D-33D0-4864-82AD-242F8546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A1C4-CEAD-48FB-A91B-10CE08EB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6858F-6B32-47A1-BCED-2406ACD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839BA-128B-4D88-8628-2CFC5178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9B147-2D33-4756-BF06-7B240E4D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9797F-CCDB-4D62-B9E2-86B02218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6BEE5-205C-4F7A-A135-550727EE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6728A-C114-4112-9B5E-787DB90D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FA0E1-3B3B-452F-BD72-1D79CA79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588E2-751C-47C7-A80E-19870C0C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07DEF-A173-4D98-9F61-9D2E6084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B3171-5CA9-4AA1-AAD2-2EE0150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824C-FF0B-4B31-B44B-06E96EC0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D8D11-1726-4A6C-AC41-2D6A981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F88EE-762B-4EE2-A4EC-9AF0CC0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5BB90-BD86-4222-99C6-725A7D0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ACFC2-588F-4DBE-A2A0-FBC2F03A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EE85F-61DC-47A3-9243-E80815AC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0A42-BC10-4CC4-9A4A-20651795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57C3-3EFA-4510-8AB4-11CCE948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DD45-CA4B-4A22-BAC4-B51241AD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B230-2771-4E9C-A948-E19BFAE3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47A9-AFF2-47C8-9B93-2E7EC34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D37E-F28C-49FF-B0E9-7F1E08C3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C797-B8F3-40B0-8AF3-8980FBD8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D80C-8580-4C34-90F0-DB7D4009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7E2-45A2-4E3E-842A-C07ABFC6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23F-FF6F-4224-8D23-F0A3C4EC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4F3F-7D80-4E41-9ADB-3E248FB4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62D4-10DA-4917-96B6-2F0D38A6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BC4A-919F-44FB-A26D-05BDC67E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2B5C-0104-47D3-8490-B170B69C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6667-D567-4D86-975B-B95D5F83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E8BA-5018-4752-9FE0-F57C85A5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03E9-A772-4B3D-A1D5-F1E4C96D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D891-2DD3-4019-AE0D-8C5FE834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DD8B-5976-4E90-975A-ED06A3C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3933-204B-4132-B79A-42042D70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8D1F-00A5-4395-ABA0-C9B64D85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BCE5-979E-4C12-B68B-1128BABA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57F3-7161-4446-BDF0-370945AF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465E-FA09-4A06-A97B-67E0ED80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D083-3893-449F-A872-B7728DEE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1036-87B0-4854-A7CB-79BFD52F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CC23-6F6E-40D5-B3A0-8A1CDE39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1765-715F-480F-A96C-0FCAD1C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DD92-2482-4F28-9468-FA32547C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8B78-59A2-4527-A5D0-D0ADD5E0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DE70-C16B-4B80-BEC1-2A5ADF37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7A3C-4BA9-4409-AECC-7A4DEEB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F5B84-4EBD-4743-A07E-8B9BFC1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EB8E-0353-4E22-A0F8-6EB5ABE1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6372-CD88-438B-BD37-852D0CDD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BD45-A396-4C88-9D4D-C0A1D328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9C31-1BD6-492E-8B3D-B61618B2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D099-746A-4A4D-9903-8F7A317C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409D-BB47-4908-AD0C-7A77CE6F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CD09-24EA-4E29-90A4-D22E2183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D7374-6B0A-48D8-AC13-4C361A85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FA082-EF23-4798-9F06-224A16F3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3906-675D-416B-A72E-EA3AF915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1874D-FDC5-40DB-B06B-03746C2E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82A7-3046-4214-8238-8A3A0B3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DF4B5-41EB-4D21-BA2C-B2D53ABE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414A-1F3A-4E11-B11C-0AC5F6C8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34479-8344-48A4-9877-FBB3AA9E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FFCAF-48D8-4456-8A5C-3305F881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A88E-0705-40A4-A108-435FB2F7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64AFB-F1B2-406A-A2E9-5DF481A7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D1BA2-3577-41B6-8483-6462B4E0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14D5-7F11-4126-96F2-B788A458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38C5B-5C71-4B9C-96BD-6ABACF8B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E95AA-B923-44FB-BAE9-323FA5A3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E1AAC-540B-4936-8C0D-CAD8464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CA2B8-7CAC-49DF-9D33-383B46FE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68A68-A405-49C0-8249-094F2743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A5B38-D69A-4FB9-80F9-FB277CA3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BFD64-B471-400E-A56E-B76768F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B2D4-422A-4EF9-86B9-181D3F50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8A0ED-41B1-49EE-A960-87DD7517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AFE54-17CF-4AEF-A531-6ECAB523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DDA36-C535-446F-877F-096D425A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D7263-615E-4954-90B5-2732182D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46E55-F3DA-465E-9538-C43A67A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D266-B5FF-4002-BD19-5F435116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BEEAF-1C48-4026-9E13-C381C354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C2C21-AA33-4081-BAE8-7E6C8958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48480-0470-4AE0-9F11-1425635A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E1A1B-E294-47B9-8061-2BEFFE8C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6194-FD13-49C3-B82F-9B4BC2ED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EDCF9-6756-4D8D-9D3D-B0F4C80C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D577-A8AD-424C-ACFF-CAA20FB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81E98-3B40-443F-BE52-11FBFC24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10AF3-4DD5-4173-BF34-FB6D1BF6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F4859-08D6-404B-A189-49600FB9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A5565-9397-4D44-BF7F-999E5764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9CD45-163A-4A81-A9B4-BCEF8BE1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D2C0F-6C95-4A3B-9171-60FF395A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1C090-C829-466D-BD33-6F2372A0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4FCB3-8A7E-4712-89CA-390CEFC5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D0BF-CFF0-4DD7-9AF0-C1057431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089E-8C91-4196-BFE1-981AEBDA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90C41-14FA-4B7A-A348-260C8EE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59FBC-9082-4C4D-B6E1-E956CD7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0A096-EC7D-4BF6-B1EF-95D9456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B1340-53CF-49D7-BA41-A91772AF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F316A-6639-47DB-822D-8FB5E00C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BCF0C-E4B5-47ED-87E5-9794A561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60AA9-98AD-42B9-B45A-0E827E41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E9FBB-44C9-4592-8C25-2C7F244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73EE6-4532-479A-90D6-2DBAE6B1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681F-ECB7-42B1-BAAF-0DBA83CF4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асечник Е. А.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40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9A3E-D9EE-4FCA-BB59-1E35F81A4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45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A2D1-18CC-41F5-AB20-AE425EFB3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49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28AB-A888-4DB8-94B6-69CCB9360E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4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ECC5-7C6B-4E63-B670-D07E6BC88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9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B04F-6E71-412A-B4D9-399936D2D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1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9AB2-978C-4619-9081-7CA247E55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18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4E12-DC09-4466-B018-0CB17D4E3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8BF0-D0AA-4881-B5A9-0FA3562FC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27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F0C8-6723-4B3C-A53D-F794A8397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D22D-9CD5-4DF0-9D06-30F82075F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Скругленный прямоугольник 6"/>
          <p:cNvGrpSpPr/>
          <p:nvPr/>
        </p:nvGrpSpPr>
        <p:grpSpPr>
          <a:xfrm>
            <a:off x="-55440" y="-55440"/>
            <a:ext cx="9259920" cy="6973920"/>
            <a:chOff x="-55440" y="-55440"/>
            <a:chExt cx="9259920" cy="6973920"/>
          </a:xfrm>
        </p:grpSpPr>
        <p:pic>
          <p:nvPicPr>
            <p:cNvPr id="3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55440" y="-55440"/>
              <a:ext cx="9259920" cy="69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528480" y="528480"/>
              <a:ext cx="808704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Рисунок 11" descr="uzor_old-rus_1.png"/>
          <p:cNvPicPr/>
          <p:nvPr/>
        </p:nvPicPr>
        <p:blipFill>
          <a:blip r:embed="rId4"/>
          <a:stretch/>
        </p:blipFill>
        <p:spPr>
          <a:xfrm>
            <a:off x="-142920" y="0"/>
            <a:ext cx="1785960" cy="1720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-360" y="6643440"/>
            <a:ext cx="214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4AD-57E5-470A-BCEE-3ECDAD65C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dou23.ucoz.com/fon/ptica.png" TargetMode="External"/><Relationship Id="rId2" Type="http://schemas.openxmlformats.org/officeDocument/2006/relationships/hyperlink" Target="http://www.niceimage.ru/large/201304/12957.jpg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4000" y="4652640"/>
            <a:ext cx="75596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У детский сад №2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сильева О.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662040" y="980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тилизованные русские народные танц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4" descr="C:\Users\Прогимназия\Desktop\хоровод картинки\8099.jpg"/>
          <p:cNvPicPr/>
          <p:nvPr/>
        </p:nvPicPr>
        <p:blipFill>
          <a:blip r:embed="rId1"/>
          <a:stretch/>
        </p:blipFill>
        <p:spPr>
          <a:xfrm>
            <a:off x="771480" y="3129120"/>
            <a:ext cx="3440160" cy="32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комя детей с традициями и обычаями, взрослые прививают им любовь к истории и культуре собственного народа, и русский народный танец – отличный помощник в деле воспитания маленьких патриотов. 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анец как часть фольклора – это нить, соединяющая прошлое, настоящее и будущее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3" descr="C:\Users\Прогимназия\Desktop\хоровод картинки\16710678.gif"/>
          <p:cNvPicPr/>
          <p:nvPr/>
        </p:nvPicPr>
        <p:blipFill>
          <a:blip r:embed="rId1"/>
          <a:stretch/>
        </p:blipFill>
        <p:spPr>
          <a:xfrm>
            <a:off x="3027240" y="2035080"/>
            <a:ext cx="2840040" cy="427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mdou23.ucoz.com/fon/ptica.png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niceimage.ru/large/201304/12957.jpg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Автор шабло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Пасечник Елена Аркадьевн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учитель истории МБОУ «СОШ №6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г. Братска Иркут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ие народные танцы несут в себе особую энергетику всего русского народа. Они способны раскрыть его огромную душу, одновременно помогая показать таланты каждого танцора. Русские народные танцы на протяжении веков передаются из поколения в поколение как огромное культурное наследие. Их движения кажутся очень простыми, но за счет пластики танцоров общий рисунок танца получается весьма замысловатым. Он красиво выглядит как в быту, так и на сц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ые русские народные танцы, так же, как и танцы наших предков отличаются детской наивность, легкость, поэтичностью. Когда видишь исполнение народного танца, невольно осознаешь, что такие движения и рисунки могли родиться только на благодатной земле нашей Родины с ее широкой неизведанной душой. Вместе с этим русский народный современный танец показывает молодецкую удаль и храбрость, а также может носить юмористически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3" descr="C:\Users\Прогимназия\Desktop\хоровод картинки\af757b60561e5cb637e9dc5f50709b92.jpg"/>
          <p:cNvPicPr/>
          <p:nvPr/>
        </p:nvPicPr>
        <p:blipFill>
          <a:blip r:embed="rId1"/>
          <a:stretch/>
        </p:blipFill>
        <p:spPr>
          <a:xfrm>
            <a:off x="2411280" y="3357720"/>
            <a:ext cx="4918320" cy="327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годня, и старые и новые танцы не только уживаются рядом, но и взаимодополняют  друг на друга, творчески  обогащая,  развивая тем самым русский народный та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C:\Users\Прогимназия\Desktop\хоровод картинки\hqdefault.jpg"/>
          <p:cNvPicPr/>
          <p:nvPr/>
        </p:nvPicPr>
        <p:blipFill>
          <a:blip r:embed="rId1"/>
          <a:stretch/>
        </p:blipFill>
        <p:spPr>
          <a:xfrm>
            <a:off x="226836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современном  культурном  пространстве  России  всё  большую популярность  приобретают  современные  направления  хореографического  искусства. Современный  русский  танец - это  взгляд  на него с позиции  нашего  време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нец  получает  много  различных  разветвлений, одним  из  которых является  </a:t>
            </a:r>
            <a:br>
              <a:rPr sz="24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тилизация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C:\Users\Прогимназия\Desktop\хоровод картинки\4655iVP039y32kF9Ou04Y9x4g43U4z.jpg"/>
          <p:cNvPicPr/>
          <p:nvPr/>
        </p:nvPicPr>
        <p:blipFill>
          <a:blip r:embed="rId1"/>
          <a:stretch/>
        </p:blipFill>
        <p:spPr>
          <a:xfrm>
            <a:off x="2484360" y="3600360"/>
            <a:ext cx="4410000" cy="294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ля чего нужна стилизац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 сохранения  национальной  куль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несения фольклорного материала  до зр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имания  национальной  индивидуальности  в  музыке  и та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нове стилизации  номера  лежит,  прежде  всего, изучение  фольклорно-этнографического материала, владение законами композиции, чувства стиля и все то, что в совокупности создает нужный образ или ощущение образа, своеобразного национального характера народа, его образа жизни и особенности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3" descr="C:\Users\Прогимназия\Desktop\хоровод картинки\1 (4).jpg"/>
          <p:cNvPicPr/>
          <p:nvPr/>
        </p:nvPicPr>
        <p:blipFill>
          <a:blip r:embed="rId1"/>
          <a:stretch/>
        </p:blipFill>
        <p:spPr>
          <a:xfrm>
            <a:off x="2119320" y="3149640"/>
            <a:ext cx="482904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 силе  и  яркости  образов, содержательности, богатству  движений, выразительности, красоте  формы  танец  представляет  превосходный  материал  для  воспитания  художественного  вкуса  детей, эстетического  воспитания, для  воспитания   моральных  кач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3" descr="C:\Users\Прогимназия\Desktop\хоровод картинки\DSC00224.jpg"/>
          <p:cNvPicPr/>
          <p:nvPr/>
        </p:nvPicPr>
        <p:blipFill>
          <a:blip r:embed="rId1"/>
          <a:stretch/>
        </p:blipFill>
        <p:spPr>
          <a:xfrm>
            <a:off x="1692360" y="2825640"/>
            <a:ext cx="5521320" cy="369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омощи танца можно донести до каждого ребенка мысль о том, что именно он является носителем русской народной культуры. Очень важно, чтобы наши дети воспитывались в национальных традициях, иначе просто невозможно дать им полноценное развит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3" descr="C:\Users\Прогимназия\Desktop\хоровод картинки\84664.jpg"/>
          <p:cNvPicPr/>
          <p:nvPr/>
        </p:nvPicPr>
        <p:blipFill>
          <a:blip r:embed="rId1"/>
          <a:stretch/>
        </p:blipFill>
        <p:spPr>
          <a:xfrm>
            <a:off x="1908000" y="2855880"/>
            <a:ext cx="554364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2:40:13Z</dcterms:created>
  <dc:creator>Lenovo</dc:creator>
  <dc:description/>
  <dc:language>en-US</dc:language>
  <cp:lastModifiedBy>JHY</cp:lastModifiedBy>
  <dcterms:modified xsi:type="dcterms:W3CDTF">2023-04-07T07:53:34Z</dcterms:modified>
  <cp:revision>22</cp:revision>
  <dc:subject/>
  <dc:title>Слайд 1</dc:title>
</cp:coreProperties>
</file>