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FF4B-6E3E-4E19-8462-C9E718AD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02B0-EF40-483B-878C-F1E43748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8EE6-8AD8-449F-A528-6D5F6955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68E5-16EC-4AD0-AF9B-B94B9183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CE68-0851-4FC3-8E02-A46FEA11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0E94-309C-4E28-9985-EF761E96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34B6-EA2F-40A8-860D-69EA9C28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D7CF-A260-450E-8BDC-3273A15E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DAB9-0595-415A-A398-6948C3E1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0ABA-C062-406D-9E3C-66CDBC50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E4A5-1EE7-4135-8D0A-6BAAC8F4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7972-B371-403B-8340-D99CEAE9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2C82-4528-45BC-8C51-65AF716A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EC1E-971D-41D2-A3B9-96EA8B21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26C8-D075-4CBF-889B-A5CDC21B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F8B5-25CB-48E6-8A26-19D10DEB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C09C-7ED9-4B35-827E-4D05A888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9E01-D880-4007-B012-A4B084A6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2864-832B-438C-B875-A65D0B92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53231-3FF5-47A8-9982-78ADE2E9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1316-17B7-4EF8-9675-2F4D7B32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AAF3-FFA9-4271-B7A8-F2129D2C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8F95-5CA0-4A28-A075-E68FA4B9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E35A-FECD-4A74-A64C-B4DBF707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3205-0A51-4E9D-81DF-F403BCF2CC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B3F4-4C0E-4DB3-9487-AB88F52A79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Технологии, применяемые при работе с детьми с ОВЗ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38280" y="5790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омилова В.А. учитель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Рисунок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606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 обучении детей с ОВЗ русскому языку ставятся те же задачи, что и в массовой школе. Общепринятыми задачами работы по русскому языку в школе являются: воспитание учащихся средствами данного предмета; развитие их логического мышления; обучение школьников умению самостоятельно выполнять знания по русскому языку; формирование общеучебных умений, работа с книгой, со справочной литературой, совершенствование навыков чтения и т. 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Цель моей работы - реализация деятельностного подхода при обучении детей с ОВЗ. Она реализуется в следующих задачах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овышение результативности обучения, реализация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здоровьесберегающих технологий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тимуляция познавательной мотивации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Технологии, применяемые при работе с детьми с ОВЗ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Технология разноуровневого обуч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Коррекционно - развивающи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Технология проблемного обуч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Проектная деятельность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Игровы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Информационно-коммуникационны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. Здоровьесберегающи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TomilovaVA</cp:lastModifiedBy>
  <dcterms:modified xsi:type="dcterms:W3CDTF">2014-04-30T06:00:0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