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C540-4307-4C94-84AE-E1A9663B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7835-13A8-431B-84BA-694E1CDF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798C-00FE-41CE-932B-26411BEC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A5D6-B991-4247-9F6D-8FCF36D2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9CCD-C76D-43BF-8A77-D2B70148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62E5-91FB-47B9-9358-47311F35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0661-9AB0-49C3-BF46-3A24E00B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C288-D893-476E-8058-BE5B3025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D9C0-12F6-4B48-9A97-AA13B153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E7A4-AE14-46FA-A857-B1314BD8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5248-581F-49E2-A831-93C8388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1EE8-2D6B-4923-B60C-C21EA2C1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5930-0B95-4C36-B944-AC527A9D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4E04-EA91-4CA1-9C39-29A2F9FE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1666-EE76-4F4F-9543-E3F8A29F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76BC-6628-4B5C-BC92-ADBA03FE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E078-17F4-43BC-AFDC-E6341273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D3DA-4824-474C-95BE-2DA23346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F6AA-3F57-44C9-A346-BED3538D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F696-0648-4C91-91A9-B5451814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0B5E-C4E7-4107-A642-3647A105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9FF4-0040-4889-8A90-3784895B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8F28-CA99-49B1-B2B2-35A9FF34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3FB1-79E3-41BC-9B38-4F224EC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0A6A-EE82-4B5F-87AC-639B9A8D29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9EC4-A460-4E79-8BF7-6C34C97C18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Технологии, применяемые при работе с детьми с ОВЗ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8280" y="5790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омилова В.А. учитель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Рисунок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606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 обучении детей с ОВЗ русскому языку ставятся те же задачи, что и в массовой школе. Общепринятыми задачами работы по русскому языку в школе являются: воспитание учащихся средствами данного предмета; развитие их логического мышления; обучение школьников умению самостоятельно выполнять знания по русскому языку; формирование общеучебных умений, работа с книгой, со справочной литературой, совершенствование навыков чтения и т. 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Цель моей работы - реализация деятельностного подхода при обучении детей с ОВЗ. Она реализуется в следующих задачах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овышение результативности обучения, реализация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здоровьесберегающих технологий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тимуляция познавательной мотивации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ехнологии, применяемые при работе с детьми с ОВЗ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Технология разноуровневого обуч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Коррекционно - развивающи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Технология проблемного обуч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Проектная деятельность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Игровы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Информационно-коммуникационны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. Здоровьесберегающи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TomilovaVA</cp:lastModifiedBy>
  <dcterms:modified xsi:type="dcterms:W3CDTF">2014-04-30T06:00:0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