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DE4D-1293-49AF-AB8D-9E93B66FB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9F0E-11A7-4067-83B5-571AF6253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2993-79C2-4119-82A8-B73FAE7B2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723B-5F09-4019-A672-735919AF1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C9177-EE83-4AB1-A17F-637455A3F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95DDF-F054-4AE3-B20E-B3EE61D97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B1526-BEDE-4E3F-995C-844936958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059E7-D89A-48DB-9499-703E201EC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6709B-72BF-4824-9D5A-29480182F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85518-2CA8-43A1-BC14-F51BCDE38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8FF7A-DE3F-482E-B7E9-6C6BC8FB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144E-D028-4EB4-9B44-2055FABA6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8470F-D374-4399-85C1-23DBF493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144DA-F827-471F-A22A-51FB09CE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3E809-B539-435C-B99B-8861DE39B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0FF6E-5D76-4D3E-AD0A-1A60187B1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959FB-11E5-4747-B90B-0E7CD3904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23FE4-1512-4230-A388-0DDFEE45F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633CA-DD4E-4EC8-B43E-3ABC79DCF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F9F03-98E9-449B-9909-7E580D46C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D2335-E2E0-45F9-AB50-57CBF3F0F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3E864-63AB-434C-9703-310768680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C459-269D-4221-9654-EFC2C1634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38901-114F-4930-8393-3ACBCDC6F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7E326-6A7C-47A6-8E0B-8801B5F6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191ED-6FE8-449D-85DE-082265D2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A1AD8-4EC8-4732-8CDC-1380D686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6B911-6D6E-4EA7-98DD-0AFDB0042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3DAD6-2234-4021-A5CE-5CD966BE7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0586B-BB46-41BA-9BC9-49466173C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D433C-28F5-415C-ADF6-4CCD648DE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A241D-C31F-4A55-99A6-44B1B8061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682A5-B6B7-42E2-A714-7601C360D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B29F-1B78-40BF-ACDE-F2A11082F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28D79-40EA-45A7-A2C7-43A8542D9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BA52C-0786-4A40-86D1-EBEE0D4AD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777A4-3CB8-42A1-88DB-FBF930C1A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69466-B3EB-4119-8577-C18EBA74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77219-41F3-4245-A3F4-DF5B286F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5E482-71FA-4962-A7BB-A1D10C642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83810-2143-4BFC-BE11-9E3BAE55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C2F2A-0FB3-41EF-BD22-643664074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941F5-C0A2-41CE-8586-3019CACCE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66F4-D3F3-4CD4-B10B-731F7181D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973D-FCA5-4599-B709-F6AC70864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76AC-BD42-4187-80C1-D1AA84B5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E11F-3963-4609-9DE6-B25BD19B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5223-C4B8-4652-9677-B0B71D12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AA78E6-57FE-4D7E-B081-1C7E7C57D7DF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57EB7C-06F0-4337-8B2A-6D253138C53D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547FED-59C7-43E0-B957-CC3005CF71CF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6F0509-8481-41D0-9457-D11ED5C9D1E5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41672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rebuchet MS"/>
              </a:rPr>
              <a:t>Межрегиональная педагогическая конференция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Trebuchet MS"/>
              </a:rPr>
              <a:t>«Современная оценка качества образования как фактор влияния на повышение эффективности образовательного процесса»</a:t>
            </a:r>
            <a:br>
              <a:rPr sz="2000"/>
            </a:br>
            <a:br>
              <a:rPr sz="1600"/>
            </a:br>
            <a:br>
              <a:rPr sz="1600"/>
            </a:b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68200" y="2160360"/>
            <a:ext cx="35118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rebuchet MS"/>
              </a:rPr>
              <a:t>Тема доклада:</a:t>
            </a:r>
            <a:r>
              <a:rPr b="0" lang="ru-RU" sz="2400" spc="-1" strike="noStrike">
                <a:solidFill>
                  <a:srgbClr val="002060"/>
                </a:solidFill>
                <a:latin typeface="Trebuchet MS"/>
              </a:rPr>
              <a:t> «ГИА по русскому языку как средство проверки и оценки сформированности предметных результатов выпускников»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4" name="Picture 5" descr="C:\Users\S2_14\Desktop\В.А\я.jpg"/>
          <p:cNvPicPr/>
          <p:nvPr/>
        </p:nvPicPr>
        <p:blipFill>
          <a:blip r:embed="rId1"/>
          <a:srcRect l="21624" t="0" r="0" b="0"/>
          <a:stretch/>
        </p:blipFill>
        <p:spPr>
          <a:xfrm>
            <a:off x="395280" y="2060640"/>
            <a:ext cx="3392640" cy="4248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2c3c43"/>
                </a:solidFill>
                <a:latin typeface="Microsoft Sans Serif"/>
                <a:ea typeface="Microsoft Sans Serif"/>
              </a:rPr>
              <a:t>«ИМЯ СУЩЕСТВИТЕЛЬНОЕ» 5 КЛАС</a:t>
            </a:r>
            <a:r>
              <a:rPr b="0" lang="ru-RU" sz="3600" spc="-1" strike="noStrike">
                <a:solidFill>
                  <a:srgbClr val="2c3c43"/>
                </a:solidFill>
                <a:latin typeface="Trebuchet MS"/>
              </a:rPr>
              <a:t>С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868560" y="2160360"/>
            <a:ext cx="30895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/>
          <a:srcRect l="34857" t="26045" r="29584" b="18498"/>
          <a:stretch/>
        </p:blipFill>
        <p:spPr>
          <a:xfrm>
            <a:off x="826920" y="692280"/>
            <a:ext cx="5477040" cy="59054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115920"/>
            <a:ext cx="6348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2c3c43"/>
                </a:solidFill>
                <a:latin typeface="Microsoft Sans Serif"/>
                <a:ea typeface="Microsoft Sans Serif"/>
              </a:rPr>
              <a:t>«НАРЕЧИЕ» 7 КЛАСС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rcRect l="34316" t="22059" r="29953" b="17814"/>
          <a:stretch/>
        </p:blipFill>
        <p:spPr>
          <a:xfrm>
            <a:off x="971640" y="981000"/>
            <a:ext cx="6010200" cy="5688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2616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2c3c43"/>
                </a:solidFill>
                <a:latin typeface="Microsoft Sans Serif"/>
                <a:ea typeface="Microsoft Sans Serif"/>
              </a:rPr>
              <a:t>Итоговая работа в формате ОГЭ </a:t>
            </a:r>
            <a:br>
              <a:rPr sz="3600"/>
            </a:br>
            <a:r>
              <a:rPr b="1" lang="ru-RU" sz="3600" spc="-1" strike="noStrike">
                <a:solidFill>
                  <a:srgbClr val="2c3c43"/>
                </a:solidFill>
                <a:latin typeface="Microsoft Sans Serif"/>
                <a:ea typeface="Microsoft Sans Serif"/>
              </a:rPr>
              <a:t>6 класс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868560" y="2160360"/>
            <a:ext cx="30895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rcRect l="35403" t="21887" r="29207" b="18070"/>
          <a:stretch/>
        </p:blipFill>
        <p:spPr>
          <a:xfrm>
            <a:off x="1547640" y="1413000"/>
            <a:ext cx="5616720" cy="53593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849636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2c3c43"/>
                </a:solidFill>
                <a:latin typeface="Microsoft Sans Serif"/>
                <a:ea typeface="Microsoft Sans Serif"/>
              </a:rPr>
              <a:t>Итоговая работа в формате ОГЭ</a:t>
            </a:r>
            <a:br>
              <a:rPr sz="3600"/>
            </a:br>
            <a:r>
              <a:rPr b="1" lang="ru-RU" sz="3600" spc="-1" strike="noStrike">
                <a:solidFill>
                  <a:srgbClr val="2c3c43"/>
                </a:solidFill>
                <a:latin typeface="Microsoft Sans Serif"/>
                <a:ea typeface="Microsoft Sans Serif"/>
              </a:rPr>
              <a:t> 8 класс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rcRect l="31630" t="5316" r="32336" b="13060"/>
          <a:stretch/>
        </p:blipFill>
        <p:spPr>
          <a:xfrm>
            <a:off x="1908000" y="1268280"/>
            <a:ext cx="4392720" cy="55976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4185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пробного экзамена ОГЭ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09120" y="2160360"/>
            <a:ext cx="30877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868560" y="2160360"/>
            <a:ext cx="30895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8" name="Picture 3" descr=""/>
          <p:cNvPicPr/>
          <p:nvPr/>
        </p:nvPicPr>
        <p:blipFill>
          <a:blip r:embed="rId1"/>
          <a:stretch/>
        </p:blipFill>
        <p:spPr>
          <a:xfrm>
            <a:off x="0" y="1341360"/>
            <a:ext cx="9110520" cy="5112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6348600" cy="8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2c3c43"/>
                </a:solidFill>
                <a:latin typeface="Trebuchet MS"/>
              </a:rPr>
              <a:t>Список литературы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09480" y="1341000"/>
            <a:ext cx="69868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ts val="1650"/>
              </a:lnSpc>
              <a:spcBef>
                <a:spcPts val="1349"/>
              </a:spcBef>
              <a:spcAft>
                <a:spcPts val="675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199043"/>
                </a:solidFill>
                <a:latin typeface="Microsoft Sans Serif"/>
                <a:ea typeface="Microsoft Sans Serif"/>
              </a:rPr>
              <a:t>Список литературы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105000"/>
              </a:lnSpc>
              <a:spcBef>
                <a:spcPts val="1001"/>
              </a:spcBef>
              <a:spcAft>
                <a:spcPts val="1001"/>
              </a:spcAft>
              <a:buClr>
                <a:srgbClr val="90c226"/>
              </a:buClr>
              <a:buSzPct val="80000"/>
              <a:buFont typeface="Microsoft Sans Serif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333333"/>
                </a:solidFill>
                <a:latin typeface="Microsoft Sans Serif"/>
                <a:ea typeface="Microsoft Sans Serif"/>
              </a:rPr>
              <a:t>Цыбулько И.П. «ЕГЭ 2018. Русский язык». 36 типовых вариантов»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105000"/>
              </a:lnSpc>
              <a:spcBef>
                <a:spcPts val="1001"/>
              </a:spcBef>
              <a:spcAft>
                <a:spcPts val="1001"/>
              </a:spcAft>
              <a:buClr>
                <a:srgbClr val="90c226"/>
              </a:buClr>
              <a:buSzPct val="80000"/>
              <a:buFont typeface="Microsoft Sans Serif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333333"/>
                </a:solidFill>
                <a:latin typeface="Microsoft Sans Serif"/>
                <a:ea typeface="Microsoft Sans Serif"/>
              </a:rPr>
              <a:t>Цыбулько И.П., Васильевых И.П. «ЕГЭ 2018. Русский язык. Типовые экзаменационные варианты». 36 вариантов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105000"/>
              </a:lnSpc>
              <a:spcBef>
                <a:spcPts val="1001"/>
              </a:spcBef>
              <a:spcAft>
                <a:spcPts val="1001"/>
              </a:spcAft>
              <a:buClr>
                <a:srgbClr val="90c226"/>
              </a:buClr>
              <a:buSzPct val="80000"/>
              <a:buFont typeface="Microsoft Sans Serif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333333"/>
                </a:solidFill>
                <a:latin typeface="Microsoft Sans Serif"/>
                <a:ea typeface="Microsoft Sans Serif"/>
              </a:rPr>
              <a:t>Н.А. Сенина и др. «Русский язык. Подготовка к ЕГЭ-2018». 36 тренировочных вариантов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105000"/>
              </a:lnSpc>
              <a:spcBef>
                <a:spcPts val="1001"/>
              </a:spcBef>
              <a:spcAft>
                <a:spcPts val="1001"/>
              </a:spcAft>
              <a:buClr>
                <a:srgbClr val="90c226"/>
              </a:buClr>
              <a:buSzPct val="80000"/>
              <a:buFont typeface="Microsoft Sans Serif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333333"/>
                </a:solidFill>
                <a:latin typeface="Microsoft Sans Serif"/>
                <a:ea typeface="Microsoft Sans Serif"/>
              </a:rPr>
              <a:t>Цыбулько И.П. « ОГЭ-2018. Русский язык. Типовые экзаменационные варианты»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105000"/>
              </a:lnSpc>
              <a:spcBef>
                <a:spcPts val="1001"/>
              </a:spcBef>
              <a:spcAft>
                <a:spcPts val="1001"/>
              </a:spcAft>
              <a:buClr>
                <a:srgbClr val="90c226"/>
              </a:buClr>
              <a:buSzPct val="80000"/>
              <a:buFont typeface="Microsoft Sans Serif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333333"/>
                </a:solidFill>
                <a:latin typeface="Microsoft Sans Serif"/>
                <a:ea typeface="Microsoft Sans Serif"/>
              </a:rPr>
              <a:t>Васильевых И.П. «ОГЭ-2017. Русский язык. Типовые тестовые задания. 36 вариантов»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105000"/>
              </a:lnSpc>
              <a:spcBef>
                <a:spcPts val="1001"/>
              </a:spcBef>
              <a:spcAft>
                <a:spcPts val="1001"/>
              </a:spcAft>
              <a:buClr>
                <a:srgbClr val="90c226"/>
              </a:buClr>
              <a:buSzPct val="80000"/>
              <a:buFont typeface="Microsoft Sans Serif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333333"/>
                </a:solidFill>
                <a:latin typeface="Microsoft Sans Serif"/>
                <a:ea typeface="Microsoft Sans Serif"/>
              </a:rPr>
              <a:t>Егораева Г.Т. «ОГЭ-2017. Сборник экзаменационных тестов»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4T14:41:29Z</dcterms:created>
  <dc:creator>паша</dc:creator>
  <dc:description/>
  <dc:language>en-US</dc:language>
  <cp:lastModifiedBy>S2_14</cp:lastModifiedBy>
  <dcterms:modified xsi:type="dcterms:W3CDTF">2022-11-10T04:19:33Z</dcterms:modified>
  <cp:revision>20</cp:revision>
  <dc:subject/>
  <dc:title>Женская мода  дворянок России XVIII  века</dc:title>
</cp:coreProperties>
</file>