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15E-0E01-4C6D-9F51-B9ACB2B3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F43-5467-4035-BFC5-33640173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41C-2399-4C64-A131-C0AC54E4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573-6E0E-414C-8BE5-C262DFEC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498-936B-4AD3-8164-33B10233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1CBB-E46B-4018-8536-DDC4F2A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9684-1238-4FC0-B9A1-0FEFC086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0D1-08D9-4675-8EE4-A919D0E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765-46F6-41AF-A2C6-D6D9589C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1A5-DAE6-4AC7-8A29-1A4DFA3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02E0-68B3-4EC3-BDDD-DEB12D5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764-DBED-4516-AD96-E3BAE068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946-2C20-4F9A-9917-96341B8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A439-A5A5-416D-91E8-C8CE427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E00-75E3-4069-93C7-B13B298D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90AC-4539-4DCB-BEA6-26EAAF6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CC9-CB38-4FE0-AE84-402C9ABF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0DA4-44CC-43F2-94F3-BCB5AB3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9E8F-E01F-41C1-BB3D-5DD2E2E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3CA7-66C9-4540-B2E5-17FF672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DE2B-2145-4E0C-B323-228EA578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3590-4F96-4264-A029-BF1A6F54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12B-A28A-469D-898B-24347D7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954F-B6B8-4AFF-8508-6BEC2AB5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D548-C5CF-4AE7-B447-274C98C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E187-209C-4941-9C78-CCEFFDA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D1AA-881D-42A8-B3EC-75B9821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30C7-A216-40EC-93E4-21DDEF7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E57A-FD68-46C0-9251-77403E4C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839D-EC9C-4B5B-AB55-77C489DC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89D7-C96D-4B8E-8222-489898B2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BBA5-7BDA-46EC-95EF-735B502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4238-C4E2-4E4F-8E32-F6998735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A3A-A1E7-4B5C-99E8-039206C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9539-5161-4784-A8FD-8CDEFDC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9B59-F52C-4052-B475-7ACB3AE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59C0-BEE7-4164-8BB9-89A8503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6A54-722B-4C49-908F-ACEAAF0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1D1E-0828-42AB-9451-903FEAC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9E33-7A9E-43C6-B626-443194A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C3FD-287D-4972-804E-6547C306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9292-6D8B-4E1E-A94A-68DB1F75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2A17-8444-430C-84F7-D277D150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41B-8441-444A-A3A0-2C04348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465-88E9-49C7-8D89-39267C42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4A3-3595-439F-B05E-82ECACE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62C-66C8-4715-8F1B-A4E09B88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1BC-8769-4EEF-A410-1A37DC36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6D5F4-D91C-45DC-B26A-B3D6DCF996B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2996E-C111-4A6D-838A-42FC3D5B64A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5FE3E-CCFC-4320-8604-E6669B20D3F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E9269-AB78-4966-AE02-97F36AACDA5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Межрегиональная педагогическая конференц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«Современная оценка качества образования как фактор влияния на повышение эффективности образовательного процесса»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68200" y="2160360"/>
            <a:ext cx="3511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ема доклада: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«ГИА по русскому языку как средство проверки и оценки сформированности предметных результатов выпускников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5" descr="C:\Users\S2_14\Desktop\В.А\я.jpg"/>
          <p:cNvPicPr/>
          <p:nvPr/>
        </p:nvPicPr>
        <p:blipFill>
          <a:blip r:embed="rId1"/>
          <a:srcRect l="21624" t="0" r="0" b="0"/>
          <a:stretch/>
        </p:blipFill>
        <p:spPr>
          <a:xfrm>
            <a:off x="395280" y="2060640"/>
            <a:ext cx="3392640" cy="424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«ИМЯ СУЩЕСТВИТЕЛЬНОЕ» 5 КЛАС</a:t>
            </a:r>
            <a:r>
              <a:rPr b="0" lang="ru-RU" sz="3600" spc="-1" strike="noStrike">
                <a:solidFill>
                  <a:srgbClr val="2c3c43"/>
                </a:solidFill>
                <a:latin typeface="Trebuchet MS"/>
              </a:rPr>
              <a:t>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rcRect l="34857" t="26045" r="29584" b="18498"/>
          <a:stretch/>
        </p:blipFill>
        <p:spPr>
          <a:xfrm>
            <a:off x="826920" y="692280"/>
            <a:ext cx="5477040" cy="5905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6348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«НАРЕЧИЕ» 7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34316" t="22059" r="29953" b="17814"/>
          <a:stretch/>
        </p:blipFill>
        <p:spPr>
          <a:xfrm>
            <a:off x="971640" y="981000"/>
            <a:ext cx="6010200" cy="568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6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Итоговая работа в формате ОГЭ </a:t>
            </a:r>
            <a:br>
              <a:rPr sz="3600"/>
            </a:b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6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35403" t="21887" r="29207" b="18070"/>
          <a:stretch/>
        </p:blipFill>
        <p:spPr>
          <a:xfrm>
            <a:off x="1547640" y="1413000"/>
            <a:ext cx="5616720" cy="535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9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Итоговая работа в формате ОГЭ</a:t>
            </a:r>
            <a:br>
              <a:rPr sz="3600"/>
            </a:br>
            <a:r>
              <a:rPr b="1" lang="ru-RU" sz="3600" spc="-1" strike="noStrike">
                <a:solidFill>
                  <a:srgbClr val="2c3c43"/>
                </a:solidFill>
                <a:latin typeface="Microsoft Sans Serif"/>
                <a:ea typeface="Microsoft Sans Serif"/>
              </a:rPr>
              <a:t> 8 клас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31630" t="5316" r="32336" b="13060"/>
          <a:stretch/>
        </p:blipFill>
        <p:spPr>
          <a:xfrm>
            <a:off x="1908000" y="1268280"/>
            <a:ext cx="4392720" cy="5597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бного экзамена ОГ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10520" cy="511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Trebuchet MS"/>
              </a:rPr>
              <a:t>Список литерату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1341000"/>
            <a:ext cx="6986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1650"/>
              </a:lnSpc>
              <a:spcBef>
                <a:spcPts val="1349"/>
              </a:spcBef>
              <a:spcAft>
                <a:spcPts val="67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199043"/>
                </a:solidFill>
                <a:latin typeface="Microsoft Sans Serif"/>
                <a:ea typeface="Microsoft Sans Serif"/>
              </a:rPr>
              <a:t>Список литератур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 «ЕГЭ 2018. Русский язык». 36 типовых вариан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, Васильевых И.П. «ЕГЭ 2018. Русский язык. Типовые экзаменационные варианты». 36 вариант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Н.А. Сенина и др. «Русский язык. Подготовка к ЕГЭ-2018». 36 тренировочных вариант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Цыбулько И.П. « ОГЭ-2018. Русский язык. Типовые экзаменационные варианты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Васильевых И.П. «ОГЭ-2017. Русский язык. Типовые тестовые задания. 36 вариан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Microsoft Sans Serif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Microsoft Sans Serif"/>
                <a:ea typeface="Microsoft Sans Serif"/>
              </a:rPr>
              <a:t>Егораева Г.Т. «ОГЭ-2017. Сборник экзаменационных тестов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4:41:29Z</dcterms:created>
  <dc:creator>паша</dc:creator>
  <dc:description/>
  <dc:language>en-US</dc:language>
  <cp:lastModifiedBy>S2_14</cp:lastModifiedBy>
  <dcterms:modified xsi:type="dcterms:W3CDTF">2022-11-10T04:19:33Z</dcterms:modified>
  <cp:revision>20</cp:revision>
  <dc:subject/>
  <dc:title>Женская мода  дворянок России XVIII  века</dc:title>
</cp:coreProperties>
</file>