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7818-1D88-46DD-A6F5-156700D9A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64EE-F450-4AFE-BF89-0B335D12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32B4-FA69-4A95-9C80-49417409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BEA5-5D04-4B6A-B0AC-2721E2A31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69D0-3CD8-4E88-86E9-2FC357D2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F3CF-CD33-48F8-9BB9-06D5665C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31E4-4DBD-4912-8A86-B14F42E5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1ECF-8AC1-4E6B-A835-ABB24E53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4638-F550-4D79-AD37-1171AE2F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D7BC-38CD-48B0-8F20-C3C7512B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6D55-AEF7-4BA8-B6CC-E9D7FC32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7610-F902-4043-AE8E-17DE3287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1329-A5EF-439B-9D1B-8E2F8AA0D8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Arial"/>
              </a:rPr>
              <a:t>Использование куклотерапии на основе русской обрядовой куклы как оздоровительного фактора в системе восстановительного лечения в условиях санатор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Baskerville Old Face"/>
              </a:rPr>
              <a:t>Лелека Г.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Baskerville Old Face"/>
              </a:rPr>
              <a:t>воспит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Baskerville Old Face"/>
              </a:rPr>
              <a:t>первая квалификационная катег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sun103"/>
          <p:cNvPicPr/>
          <p:nvPr/>
        </p:nvPicPr>
        <p:blipFill>
          <a:blip r:embed="rId1"/>
          <a:stretch/>
        </p:blipFill>
        <p:spPr>
          <a:xfrm>
            <a:off x="228600" y="34920"/>
            <a:ext cx="1752480" cy="14796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1720800" y="304920"/>
            <a:ext cx="742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Baskerville Old Face"/>
              </a:rPr>
              <a:t>ГБУЗ «Детский санаторий 29 ДЗ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04920" y="1523880"/>
            <a:ext cx="861048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28800" y="419112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Кукла Корми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Объект 1" descr=""/>
          <p:cNvPicPr/>
          <p:nvPr/>
        </p:nvPicPr>
        <p:blipFill>
          <a:blip r:embed="rId1"/>
          <a:stretch/>
        </p:blipFill>
        <p:spPr>
          <a:xfrm>
            <a:off x="1828800" y="15228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4723920"/>
            <a:ext cx="8610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рмилка – образ замужней женщины, символ благочестия и достатка. Этой куколке приделывали объемную тряпичную грудь – чтобы дети были всегда сытыми и здоровыми. Она «согревала» местечко в колыбельке до рождения ребенка. После рождения – висела над изголовьем, как оберег от порчи и сглаза. Когда малыш подрастал, с этой куколкой ему позволяли игр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3008520" cy="56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Бог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Объект 7" descr=""/>
          <p:cNvPicPr/>
          <p:nvPr/>
        </p:nvPicPr>
        <p:blipFill>
          <a:blip r:embed="rId1"/>
          <a:stretch/>
        </p:blipFill>
        <p:spPr>
          <a:xfrm>
            <a:off x="4495680" y="380880"/>
            <a:ext cx="4343400" cy="57913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62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 виду Богач - простой мешочек, а на деле верный помощник. При создании Богача думали о своём роде, предках с любовью и благодарностью. Как любому оберегу ему ставилась четкая задача, например: прибыли и достатка на будущий год, защита благополучия семьи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к правило, Богач после изготовления путешествует по дому, выбирает себе место. Замечено ,что после того как место найдено - богач становится незаметным, «невидимы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Богач - мужичок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ара Зерновушка - Крупенич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43434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Кукла Зернушка (Крупенич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Объект 4" descr=""/>
          <p:cNvPicPr/>
          <p:nvPr/>
        </p:nvPicPr>
        <p:blipFill>
          <a:blip r:embed="rId1"/>
          <a:stretch/>
        </p:blipFill>
        <p:spPr>
          <a:xfrm>
            <a:off x="4572000" y="533520"/>
            <a:ext cx="4343400" cy="57909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191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ернушка(еще одно название – Зерновушка, Крупеничка) – простая на внешний вид кукла, но изготовленная с большой любовью, имеет глубокий символический смысл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укла обязательно наполнялась зерном, желательно пшеницей или зерном всяких сортов одновременно, чтобы урожай был богатым на все виды зерновых культур. Зерно в ее матерчатое тельце насыпали после уборочной страды, а затем пузатую куколку устанавливали на амбарных сундуках, чтобы урожай будущий был еще богач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 Руси каша долгое время была основным видом питания, так как зерно имеет мощную жизненную силу, легко усваивается, доступно для взращивания на территории Росс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800" y="464832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Кукла Трав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та кукла наполнена душистой лекарственной травой. Куколку необходимо помять в руках, пошевелить и по комнате разнесется травяной дух, который отгонит духов болезни. Через 2 года траву в куколке необходимо поменять.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Траница"/>
          <p:cNvPicPr/>
          <p:nvPr/>
        </p:nvPicPr>
        <p:blipFill>
          <a:blip r:embed="rId1"/>
          <a:stretch/>
        </p:blipFill>
        <p:spPr>
          <a:xfrm>
            <a:off x="1600200" y="152280"/>
            <a:ext cx="5983200" cy="44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равница следит за тем, чтобы болезнь не проникла в дом. От нее исходит теплота, как от заботливой хозяйки. Она и защитница от злых духов болезни, и добрая утешница.  Ее подвешивали в доме над колыбелью ребенка. Куклу давали играть детям. Еще её ставили около кровати больн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зависимости от травяного наполнителя она будет по –разному воздействовать на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укла Травница для доброго сна. Наполняется опилками, корой, листьями можжевельника и зерном гречихи.</a:t>
            </a:r>
            <a:br>
              <a:rPr sz="2000"/>
            </a:b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дин из вариантов наполнения – трава пустырника, листья мелиссы, цвет ромашки. Подвешивается на спинке кровати или можно положить под подуш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период эпидемий вирусных заболеваний можно изготовить куклу, набитую сосновыми почками или семянками чесно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равница притягивала в дом богат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960" y="228600"/>
            <a:ext cx="380988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Кукла Желан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3886200" y="1522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426672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"Посмотри, какая ты красавица. А за подарочек исполни мое желание». После этого куклу прятали в укромное место. Все желания исполня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и изготовлении этой куклы нельзя пользоваться иголкой и ножницами, только если для вышивки передничка, потому что это кукла оберег. Также важно делать куклу в хорошем настроении и с добрыми мыслями. А завязывая нечетное количество узелков, и прикрепляя юбку или ленточки, произносить добрые пожелания вслух. Это самая нарядная кукла из всех обрядовых кук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304920" y="990720"/>
            <a:ext cx="3429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ньше кукла Желанница была у каждой девочки. Желательно не показывать эту куклу никому. Необходимо загадать желание, которое не принесет вреда окружающим, и привязать кукле в подарок красивую ленточку или сделать для нее любое другое украшение. Потом поднести куклу к зеркалу и показать ей, какая она красавиц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Объект 13" descr=""/>
          <p:cNvPicPr/>
          <p:nvPr/>
        </p:nvPicPr>
        <p:blipFill>
          <a:blip r:embed="rId1"/>
          <a:stretch/>
        </p:blipFill>
        <p:spPr>
          <a:xfrm>
            <a:off x="6772320" y="3352680"/>
            <a:ext cx="2371680" cy="3160800"/>
          </a:xfrm>
          <a:prstGeom prst="rect">
            <a:avLst/>
          </a:prstGeom>
          <a:ln w="0">
            <a:noFill/>
          </a:ln>
        </p:spPr>
      </p:pic>
      <p:pic>
        <p:nvPicPr>
          <p:cNvPr id="80" name="Объект 14" descr=""/>
          <p:cNvPicPr/>
          <p:nvPr/>
        </p:nvPicPr>
        <p:blipFill>
          <a:blip r:embed="rId2"/>
          <a:stretch/>
        </p:blipFill>
        <p:spPr>
          <a:xfrm rot="4999800">
            <a:off x="-720" y="3663000"/>
            <a:ext cx="3290760" cy="2467080"/>
          </a:xfrm>
          <a:prstGeom prst="rect">
            <a:avLst/>
          </a:prstGeom>
          <a:ln w="0">
            <a:noFill/>
          </a:ln>
        </p:spPr>
      </p:pic>
      <p:pic>
        <p:nvPicPr>
          <p:cNvPr id="81" name="Объект 6" descr=""/>
          <p:cNvPicPr/>
          <p:nvPr/>
        </p:nvPicPr>
        <p:blipFill>
          <a:blip r:embed="rId3"/>
          <a:stretch/>
        </p:blipFill>
        <p:spPr>
          <a:xfrm>
            <a:off x="304920" y="68400"/>
            <a:ext cx="5157720" cy="3867120"/>
          </a:xfrm>
          <a:prstGeom prst="rect">
            <a:avLst/>
          </a:prstGeom>
          <a:ln w="0">
            <a:noFill/>
          </a:ln>
        </p:spPr>
      </p:pic>
      <p:sp>
        <p:nvSpPr>
          <p:cNvPr id="82" name="TextBox 16"/>
          <p:cNvSpPr/>
          <p:nvPr/>
        </p:nvSpPr>
        <p:spPr>
          <a:xfrm>
            <a:off x="5638680" y="114300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Уголок русской обрядово-обережной куклы в мастерской «Фантазер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17" descr=""/>
          <p:cNvPicPr/>
          <p:nvPr/>
        </p:nvPicPr>
        <p:blipFill>
          <a:blip r:embed="rId4"/>
          <a:stretch/>
        </p:blipFill>
        <p:spPr>
          <a:xfrm>
            <a:off x="2719440" y="3935520"/>
            <a:ext cx="4010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49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Baskerville Old Face"/>
              </a:rPr>
              <a:t>Процесс изготовления куклы снимает напряжение, способствует нормализации эмоционального фона, повышению уровня самооценки, развивает мелкую моторику, творчество, вообра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ебенок обретает навыки и умения самостоятельного изготовления необычного, оригинального подарка «со смыслом» для близких и друзей, получая сам радость от изготовления такого «теплого» изде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вместное участие ребенка и взрослого в занятиях сближает их, происходит положительная коррекция во взаимоотношениях ребенка и сопровождающего л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се это в совокупности благоприятно влияет на эмоциональную сферу ребенка, является положительным фоном для более успешного оздоровления детей в санат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ff"/>
                </a:solidFill>
                <a:latin typeface="Baskerville Old Face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sun103"/>
          <p:cNvPicPr/>
          <p:nvPr/>
        </p:nvPicPr>
        <p:blipFill>
          <a:blip r:embed="rId1"/>
          <a:stretch/>
        </p:blipFill>
        <p:spPr>
          <a:xfrm>
            <a:off x="1676520" y="1447920"/>
            <a:ext cx="594828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е только дети, но часто и взрослые не владеют способами регуляции психоэмоционального состояния. Часто родители просто не владеют знаниями, умениями организации свободного времени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уществует множество эффективных немедикоментозных методов и приемов, снятия напряжения, нормализации психоэмоциональной сферы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дним из них является куклотерап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уклотерапия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– это метод воздействия на здоровье человека через психоэмоциональную его составляющую с помощью кукол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Люди издавна придавали кукле таинственный мистический смыс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авным-давно их делали не для продажи, а для себя – как обереги, как ритуальные и обрядовые символы. Верили, что куклы способны защитить, отвести беду, вылечить болезни, избавить от бессонницы, поспособствовать урожаю, привлечь в дом счастье, богатство, лад и проч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уществует легенда о том, что однажды зимой в крестьянской семье, жившей в лесной избе, заболел ребёнок. Мальчик угасал и всё спрашивал, когда придёт лето. Отец, чтобы облегчить страдания сына, вырезал из сосны птиц и развесил их по избе. Сын начал выздоравли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28600" y="304560"/>
            <a:ext cx="86104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укол мастерили (сматывали, скручивали, сворачивали) неспешно, обстоятельно. С надеждой и, главное, с большой любовью. А потому в процессе изготовления не использовали ни ножниц, ни иголок. Нити рвали руками, так же поступали и с тканью – лоскутами ношеной одежды или бывшего в использовании постельного белья. И обязательно использовали ткань природную (натуральную) и «счастливую», ту, что носили в хороший жизненный период, не омраченный ни бедами, ни стресс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етали кукол не сшивали, а связывали между собой, приматывали друг к дружке. В некоторых случаях навивали нити «по солнышку», т. е. с востока на запад, в других – по особой схеме, избегая повторных витков. При этом формулировали желания, напевали, приговаривали или читали молитвы (и только в редких специальных случаях хранили полное безмолвие)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тсюда и положительная энергетика, которую мы, глядя на результат, неосознанно чувствуем. Отсюда ощущение уюта, спокойствия и теп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ециалисты называю этот эффект симпатической магией, т. е. способностью вещей воздействовать друг на друга на расстоянии, передавая импульсы посредством чего-то весьма похожего на эфи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441972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57913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имечательно, что в большинстве случаев кукол оставляли безликими – даже приблизительно не намечали ни глаз, ни ртов, ни носов. И это подчеркивало неодушевленность предм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гласно поверью, безликая кукла не сможет стать чьим-либо двойником и, следовательно, никогда не причинит вред человеку. Ни намеренно, ни случайно. Единственное, чем допускалось отмечать кукольные лица – это крест (древний могущественный солнечный знак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некоторых случаях именно он придавал текстильной или соломенной фигурке магический статус обере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се технологии изготовления обрядово-обережных народных кукол просты и не требуют особенных усил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грушки никогда не оставляли на улице, не разбрасывали по избе, а берегли в корзинах, коробах, запирали в ларч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4" descr="mhtml:file://F:\Зачем%20и%20как%20делать%20куклы%20своими%20руками_%20-%20Ярмарка%20Мастеров%20-%20ручная%20работа,%20handmade.mht!http://shkolazhizni.ru/img/content/i63/63531.jpg"/>
          <p:cNvPicPr/>
          <p:nvPr/>
        </p:nvPicPr>
        <p:blipFill>
          <a:blip r:embed="rId1"/>
          <a:stretch/>
        </p:blipFill>
        <p:spPr>
          <a:xfrm>
            <a:off x="5943600" y="380880"/>
            <a:ext cx="30686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4"/>
          <p:cNvSpPr/>
          <p:nvPr/>
        </p:nvSpPr>
        <p:spPr>
          <a:xfrm>
            <a:off x="685800" y="685800"/>
            <a:ext cx="7924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Далее я представлю несколько кукол из множества видов народной тряпичной куклы, которые можно делать с детьми разных возрас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Любая из кукол может стать для ребенка не просто игрушко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но и оберегом, талисман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Это замечательные подарки на любой случай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Перед их изготовлением обязательно должна быть дана установка на добрые мысли, добрые пожел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3008160" cy="94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Кукла Кува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Объект 1" descr=""/>
          <p:cNvPicPr/>
          <p:nvPr/>
        </p:nvPicPr>
        <p:blipFill>
          <a:blip r:embed="rId1"/>
          <a:stretch/>
        </p:blipFill>
        <p:spPr>
          <a:xfrm>
            <a:off x="3886200" y="206280"/>
            <a:ext cx="4759200" cy="6346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увадка (или Куватка) – одна из самых простых обережных куколок. Ее делали накануне рождения ребенка (за две недели максимум) и вывешивали в избе, чтобы отвлекать внимание злых духов от роженицы и младенца. Позже кукол стали укладывать в колыбельки. Кувадки и защищали новорожденных, и служили им первыми игрушками. Обычно в связке бывает от 3 до 5 кукол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акую куколку ребенок может сделать для себя или подарить братику, сестричке, друг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Кукла Десятиру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Объект 4" descr=""/>
          <p:cNvPicPr/>
          <p:nvPr/>
        </p:nvPicPr>
        <p:blipFill>
          <a:blip r:embed="rId1"/>
          <a:stretch/>
        </p:blipFill>
        <p:spPr>
          <a:xfrm>
            <a:off x="4267080" y="457200"/>
            <a:ext cx="4419720" cy="58928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3733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есятиручка (еще ее называют Многоручкой), помогает своему обладателю справляться с большими объемами любой работы. Таких куколок в качестве свадебного подарка подружки преподносили невестам, чтобы у молодых хозяюшек спорились дела.</a:t>
            </a:r>
            <a:br>
              <a:rPr sz="2000"/>
            </a:b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ебенок может подарить такую куклу маме, бабушке, чтобы все успевали делать их ручки и никогда не устав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6400" y="151920"/>
            <a:ext cx="259092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Куклы лихорад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152280" y="1295280"/>
            <a:ext cx="29718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амый известный оберег – это тринадцать куколок Лихорадок (другое название -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естры Трясовицы). Их ровной связкой вешали на стену. Куклы олицетворяли собой и родовых дочерей, духов болезней в образе женщин с разными именами (один из множества существующих вариантов: Авея, Немея, Желтея, Дремлея, Дряхлея, Огнея, Ледея, Глухея, Пухлея, Ломея, Ленея, Трясе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152280" y="4564080"/>
            <a:ext cx="887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 старшая сестра Кумоха). Считалось, что, узрев в доме своего мини-двойника, незваная болезнь вселится в куклу, а не в челове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род видел болезни так: Ледея – озноб; Ломея - ломает, болят ноги, руки; Огнея – жар; Трясея – лихорадка; Пухлея - опухоль, отеки.</a:t>
            </a:r>
            <a:br>
              <a:rPr sz="1600"/>
            </a:b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 так каждую, по названию можно было понять, что это за недуг.     </a:t>
            </a:r>
            <a:br>
              <a:rPr sz="1600"/>
            </a:b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 имени их не называли, потому что этим можно было привлечь болезнь, называли тет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82948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узяль Андержанова</cp:lastModifiedBy>
  <dcterms:modified xsi:type="dcterms:W3CDTF">2023-04-08T20:07:22Z</dcterms:modified>
  <cp:revision>9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