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CAC-4884-4ECF-9536-E2C42BBF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12A-80D1-461E-9365-A6442422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793-2FF6-449A-B6A6-57682ACE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902-4468-4AE9-987F-AD0632B1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D06D-617E-45E6-8440-F1AC7DE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3E12-E259-420A-9C8F-7BC8B0A6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91B-04B8-4969-9EE1-00C8DC9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2EB-851B-47C5-9BAF-C18BD53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8C59-1AFA-491D-8FCB-68D04F1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328-4659-4490-97CA-D912AB2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FA1C-95A8-4858-8AE0-768D438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B68-CE99-4A5D-8AFA-2931BA1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74F4-E117-4AC3-9F3D-A4F714A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447-BB16-4D17-A4F0-D5C8C1D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435-A69A-48A6-90BE-E6705D61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2F39-4B2C-4C84-80B6-78FC6782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E7FA-0E69-40CF-9F05-1652E6B3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50C-5D55-4DC3-AC7B-74237933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B8-9C2E-4472-9ABB-B376BE1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C8E-265C-4729-AAC5-3C8C7366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793-A4C7-4B0B-83A2-BDCD442A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562-1CAF-49A7-BC7F-4819A328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0C5-5E63-403E-BA6F-2DDEB97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3E4-0BE5-4DEF-9C65-6730DA2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B90F-DC04-47EE-A967-89271866A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668D-0E2E-443C-AE1A-F3F9A16247F6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57160" y="3886200"/>
            <a:ext cx="71438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По тропе старого Магдауля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99"/>
                </a:solidFill>
                <a:latin typeface="Times New Roman"/>
              </a:rPr>
              <a:t>Цель: Изучение культуры эвенков посредством погружения в их бытовую жизнь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714240" y="19998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Бурятия – пространство впечатлений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428760" y="21420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Автор: Гилаш Снежан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Ученица 11 класс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91a10"/>
                </a:solidFill>
                <a:latin typeface="Times New Roman"/>
              </a:rPr>
              <a:t>Руководитель: педагог-организатор Зарубина Л.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" descr="16"/>
          <p:cNvPicPr/>
          <p:nvPr/>
        </p:nvPicPr>
        <p:blipFill>
          <a:blip r:embed="rId1"/>
          <a:stretch/>
        </p:blipFill>
        <p:spPr>
          <a:xfrm>
            <a:off x="2987640" y="446040"/>
            <a:ext cx="6156360" cy="4016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zabava-02121819034803_6"/>
          <p:cNvPicPr/>
          <p:nvPr/>
        </p:nvPicPr>
        <p:blipFill>
          <a:blip r:embed="rId2"/>
          <a:stretch/>
        </p:blipFill>
        <p:spPr>
          <a:xfrm>
            <a:off x="0" y="3240000"/>
            <a:ext cx="5214960" cy="3475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0" y="7142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а «Маута» (Метание аркана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TextBox 8"/>
          <p:cNvSpPr/>
          <p:nvPr/>
        </p:nvSpPr>
        <p:spPr>
          <a:xfrm>
            <a:off x="6143760" y="4786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овая охота (по чучелам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3" descr="2022_7g3x2149.jpg"/>
          <p:cNvPicPr/>
          <p:nvPr/>
        </p:nvPicPr>
        <p:blipFill>
          <a:blip r:embed="rId1"/>
          <a:stretch/>
        </p:blipFill>
        <p:spPr>
          <a:xfrm>
            <a:off x="0" y="642960"/>
            <a:ext cx="5929200" cy="39466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7000920" y="7858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Игра «Тангматкан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9" name="Рисунок 4" descr="50b1ed98b825e9cf.jpg"/>
          <p:cNvPicPr/>
          <p:nvPr/>
        </p:nvPicPr>
        <p:blipFill>
          <a:blip r:embed="rId2"/>
          <a:stretch/>
        </p:blipFill>
        <p:spPr>
          <a:xfrm>
            <a:off x="2938320" y="3357720"/>
            <a:ext cx="6205680" cy="32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19539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8" descr="3boqmGQfsus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1643040" y="500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Мастер-классы по сборке и разборке чум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5" descr="shamanstvo-evenkov-v2.orig.jpg"/>
          <p:cNvPicPr/>
          <p:nvPr/>
        </p:nvPicPr>
        <p:blipFill>
          <a:blip r:embed="rId1"/>
          <a:stretch/>
        </p:blipFill>
        <p:spPr>
          <a:xfrm>
            <a:off x="428760" y="928800"/>
            <a:ext cx="8161200" cy="57132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1428840" y="5000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159"/>
                </a:solidFill>
                <a:latin typeface="Arial"/>
              </a:rPr>
              <a:t>Эвенкийский обряд перед охотой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ализация проекта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Долина реки Ины известна своими святыми местами и лечебными источниками. Прекрасное место для туризма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7" name="Содержимое 7" descr="th.jpg"/>
          <p:cNvPicPr/>
          <p:nvPr/>
        </p:nvPicPr>
        <p:blipFill>
          <a:blip r:embed="rId2"/>
          <a:stretch/>
        </p:blipFill>
        <p:spPr>
          <a:xfrm>
            <a:off x="285840" y="3143160"/>
            <a:ext cx="85010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3A_OSz8e0K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cropped-alla-kurumkan-view-1-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4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 Выявить актуальность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2. Статистика туризма Бурят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1.3. Статистика популярности маршрутов/экскурси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2. Изучить бытовую жизнь и традиции Эвенков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 Регламент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1. Распорядок дн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2. Макет чум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3. Традиционная одежда. (летний вариант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3.4. Рекламные буклеты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4. Реализация проект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5. Заключение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2" descr="28378_original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3"/>
          <p:cNvSpPr/>
          <p:nvPr/>
        </p:nvSpPr>
        <p:spPr>
          <a:xfrm>
            <a:off x="539640" y="476280"/>
            <a:ext cx="741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404176"/>
                </a:solidFill>
                <a:uFillTx/>
                <a:latin typeface="Arial"/>
              </a:rPr>
              <a:t>Эвенки – аристократы Сибири, французы тундры и тайг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(Дополнить историю/фото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0" name="Picture 7" descr="evenk14"/>
          <p:cNvPicPr/>
          <p:nvPr/>
        </p:nvPicPr>
        <p:blipFill>
          <a:blip r:embed="rId2"/>
          <a:stretch/>
        </p:blipFill>
        <p:spPr>
          <a:xfrm>
            <a:off x="0" y="620640"/>
            <a:ext cx="4710240" cy="583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evenk5"/>
          <p:cNvPicPr/>
          <p:nvPr/>
        </p:nvPicPr>
        <p:blipFill>
          <a:blip r:embed="rId3"/>
          <a:stretch/>
        </p:blipFill>
        <p:spPr>
          <a:xfrm>
            <a:off x="4754520" y="620640"/>
            <a:ext cx="43894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og_og_1486445297224430108"/>
          <p:cNvPicPr/>
          <p:nvPr/>
        </p:nvPicPr>
        <p:blipFill>
          <a:blip r:embed="rId1"/>
          <a:stretch/>
        </p:blipFill>
        <p:spPr>
          <a:xfrm>
            <a:off x="0" y="0"/>
            <a:ext cx="9144000" cy="47829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0"/>
          <p:cNvSpPr/>
          <p:nvPr/>
        </p:nvSpPr>
        <p:spPr>
          <a:xfrm>
            <a:off x="179280" y="4869000"/>
            <a:ext cx="871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в </a:t>
            </a:r>
            <a:r>
              <a:rPr b="1" i="1" lang="en-US" sz="1800" spc="-1" strike="noStrike">
                <a:solidFill>
                  <a:srgbClr val="404176"/>
                </a:solidFill>
                <a:latin typeface="Arial"/>
              </a:rPr>
              <a:t>XII-XVI</a:t>
            </a: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 веках, в Байкальском регионе эвенки занимали районы Баргузинской и Баунтовской тайги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176"/>
                </a:solidFill>
                <a:latin typeface="Arial"/>
              </a:rPr>
              <a:t>Длительное время наиболее значительным местом расселения эвенков была долина по реке Баргузин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Object 5"/>
          <p:cNvGraphicFramePr/>
          <p:nvPr/>
        </p:nvGraphicFramePr>
        <p:xfrm>
          <a:off x="-217440" y="765000"/>
          <a:ext cx="9361440" cy="567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7440" y="765000"/>
                    <a:ext cx="936144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7"/>
          <p:cNvGraphicFramePr/>
          <p:nvPr/>
        </p:nvGraphicFramePr>
        <p:xfrm>
          <a:off x="185760" y="549360"/>
          <a:ext cx="866124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549360"/>
                    <a:ext cx="86612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гламент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Отрыв от цивилизац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Навыки выжива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Жизнь в чум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Традиционная кухн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Мастер-классы. (приготовление национальных блюд, рыбалка и игровая охота, сборка чума, изготовление сувенира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Традиционные эвенкийские обряды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аспорядок дн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Заезд в 7:00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Завтрак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Сборы в дорогу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Рыболовств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Обед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Мастер-классы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Создание сувениров (для женщин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2335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35c"/>
                </a:solidFill>
                <a:latin typeface="Times New Roman"/>
              </a:rPr>
              <a:t>Игровая охота, проведение обряда на охоту (для мужчин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Ужин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Установка чум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Развлекательная программа (эвенкийские игры, танцы, обряды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Сон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35c"/>
                </a:solidFill>
                <a:latin typeface="Times New Roman"/>
              </a:rPr>
              <a:t>(Выезд на следующий день 6:00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4T15:21:13Z</dcterms:created>
  <dc:creator>User</dc:creator>
  <dc:description/>
  <dc:language>en-US</dc:language>
  <cp:lastModifiedBy>User</cp:lastModifiedBy>
  <dcterms:modified xsi:type="dcterms:W3CDTF">2023-04-09T07:29:55Z</dcterms:modified>
  <cp:revision>11</cp:revision>
  <dc:subject/>
  <dc:title>Бурятия – пространство впечатлений.</dc:title>
</cp:coreProperties>
</file>