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852-F84E-4300-ABD0-82DD7746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8B4-84AE-455F-9C8E-554859C7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608-93AA-4459-9F5D-2B0E87C8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980-71EA-4AF5-82E5-F7B3504C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9F94-B58B-4106-A401-A139763F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439A-6EBD-4933-86A5-178405EF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F66F-68FE-4BBE-9B04-34FD92AD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D912-1BF8-4025-9C60-2832FED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D480-E9D4-444A-8E9B-BCA0A685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CEF3-BD5A-4D25-B195-23663AEB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07E9-A229-4E50-BD35-5D44330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308-7547-4454-B381-72F22BD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BA7B-08C9-4C87-BB3E-9064E2F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50F5-2043-47B1-9AA7-4CDFEFC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5B7D-FD3E-44B0-967D-66344D2C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EEC7-C2B9-42CA-BEDB-38F31C1F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7AE6-7F6C-4967-A2AD-03682B8D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EA0-C489-4C0A-82DF-9B031B37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62C-5801-474B-B9FC-FE60A450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855-CA8F-4940-A97F-B7DCF367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B39-2BD0-4278-A783-CB886C5A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0B2-B711-4204-8DDB-67A3E0D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85A-F213-474B-9FBD-5DD357EC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96F-FDCE-4EE4-A690-0523BA9A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B5ED-CC80-4585-A40C-C2B102151C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D4C-A037-4273-A281-7A1F12D96729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Использование активных форм обучения в условиях реализации ФГОС на уроках английского языка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итель английского языка Будакова О.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КОУ «Эртильская СОШ №1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о-коммуникационные технолог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ают возможность оперативно сочетать разнообразные средства, способствующие более глубокому и осознанному усвоению изучаемого материала, экономят время урока, насыщают его информацией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активных форм обучения на учащих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способствуют лучшему запоминанию учащимися лексических единиц и грамматических структур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стимулируют самостоятельную речемыслительную деятельность учащихся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ктивизируют познавательную деятельность учащихся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положительно влияют на развитие личности ребён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ают эффективность образовательного процес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AutoShape 4">
            <a:hlinkClick r:id="" action="ppaction://hlinkshowjump?jump=firs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30189" y="3837"/>
                </a:moveTo>
                <a:lnTo>
                  <a:pt x="32766" y="6448"/>
                </a:lnTo>
                <a:lnTo>
                  <a:pt x="32766" y="4707"/>
                </a:lnTo>
                <a:lnTo>
                  <a:pt x="34541" y="4707"/>
                </a:lnTo>
                <a:lnTo>
                  <a:pt x="34541" y="8224"/>
                </a:lnTo>
                <a:lnTo>
                  <a:pt x="37152" y="10800"/>
                </a:lnTo>
                <a:lnTo>
                  <a:pt x="35499" y="10800"/>
                </a:lnTo>
                <a:lnTo>
                  <a:pt x="35499" y="17989"/>
                </a:lnTo>
                <a:lnTo>
                  <a:pt x="24880" y="17989"/>
                </a:lnTo>
                <a:lnTo>
                  <a:pt x="24880" y="10800"/>
                </a:lnTo>
                <a:lnTo>
                  <a:pt x="23226" y="10800"/>
                </a:lnTo>
                <a:close/>
              </a:path>
              <a:path fill="darkenLess" w="60379" h="21600">
                <a:moveTo>
                  <a:pt x="32766" y="6448"/>
                </a:moveTo>
                <a:lnTo>
                  <a:pt x="32766" y="4707"/>
                </a:lnTo>
                <a:lnTo>
                  <a:pt x="34541" y="4707"/>
                </a:lnTo>
                <a:lnTo>
                  <a:pt x="34541" y="8224"/>
                </a:lnTo>
                <a:close/>
              </a:path>
              <a:path fill="darkenLess" w="60379" h="21600">
                <a:moveTo>
                  <a:pt x="29267" y="14299"/>
                </a:moveTo>
                <a:lnTo>
                  <a:pt x="31112" y="14299"/>
                </a:lnTo>
                <a:lnTo>
                  <a:pt x="31112" y="17989"/>
                </a:lnTo>
                <a:lnTo>
                  <a:pt x="35499" y="17989"/>
                </a:lnTo>
                <a:lnTo>
                  <a:pt x="35499" y="10800"/>
                </a:lnTo>
                <a:lnTo>
                  <a:pt x="24880" y="10800"/>
                </a:lnTo>
                <a:lnTo>
                  <a:pt x="24880" y="17989"/>
                </a:lnTo>
                <a:lnTo>
                  <a:pt x="29267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ебные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дачей каждой игры является формирование умений в определённых  видах речевой деятель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Игры обогащают язык и закрепляют запас слов учащихся, сосредотачивают внимание на оттенках их значени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активизируют мыслительные и познавательные процессы учащихся, повышают мотивацию к изучению иностранного язы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расширяют кругозор, творческую активность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развивают память, мышление, воображение, сообразительность, творческие способности, воспитывают инициативнос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AutoShape 4">
            <a:hlinkClick r:id="" action="ppaction://hlinkshowjump?jump=firstslide"/>
          </p:cNvPr>
          <p:cNvSpPr/>
          <p:nvPr/>
        </p:nvSpPr>
        <p:spPr>
          <a:xfrm>
            <a:off x="7956720" y="6237360"/>
            <a:ext cx="1042920" cy="4665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8263" h="21600">
                <a:moveTo>
                  <a:pt x="0" y="0"/>
                </a:moveTo>
                <a:lnTo>
                  <a:pt x="48263" y="0"/>
                </a:lnTo>
                <a:lnTo>
                  <a:pt x="48263" y="21600"/>
                </a:lnTo>
                <a:lnTo>
                  <a:pt x="0" y="21600"/>
                </a:lnTo>
                <a:close/>
              </a:path>
              <a:path fill="lightenLess" w="48263" h="21600">
                <a:moveTo>
                  <a:pt x="0" y="0"/>
                </a:moveTo>
                <a:lnTo>
                  <a:pt x="48263" y="0"/>
                </a:lnTo>
                <a:lnTo>
                  <a:pt x="46863" y="1400"/>
                </a:lnTo>
                <a:lnTo>
                  <a:pt x="1400" y="1400"/>
                </a:lnTo>
                <a:close/>
              </a:path>
              <a:path fill="darken" w="48263" h="21600">
                <a:moveTo>
                  <a:pt x="48263" y="0"/>
                </a:moveTo>
                <a:lnTo>
                  <a:pt x="48263" y="21600"/>
                </a:lnTo>
                <a:lnTo>
                  <a:pt x="46863" y="20200"/>
                </a:lnTo>
                <a:lnTo>
                  <a:pt x="46863" y="1400"/>
                </a:lnTo>
                <a:close/>
              </a:path>
              <a:path fill="darkenLess" w="48263" h="21600">
                <a:moveTo>
                  <a:pt x="48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63" y="20200"/>
                </a:lnTo>
                <a:close/>
              </a:path>
              <a:path fill="lighten" w="48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63" h="21600">
                <a:moveTo>
                  <a:pt x="24131" y="3837"/>
                </a:moveTo>
                <a:lnTo>
                  <a:pt x="26708" y="6448"/>
                </a:lnTo>
                <a:lnTo>
                  <a:pt x="26708" y="4707"/>
                </a:lnTo>
                <a:lnTo>
                  <a:pt x="28483" y="4707"/>
                </a:lnTo>
                <a:lnTo>
                  <a:pt x="28483" y="8224"/>
                </a:lnTo>
                <a:lnTo>
                  <a:pt x="31094" y="10800"/>
                </a:lnTo>
                <a:lnTo>
                  <a:pt x="29441" y="10800"/>
                </a:lnTo>
                <a:lnTo>
                  <a:pt x="29441" y="17989"/>
                </a:lnTo>
                <a:lnTo>
                  <a:pt x="18822" y="17989"/>
                </a:lnTo>
                <a:lnTo>
                  <a:pt x="18822" y="10800"/>
                </a:lnTo>
                <a:lnTo>
                  <a:pt x="17168" y="10800"/>
                </a:lnTo>
                <a:close/>
              </a:path>
              <a:path fill="darkenLess" w="48263" h="21600">
                <a:moveTo>
                  <a:pt x="26708" y="6448"/>
                </a:moveTo>
                <a:lnTo>
                  <a:pt x="26708" y="4707"/>
                </a:lnTo>
                <a:lnTo>
                  <a:pt x="28483" y="4707"/>
                </a:lnTo>
                <a:lnTo>
                  <a:pt x="28483" y="8224"/>
                </a:lnTo>
                <a:close/>
              </a:path>
              <a:path fill="darkenLess" w="48263" h="21600">
                <a:moveTo>
                  <a:pt x="23209" y="14299"/>
                </a:moveTo>
                <a:lnTo>
                  <a:pt x="25054" y="14299"/>
                </a:lnTo>
                <a:lnTo>
                  <a:pt x="25054" y="17989"/>
                </a:lnTo>
                <a:lnTo>
                  <a:pt x="29441" y="17989"/>
                </a:lnTo>
                <a:lnTo>
                  <a:pt x="29441" y="10800"/>
                </a:lnTo>
                <a:lnTo>
                  <a:pt x="18822" y="10800"/>
                </a:lnTo>
                <a:lnTo>
                  <a:pt x="18822" y="17989"/>
                </a:lnTo>
                <a:lnTo>
                  <a:pt x="23209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левые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олевые игры – это эффективный способ вовлечь учащихся в коммуникаци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олевая игра – это методический приём, относящийся к группе активных способов обучения практическому владению иностранным языко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олевые игры и задания развивают и совершенствуют речемыслительную деятельнос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8101080" y="6381720"/>
            <a:ext cx="1042920" cy="476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879" y="1400"/>
                </a:lnTo>
                <a:lnTo>
                  <a:pt x="1400" y="140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879" y="20200"/>
                </a:lnTo>
                <a:lnTo>
                  <a:pt x="45879" y="140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79" y="2020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79" h="21600">
                <a:moveTo>
                  <a:pt x="23639" y="3837"/>
                </a:moveTo>
                <a:lnTo>
                  <a:pt x="26216" y="6448"/>
                </a:lnTo>
                <a:lnTo>
                  <a:pt x="26216" y="4707"/>
                </a:lnTo>
                <a:lnTo>
                  <a:pt x="27991" y="4707"/>
                </a:lnTo>
                <a:lnTo>
                  <a:pt x="27991" y="8224"/>
                </a:lnTo>
                <a:lnTo>
                  <a:pt x="30602" y="10800"/>
                </a:lnTo>
                <a:lnTo>
                  <a:pt x="28949" y="10800"/>
                </a:lnTo>
                <a:lnTo>
                  <a:pt x="28949" y="17989"/>
                </a:lnTo>
                <a:lnTo>
                  <a:pt x="18330" y="17989"/>
                </a:lnTo>
                <a:lnTo>
                  <a:pt x="18330" y="10800"/>
                </a:lnTo>
                <a:lnTo>
                  <a:pt x="16676" y="10800"/>
                </a:lnTo>
                <a:close/>
              </a:path>
              <a:path fill="darkenLess" w="47279" h="21600">
                <a:moveTo>
                  <a:pt x="26216" y="6448"/>
                </a:moveTo>
                <a:lnTo>
                  <a:pt x="26216" y="4707"/>
                </a:lnTo>
                <a:lnTo>
                  <a:pt x="27991" y="4707"/>
                </a:lnTo>
                <a:lnTo>
                  <a:pt x="27991" y="8224"/>
                </a:lnTo>
                <a:close/>
              </a:path>
              <a:path fill="darkenLess" w="47279" h="21600">
                <a:moveTo>
                  <a:pt x="22717" y="14299"/>
                </a:moveTo>
                <a:lnTo>
                  <a:pt x="24562" y="14299"/>
                </a:lnTo>
                <a:lnTo>
                  <a:pt x="24562" y="17989"/>
                </a:lnTo>
                <a:lnTo>
                  <a:pt x="28949" y="17989"/>
                </a:lnTo>
                <a:lnTo>
                  <a:pt x="28949" y="10800"/>
                </a:lnTo>
                <a:lnTo>
                  <a:pt x="18330" y="10800"/>
                </a:lnTo>
                <a:lnTo>
                  <a:pt x="18330" y="17989"/>
                </a:lnTo>
                <a:lnTo>
                  <a:pt x="22717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ммуникативные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ммуникативные игры способствуют осуществлению следующих задач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научить учащихся выражать мысли в их логической последовательност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обучать учащихся речевой реакции в процессе коммуникац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8101080" y="6453360"/>
            <a:ext cx="1042920" cy="404640"/>
          </a:xfrm>
          <a:custGeom>
            <a:avLst/>
            <a:gdLst>
              <a:gd name="textAreaLeft" fmla="*/ 25920 w 1042920"/>
              <a:gd name="textAreaRight" fmla="*/ 1017000 w 1042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5642" h="21600">
                <a:moveTo>
                  <a:pt x="0" y="0"/>
                </a:moveTo>
                <a:lnTo>
                  <a:pt x="55642" y="0"/>
                </a:lnTo>
                <a:lnTo>
                  <a:pt x="55642" y="21600"/>
                </a:lnTo>
                <a:lnTo>
                  <a:pt x="0" y="21600"/>
                </a:lnTo>
                <a:close/>
              </a:path>
              <a:path fill="lightenLess" w="55642" h="21600">
                <a:moveTo>
                  <a:pt x="0" y="0"/>
                </a:moveTo>
                <a:lnTo>
                  <a:pt x="55642" y="0"/>
                </a:lnTo>
                <a:lnTo>
                  <a:pt x="54242" y="1400"/>
                </a:lnTo>
                <a:lnTo>
                  <a:pt x="1400" y="1400"/>
                </a:lnTo>
                <a:close/>
              </a:path>
              <a:path fill="darken" w="55642" h="21600">
                <a:moveTo>
                  <a:pt x="55642" y="0"/>
                </a:moveTo>
                <a:lnTo>
                  <a:pt x="55642" y="21600"/>
                </a:lnTo>
                <a:lnTo>
                  <a:pt x="54242" y="20200"/>
                </a:lnTo>
                <a:lnTo>
                  <a:pt x="54242" y="1400"/>
                </a:lnTo>
                <a:close/>
              </a:path>
              <a:path fill="darkenLess" w="55642" h="21600">
                <a:moveTo>
                  <a:pt x="5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42" y="20200"/>
                </a:lnTo>
                <a:close/>
              </a:path>
              <a:path fill="lighten" w="5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42" h="21600">
                <a:moveTo>
                  <a:pt x="27821" y="3837"/>
                </a:moveTo>
                <a:lnTo>
                  <a:pt x="30397" y="6448"/>
                </a:lnTo>
                <a:lnTo>
                  <a:pt x="30397" y="4707"/>
                </a:lnTo>
                <a:lnTo>
                  <a:pt x="32173" y="4707"/>
                </a:lnTo>
                <a:lnTo>
                  <a:pt x="32173" y="8224"/>
                </a:lnTo>
                <a:lnTo>
                  <a:pt x="34784" y="10800"/>
                </a:lnTo>
                <a:lnTo>
                  <a:pt x="33130" y="10800"/>
                </a:lnTo>
                <a:lnTo>
                  <a:pt x="33130" y="17989"/>
                </a:lnTo>
                <a:lnTo>
                  <a:pt x="22512" y="17989"/>
                </a:lnTo>
                <a:lnTo>
                  <a:pt x="22512" y="10800"/>
                </a:lnTo>
                <a:lnTo>
                  <a:pt x="20858" y="10800"/>
                </a:lnTo>
                <a:close/>
              </a:path>
              <a:path fill="darkenLess" w="55642" h="21600">
                <a:moveTo>
                  <a:pt x="30397" y="6448"/>
                </a:moveTo>
                <a:lnTo>
                  <a:pt x="30397" y="4707"/>
                </a:lnTo>
                <a:lnTo>
                  <a:pt x="32173" y="4707"/>
                </a:lnTo>
                <a:lnTo>
                  <a:pt x="32173" y="8224"/>
                </a:lnTo>
                <a:close/>
              </a:path>
              <a:path fill="darkenLess" w="55642" h="21600">
                <a:moveTo>
                  <a:pt x="26898" y="14299"/>
                </a:moveTo>
                <a:lnTo>
                  <a:pt x="28743" y="14299"/>
                </a:lnTo>
                <a:lnTo>
                  <a:pt x="28743" y="17989"/>
                </a:lnTo>
                <a:lnTo>
                  <a:pt x="33130" y="17989"/>
                </a:lnTo>
                <a:lnTo>
                  <a:pt x="33130" y="10800"/>
                </a:lnTo>
                <a:lnTo>
                  <a:pt x="22512" y="10800"/>
                </a:lnTo>
                <a:lnTo>
                  <a:pt x="22512" y="17989"/>
                </a:lnTo>
                <a:lnTo>
                  <a:pt x="26898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вижные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вижные игры создают благоприятную почву для развития двигательной активности детей, укрепления их здоровья, способствует решению определённых учебно-воспитательных задач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вижные игры способствуют процессу запоминания слов и фраз, так как инструкции повторяются много раз и ассоциируются с определёнными передвижениями. К тому же, эта лексика эмоционально окрашена, что также облегчает запомина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8101080" y="6308640"/>
            <a:ext cx="934920" cy="549360"/>
          </a:xfrm>
          <a:custGeom>
            <a:avLst/>
            <a:gdLst>
              <a:gd name="textAreaLeft" fmla="*/ 35280 w 934920"/>
              <a:gd name="textAreaRight" fmla="*/ 899640 w 934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6750" h="21600">
                <a:moveTo>
                  <a:pt x="0" y="0"/>
                </a:moveTo>
                <a:lnTo>
                  <a:pt x="36750" y="0"/>
                </a:lnTo>
                <a:lnTo>
                  <a:pt x="36750" y="21600"/>
                </a:lnTo>
                <a:lnTo>
                  <a:pt x="0" y="21600"/>
                </a:lnTo>
                <a:close/>
              </a:path>
              <a:path fill="lightenLess" w="36750" h="21600">
                <a:moveTo>
                  <a:pt x="0" y="0"/>
                </a:moveTo>
                <a:lnTo>
                  <a:pt x="36750" y="0"/>
                </a:lnTo>
                <a:lnTo>
                  <a:pt x="35350" y="1400"/>
                </a:lnTo>
                <a:lnTo>
                  <a:pt x="1400" y="1400"/>
                </a:lnTo>
                <a:close/>
              </a:path>
              <a:path fill="darken" w="36750" h="21600">
                <a:moveTo>
                  <a:pt x="36750" y="0"/>
                </a:moveTo>
                <a:lnTo>
                  <a:pt x="36750" y="21600"/>
                </a:lnTo>
                <a:lnTo>
                  <a:pt x="35350" y="20200"/>
                </a:lnTo>
                <a:lnTo>
                  <a:pt x="35350" y="1400"/>
                </a:lnTo>
                <a:close/>
              </a:path>
              <a:path fill="darkenLess" w="36750" h="21600">
                <a:moveTo>
                  <a:pt x="36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50" y="20200"/>
                </a:lnTo>
                <a:close/>
              </a:path>
              <a:path fill="lighten" w="36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50" h="21600">
                <a:moveTo>
                  <a:pt x="18375" y="3837"/>
                </a:moveTo>
                <a:lnTo>
                  <a:pt x="20951" y="6448"/>
                </a:lnTo>
                <a:lnTo>
                  <a:pt x="20951" y="4707"/>
                </a:lnTo>
                <a:lnTo>
                  <a:pt x="22727" y="4707"/>
                </a:lnTo>
                <a:lnTo>
                  <a:pt x="22727" y="8224"/>
                </a:lnTo>
                <a:lnTo>
                  <a:pt x="25338" y="10800"/>
                </a:lnTo>
                <a:lnTo>
                  <a:pt x="23684" y="10800"/>
                </a:lnTo>
                <a:lnTo>
                  <a:pt x="23684" y="17989"/>
                </a:lnTo>
                <a:lnTo>
                  <a:pt x="13066" y="17989"/>
                </a:lnTo>
                <a:lnTo>
                  <a:pt x="13066" y="10800"/>
                </a:lnTo>
                <a:lnTo>
                  <a:pt x="11412" y="10800"/>
                </a:lnTo>
                <a:close/>
              </a:path>
              <a:path fill="darkenLess" w="36750" h="21600">
                <a:moveTo>
                  <a:pt x="20951" y="6448"/>
                </a:moveTo>
                <a:lnTo>
                  <a:pt x="20951" y="4707"/>
                </a:lnTo>
                <a:lnTo>
                  <a:pt x="22727" y="4707"/>
                </a:lnTo>
                <a:lnTo>
                  <a:pt x="22727" y="8224"/>
                </a:lnTo>
                <a:close/>
              </a:path>
              <a:path fill="darkenLess" w="36750" h="21600">
                <a:moveTo>
                  <a:pt x="17452" y="14299"/>
                </a:moveTo>
                <a:lnTo>
                  <a:pt x="19297" y="14299"/>
                </a:lnTo>
                <a:lnTo>
                  <a:pt x="19297" y="17989"/>
                </a:lnTo>
                <a:lnTo>
                  <a:pt x="23684" y="17989"/>
                </a:lnTo>
                <a:lnTo>
                  <a:pt x="23684" y="10800"/>
                </a:lnTo>
                <a:lnTo>
                  <a:pt x="13066" y="10800"/>
                </a:lnTo>
                <a:lnTo>
                  <a:pt x="13066" y="17989"/>
                </a:lnTo>
                <a:lnTo>
                  <a:pt x="17452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пользование стихотворений, рифмов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помогают усвоить лексический и грамматический материал по тем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помогают пополнить запас слов учащихся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обогащают  их духовный мир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развивают творческое воображени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обладают огромным потенциалом эмоционального воздейств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AutoShape 4">
            <a:hlinkClick r:id="" action="ppaction://hlinkshowjump?jump=firstslide"/>
          </p:cNvPr>
          <p:cNvSpPr/>
          <p:nvPr/>
        </p:nvSpPr>
        <p:spPr>
          <a:xfrm>
            <a:off x="7956720" y="6093000"/>
            <a:ext cx="1187280" cy="765000"/>
          </a:xfrm>
          <a:custGeom>
            <a:avLst/>
            <a:gdLst>
              <a:gd name="textAreaLeft" fmla="*/ 49320 w 1187280"/>
              <a:gd name="textAreaRight" fmla="*/ 1137960 w 1187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3518" h="21600">
                <a:moveTo>
                  <a:pt x="0" y="0"/>
                </a:moveTo>
                <a:lnTo>
                  <a:pt x="33518" y="0"/>
                </a:lnTo>
                <a:lnTo>
                  <a:pt x="33518" y="21600"/>
                </a:lnTo>
                <a:lnTo>
                  <a:pt x="0" y="21600"/>
                </a:lnTo>
                <a:close/>
              </a:path>
              <a:path fill="lightenLess" w="33518" h="21600">
                <a:moveTo>
                  <a:pt x="0" y="0"/>
                </a:moveTo>
                <a:lnTo>
                  <a:pt x="33518" y="0"/>
                </a:lnTo>
                <a:lnTo>
                  <a:pt x="32118" y="1400"/>
                </a:lnTo>
                <a:lnTo>
                  <a:pt x="1400" y="1400"/>
                </a:lnTo>
                <a:close/>
              </a:path>
              <a:path fill="darken" w="33518" h="21600">
                <a:moveTo>
                  <a:pt x="33518" y="0"/>
                </a:moveTo>
                <a:lnTo>
                  <a:pt x="33518" y="21600"/>
                </a:lnTo>
                <a:lnTo>
                  <a:pt x="32118" y="20200"/>
                </a:lnTo>
                <a:lnTo>
                  <a:pt x="32118" y="1400"/>
                </a:lnTo>
                <a:close/>
              </a:path>
              <a:path fill="darkenLess" w="33518" h="21600">
                <a:moveTo>
                  <a:pt x="33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8" y="20200"/>
                </a:lnTo>
                <a:close/>
              </a:path>
              <a:path fill="lighten" w="33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18" h="21600">
                <a:moveTo>
                  <a:pt x="16759" y="3837"/>
                </a:moveTo>
                <a:lnTo>
                  <a:pt x="19335" y="6448"/>
                </a:lnTo>
                <a:lnTo>
                  <a:pt x="19335" y="4707"/>
                </a:lnTo>
                <a:lnTo>
                  <a:pt x="21111" y="4707"/>
                </a:lnTo>
                <a:lnTo>
                  <a:pt x="21111" y="8224"/>
                </a:lnTo>
                <a:lnTo>
                  <a:pt x="23722" y="10800"/>
                </a:lnTo>
                <a:lnTo>
                  <a:pt x="22068" y="10800"/>
                </a:lnTo>
                <a:lnTo>
                  <a:pt x="22068" y="17989"/>
                </a:lnTo>
                <a:lnTo>
                  <a:pt x="11450" y="17989"/>
                </a:lnTo>
                <a:lnTo>
                  <a:pt x="11450" y="10800"/>
                </a:lnTo>
                <a:lnTo>
                  <a:pt x="9796" y="10800"/>
                </a:lnTo>
                <a:close/>
              </a:path>
              <a:path fill="darkenLess" w="33518" h="21600">
                <a:moveTo>
                  <a:pt x="19335" y="6448"/>
                </a:moveTo>
                <a:lnTo>
                  <a:pt x="19335" y="4707"/>
                </a:lnTo>
                <a:lnTo>
                  <a:pt x="21111" y="4707"/>
                </a:lnTo>
                <a:lnTo>
                  <a:pt x="21111" y="8224"/>
                </a:lnTo>
                <a:close/>
              </a:path>
              <a:path fill="darkenLess" w="33518" h="21600">
                <a:moveTo>
                  <a:pt x="15836" y="14299"/>
                </a:moveTo>
                <a:lnTo>
                  <a:pt x="17681" y="14299"/>
                </a:lnTo>
                <a:lnTo>
                  <a:pt x="17681" y="17989"/>
                </a:lnTo>
                <a:lnTo>
                  <a:pt x="22068" y="17989"/>
                </a:lnTo>
                <a:lnTo>
                  <a:pt x="22068" y="10800"/>
                </a:lnTo>
                <a:lnTo>
                  <a:pt x="11450" y="10800"/>
                </a:lnTo>
                <a:lnTo>
                  <a:pt x="11450" y="17989"/>
                </a:lnTo>
                <a:lnTo>
                  <a:pt x="15836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пользование изобразительной деятель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повышает интерес и привлекает внимание к чтению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способствует развитию познавательной способности учащихся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способствует эффективной отработке языкового программного материал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ектная техн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особствует повышению мотивации к изучению иностранного языка у школьников, развитию языковых, интеллектуальных, творческих и познавательных способностей, социализации личности школьни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доровьесберегающие технолог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анные технологии позволяют равномерно распределить учебную нагрузку во время урока: чередовать мыслительную деятельность с физкультминутками, делать градацию упражнений по уровню сложн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6:32:36Z</dcterms:created>
  <dc:creator>Юрка</dc:creator>
  <dc:description/>
  <dc:language>en-US</dc:language>
  <cp:lastModifiedBy>Юрка</cp:lastModifiedBy>
  <dcterms:modified xsi:type="dcterms:W3CDTF">2023-04-09T06:46:37Z</dcterms:modified>
  <cp:revision>17</cp:revision>
  <dc:subject/>
  <dc:title>Эффективность  игровых технологий в обучении иностранному языку</dc:title>
</cp:coreProperties>
</file>