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4D6-2931-4FF6-8C14-7871007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402-037C-465B-BD16-35CE27C6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5E7-1D70-44E0-99DF-3242E8A1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6CE-6D8A-48A8-AD1C-3BF1954F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1100-B91C-4EEB-90DF-E940803A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6920-93D8-45C7-A7FC-55C05C1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F489-B574-4BA3-87FD-DDD651CC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1D73-5158-470E-8B24-C2EAF0B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F57-4CE1-4DEA-8FF4-D4203D1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975B-2B8D-40F9-9800-718A3808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281D-CB55-48C4-91D7-46D08E74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422-DC51-4018-BA2B-DDADAA79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954A-FEEA-4F7E-A8F4-0643445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4BF-22B2-44DC-8F42-4E8E923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32B2-E1DE-4995-80DC-5FD1D16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5BA9-E8BC-441E-AAAC-1C8609D1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B18-1C93-4516-A8AF-222BEB3C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54E-8323-4305-B640-3B0DA5F5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3F9-B994-48F1-A780-D77A1DD1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5EF-0C47-492C-8F6D-65488C66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0C1-2267-48B8-BE8E-5C5160E5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C88-9F30-40E4-A5E1-1F11EF1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468-0D21-4229-A747-C336A08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221-C6E4-4D8E-8148-606008A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31D-E103-4F84-8350-17C3FAF0CF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7CA-99F3-447B-B79D-3745259FC59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спользование активных форм обучения в условиях реализации ФГОС на уроках английского языка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 английского языка Будакова О.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КОУ «Эртильская СОШ №1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о-коммуникационные технолог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ают возможность оперативно сочетать разнообразные средства, способствующие более глубокому и осознанному усвоению изучаемого материала, экономят время урока, насыщают его информацие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активных форм обучения на учащих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способствуют лучшему запоминанию учащимися лексических единиц и грамматических структур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стимулируют самостоятельную речемыслительную деятельность учащихс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ктивизируют познавательную деятельность учащихся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положительно влияют на развитие личности ребён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ают эффективность образовательного проце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4">
            <a:hlinkClick r:id="" action="ppaction://hlinkshowjump?jump=firs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30189" y="3837"/>
                </a:moveTo>
                <a:lnTo>
                  <a:pt x="32766" y="6448"/>
                </a:lnTo>
                <a:lnTo>
                  <a:pt x="32766" y="4707"/>
                </a:lnTo>
                <a:lnTo>
                  <a:pt x="34541" y="4707"/>
                </a:lnTo>
                <a:lnTo>
                  <a:pt x="34541" y="8224"/>
                </a:lnTo>
                <a:lnTo>
                  <a:pt x="37152" y="10800"/>
                </a:lnTo>
                <a:lnTo>
                  <a:pt x="35499" y="10800"/>
                </a:lnTo>
                <a:lnTo>
                  <a:pt x="35499" y="17989"/>
                </a:lnTo>
                <a:lnTo>
                  <a:pt x="24880" y="17989"/>
                </a:lnTo>
                <a:lnTo>
                  <a:pt x="24880" y="10800"/>
                </a:lnTo>
                <a:lnTo>
                  <a:pt x="23226" y="10800"/>
                </a:lnTo>
                <a:close/>
              </a:path>
              <a:path fill="darkenLess" w="60379" h="21600">
                <a:moveTo>
                  <a:pt x="32766" y="6448"/>
                </a:moveTo>
                <a:lnTo>
                  <a:pt x="32766" y="4707"/>
                </a:lnTo>
                <a:lnTo>
                  <a:pt x="34541" y="4707"/>
                </a:lnTo>
                <a:lnTo>
                  <a:pt x="34541" y="8224"/>
                </a:lnTo>
                <a:close/>
              </a:path>
              <a:path fill="darkenLess" w="60379" h="21600">
                <a:moveTo>
                  <a:pt x="29267" y="14299"/>
                </a:moveTo>
                <a:lnTo>
                  <a:pt x="31112" y="14299"/>
                </a:lnTo>
                <a:lnTo>
                  <a:pt x="31112" y="17989"/>
                </a:lnTo>
                <a:lnTo>
                  <a:pt x="35499" y="17989"/>
                </a:lnTo>
                <a:lnTo>
                  <a:pt x="35499" y="10800"/>
                </a:lnTo>
                <a:lnTo>
                  <a:pt x="24880" y="10800"/>
                </a:lnTo>
                <a:lnTo>
                  <a:pt x="24880" y="17989"/>
                </a:lnTo>
                <a:lnTo>
                  <a:pt x="29267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дачей каждой игры является формирование умений в определённых  видах речевой деятель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Игры обогащают язык и закрепляют запас слов учащихся, сосредотачивают внимание на оттенках их значени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активизируют мыслительные и познавательные процессы учащихся, повышают мотивацию к изучению иностранного язы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расширяют кругозор, творческую активность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развивают память, мышление, воображение, сообразительность, творческие способности, воспитывают инициатив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7956720" y="6237360"/>
            <a:ext cx="1042920" cy="4665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8263" h="21600">
                <a:moveTo>
                  <a:pt x="0" y="0"/>
                </a:moveTo>
                <a:lnTo>
                  <a:pt x="48263" y="0"/>
                </a:lnTo>
                <a:lnTo>
                  <a:pt x="48263" y="21600"/>
                </a:lnTo>
                <a:lnTo>
                  <a:pt x="0" y="21600"/>
                </a:lnTo>
                <a:close/>
              </a:path>
              <a:path fill="lightenLess" w="48263" h="21600">
                <a:moveTo>
                  <a:pt x="0" y="0"/>
                </a:moveTo>
                <a:lnTo>
                  <a:pt x="48263" y="0"/>
                </a:lnTo>
                <a:lnTo>
                  <a:pt x="46863" y="1400"/>
                </a:lnTo>
                <a:lnTo>
                  <a:pt x="1400" y="1400"/>
                </a:lnTo>
                <a:close/>
              </a:path>
              <a:path fill="darken" w="48263" h="21600">
                <a:moveTo>
                  <a:pt x="48263" y="0"/>
                </a:moveTo>
                <a:lnTo>
                  <a:pt x="48263" y="21600"/>
                </a:lnTo>
                <a:lnTo>
                  <a:pt x="46863" y="20200"/>
                </a:lnTo>
                <a:lnTo>
                  <a:pt x="46863" y="1400"/>
                </a:lnTo>
                <a:close/>
              </a:path>
              <a:path fill="darkenLess" w="48263" h="21600">
                <a:moveTo>
                  <a:pt x="48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63" y="20200"/>
                </a:lnTo>
                <a:close/>
              </a:path>
              <a:path fill="lighten" w="48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63" h="21600">
                <a:moveTo>
                  <a:pt x="24131" y="3837"/>
                </a:moveTo>
                <a:lnTo>
                  <a:pt x="26708" y="6448"/>
                </a:lnTo>
                <a:lnTo>
                  <a:pt x="26708" y="4707"/>
                </a:lnTo>
                <a:lnTo>
                  <a:pt x="28483" y="4707"/>
                </a:lnTo>
                <a:lnTo>
                  <a:pt x="28483" y="8224"/>
                </a:lnTo>
                <a:lnTo>
                  <a:pt x="31094" y="10800"/>
                </a:lnTo>
                <a:lnTo>
                  <a:pt x="29441" y="10800"/>
                </a:lnTo>
                <a:lnTo>
                  <a:pt x="29441" y="17989"/>
                </a:lnTo>
                <a:lnTo>
                  <a:pt x="18822" y="17989"/>
                </a:lnTo>
                <a:lnTo>
                  <a:pt x="18822" y="10800"/>
                </a:lnTo>
                <a:lnTo>
                  <a:pt x="17168" y="10800"/>
                </a:lnTo>
                <a:close/>
              </a:path>
              <a:path fill="darkenLess" w="48263" h="21600">
                <a:moveTo>
                  <a:pt x="26708" y="6448"/>
                </a:moveTo>
                <a:lnTo>
                  <a:pt x="26708" y="4707"/>
                </a:lnTo>
                <a:lnTo>
                  <a:pt x="28483" y="4707"/>
                </a:lnTo>
                <a:lnTo>
                  <a:pt x="28483" y="8224"/>
                </a:lnTo>
                <a:close/>
              </a:path>
              <a:path fill="darkenLess" w="48263" h="21600">
                <a:moveTo>
                  <a:pt x="23209" y="14299"/>
                </a:moveTo>
                <a:lnTo>
                  <a:pt x="25054" y="14299"/>
                </a:lnTo>
                <a:lnTo>
                  <a:pt x="25054" y="17989"/>
                </a:lnTo>
                <a:lnTo>
                  <a:pt x="29441" y="17989"/>
                </a:lnTo>
                <a:lnTo>
                  <a:pt x="29441" y="10800"/>
                </a:lnTo>
                <a:lnTo>
                  <a:pt x="18822" y="10800"/>
                </a:lnTo>
                <a:lnTo>
                  <a:pt x="18822" y="17989"/>
                </a:lnTo>
                <a:lnTo>
                  <a:pt x="23209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лев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олевые игры – это эффективный способ вовлечь учащихся в коммуникац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олевая игра – это методический приём, относящийся к группе активных способов обучения практическому владению иностранным язык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олевые игры и задания развивают и совершенствуют речемыслительную деятель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8101080" y="638172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23639" y="3837"/>
                </a:moveTo>
                <a:lnTo>
                  <a:pt x="26216" y="6448"/>
                </a:ln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lnTo>
                  <a:pt x="30602" y="10800"/>
                </a:lnTo>
                <a:lnTo>
                  <a:pt x="28949" y="10800"/>
                </a:lnTo>
                <a:lnTo>
                  <a:pt x="28949" y="17989"/>
                </a:lnTo>
                <a:lnTo>
                  <a:pt x="18330" y="17989"/>
                </a:lnTo>
                <a:lnTo>
                  <a:pt x="18330" y="10800"/>
                </a:lnTo>
                <a:lnTo>
                  <a:pt x="16676" y="10800"/>
                </a:lnTo>
                <a:close/>
              </a:path>
              <a:path fill="darkenLess" w="47279" h="21600">
                <a:moveTo>
                  <a:pt x="26216" y="6448"/>
                </a:moveTo>
                <a:lnTo>
                  <a:pt x="26216" y="4707"/>
                </a:lnTo>
                <a:lnTo>
                  <a:pt x="27991" y="4707"/>
                </a:lnTo>
                <a:lnTo>
                  <a:pt x="27991" y="8224"/>
                </a:lnTo>
                <a:close/>
              </a:path>
              <a:path fill="darkenLess" w="47279" h="21600">
                <a:moveTo>
                  <a:pt x="22717" y="14299"/>
                </a:moveTo>
                <a:lnTo>
                  <a:pt x="24562" y="14299"/>
                </a:lnTo>
                <a:lnTo>
                  <a:pt x="24562" y="17989"/>
                </a:lnTo>
                <a:lnTo>
                  <a:pt x="28949" y="17989"/>
                </a:lnTo>
                <a:lnTo>
                  <a:pt x="28949" y="10800"/>
                </a:lnTo>
                <a:lnTo>
                  <a:pt x="18330" y="10800"/>
                </a:lnTo>
                <a:lnTo>
                  <a:pt x="18330" y="17989"/>
                </a:lnTo>
                <a:lnTo>
                  <a:pt x="22717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муникативн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ммуникативные игры способствуют осуществлению следующих задач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научить учащихся выражать мысли в их логической последовательност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обучать учащихся речевой реакции в процессе коммуникац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8101080" y="6453360"/>
            <a:ext cx="1042920" cy="404640"/>
          </a:xfrm>
          <a:custGeom>
            <a:avLst/>
            <a:gdLst>
              <a:gd name="textAreaLeft" fmla="*/ 25920 w 1042920"/>
              <a:gd name="textAreaRight" fmla="*/ 1017000 w 1042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5642" h="21600">
                <a:moveTo>
                  <a:pt x="0" y="0"/>
                </a:moveTo>
                <a:lnTo>
                  <a:pt x="55642" y="0"/>
                </a:lnTo>
                <a:lnTo>
                  <a:pt x="55642" y="21600"/>
                </a:lnTo>
                <a:lnTo>
                  <a:pt x="0" y="21600"/>
                </a:lnTo>
                <a:close/>
              </a:path>
              <a:path fill="lightenLess" w="55642" h="21600">
                <a:moveTo>
                  <a:pt x="0" y="0"/>
                </a:moveTo>
                <a:lnTo>
                  <a:pt x="55642" y="0"/>
                </a:lnTo>
                <a:lnTo>
                  <a:pt x="54242" y="1400"/>
                </a:lnTo>
                <a:lnTo>
                  <a:pt x="1400" y="1400"/>
                </a:lnTo>
                <a:close/>
              </a:path>
              <a:path fill="darken" w="55642" h="21600">
                <a:moveTo>
                  <a:pt x="55642" y="0"/>
                </a:moveTo>
                <a:lnTo>
                  <a:pt x="55642" y="21600"/>
                </a:lnTo>
                <a:lnTo>
                  <a:pt x="54242" y="20200"/>
                </a:lnTo>
                <a:lnTo>
                  <a:pt x="54242" y="1400"/>
                </a:lnTo>
                <a:close/>
              </a:path>
              <a:path fill="darkenLess" w="55642" h="21600">
                <a:moveTo>
                  <a:pt x="5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2" y="20200"/>
                </a:lnTo>
                <a:close/>
              </a:path>
              <a:path fill="lighten" w="5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42" h="21600">
                <a:moveTo>
                  <a:pt x="27821" y="3837"/>
                </a:moveTo>
                <a:lnTo>
                  <a:pt x="30397" y="6448"/>
                </a:lnTo>
                <a:lnTo>
                  <a:pt x="30397" y="4707"/>
                </a:lnTo>
                <a:lnTo>
                  <a:pt x="32173" y="4707"/>
                </a:lnTo>
                <a:lnTo>
                  <a:pt x="32173" y="8224"/>
                </a:lnTo>
                <a:lnTo>
                  <a:pt x="34784" y="10800"/>
                </a:lnTo>
                <a:lnTo>
                  <a:pt x="33130" y="10800"/>
                </a:lnTo>
                <a:lnTo>
                  <a:pt x="33130" y="17989"/>
                </a:lnTo>
                <a:lnTo>
                  <a:pt x="22512" y="17989"/>
                </a:lnTo>
                <a:lnTo>
                  <a:pt x="22512" y="10800"/>
                </a:lnTo>
                <a:lnTo>
                  <a:pt x="20858" y="10800"/>
                </a:lnTo>
                <a:close/>
              </a:path>
              <a:path fill="darkenLess" w="55642" h="21600">
                <a:moveTo>
                  <a:pt x="30397" y="6448"/>
                </a:moveTo>
                <a:lnTo>
                  <a:pt x="30397" y="4707"/>
                </a:lnTo>
                <a:lnTo>
                  <a:pt x="32173" y="4707"/>
                </a:lnTo>
                <a:lnTo>
                  <a:pt x="32173" y="8224"/>
                </a:lnTo>
                <a:close/>
              </a:path>
              <a:path fill="darkenLess" w="55642" h="21600">
                <a:moveTo>
                  <a:pt x="26898" y="14299"/>
                </a:moveTo>
                <a:lnTo>
                  <a:pt x="28743" y="14299"/>
                </a:lnTo>
                <a:lnTo>
                  <a:pt x="28743" y="17989"/>
                </a:lnTo>
                <a:lnTo>
                  <a:pt x="33130" y="17989"/>
                </a:lnTo>
                <a:lnTo>
                  <a:pt x="33130" y="10800"/>
                </a:lnTo>
                <a:lnTo>
                  <a:pt x="22512" y="10800"/>
                </a:lnTo>
                <a:lnTo>
                  <a:pt x="22512" y="17989"/>
                </a:lnTo>
                <a:lnTo>
                  <a:pt x="26898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вижные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вижные игры создают благоприятную почву для развития двигательной активности детей, укрепления их здоровья, способствует решению определённых учебно-воспитательных задач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вижные игры способствуют процессу запоминания слов и фраз, так как инструкции повторяются много раз и ассоциируются с определёнными передвижениями. К тому же, эта лексика эмоционально окрашена, что также облегчает запомина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8101080" y="6308640"/>
            <a:ext cx="934920" cy="549360"/>
          </a:xfrm>
          <a:custGeom>
            <a:avLst/>
            <a:gdLst>
              <a:gd name="textAreaLeft" fmla="*/ 35280 w 934920"/>
              <a:gd name="textAreaRight" fmla="*/ 899640 w 934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750" h="21600">
                <a:moveTo>
                  <a:pt x="0" y="0"/>
                </a:moveTo>
                <a:lnTo>
                  <a:pt x="36750" y="0"/>
                </a:lnTo>
                <a:lnTo>
                  <a:pt x="36750" y="21600"/>
                </a:lnTo>
                <a:lnTo>
                  <a:pt x="0" y="21600"/>
                </a:lnTo>
                <a:close/>
              </a:path>
              <a:path fill="lightenLess" w="36750" h="21600">
                <a:moveTo>
                  <a:pt x="0" y="0"/>
                </a:moveTo>
                <a:lnTo>
                  <a:pt x="36750" y="0"/>
                </a:lnTo>
                <a:lnTo>
                  <a:pt x="35350" y="1400"/>
                </a:lnTo>
                <a:lnTo>
                  <a:pt x="1400" y="1400"/>
                </a:lnTo>
                <a:close/>
              </a:path>
              <a:path fill="darken" w="36750" h="21600">
                <a:moveTo>
                  <a:pt x="36750" y="0"/>
                </a:moveTo>
                <a:lnTo>
                  <a:pt x="36750" y="21600"/>
                </a:lnTo>
                <a:lnTo>
                  <a:pt x="35350" y="20200"/>
                </a:lnTo>
                <a:lnTo>
                  <a:pt x="35350" y="1400"/>
                </a:lnTo>
                <a:close/>
              </a:path>
              <a:path fill="darkenLess" w="36750" h="21600">
                <a:moveTo>
                  <a:pt x="3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50" y="20200"/>
                </a:lnTo>
                <a:close/>
              </a:path>
              <a:path fill="lighten" w="3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50" h="21600">
                <a:moveTo>
                  <a:pt x="18375" y="3837"/>
                </a:moveTo>
                <a:lnTo>
                  <a:pt x="20951" y="6448"/>
                </a:lnTo>
                <a:lnTo>
                  <a:pt x="20951" y="4707"/>
                </a:lnTo>
                <a:lnTo>
                  <a:pt x="22727" y="4707"/>
                </a:lnTo>
                <a:lnTo>
                  <a:pt x="22727" y="8224"/>
                </a:lnTo>
                <a:lnTo>
                  <a:pt x="25338" y="10800"/>
                </a:lnTo>
                <a:lnTo>
                  <a:pt x="23684" y="10800"/>
                </a:lnTo>
                <a:lnTo>
                  <a:pt x="23684" y="17989"/>
                </a:lnTo>
                <a:lnTo>
                  <a:pt x="13066" y="17989"/>
                </a:lnTo>
                <a:lnTo>
                  <a:pt x="13066" y="10800"/>
                </a:lnTo>
                <a:lnTo>
                  <a:pt x="11412" y="10800"/>
                </a:lnTo>
                <a:close/>
              </a:path>
              <a:path fill="darkenLess" w="36750" h="21600">
                <a:moveTo>
                  <a:pt x="20951" y="6448"/>
                </a:moveTo>
                <a:lnTo>
                  <a:pt x="20951" y="4707"/>
                </a:lnTo>
                <a:lnTo>
                  <a:pt x="22727" y="4707"/>
                </a:lnTo>
                <a:lnTo>
                  <a:pt x="22727" y="8224"/>
                </a:lnTo>
                <a:close/>
              </a:path>
              <a:path fill="darkenLess" w="36750" h="21600">
                <a:moveTo>
                  <a:pt x="17452" y="14299"/>
                </a:moveTo>
                <a:lnTo>
                  <a:pt x="19297" y="14299"/>
                </a:lnTo>
                <a:lnTo>
                  <a:pt x="19297" y="17989"/>
                </a:lnTo>
                <a:lnTo>
                  <a:pt x="23684" y="17989"/>
                </a:lnTo>
                <a:lnTo>
                  <a:pt x="23684" y="10800"/>
                </a:lnTo>
                <a:lnTo>
                  <a:pt x="13066" y="10800"/>
                </a:lnTo>
                <a:lnTo>
                  <a:pt x="13066" y="17989"/>
                </a:lnTo>
                <a:lnTo>
                  <a:pt x="17452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пользование стихотворений, рифмов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помогают усвоить лексический и грамматический материал по тем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помогают пополнить запас слов учащихс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обогащают  их духовный мир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развивают творческое воображе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обладают огромным потенциалом эмоционального воздейств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7956720" y="6093000"/>
            <a:ext cx="1187280" cy="765000"/>
          </a:xfrm>
          <a:custGeom>
            <a:avLst/>
            <a:gdLst>
              <a:gd name="textAreaLeft" fmla="*/ 49320 w 1187280"/>
              <a:gd name="textAreaRight" fmla="*/ 1137960 w 1187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518" h="21600">
                <a:moveTo>
                  <a:pt x="0" y="0"/>
                </a:moveTo>
                <a:lnTo>
                  <a:pt x="33518" y="0"/>
                </a:lnTo>
                <a:lnTo>
                  <a:pt x="33518" y="21600"/>
                </a:lnTo>
                <a:lnTo>
                  <a:pt x="0" y="21600"/>
                </a:lnTo>
                <a:close/>
              </a:path>
              <a:path fill="lightenLess" w="33518" h="21600">
                <a:moveTo>
                  <a:pt x="0" y="0"/>
                </a:moveTo>
                <a:lnTo>
                  <a:pt x="33518" y="0"/>
                </a:lnTo>
                <a:lnTo>
                  <a:pt x="32118" y="1400"/>
                </a:lnTo>
                <a:lnTo>
                  <a:pt x="1400" y="1400"/>
                </a:lnTo>
                <a:close/>
              </a:path>
              <a:path fill="darken" w="33518" h="21600">
                <a:moveTo>
                  <a:pt x="33518" y="0"/>
                </a:moveTo>
                <a:lnTo>
                  <a:pt x="33518" y="21600"/>
                </a:lnTo>
                <a:lnTo>
                  <a:pt x="32118" y="20200"/>
                </a:lnTo>
                <a:lnTo>
                  <a:pt x="32118" y="1400"/>
                </a:lnTo>
                <a:close/>
              </a:path>
              <a:path fill="darkenLess" w="33518" h="21600">
                <a:moveTo>
                  <a:pt x="33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8" y="20200"/>
                </a:lnTo>
                <a:close/>
              </a:path>
              <a:path fill="lighten" w="33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8" h="21600">
                <a:moveTo>
                  <a:pt x="16759" y="3837"/>
                </a:moveTo>
                <a:lnTo>
                  <a:pt x="19335" y="6448"/>
                </a:lnTo>
                <a:lnTo>
                  <a:pt x="19335" y="4707"/>
                </a:lnTo>
                <a:lnTo>
                  <a:pt x="21111" y="4707"/>
                </a:lnTo>
                <a:lnTo>
                  <a:pt x="21111" y="8224"/>
                </a:lnTo>
                <a:lnTo>
                  <a:pt x="23722" y="10800"/>
                </a:lnTo>
                <a:lnTo>
                  <a:pt x="22068" y="10800"/>
                </a:lnTo>
                <a:lnTo>
                  <a:pt x="22068" y="17989"/>
                </a:lnTo>
                <a:lnTo>
                  <a:pt x="11450" y="17989"/>
                </a:lnTo>
                <a:lnTo>
                  <a:pt x="11450" y="10800"/>
                </a:lnTo>
                <a:lnTo>
                  <a:pt x="9796" y="10800"/>
                </a:lnTo>
                <a:close/>
              </a:path>
              <a:path fill="darkenLess" w="33518" h="21600">
                <a:moveTo>
                  <a:pt x="19335" y="6448"/>
                </a:moveTo>
                <a:lnTo>
                  <a:pt x="19335" y="4707"/>
                </a:lnTo>
                <a:lnTo>
                  <a:pt x="21111" y="4707"/>
                </a:lnTo>
                <a:lnTo>
                  <a:pt x="21111" y="8224"/>
                </a:lnTo>
                <a:close/>
              </a:path>
              <a:path fill="darkenLess" w="33518" h="21600">
                <a:moveTo>
                  <a:pt x="15836" y="14299"/>
                </a:moveTo>
                <a:lnTo>
                  <a:pt x="17681" y="14299"/>
                </a:lnTo>
                <a:lnTo>
                  <a:pt x="17681" y="17989"/>
                </a:lnTo>
                <a:lnTo>
                  <a:pt x="22068" y="17989"/>
                </a:lnTo>
                <a:lnTo>
                  <a:pt x="22068" y="10800"/>
                </a:lnTo>
                <a:lnTo>
                  <a:pt x="11450" y="10800"/>
                </a:lnTo>
                <a:lnTo>
                  <a:pt x="11450" y="17989"/>
                </a:lnTo>
                <a:lnTo>
                  <a:pt x="15836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пользование изобразительной деятель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повышает интерес и привлекает внимание к чтению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способствует развитию познавательной способности учащихс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способствует эффективной отработке языкового программного материал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ная техн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особствует повышению мотивации к изучению иностранного языка у школьников, развитию языковых, интеллектуальных, творческих и познавательных способностей, социализации личности школьни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доровьесберегающие технолог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анные технологии позволяют равномерно распределить учебную нагрузку во время урока: чередовать мыслительную деятельность с физкультминутками, делать градацию упражнений по уровню сложн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6:32:36Z</dcterms:created>
  <dc:creator>Юрка</dc:creator>
  <dc:description/>
  <dc:language>en-US</dc:language>
  <cp:lastModifiedBy>Юрка</cp:lastModifiedBy>
  <dcterms:modified xsi:type="dcterms:W3CDTF">2023-04-09T06:46:37Z</dcterms:modified>
  <cp:revision>17</cp:revision>
  <dc:subject/>
  <dc:title>Эффективность  игровых технологий в обучении иностранному языку</dc:title>
</cp:coreProperties>
</file>