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CEC-65D4-4C75-A166-EA0340FA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56B-6833-4FF5-B327-121BFA3C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FB7-E5FF-4C5F-A4FD-ECB357B9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B20-7790-493F-A19E-9FD4F39E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67C7-20B7-4D77-B86D-C4AC5700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7B38-DFC0-4A5B-BC56-768E42E8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2379-A60F-4B39-AD96-30F2399F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4A56-00C3-42EC-849C-84FE9C1A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3751-FCCD-49C3-B94F-EC9C216A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0BD8-9B3D-47CA-B7A8-8E9BE19A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EF0A-049F-41D2-AEBC-BF5F98B5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5DE-3E5F-402A-90EC-C2822B93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9C04-DF6A-4905-B947-C43652B1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896F-27C1-4F95-A7A2-0A0F3AC4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92ED-E9C8-4D6A-98A2-F7571525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BBCA-7DB1-4413-B5D1-521FE85A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2127-4347-4DA8-87F8-E9DBC28D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22A-6D55-412C-9818-030C0AD4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3A5-135C-4E67-84C2-B536CD82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F35-29E3-46A6-A675-DA0C2E2E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97C-9BA7-4E7E-91F3-F1784FE9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3BD-4DC8-46A4-8001-275A43E5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7E3-6106-4901-ACBD-7A827882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6F6-86C3-476C-863F-B224D4D3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FA20-548E-44D1-B706-80C0C9F900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Verdana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Verdana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66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E46F-A409-4422-B692-77EC1D2327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Использование ЗСТ на занятиях коррекционно-развивающей направленности, как средство психологической разгрузки  учащихся с ОВЗ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44956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«Здоровье до того перевешивает все остальные блага   жизни, что здоровый нищий счастливее больного короля. "</a:t>
            </a:r>
            <a:br>
              <a:rPr sz="28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                                                     </a:t>
            </a: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Артур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Шопенгауэ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ставляющие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4114800" y="3352680"/>
            <a:ext cx="114300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ЗДОРОВЬЕ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5" name="Oval 6"/>
          <p:cNvSpPr/>
          <p:nvPr/>
        </p:nvSpPr>
        <p:spPr>
          <a:xfrm rot="7576200">
            <a:off x="2415600" y="1546200"/>
            <a:ext cx="1339920" cy="236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ОЦИАЛЬНОЕ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6" name="Oval 10"/>
          <p:cNvSpPr/>
          <p:nvPr/>
        </p:nvSpPr>
        <p:spPr>
          <a:xfrm rot="3170400">
            <a:off x="2340000" y="3603240"/>
            <a:ext cx="133992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ДУХОВНОЕ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7" name="Oval 12"/>
          <p:cNvSpPr/>
          <p:nvPr/>
        </p:nvSpPr>
        <p:spPr>
          <a:xfrm rot="16856400">
            <a:off x="5997240" y="2841480"/>
            <a:ext cx="133992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ФИЗИЧЕСКОЕ</a:t>
            </a:r>
            <a:endParaRPr b="1" lang="en-US" sz="1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8" name="Oval 13"/>
          <p:cNvSpPr/>
          <p:nvPr/>
        </p:nvSpPr>
        <p:spPr>
          <a:xfrm rot="9332400">
            <a:off x="4495680" y="4495680"/>
            <a:ext cx="133992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НРАВСТВЕННОЕ</a:t>
            </a:r>
            <a:endParaRPr b="1" lang="en-US" sz="1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9" name="Oval 14"/>
          <p:cNvSpPr/>
          <p:nvPr/>
        </p:nvSpPr>
        <p:spPr>
          <a:xfrm rot="12492000">
            <a:off x="4800240" y="1065960"/>
            <a:ext cx="1339920" cy="226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сихическое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8"/>
          <p:cNvSpPr/>
          <p:nvPr/>
        </p:nvSpPr>
        <p:spPr>
          <a:xfrm>
            <a:off x="179280" y="1413000"/>
            <a:ext cx="2376720" cy="865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Психо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1332000" y="333360"/>
            <a:ext cx="1779480" cy="576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Самомассаж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5940360" y="260280"/>
            <a:ext cx="177948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Логоритм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3" name="Oval 13"/>
          <p:cNvSpPr/>
          <p:nvPr/>
        </p:nvSpPr>
        <p:spPr>
          <a:xfrm>
            <a:off x="3419640" y="260280"/>
            <a:ext cx="2211120" cy="79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Гимнастика дл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горл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4" name="Oval 14"/>
          <p:cNvSpPr/>
          <p:nvPr/>
        </p:nvSpPr>
        <p:spPr>
          <a:xfrm>
            <a:off x="179280" y="4292640"/>
            <a:ext cx="2355840" cy="863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Телесное 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ориентирование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539640" y="2421000"/>
            <a:ext cx="177984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Стретчинг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6" name="Oval 20"/>
          <p:cNvSpPr/>
          <p:nvPr/>
        </p:nvSpPr>
        <p:spPr>
          <a:xfrm>
            <a:off x="6804000" y="2421000"/>
            <a:ext cx="177948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Су-Джок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7" name="Oval 21"/>
          <p:cNvSpPr/>
          <p:nvPr/>
        </p:nvSpPr>
        <p:spPr>
          <a:xfrm>
            <a:off x="539640" y="3500280"/>
            <a:ext cx="1779840" cy="64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Брейнджим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8" name="Oval 22"/>
          <p:cNvSpPr/>
          <p:nvPr/>
        </p:nvSpPr>
        <p:spPr>
          <a:xfrm>
            <a:off x="755640" y="5661000"/>
            <a:ext cx="177948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Релаксаци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9" name="Oval 23"/>
          <p:cNvSpPr/>
          <p:nvPr/>
        </p:nvSpPr>
        <p:spPr>
          <a:xfrm>
            <a:off x="6300720" y="5589720"/>
            <a:ext cx="177948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для глаз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3492360" y="5516640"/>
            <a:ext cx="2089440" cy="79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Мимическа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1" name="Oval 27"/>
          <p:cNvSpPr/>
          <p:nvPr/>
        </p:nvSpPr>
        <p:spPr>
          <a:xfrm>
            <a:off x="6516720" y="1125360"/>
            <a:ext cx="2376360" cy="865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Дыхательная 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2" name="Oval 28"/>
          <p:cNvSpPr/>
          <p:nvPr/>
        </p:nvSpPr>
        <p:spPr>
          <a:xfrm>
            <a:off x="6516720" y="4365720"/>
            <a:ext cx="2376360" cy="865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Пальчикова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6732720" y="3284640"/>
            <a:ext cx="177948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Арттерапи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4" name="Line 30"/>
          <p:cNvSpPr/>
          <p:nvPr/>
        </p:nvSpPr>
        <p:spPr>
          <a:xfrm>
            <a:off x="4572000" y="378936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5" name="Line 31"/>
          <p:cNvSpPr/>
          <p:nvPr/>
        </p:nvSpPr>
        <p:spPr>
          <a:xfrm flipH="1">
            <a:off x="2411280" y="3573360"/>
            <a:ext cx="136872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6" name="Line 32"/>
          <p:cNvSpPr/>
          <p:nvPr/>
        </p:nvSpPr>
        <p:spPr>
          <a:xfrm flipH="1">
            <a:off x="2484360" y="3068640"/>
            <a:ext cx="12240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7" name="Line 33"/>
          <p:cNvSpPr/>
          <p:nvPr/>
        </p:nvSpPr>
        <p:spPr>
          <a:xfrm flipH="1">
            <a:off x="2339640" y="2708280"/>
            <a:ext cx="1368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8" name="Line 34"/>
          <p:cNvSpPr/>
          <p:nvPr/>
        </p:nvSpPr>
        <p:spPr>
          <a:xfrm flipH="1">
            <a:off x="2340000" y="2565360"/>
            <a:ext cx="1440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39" name="Line 35"/>
          <p:cNvSpPr/>
          <p:nvPr/>
        </p:nvSpPr>
        <p:spPr>
          <a:xfrm>
            <a:off x="5508720" y="3068640"/>
            <a:ext cx="115236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0" name="Line 36"/>
          <p:cNvSpPr/>
          <p:nvPr/>
        </p:nvSpPr>
        <p:spPr>
          <a:xfrm>
            <a:off x="5435640" y="3573360"/>
            <a:ext cx="1081080" cy="19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1" name="Line 37"/>
          <p:cNvSpPr/>
          <p:nvPr/>
        </p:nvSpPr>
        <p:spPr>
          <a:xfrm flipV="1">
            <a:off x="5148360" y="907560"/>
            <a:ext cx="1152360" cy="122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2" name="Line 38"/>
          <p:cNvSpPr/>
          <p:nvPr/>
        </p:nvSpPr>
        <p:spPr>
          <a:xfrm flipH="1" flipV="1">
            <a:off x="2916360" y="907560"/>
            <a:ext cx="107928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3" name="Line 39"/>
          <p:cNvSpPr/>
          <p:nvPr/>
        </p:nvSpPr>
        <p:spPr>
          <a:xfrm flipH="1" flipV="1">
            <a:off x="2627280" y="1915920"/>
            <a:ext cx="1152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4" name="Line 40"/>
          <p:cNvSpPr/>
          <p:nvPr/>
        </p:nvSpPr>
        <p:spPr>
          <a:xfrm flipV="1">
            <a:off x="5435640" y="1773360"/>
            <a:ext cx="1152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5" name="Line 41"/>
          <p:cNvSpPr/>
          <p:nvPr/>
        </p:nvSpPr>
        <p:spPr>
          <a:xfrm>
            <a:off x="5508720" y="249228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6" name="Line 42"/>
          <p:cNvSpPr/>
          <p:nvPr/>
        </p:nvSpPr>
        <p:spPr>
          <a:xfrm>
            <a:off x="5508720" y="2781360"/>
            <a:ext cx="1079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7" name="Line 43"/>
          <p:cNvSpPr/>
          <p:nvPr/>
        </p:nvSpPr>
        <p:spPr>
          <a:xfrm flipV="1">
            <a:off x="4572000" y="1125360"/>
            <a:ext cx="0" cy="11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2922480" y="2057400"/>
            <a:ext cx="3478320" cy="1595520"/>
          </a:xfrm>
          <a:prstGeom prst="rect">
            <a:avLst/>
          </a:prstGeom>
          <a:solidFill>
            <a:srgbClr val="afe1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Здоровьесберегающие </a:t>
            </a:r>
            <a:endParaRPr b="1" lang="en-US" sz="20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ехнологии</a:t>
            </a:r>
            <a:endParaRPr b="1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185760" y="1420920"/>
            <a:ext cx="2376360" cy="865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сихо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1338120" y="341280"/>
            <a:ext cx="1779840" cy="576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Самомассаж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1" name="Oval 11"/>
          <p:cNvSpPr/>
          <p:nvPr/>
        </p:nvSpPr>
        <p:spPr>
          <a:xfrm>
            <a:off x="5946840" y="268200"/>
            <a:ext cx="177948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Логоритм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3425760" y="268200"/>
            <a:ext cx="2211480" cy="7905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Гимнастика дл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горл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3" name="Oval 14"/>
          <p:cNvSpPr/>
          <p:nvPr/>
        </p:nvSpPr>
        <p:spPr>
          <a:xfrm>
            <a:off x="185760" y="4300560"/>
            <a:ext cx="2355840" cy="863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елесное 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ориентирование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4" name="Oval 18"/>
          <p:cNvSpPr/>
          <p:nvPr/>
        </p:nvSpPr>
        <p:spPr>
          <a:xfrm>
            <a:off x="546120" y="2428920"/>
            <a:ext cx="177948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Стретчинг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5" name="Oval 20"/>
          <p:cNvSpPr/>
          <p:nvPr/>
        </p:nvSpPr>
        <p:spPr>
          <a:xfrm>
            <a:off x="6837480" y="2392200"/>
            <a:ext cx="1779480" cy="648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Су-Джок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6" name="Oval 21"/>
          <p:cNvSpPr/>
          <p:nvPr/>
        </p:nvSpPr>
        <p:spPr>
          <a:xfrm>
            <a:off x="546120" y="3508200"/>
            <a:ext cx="1779480" cy="648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Брейнджим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7" name="Oval 22"/>
          <p:cNvSpPr/>
          <p:nvPr/>
        </p:nvSpPr>
        <p:spPr>
          <a:xfrm>
            <a:off x="762120" y="5668920"/>
            <a:ext cx="177948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Релаксаци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8" name="Oval 23"/>
          <p:cNvSpPr/>
          <p:nvPr/>
        </p:nvSpPr>
        <p:spPr>
          <a:xfrm>
            <a:off x="6307200" y="5597640"/>
            <a:ext cx="177948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для глаз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3498840" y="5524560"/>
            <a:ext cx="2089080" cy="792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имическая 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гимнаст</a:t>
            </a: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0" name="Oval 27"/>
          <p:cNvSpPr/>
          <p:nvPr/>
        </p:nvSpPr>
        <p:spPr>
          <a:xfrm>
            <a:off x="6523200" y="1133640"/>
            <a:ext cx="2376360" cy="865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Дыхательная 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1" name="Oval 28"/>
          <p:cNvSpPr/>
          <p:nvPr/>
        </p:nvSpPr>
        <p:spPr>
          <a:xfrm>
            <a:off x="6523200" y="4373640"/>
            <a:ext cx="2376360" cy="865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альчикова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гимнастика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6738840" y="3292560"/>
            <a:ext cx="177984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Арттерапи</a:t>
            </a: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я</a:t>
            </a:r>
            <a:endParaRPr b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4578480" y="379728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4" name="Line 31"/>
          <p:cNvSpPr/>
          <p:nvPr/>
        </p:nvSpPr>
        <p:spPr>
          <a:xfrm flipH="1">
            <a:off x="2417400" y="3581280"/>
            <a:ext cx="136836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5" name="Line 32"/>
          <p:cNvSpPr/>
          <p:nvPr/>
        </p:nvSpPr>
        <p:spPr>
          <a:xfrm flipH="1">
            <a:off x="2490840" y="3076560"/>
            <a:ext cx="12240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6" name="Line 33"/>
          <p:cNvSpPr/>
          <p:nvPr/>
        </p:nvSpPr>
        <p:spPr>
          <a:xfrm flipH="1">
            <a:off x="2346120" y="2716200"/>
            <a:ext cx="1368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7" name="Line 34"/>
          <p:cNvSpPr/>
          <p:nvPr/>
        </p:nvSpPr>
        <p:spPr>
          <a:xfrm flipH="1">
            <a:off x="2346120" y="2573280"/>
            <a:ext cx="1439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5514840" y="3076560"/>
            <a:ext cx="115272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9" name="Line 36"/>
          <p:cNvSpPr/>
          <p:nvPr/>
        </p:nvSpPr>
        <p:spPr>
          <a:xfrm>
            <a:off x="5442120" y="3581280"/>
            <a:ext cx="1081080" cy="19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0" name="Line 37"/>
          <p:cNvSpPr/>
          <p:nvPr/>
        </p:nvSpPr>
        <p:spPr>
          <a:xfrm flipV="1">
            <a:off x="5154480" y="915480"/>
            <a:ext cx="1152720" cy="122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1" name="Line 38"/>
          <p:cNvSpPr/>
          <p:nvPr/>
        </p:nvSpPr>
        <p:spPr>
          <a:xfrm flipH="1" flipV="1">
            <a:off x="2922120" y="915480"/>
            <a:ext cx="107964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2" name="Line 39"/>
          <p:cNvSpPr/>
          <p:nvPr/>
        </p:nvSpPr>
        <p:spPr>
          <a:xfrm flipH="1" flipV="1">
            <a:off x="2633400" y="1923840"/>
            <a:ext cx="1152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3" name="Line 40"/>
          <p:cNvSpPr/>
          <p:nvPr/>
        </p:nvSpPr>
        <p:spPr>
          <a:xfrm flipV="1">
            <a:off x="5442120" y="1781280"/>
            <a:ext cx="1152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5514840" y="2500200"/>
            <a:ext cx="1295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5514840" y="2789280"/>
            <a:ext cx="1079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76" name="Line 43"/>
          <p:cNvSpPr/>
          <p:nvPr/>
        </p:nvSpPr>
        <p:spPr>
          <a:xfrm flipV="1">
            <a:off x="4578480" y="113328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енсорная комната - </a:t>
            </a:r>
            <a:br>
              <a:rPr sz="4400"/>
            </a:b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лшебное помещение для релаксации, снятии стресса и расслаблен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Picture 3" descr="C:\Users\Школа-интернат22\Desktop\педсовет март 2019\сенсорная\DSC_0240.JPG"/>
          <p:cNvPicPr/>
          <p:nvPr/>
        </p:nvPicPr>
        <p:blipFill>
          <a:blip r:embed="rId1"/>
          <a:stretch/>
        </p:blipFill>
        <p:spPr>
          <a:xfrm>
            <a:off x="6051600" y="1722600"/>
            <a:ext cx="2851200" cy="4278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Школа-интернат22\Desktop\педсовет март 2019\сенсорная\DSC_1865.JPG"/>
          <p:cNvPicPr/>
          <p:nvPr/>
        </p:nvPicPr>
        <p:blipFill>
          <a:blip r:embed="rId2"/>
          <a:stretch/>
        </p:blipFill>
        <p:spPr>
          <a:xfrm>
            <a:off x="3124080" y="3200400"/>
            <a:ext cx="2843280" cy="1895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3"/>
          <a:stretch/>
        </p:blipFill>
        <p:spPr>
          <a:xfrm>
            <a:off x="304920" y="1765440"/>
            <a:ext cx="24019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2640" y="-381240"/>
            <a:ext cx="9296280" cy="23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Мандалы</a:t>
            </a:r>
            <a:br>
              <a:rPr sz="4000"/>
            </a:br>
            <a:r>
              <a:rPr b="0" lang="ru-RU" sz="2400" spc="-1" strike="noStrike">
                <a:solidFill>
                  <a:srgbClr val="339933"/>
                </a:solidFill>
                <a:latin typeface="Times New Roman"/>
              </a:rPr>
              <a:t> гармонизация внутреннего состояния; развитие коммуникативных навыков; снятие внутреннего напряжения; нахождение внутреннего ресурс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Picture 7" descr="1 (9)"/>
          <p:cNvPicPr/>
          <p:nvPr/>
        </p:nvPicPr>
        <p:blipFill>
          <a:blip r:embed="rId1"/>
          <a:stretch/>
        </p:blipFill>
        <p:spPr>
          <a:xfrm>
            <a:off x="1066680" y="2235240"/>
            <a:ext cx="2867040" cy="2185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1 (10)"/>
          <p:cNvPicPr/>
          <p:nvPr/>
        </p:nvPicPr>
        <p:blipFill>
          <a:blip r:embed="rId2"/>
          <a:stretch/>
        </p:blipFill>
        <p:spPr>
          <a:xfrm>
            <a:off x="2987640" y="4365720"/>
            <a:ext cx="2867040" cy="2151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1 (12)"/>
          <p:cNvPicPr/>
          <p:nvPr/>
        </p:nvPicPr>
        <p:blipFill>
          <a:blip r:embed="rId3"/>
          <a:stretch/>
        </p:blipFill>
        <p:spPr>
          <a:xfrm>
            <a:off x="4952880" y="2235240"/>
            <a:ext cx="2870280" cy="2185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1 (14)"/>
          <p:cNvPicPr/>
          <p:nvPr/>
        </p:nvPicPr>
        <p:blipFill>
          <a:blip r:embed="rId4"/>
          <a:stretch/>
        </p:blipFill>
        <p:spPr>
          <a:xfrm>
            <a:off x="6156360" y="4346640"/>
            <a:ext cx="2771640" cy="2098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3" descr="1 (11)"/>
          <p:cNvPicPr/>
          <p:nvPr/>
        </p:nvPicPr>
        <p:blipFill>
          <a:blip r:embed="rId5"/>
          <a:stretch/>
        </p:blipFill>
        <p:spPr>
          <a:xfrm>
            <a:off x="179280" y="4421160"/>
            <a:ext cx="27370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9840" y="980640"/>
            <a:ext cx="87138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                                    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Релаксация </a:t>
            </a:r>
            <a:br>
              <a:rPr sz="3600"/>
            </a:b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«Умение расслабляться, помогает приостановить ненужный расход энергии, быстро нейтрализует утомление, снимает нервное напряжение, даёт ощущение покоя и сосредоточенности» Е. И. Зуев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4038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"Реснички опуска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Глазки закрыв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Мы спокойно отдыха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Сном волшебным засыпа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Напряженье улетел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И расслабилось все тело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6" descr="http://duts3.ru/wp-content/uploads/2016/01/DSC04029-1024x575.jpg"/>
          <p:cNvPicPr/>
          <p:nvPr/>
        </p:nvPicPr>
        <p:blipFill>
          <a:blip r:embed="rId1"/>
          <a:stretch/>
        </p:blipFill>
        <p:spPr>
          <a:xfrm>
            <a:off x="4264200" y="2438280"/>
            <a:ext cx="45813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2"/>
          <p:cNvSpPr/>
          <p:nvPr/>
        </p:nvSpPr>
        <p:spPr>
          <a:xfrm>
            <a:off x="1270440" y="2571840"/>
            <a:ext cx="688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Будьте здоровы!</a:t>
            </a:r>
            <a:endParaRPr b="1" lang="en-US" sz="60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291" name="Рисунок 3" descr="солнце.gif"/>
          <p:cNvPicPr/>
          <p:nvPr/>
        </p:nvPicPr>
        <p:blipFill>
          <a:blip r:embed="rId1"/>
          <a:stretch/>
        </p:blipFill>
        <p:spPr>
          <a:xfrm>
            <a:off x="714240" y="378000"/>
            <a:ext cx="2286000" cy="217152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Новый рисунок (10).png"/>
          <p:cNvPicPr/>
          <p:nvPr/>
        </p:nvPicPr>
        <p:blipFill>
          <a:blip r:embed="rId2"/>
          <a:stretch/>
        </p:blipFill>
        <p:spPr>
          <a:xfrm>
            <a:off x="5214960" y="400068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5" descr="Новый рисунок (18).png"/>
          <p:cNvPicPr/>
          <p:nvPr/>
        </p:nvPicPr>
        <p:blipFill>
          <a:blip r:embed="rId3"/>
          <a:stretch/>
        </p:blipFill>
        <p:spPr>
          <a:xfrm rot="2830200">
            <a:off x="539280" y="4047840"/>
            <a:ext cx="304812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арший воспитатель</dc:creator>
  <dc:description/>
  <dc:language>en-US</dc:language>
  <cp:lastModifiedBy>Школа-интернат22</cp:lastModifiedBy>
  <dcterms:modified xsi:type="dcterms:W3CDTF">2019-03-26T10:21:5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