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247-36B3-49F3-9624-E1296CC9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8A3-095F-466D-B8BA-89FB3A03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963-A2D5-41FB-B241-5ED30A38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FBA-E539-433E-8631-9DF3A934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C982-3934-4135-B828-0098F4B3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525B-92B4-48FB-8467-932EEAFA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A411-AD6A-42C4-864E-F09E8FA1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AFDE-D1B3-4433-8F1A-578A0CCB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4EAB-DC95-46B1-ACE5-478BE317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DDD4-F154-45B1-A750-1290EEDC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24D8-9E70-474F-B7D2-362EE3D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E9F-CABF-4FAE-BA0F-40F3C8EF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4318-95E8-418D-B746-389FB942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ADBE-C688-4CB4-A2AF-71DB389F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7801-C340-4F94-BA61-7D6B42A3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BB40-3559-49BF-A0EB-A2886E33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A078-19DF-4C75-A290-F16A6764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990-394B-49A9-A7C9-8CD3AE88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C88-B37C-4312-8EEB-C2B8EC76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9D6-E150-43F9-9410-41528ED0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407-DE9A-4B40-AA8C-CE1F00E9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1F1-B2A7-4405-8806-AC728E4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205-D050-4D65-BEDF-AB69399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59E-7B1B-44A9-9B78-A33564A5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9FAE-F5EF-429B-B764-BE24B8A752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Verdana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D13E-D2C2-449B-8073-E7FF2A9EB9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Использование ЗСТ на занятиях коррекционно-развивающей направленности, как средство психологической разгрузки  учащихся с ОВЗ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44956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«Здоровье до того перевешивает все остальные блага   жизни, что здоровый нищий счастливее больного короля. "</a:t>
            </a:r>
            <a:br>
              <a:rPr sz="28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                                                     </a:t>
            </a: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Артур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Шопенгауэ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ставляющие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4114800" y="3352680"/>
            <a:ext cx="114300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ЗДОРОВЬ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5" name="Oval 6"/>
          <p:cNvSpPr/>
          <p:nvPr/>
        </p:nvSpPr>
        <p:spPr>
          <a:xfrm rot="7576200">
            <a:off x="2415600" y="1546200"/>
            <a:ext cx="1339920" cy="23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ОЦИАЛЬНО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6" name="Oval 10"/>
          <p:cNvSpPr/>
          <p:nvPr/>
        </p:nvSpPr>
        <p:spPr>
          <a:xfrm rot="3170400">
            <a:off x="2340000" y="3603240"/>
            <a:ext cx="13399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ДУХОВНО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7" name="Oval 12"/>
          <p:cNvSpPr/>
          <p:nvPr/>
        </p:nvSpPr>
        <p:spPr>
          <a:xfrm rot="16856400">
            <a:off x="5997240" y="2841480"/>
            <a:ext cx="13399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ФИЗИЧЕСКОЕ</a:t>
            </a:r>
            <a:endParaRPr b="1" lang="en-US" sz="1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8" name="Oval 13"/>
          <p:cNvSpPr/>
          <p:nvPr/>
        </p:nvSpPr>
        <p:spPr>
          <a:xfrm rot="9332400">
            <a:off x="4495680" y="4495680"/>
            <a:ext cx="13399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НРАВСТВЕННОЕ</a:t>
            </a:r>
            <a:endParaRPr b="1" lang="en-US" sz="1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9" name="Oval 14"/>
          <p:cNvSpPr/>
          <p:nvPr/>
        </p:nvSpPr>
        <p:spPr>
          <a:xfrm rot="12492000">
            <a:off x="4800240" y="1065960"/>
            <a:ext cx="1339920" cy="226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сихическо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8"/>
          <p:cNvSpPr/>
          <p:nvPr/>
        </p:nvSpPr>
        <p:spPr>
          <a:xfrm>
            <a:off x="179280" y="1413000"/>
            <a:ext cx="2376720" cy="865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Психо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1332000" y="333360"/>
            <a:ext cx="1779480" cy="57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Самомассаж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5940360" y="26028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Логоритм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3" name="Oval 13"/>
          <p:cNvSpPr/>
          <p:nvPr/>
        </p:nvSpPr>
        <p:spPr>
          <a:xfrm>
            <a:off x="3419640" y="260280"/>
            <a:ext cx="2211120" cy="79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 дл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орл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4" name="Oval 14"/>
          <p:cNvSpPr/>
          <p:nvPr/>
        </p:nvSpPr>
        <p:spPr>
          <a:xfrm>
            <a:off x="179280" y="4292640"/>
            <a:ext cx="2355840" cy="86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Телесное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ориентировани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539640" y="2421000"/>
            <a:ext cx="177984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Стретчинг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6" name="Oval 20"/>
          <p:cNvSpPr/>
          <p:nvPr/>
        </p:nvSpPr>
        <p:spPr>
          <a:xfrm>
            <a:off x="6804000" y="242100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Су-Джок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7" name="Oval 21"/>
          <p:cNvSpPr/>
          <p:nvPr/>
        </p:nvSpPr>
        <p:spPr>
          <a:xfrm>
            <a:off x="539640" y="3500280"/>
            <a:ext cx="1779840" cy="6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Брейнджим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755640" y="566100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Релаксаци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9" name="Oval 23"/>
          <p:cNvSpPr/>
          <p:nvPr/>
        </p:nvSpPr>
        <p:spPr>
          <a:xfrm>
            <a:off x="6300720" y="558972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для глаз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3492360" y="5516640"/>
            <a:ext cx="208944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Мимическа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1" name="Oval 27"/>
          <p:cNvSpPr/>
          <p:nvPr/>
        </p:nvSpPr>
        <p:spPr>
          <a:xfrm>
            <a:off x="6516720" y="1125360"/>
            <a:ext cx="2376360" cy="8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Дыхательная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2" name="Oval 28"/>
          <p:cNvSpPr/>
          <p:nvPr/>
        </p:nvSpPr>
        <p:spPr>
          <a:xfrm>
            <a:off x="6516720" y="4365720"/>
            <a:ext cx="2376360" cy="865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Пальчикова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6732720" y="328464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Арттерапи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4" name="Line 30"/>
          <p:cNvSpPr/>
          <p:nvPr/>
        </p:nvSpPr>
        <p:spPr>
          <a:xfrm>
            <a:off x="4572000" y="378936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5" name="Line 31"/>
          <p:cNvSpPr/>
          <p:nvPr/>
        </p:nvSpPr>
        <p:spPr>
          <a:xfrm flipH="1">
            <a:off x="2411280" y="3573360"/>
            <a:ext cx="136872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6" name="Line 32"/>
          <p:cNvSpPr/>
          <p:nvPr/>
        </p:nvSpPr>
        <p:spPr>
          <a:xfrm flipH="1">
            <a:off x="2484360" y="3068640"/>
            <a:ext cx="1224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7" name="Line 33"/>
          <p:cNvSpPr/>
          <p:nvPr/>
        </p:nvSpPr>
        <p:spPr>
          <a:xfrm flipH="1">
            <a:off x="2339640" y="2708280"/>
            <a:ext cx="1368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8" name="Line 34"/>
          <p:cNvSpPr/>
          <p:nvPr/>
        </p:nvSpPr>
        <p:spPr>
          <a:xfrm flipH="1">
            <a:off x="2340000" y="2565360"/>
            <a:ext cx="1440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9" name="Line 35"/>
          <p:cNvSpPr/>
          <p:nvPr/>
        </p:nvSpPr>
        <p:spPr>
          <a:xfrm>
            <a:off x="5508720" y="3068640"/>
            <a:ext cx="115236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0" name="Line 36"/>
          <p:cNvSpPr/>
          <p:nvPr/>
        </p:nvSpPr>
        <p:spPr>
          <a:xfrm>
            <a:off x="5435640" y="3573360"/>
            <a:ext cx="108108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1" name="Line 37"/>
          <p:cNvSpPr/>
          <p:nvPr/>
        </p:nvSpPr>
        <p:spPr>
          <a:xfrm flipV="1">
            <a:off x="5148360" y="907560"/>
            <a:ext cx="1152360" cy="122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2" name="Line 38"/>
          <p:cNvSpPr/>
          <p:nvPr/>
        </p:nvSpPr>
        <p:spPr>
          <a:xfrm flipH="1" flipV="1">
            <a:off x="2916360" y="907560"/>
            <a:ext cx="107928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3" name="Line 39"/>
          <p:cNvSpPr/>
          <p:nvPr/>
        </p:nvSpPr>
        <p:spPr>
          <a:xfrm flipH="1" flipV="1">
            <a:off x="2627280" y="1915920"/>
            <a:ext cx="1152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4" name="Line 40"/>
          <p:cNvSpPr/>
          <p:nvPr/>
        </p:nvSpPr>
        <p:spPr>
          <a:xfrm flipV="1">
            <a:off x="5435640" y="1773360"/>
            <a:ext cx="1152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5" name="Line 41"/>
          <p:cNvSpPr/>
          <p:nvPr/>
        </p:nvSpPr>
        <p:spPr>
          <a:xfrm>
            <a:off x="5508720" y="249228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6" name="Line 42"/>
          <p:cNvSpPr/>
          <p:nvPr/>
        </p:nvSpPr>
        <p:spPr>
          <a:xfrm>
            <a:off x="5508720" y="2781360"/>
            <a:ext cx="1079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7" name="Line 43"/>
          <p:cNvSpPr/>
          <p:nvPr/>
        </p:nvSpPr>
        <p:spPr>
          <a:xfrm flipV="1">
            <a:off x="4572000" y="1125360"/>
            <a:ext cx="0" cy="11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2922480" y="2057400"/>
            <a:ext cx="3478320" cy="1595520"/>
          </a:xfrm>
          <a:prstGeom prst="rect">
            <a:avLst/>
          </a:prstGeom>
          <a:solidFill>
            <a:srgbClr val="afe1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Здоровьесберегающие </a:t>
            </a:r>
            <a:endParaRPr b="1" lang="en-US" sz="20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ехнологии</a:t>
            </a:r>
            <a:endParaRPr b="1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185760" y="1420920"/>
            <a:ext cx="2376360" cy="86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сихо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1338120" y="341280"/>
            <a:ext cx="1779840" cy="576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Самомассаж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1" name="Oval 11"/>
          <p:cNvSpPr/>
          <p:nvPr/>
        </p:nvSpPr>
        <p:spPr>
          <a:xfrm>
            <a:off x="5946840" y="268200"/>
            <a:ext cx="177948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Логоритм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3425760" y="268200"/>
            <a:ext cx="2211480" cy="7905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ика дл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орл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185760" y="4300560"/>
            <a:ext cx="2355840" cy="863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елесное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ориентировани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4" name="Oval 18"/>
          <p:cNvSpPr/>
          <p:nvPr/>
        </p:nvSpPr>
        <p:spPr>
          <a:xfrm>
            <a:off x="546120" y="2428920"/>
            <a:ext cx="177948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Стретчинг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5" name="Oval 20"/>
          <p:cNvSpPr/>
          <p:nvPr/>
        </p:nvSpPr>
        <p:spPr>
          <a:xfrm>
            <a:off x="6837480" y="2392200"/>
            <a:ext cx="1779480" cy="648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Су-Джок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6" name="Oval 21"/>
          <p:cNvSpPr/>
          <p:nvPr/>
        </p:nvSpPr>
        <p:spPr>
          <a:xfrm>
            <a:off x="546120" y="3508200"/>
            <a:ext cx="1779480" cy="648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Брейнджим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7" name="Oval 22"/>
          <p:cNvSpPr/>
          <p:nvPr/>
        </p:nvSpPr>
        <p:spPr>
          <a:xfrm>
            <a:off x="762120" y="5668920"/>
            <a:ext cx="177948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Релаксаци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8" name="Oval 23"/>
          <p:cNvSpPr/>
          <p:nvPr/>
        </p:nvSpPr>
        <p:spPr>
          <a:xfrm>
            <a:off x="6307200" y="5597640"/>
            <a:ext cx="177948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для глаз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3498840" y="5524560"/>
            <a:ext cx="2089080" cy="792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имическая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</a:t>
            </a: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0" name="Oval 27"/>
          <p:cNvSpPr/>
          <p:nvPr/>
        </p:nvSpPr>
        <p:spPr>
          <a:xfrm>
            <a:off x="6523200" y="1133640"/>
            <a:ext cx="2376360" cy="86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Дыхательная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1" name="Oval 28"/>
          <p:cNvSpPr/>
          <p:nvPr/>
        </p:nvSpPr>
        <p:spPr>
          <a:xfrm>
            <a:off x="6523200" y="4373640"/>
            <a:ext cx="2376360" cy="86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альчикова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6738840" y="3292560"/>
            <a:ext cx="177984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Арттерапи</a:t>
            </a: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4578480" y="379728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4" name="Line 31"/>
          <p:cNvSpPr/>
          <p:nvPr/>
        </p:nvSpPr>
        <p:spPr>
          <a:xfrm flipH="1">
            <a:off x="2417400" y="3581280"/>
            <a:ext cx="136836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5" name="Line 32"/>
          <p:cNvSpPr/>
          <p:nvPr/>
        </p:nvSpPr>
        <p:spPr>
          <a:xfrm flipH="1">
            <a:off x="2490840" y="3076560"/>
            <a:ext cx="1224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6" name="Line 33"/>
          <p:cNvSpPr/>
          <p:nvPr/>
        </p:nvSpPr>
        <p:spPr>
          <a:xfrm flipH="1">
            <a:off x="2346120" y="2716200"/>
            <a:ext cx="1368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7" name="Line 34"/>
          <p:cNvSpPr/>
          <p:nvPr/>
        </p:nvSpPr>
        <p:spPr>
          <a:xfrm flipH="1">
            <a:off x="2346120" y="2573280"/>
            <a:ext cx="1439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5514840" y="3076560"/>
            <a:ext cx="1152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5442120" y="3581280"/>
            <a:ext cx="108108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0" name="Line 37"/>
          <p:cNvSpPr/>
          <p:nvPr/>
        </p:nvSpPr>
        <p:spPr>
          <a:xfrm flipV="1">
            <a:off x="5154480" y="915480"/>
            <a:ext cx="1152720" cy="122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1" name="Line 38"/>
          <p:cNvSpPr/>
          <p:nvPr/>
        </p:nvSpPr>
        <p:spPr>
          <a:xfrm flipH="1" flipV="1">
            <a:off x="2922120" y="915480"/>
            <a:ext cx="107964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2" name="Line 39"/>
          <p:cNvSpPr/>
          <p:nvPr/>
        </p:nvSpPr>
        <p:spPr>
          <a:xfrm flipH="1" flipV="1">
            <a:off x="2633400" y="1923840"/>
            <a:ext cx="1152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3" name="Line 40"/>
          <p:cNvSpPr/>
          <p:nvPr/>
        </p:nvSpPr>
        <p:spPr>
          <a:xfrm flipV="1">
            <a:off x="5442120" y="1781280"/>
            <a:ext cx="1152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5514840" y="2500200"/>
            <a:ext cx="129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5514840" y="2789280"/>
            <a:ext cx="1079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6" name="Line 43"/>
          <p:cNvSpPr/>
          <p:nvPr/>
        </p:nvSpPr>
        <p:spPr>
          <a:xfrm flipV="1">
            <a:off x="4578480" y="113328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енсорная комната - </a:t>
            </a:r>
            <a:br>
              <a:rPr sz="4400"/>
            </a:b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лшебное помещение для релаксации, снятии стресса и расслабле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Picture 3" descr="C:\Users\Школа-интернат22\Desktop\педсовет март 2019\сенсорная\DSC_0240.JPG"/>
          <p:cNvPicPr/>
          <p:nvPr/>
        </p:nvPicPr>
        <p:blipFill>
          <a:blip r:embed="rId1"/>
          <a:stretch/>
        </p:blipFill>
        <p:spPr>
          <a:xfrm>
            <a:off x="6051600" y="1722600"/>
            <a:ext cx="2851200" cy="4278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Школа-интернат22\Desktop\педсовет март 2019\сенсорная\DSC_1865.JPG"/>
          <p:cNvPicPr/>
          <p:nvPr/>
        </p:nvPicPr>
        <p:blipFill>
          <a:blip r:embed="rId2"/>
          <a:stretch/>
        </p:blipFill>
        <p:spPr>
          <a:xfrm>
            <a:off x="3124080" y="320040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304920" y="1765440"/>
            <a:ext cx="24019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2640" y="-381240"/>
            <a:ext cx="929628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Мандалы</a:t>
            </a:r>
            <a:br>
              <a:rPr sz="4000"/>
            </a:br>
            <a:r>
              <a:rPr b="0" lang="ru-RU" sz="2400" spc="-1" strike="noStrike">
                <a:solidFill>
                  <a:srgbClr val="339933"/>
                </a:solidFill>
                <a:latin typeface="Times New Roman"/>
              </a:rPr>
              <a:t> гармонизация внутреннего состояния; развитие коммуникативных навыков; снятие внутреннего напряжения; нахождение внутреннего ресурс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7" descr="1 (9)"/>
          <p:cNvPicPr/>
          <p:nvPr/>
        </p:nvPicPr>
        <p:blipFill>
          <a:blip r:embed="rId1"/>
          <a:stretch/>
        </p:blipFill>
        <p:spPr>
          <a:xfrm>
            <a:off x="1066680" y="2235240"/>
            <a:ext cx="286704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1 (10)"/>
          <p:cNvPicPr/>
          <p:nvPr/>
        </p:nvPicPr>
        <p:blipFill>
          <a:blip r:embed="rId2"/>
          <a:stretch/>
        </p:blipFill>
        <p:spPr>
          <a:xfrm>
            <a:off x="2987640" y="4365720"/>
            <a:ext cx="2867040" cy="2151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1 (12)"/>
          <p:cNvPicPr/>
          <p:nvPr/>
        </p:nvPicPr>
        <p:blipFill>
          <a:blip r:embed="rId3"/>
          <a:stretch/>
        </p:blipFill>
        <p:spPr>
          <a:xfrm>
            <a:off x="4952880" y="2235240"/>
            <a:ext cx="2870280" cy="2185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1 (14)"/>
          <p:cNvPicPr/>
          <p:nvPr/>
        </p:nvPicPr>
        <p:blipFill>
          <a:blip r:embed="rId4"/>
          <a:stretch/>
        </p:blipFill>
        <p:spPr>
          <a:xfrm>
            <a:off x="6156360" y="4346640"/>
            <a:ext cx="2771640" cy="2098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1 (11)"/>
          <p:cNvPicPr/>
          <p:nvPr/>
        </p:nvPicPr>
        <p:blipFill>
          <a:blip r:embed="rId5"/>
          <a:stretch/>
        </p:blipFill>
        <p:spPr>
          <a:xfrm>
            <a:off x="179280" y="4421160"/>
            <a:ext cx="27370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9840" y="980640"/>
            <a:ext cx="87138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                                    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Релаксация </a:t>
            </a:r>
            <a:br>
              <a:rPr sz="3600"/>
            </a:b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«Умение расслабляться, помогает приостановить ненужный расход энергии, быстро нейтрализует утомление, снимает нервное напряжение, даёт ощущение покоя и сосредоточенности» Е. И. Зуев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4038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"Реснички опуска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Глазки закрыв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Мы спокойно отдых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Сном волшебным засыпа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Напряженье улетел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И расслабилось все тело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6" descr="http://duts3.ru/wp-content/uploads/2016/01/DSC04029-1024x575.jpg"/>
          <p:cNvPicPr/>
          <p:nvPr/>
        </p:nvPicPr>
        <p:blipFill>
          <a:blip r:embed="rId1"/>
          <a:stretch/>
        </p:blipFill>
        <p:spPr>
          <a:xfrm>
            <a:off x="4264200" y="2438280"/>
            <a:ext cx="45813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2"/>
          <p:cNvSpPr/>
          <p:nvPr/>
        </p:nvSpPr>
        <p:spPr>
          <a:xfrm>
            <a:off x="1270440" y="2571840"/>
            <a:ext cx="688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Будьте здоровы!</a:t>
            </a:r>
            <a:endParaRPr b="1" lang="en-US" sz="60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291" name="Рисунок 3" descr="солнце.gif"/>
          <p:cNvPicPr/>
          <p:nvPr/>
        </p:nvPicPr>
        <p:blipFill>
          <a:blip r:embed="rId1"/>
          <a:stretch/>
        </p:blipFill>
        <p:spPr>
          <a:xfrm>
            <a:off x="714240" y="378000"/>
            <a:ext cx="2286000" cy="21715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Новый рисунок (10).png"/>
          <p:cNvPicPr/>
          <p:nvPr/>
        </p:nvPicPr>
        <p:blipFill>
          <a:blip r:embed="rId2"/>
          <a:stretch/>
        </p:blipFill>
        <p:spPr>
          <a:xfrm>
            <a:off x="5214960" y="400068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5" descr="Новый рисунок (18).png"/>
          <p:cNvPicPr/>
          <p:nvPr/>
        </p:nvPicPr>
        <p:blipFill>
          <a:blip r:embed="rId3"/>
          <a:stretch/>
        </p:blipFill>
        <p:spPr>
          <a:xfrm rot="2830200">
            <a:off x="539280" y="4047840"/>
            <a:ext cx="304812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арший воспитатель</dc:creator>
  <dc:description/>
  <dc:language>en-US</dc:language>
  <cp:lastModifiedBy>Школа-интернат22</cp:lastModifiedBy>
  <dcterms:modified xsi:type="dcterms:W3CDTF">2019-03-26T10:21:5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