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9.png" ContentType="image/png"/>
  <Override PartName="/ppt/media/image12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11.jpeg" ContentType="image/jpeg"/>
  <Override PartName="/ppt/media/image7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Century Schoolbook"/>
              </a:rPr>
              <a:t>Click to move the slide</a:t>
            </a:r>
            <a:endParaRPr b="1" lang="en-US" sz="3600" spc="-1" strike="noStrike">
              <a:solidFill>
                <a:srgbClr val="c00000"/>
              </a:solidFill>
              <a:latin typeface="Century Schoolbook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1A472-271E-4381-83CC-C295BDE7D4C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B06DC-447C-4965-9614-982B7EC727A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2D110-804F-4D60-B50F-9FA769B05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2920" y="357120"/>
            <a:ext cx="3286080" cy="15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00000"/>
              </a:solidFill>
              <a:latin typeface="Century Schoolboo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143240" y="499680"/>
            <a:ext cx="47865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143240" y="3484800"/>
            <a:ext cx="47865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2E1F9-F9FF-4516-B295-AEB37CAA4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42920" y="357120"/>
            <a:ext cx="3286080" cy="15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00000"/>
              </a:solidFill>
              <a:latin typeface="Century Schoolbook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143240" y="499680"/>
            <a:ext cx="23356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6595920" y="499680"/>
            <a:ext cx="23356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F40474-4EAC-4348-A4C0-CE5ACAF36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42920" y="357120"/>
            <a:ext cx="3286080" cy="15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470F7F-D126-40F9-A51A-34E97E6CA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142920" y="357120"/>
            <a:ext cx="3286080" cy="728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AEDD06-3626-40FB-83DC-008BB8DD5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42920" y="357120"/>
            <a:ext cx="3286080" cy="15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00000"/>
              </a:solidFill>
              <a:latin typeface="Century Schoolbook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143240" y="499680"/>
            <a:ext cx="23356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6595920" y="499680"/>
            <a:ext cx="23356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143240" y="3484800"/>
            <a:ext cx="23356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53FD4A-D462-4F6C-B855-B212EA749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42920" y="357120"/>
            <a:ext cx="3286080" cy="15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00000"/>
              </a:solidFill>
              <a:latin typeface="Century Schoolbook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143240" y="499680"/>
            <a:ext cx="23356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595920" y="499680"/>
            <a:ext cx="23356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595920" y="3484800"/>
            <a:ext cx="23356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061925-18A2-4ACE-BCCE-B1DDE8838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42920" y="357120"/>
            <a:ext cx="3286080" cy="15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00000"/>
              </a:solidFill>
              <a:latin typeface="Century Schoolboo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143240" y="499680"/>
            <a:ext cx="23356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6595920" y="499680"/>
            <a:ext cx="23356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143240" y="3484800"/>
            <a:ext cx="47865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4FD11F-6FA7-4C10-ACC5-E6C7EE6F8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42920" y="357120"/>
            <a:ext cx="3286080" cy="15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00000"/>
              </a:solidFill>
              <a:latin typeface="Century Schoolboo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143240" y="499680"/>
            <a:ext cx="47865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143240" y="3484800"/>
            <a:ext cx="47865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CAFDBC-0672-4601-994C-DD9701017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42920" y="357120"/>
            <a:ext cx="3286080" cy="15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00000"/>
              </a:solidFill>
              <a:latin typeface="Century Schoolboo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143240" y="499680"/>
            <a:ext cx="23356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6595920" y="499680"/>
            <a:ext cx="23356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143240" y="3484800"/>
            <a:ext cx="23356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6595920" y="3484800"/>
            <a:ext cx="23356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701321-70A4-48B1-9DA9-4EE5DC80E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42920" y="357120"/>
            <a:ext cx="3286080" cy="15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00000"/>
              </a:solidFill>
              <a:latin typeface="Century Schoolboo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143240" y="499680"/>
            <a:ext cx="15411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5761800" y="499680"/>
            <a:ext cx="15411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7380360" y="499680"/>
            <a:ext cx="15411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143240" y="3484800"/>
            <a:ext cx="15411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5761800" y="3484800"/>
            <a:ext cx="15411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7380360" y="3484800"/>
            <a:ext cx="15411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1F788F-B11E-4AFD-BC13-F23E16354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2920" y="357120"/>
            <a:ext cx="3286080" cy="15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00000"/>
              </a:solidFill>
              <a:latin typeface="Century Schoolboo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143240" y="499680"/>
            <a:ext cx="23356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595920" y="499680"/>
            <a:ext cx="23356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143240" y="3484800"/>
            <a:ext cx="23356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595920" y="3484800"/>
            <a:ext cx="23356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B6160-4E37-4E0F-A345-14211CE5E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2920" y="357120"/>
            <a:ext cx="3286080" cy="15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00000"/>
              </a:solidFill>
              <a:latin typeface="Century Schoolboo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143240" y="499680"/>
            <a:ext cx="15411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761800" y="499680"/>
            <a:ext cx="15411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380360" y="499680"/>
            <a:ext cx="15411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143240" y="3484800"/>
            <a:ext cx="15411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5761800" y="3484800"/>
            <a:ext cx="15411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380360" y="3484800"/>
            <a:ext cx="15411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A37D5-7136-4978-B3F1-998755480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0CD45-45B9-4B81-83DF-5E4112A14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42920" y="357120"/>
            <a:ext cx="3286080" cy="15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00000"/>
              </a:solidFill>
              <a:latin typeface="Century Schoolboo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143240" y="499680"/>
            <a:ext cx="478656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6E9EE-0BEE-4A26-9FC8-9EDBBD926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2920" y="357120"/>
            <a:ext cx="3286080" cy="15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00000"/>
              </a:solidFill>
              <a:latin typeface="Century School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143240" y="499680"/>
            <a:ext cx="47865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04494-914C-45AC-BF3C-B82D1F204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2920" y="357120"/>
            <a:ext cx="3286080" cy="15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00000"/>
              </a:solidFill>
              <a:latin typeface="Century School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143240" y="499680"/>
            <a:ext cx="23356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595920" y="499680"/>
            <a:ext cx="23356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52552-125A-42B4-A081-67211BC09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2920" y="357120"/>
            <a:ext cx="3286080" cy="15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BCE00-7C41-497C-BD2C-F5D30F4F0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42920" y="357120"/>
            <a:ext cx="3286080" cy="728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5DA83-926F-4287-A1E3-E6E5884BC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2920" y="357120"/>
            <a:ext cx="3286080" cy="15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00000"/>
              </a:solidFill>
              <a:latin typeface="Century School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143240" y="499680"/>
            <a:ext cx="23356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595920" y="499680"/>
            <a:ext cx="23356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143240" y="3484800"/>
            <a:ext cx="23356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2EA11-B194-4342-AAE5-58AD4B99A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2920" y="357120"/>
            <a:ext cx="3286080" cy="15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00000"/>
              </a:solidFill>
              <a:latin typeface="Century Schoolboo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143240" y="499680"/>
            <a:ext cx="478656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30C2D-6BF8-443A-85BA-2A9CC220A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2920" y="357120"/>
            <a:ext cx="3286080" cy="15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00000"/>
              </a:solidFill>
              <a:latin typeface="Century School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143240" y="499680"/>
            <a:ext cx="23356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595920" y="499680"/>
            <a:ext cx="23356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595920" y="3484800"/>
            <a:ext cx="23356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61866-9C12-4EA1-BA33-6B71CBB14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2920" y="357120"/>
            <a:ext cx="3286080" cy="15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00000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143240" y="499680"/>
            <a:ext cx="23356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595920" y="499680"/>
            <a:ext cx="23356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143240" y="3484800"/>
            <a:ext cx="47865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F04D7-18A3-43EE-901E-547AB3EBF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2920" y="357120"/>
            <a:ext cx="3286080" cy="15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00000"/>
              </a:solidFill>
              <a:latin typeface="Century School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143240" y="499680"/>
            <a:ext cx="47865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143240" y="3484800"/>
            <a:ext cx="47865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692F3-4759-4294-89BC-941F85149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2920" y="357120"/>
            <a:ext cx="3286080" cy="15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00000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143240" y="499680"/>
            <a:ext cx="23356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595920" y="499680"/>
            <a:ext cx="23356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143240" y="3484800"/>
            <a:ext cx="23356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595920" y="3484800"/>
            <a:ext cx="23356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C1CDA-563B-4C02-998A-57C120846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2920" y="357120"/>
            <a:ext cx="3286080" cy="15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00000"/>
              </a:solidFill>
              <a:latin typeface="Century Schoolboo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143240" y="499680"/>
            <a:ext cx="15411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761800" y="499680"/>
            <a:ext cx="15411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380360" y="499680"/>
            <a:ext cx="15411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143240" y="3484800"/>
            <a:ext cx="15411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5761800" y="3484800"/>
            <a:ext cx="15411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380360" y="3484800"/>
            <a:ext cx="15411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EEA86-81D2-4E40-B121-2F9768395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B5A0C9-CF8E-4AFD-A2C0-61C4E9B92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42920" y="357120"/>
            <a:ext cx="3286080" cy="15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00000"/>
              </a:solidFill>
              <a:latin typeface="Century Schoolboo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143240" y="499680"/>
            <a:ext cx="478656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CFE557-DB1C-460B-AF12-F2B00F3FE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2920" y="357120"/>
            <a:ext cx="3286080" cy="15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00000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143240" y="499680"/>
            <a:ext cx="47865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2829A5-8CB2-4541-B33F-46EC40BBF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42920" y="357120"/>
            <a:ext cx="3286080" cy="15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00000"/>
              </a:solidFill>
              <a:latin typeface="Century Schoolboo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143240" y="499680"/>
            <a:ext cx="23356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595920" y="499680"/>
            <a:ext cx="23356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C7E0C9-A419-4CF8-B6E3-FAD47F297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42920" y="357120"/>
            <a:ext cx="3286080" cy="15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9E868B-DBBD-41AF-892F-07A05C577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2920" y="357120"/>
            <a:ext cx="3286080" cy="15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00000"/>
              </a:solidFill>
              <a:latin typeface="Century School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143240" y="499680"/>
            <a:ext cx="47865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616CA-D024-47AD-9D03-8C7A3C319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42920" y="357120"/>
            <a:ext cx="3286080" cy="728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43C561-170C-4217-AC21-FBB73ABE4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42920" y="357120"/>
            <a:ext cx="3286080" cy="15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00000"/>
              </a:solidFill>
              <a:latin typeface="Century School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143240" y="499680"/>
            <a:ext cx="23356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595920" y="499680"/>
            <a:ext cx="23356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143240" y="3484800"/>
            <a:ext cx="23356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B921D1-378C-411A-8CC6-2049A1498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42920" y="357120"/>
            <a:ext cx="3286080" cy="15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00000"/>
              </a:solidFill>
              <a:latin typeface="Century Schoolboo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143240" y="499680"/>
            <a:ext cx="23356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595920" y="499680"/>
            <a:ext cx="23356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595920" y="3484800"/>
            <a:ext cx="23356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9ECFA7-2BDF-4471-A465-29E79BB5C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42920" y="357120"/>
            <a:ext cx="3286080" cy="15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00000"/>
              </a:solidFill>
              <a:latin typeface="Century Schoolboo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143240" y="499680"/>
            <a:ext cx="23356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595920" y="499680"/>
            <a:ext cx="23356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143240" y="3484800"/>
            <a:ext cx="47865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9C3CE2-843F-4627-B554-3B34D74C8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42920" y="357120"/>
            <a:ext cx="3286080" cy="15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00000"/>
              </a:solidFill>
              <a:latin typeface="Century Schoolboo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143240" y="499680"/>
            <a:ext cx="47865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143240" y="3484800"/>
            <a:ext cx="47865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B8FCEF-1377-46CF-B424-4189CCF80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2920" y="357120"/>
            <a:ext cx="3286080" cy="15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00000"/>
              </a:solidFill>
              <a:latin typeface="Century Schoolboo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143240" y="499680"/>
            <a:ext cx="23356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595920" y="499680"/>
            <a:ext cx="23356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143240" y="3484800"/>
            <a:ext cx="23356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595920" y="3484800"/>
            <a:ext cx="23356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FC5168-C112-4491-BFD7-884D2FBEF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42920" y="357120"/>
            <a:ext cx="3286080" cy="15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00000"/>
              </a:solidFill>
              <a:latin typeface="Century Schoolboo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143240" y="499680"/>
            <a:ext cx="15411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761800" y="499680"/>
            <a:ext cx="15411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7380360" y="499680"/>
            <a:ext cx="15411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143240" y="3484800"/>
            <a:ext cx="15411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5761800" y="3484800"/>
            <a:ext cx="15411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7380360" y="3484800"/>
            <a:ext cx="15411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3ED2E6-FD6D-4E1B-870A-73D20AC96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759D2C-67E8-4241-B4A9-2F5229994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2920" y="357120"/>
            <a:ext cx="3286080" cy="15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00000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143240" y="499680"/>
            <a:ext cx="478656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7B69DD-0B7A-4F46-93DB-8ED225D9B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42920" y="357120"/>
            <a:ext cx="3286080" cy="15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00000"/>
              </a:solidFill>
              <a:latin typeface="Century School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143240" y="499680"/>
            <a:ext cx="47865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319C39-026D-4789-809D-6A1921C2A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2920" y="357120"/>
            <a:ext cx="3286080" cy="15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00000"/>
              </a:solidFill>
              <a:latin typeface="Century School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143240" y="499680"/>
            <a:ext cx="23356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595920" y="499680"/>
            <a:ext cx="23356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575BC-A091-4AED-93A7-3C696E703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2920" y="357120"/>
            <a:ext cx="3286080" cy="15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00000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143240" y="499680"/>
            <a:ext cx="23356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595920" y="499680"/>
            <a:ext cx="23356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E92D9B-C1A8-4D05-8D71-3BC0E44F5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2920" y="357120"/>
            <a:ext cx="3286080" cy="15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28190E-B38E-464C-9A67-D9DC64D81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142920" y="357120"/>
            <a:ext cx="3286080" cy="728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D5A6A6-BC31-4710-89A2-A8C44334D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42920" y="357120"/>
            <a:ext cx="3286080" cy="15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00000"/>
              </a:solidFill>
              <a:latin typeface="Century Schoolboo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143240" y="499680"/>
            <a:ext cx="23356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595920" y="499680"/>
            <a:ext cx="23356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143240" y="3484800"/>
            <a:ext cx="23356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DEF77F-341E-4D95-A491-BCE98B6DB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42920" y="357120"/>
            <a:ext cx="3286080" cy="15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00000"/>
              </a:solidFill>
              <a:latin typeface="Century School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143240" y="499680"/>
            <a:ext cx="23356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595920" y="499680"/>
            <a:ext cx="23356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595920" y="3484800"/>
            <a:ext cx="23356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783865-C987-4CB7-9E1D-4C4921B33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42920" y="357120"/>
            <a:ext cx="3286080" cy="15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00000"/>
              </a:solidFill>
              <a:latin typeface="Century Schoolboo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143240" y="499680"/>
            <a:ext cx="23356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595920" y="499680"/>
            <a:ext cx="23356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143240" y="3484800"/>
            <a:ext cx="47865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201295-ABEB-4860-940F-B2FC22909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42920" y="357120"/>
            <a:ext cx="3286080" cy="15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00000"/>
              </a:solidFill>
              <a:latin typeface="Century Schoolboo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143240" y="499680"/>
            <a:ext cx="47865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43240" y="3484800"/>
            <a:ext cx="47865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BE8235-55D2-449C-B9EE-22ECCFF0A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2920" y="357120"/>
            <a:ext cx="3286080" cy="15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00000"/>
              </a:solidFill>
              <a:latin typeface="Century Schoolboo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143240" y="499680"/>
            <a:ext cx="23356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595920" y="499680"/>
            <a:ext cx="23356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143240" y="3484800"/>
            <a:ext cx="23356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6595920" y="3484800"/>
            <a:ext cx="23356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2B5C30-398C-4315-B165-20FAFA45B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920" y="357120"/>
            <a:ext cx="3286080" cy="15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00000"/>
              </a:solidFill>
              <a:latin typeface="Century Schoolboo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143240" y="499680"/>
            <a:ext cx="15411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761800" y="499680"/>
            <a:ext cx="15411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7380360" y="499680"/>
            <a:ext cx="15411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143240" y="3484800"/>
            <a:ext cx="15411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5761800" y="3484800"/>
            <a:ext cx="15411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7380360" y="3484800"/>
            <a:ext cx="15411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999DC0-342A-4AAF-AE8B-41A4874D8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8468B4-0CB1-4CB2-9B78-FB5E86BAA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2920" y="357120"/>
            <a:ext cx="3286080" cy="15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C7BE0-028A-426E-AE24-D4D390FEF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920" y="357120"/>
            <a:ext cx="3286080" cy="15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00000"/>
              </a:solidFill>
              <a:latin typeface="Century Schoolboo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143240" y="499680"/>
            <a:ext cx="478656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E4137F-C465-4DFF-9CA8-A879EE206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920" y="357120"/>
            <a:ext cx="3286080" cy="15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00000"/>
              </a:solidFill>
              <a:latin typeface="Century Schoolboo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143240" y="499680"/>
            <a:ext cx="47865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988F3B-5265-4DE6-A532-13CD5D54D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2920" y="357120"/>
            <a:ext cx="3286080" cy="15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00000"/>
              </a:solidFill>
              <a:latin typeface="Century Schoolboo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143240" y="499680"/>
            <a:ext cx="23356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6595920" y="499680"/>
            <a:ext cx="23356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BB7405-B58F-4567-9D36-4109E3C37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2920" y="357120"/>
            <a:ext cx="3286080" cy="15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FE3AD4-CF10-46AB-9E33-E24E530AB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142920" y="357120"/>
            <a:ext cx="3286080" cy="728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40934A-3877-4EB3-9DE3-17E8C158F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2920" y="357120"/>
            <a:ext cx="3286080" cy="15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00000"/>
              </a:solidFill>
              <a:latin typeface="Century Schoolboo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143240" y="499680"/>
            <a:ext cx="23356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595920" y="499680"/>
            <a:ext cx="23356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143240" y="3484800"/>
            <a:ext cx="23356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DEE15A-927B-40A4-B15D-4B5BD9688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42920" y="357120"/>
            <a:ext cx="3286080" cy="15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00000"/>
              </a:solidFill>
              <a:latin typeface="Century Schoolboo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143240" y="499680"/>
            <a:ext cx="23356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595920" y="499680"/>
            <a:ext cx="23356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595920" y="3484800"/>
            <a:ext cx="23356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637B77-229A-42C9-84E5-942541A14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42920" y="357120"/>
            <a:ext cx="3286080" cy="15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00000"/>
              </a:solidFill>
              <a:latin typeface="Century School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143240" y="499680"/>
            <a:ext cx="23356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6595920" y="499680"/>
            <a:ext cx="23356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143240" y="3484800"/>
            <a:ext cx="47865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C65830-6386-4A74-A714-F33CBE2D2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2920" y="357120"/>
            <a:ext cx="3286080" cy="15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00000"/>
              </a:solidFill>
              <a:latin typeface="Century School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143240" y="499680"/>
            <a:ext cx="47865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143240" y="3484800"/>
            <a:ext cx="47865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D18CA8-E169-4DB6-8262-E223D7C50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42920" y="357120"/>
            <a:ext cx="3286080" cy="15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00000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143240" y="499680"/>
            <a:ext cx="23356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595920" y="499680"/>
            <a:ext cx="23356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143240" y="3484800"/>
            <a:ext cx="23356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6595920" y="3484800"/>
            <a:ext cx="23356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FF433C-6B27-423B-A972-0DAAEBD50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2920" y="357120"/>
            <a:ext cx="3286080" cy="728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72769-F953-4FA4-8D1D-B8D56796E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42920" y="357120"/>
            <a:ext cx="3286080" cy="15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00000"/>
              </a:solidFill>
              <a:latin typeface="Century School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143240" y="499680"/>
            <a:ext cx="15411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761800" y="499680"/>
            <a:ext cx="15411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7380360" y="499680"/>
            <a:ext cx="15411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143240" y="3484800"/>
            <a:ext cx="15411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5761800" y="3484800"/>
            <a:ext cx="15411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7380360" y="3484800"/>
            <a:ext cx="15411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0070BC-A31F-4A4F-8C96-48B970C81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A1D9B7-C413-409D-876F-406C41A2E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42920" y="357120"/>
            <a:ext cx="3286080" cy="15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00000"/>
              </a:solidFill>
              <a:latin typeface="Century Schoolboo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143240" y="499680"/>
            <a:ext cx="478656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326BB6-4920-4B24-B31E-D6BF58C74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2920" y="357120"/>
            <a:ext cx="3286080" cy="15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00000"/>
              </a:solidFill>
              <a:latin typeface="Century Schoolboo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143240" y="499680"/>
            <a:ext cx="47865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294CEB-A5B6-40FF-B914-FC6A5448E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42920" y="357120"/>
            <a:ext cx="3286080" cy="15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00000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143240" y="499680"/>
            <a:ext cx="23356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6595920" y="499680"/>
            <a:ext cx="23356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D473C5-627E-48FE-AEDD-107D4F37B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42920" y="357120"/>
            <a:ext cx="3286080" cy="15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141731-6D4A-47A3-80BE-D8C30F67E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142920" y="357120"/>
            <a:ext cx="3286080" cy="728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0D0EBA-B931-40D2-BA63-FC5C17DB8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2920" y="357120"/>
            <a:ext cx="3286080" cy="15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00000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143240" y="499680"/>
            <a:ext cx="23356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6595920" y="499680"/>
            <a:ext cx="23356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143240" y="3484800"/>
            <a:ext cx="23356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8EFD2B-11DE-4755-A99B-99AF1F974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42920" y="357120"/>
            <a:ext cx="3286080" cy="15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00000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143240" y="499680"/>
            <a:ext cx="23356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595920" y="499680"/>
            <a:ext cx="23356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595920" y="3484800"/>
            <a:ext cx="23356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6125B4-59A6-4939-81E6-BC21ACABF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42920" y="357120"/>
            <a:ext cx="3286080" cy="15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00000"/>
              </a:solidFill>
              <a:latin typeface="Century School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143240" y="499680"/>
            <a:ext cx="23356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6595920" y="499680"/>
            <a:ext cx="23356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143240" y="3484800"/>
            <a:ext cx="47865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68FA2E-6B50-4F43-9C12-C0786910E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2920" y="357120"/>
            <a:ext cx="3286080" cy="15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00000"/>
              </a:solidFill>
              <a:latin typeface="Century Schoolboo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143240" y="499680"/>
            <a:ext cx="23356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595920" y="499680"/>
            <a:ext cx="23356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143240" y="3484800"/>
            <a:ext cx="23356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2A2E1-13C3-4ACF-B16C-E7ADC7AA0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2920" y="357120"/>
            <a:ext cx="3286080" cy="15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00000"/>
              </a:solidFill>
              <a:latin typeface="Century School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143240" y="499680"/>
            <a:ext cx="47865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143240" y="3484800"/>
            <a:ext cx="47865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DC38C2-E5E0-4EC3-931D-5625C296E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42920" y="357120"/>
            <a:ext cx="3286080" cy="15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00000"/>
              </a:solidFill>
              <a:latin typeface="Century Schoolbook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143240" y="499680"/>
            <a:ext cx="23356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595920" y="499680"/>
            <a:ext cx="23356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143240" y="3484800"/>
            <a:ext cx="23356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6595920" y="3484800"/>
            <a:ext cx="23356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7B54C0-272A-42DA-ACAE-51B15937B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42920" y="357120"/>
            <a:ext cx="3286080" cy="15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00000"/>
              </a:solidFill>
              <a:latin typeface="Century School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143240" y="499680"/>
            <a:ext cx="15411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5761800" y="499680"/>
            <a:ext cx="15411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7380360" y="499680"/>
            <a:ext cx="15411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143240" y="3484800"/>
            <a:ext cx="15411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5761800" y="3484800"/>
            <a:ext cx="15411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7380360" y="3484800"/>
            <a:ext cx="15411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6B4FCF-8C7E-4448-BC8E-DC4C98FB3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693272-B174-47DD-B846-B90EFA260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42920" y="357120"/>
            <a:ext cx="3286080" cy="15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00000"/>
              </a:solidFill>
              <a:latin typeface="Century Schoolbook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143240" y="499680"/>
            <a:ext cx="478656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AFE5AE-8E2D-4D58-811D-B11EC36A4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2920" y="357120"/>
            <a:ext cx="3286080" cy="15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00000"/>
              </a:solidFill>
              <a:latin typeface="Century Schoolbook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143240" y="499680"/>
            <a:ext cx="47865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D60F8F-D443-48B4-B0FC-680A98118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42920" y="357120"/>
            <a:ext cx="3286080" cy="15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00000"/>
              </a:solidFill>
              <a:latin typeface="Century Schoolbook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143240" y="499680"/>
            <a:ext cx="23356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595920" y="499680"/>
            <a:ext cx="23356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5CA328-5F05-4DF4-80DB-B78453A26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42920" y="357120"/>
            <a:ext cx="3286080" cy="15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DC6D61-6335-4E26-BEFB-07793CBFA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142920" y="357120"/>
            <a:ext cx="3286080" cy="728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125BEC-5362-4AA0-A486-C1E1B83A4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2920" y="357120"/>
            <a:ext cx="3286080" cy="15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00000"/>
              </a:solidFill>
              <a:latin typeface="Century Schoolbook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143240" y="499680"/>
            <a:ext cx="23356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6595920" y="499680"/>
            <a:ext cx="23356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143240" y="3484800"/>
            <a:ext cx="23356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ABDF93-7007-41B9-8CC7-08C53DD37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2920" y="357120"/>
            <a:ext cx="3286080" cy="15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00000"/>
              </a:solidFill>
              <a:latin typeface="Century Schoolboo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143240" y="499680"/>
            <a:ext cx="23356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595920" y="499680"/>
            <a:ext cx="23356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595920" y="3484800"/>
            <a:ext cx="23356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4FBC7-F919-41D4-B238-1C0A863A6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42920" y="357120"/>
            <a:ext cx="3286080" cy="15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00000"/>
              </a:solidFill>
              <a:latin typeface="Century Schoolbook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143240" y="499680"/>
            <a:ext cx="23356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6595920" y="499680"/>
            <a:ext cx="23356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595920" y="3484800"/>
            <a:ext cx="23356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A7D617-67A5-4D50-8927-3AB114911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42920" y="357120"/>
            <a:ext cx="3286080" cy="15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00000"/>
              </a:solidFill>
              <a:latin typeface="Century Schoolbook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143240" y="499680"/>
            <a:ext cx="23356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595920" y="499680"/>
            <a:ext cx="23356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143240" y="3484800"/>
            <a:ext cx="47865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51B66B-FFF2-4E6A-9612-F5FCECA6D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42920" y="357120"/>
            <a:ext cx="3286080" cy="15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00000"/>
              </a:solidFill>
              <a:latin typeface="Century Schoolbook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143240" y="499680"/>
            <a:ext cx="47865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143240" y="3484800"/>
            <a:ext cx="47865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B6B1E8-1319-4F3B-8F23-7C8CD334C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42920" y="357120"/>
            <a:ext cx="3286080" cy="15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00000"/>
              </a:solidFill>
              <a:latin typeface="Century Schoolbook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143240" y="499680"/>
            <a:ext cx="23356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595920" y="499680"/>
            <a:ext cx="23356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143240" y="3484800"/>
            <a:ext cx="23356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6595920" y="3484800"/>
            <a:ext cx="23356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07DB82-5B48-40B6-80CF-8706039A6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42920" y="357120"/>
            <a:ext cx="3286080" cy="15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00000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143240" y="499680"/>
            <a:ext cx="15411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5761800" y="499680"/>
            <a:ext cx="15411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7380360" y="499680"/>
            <a:ext cx="15411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143240" y="3484800"/>
            <a:ext cx="15411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5761800" y="3484800"/>
            <a:ext cx="15411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7380360" y="3484800"/>
            <a:ext cx="15411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DAC564-D2CB-42B4-B3CC-88D345133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470FC4-4276-4D43-9BBF-2B067E63F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42920" y="357120"/>
            <a:ext cx="3286080" cy="15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00000"/>
              </a:solidFill>
              <a:latin typeface="Century Schoolbook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143240" y="499680"/>
            <a:ext cx="478656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DEF809-4FDC-47AA-9408-C5D36B368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42920" y="357120"/>
            <a:ext cx="3286080" cy="15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00000"/>
              </a:solidFill>
              <a:latin typeface="Century Schoolbook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143240" y="499680"/>
            <a:ext cx="47865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1ED7EB-A7B0-420B-A0CF-54F28EA11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42920" y="357120"/>
            <a:ext cx="3286080" cy="15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00000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143240" y="499680"/>
            <a:ext cx="23356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595920" y="499680"/>
            <a:ext cx="23356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8989B5-D197-482A-8DB8-A9BDB121C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2920" y="357120"/>
            <a:ext cx="3286080" cy="15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9A5BDD-1C23-4BCF-9F22-4F54CB111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2920" y="357120"/>
            <a:ext cx="3286080" cy="15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00000"/>
              </a:solidFill>
              <a:latin typeface="Century Schoolboo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143240" y="499680"/>
            <a:ext cx="23356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595920" y="499680"/>
            <a:ext cx="23356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143240" y="3484800"/>
            <a:ext cx="47865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ADA02-3192-4811-A618-246E07F83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142920" y="357120"/>
            <a:ext cx="3286080" cy="728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F7A7CB-F0C1-4167-8101-48FEEBD28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42920" y="357120"/>
            <a:ext cx="3286080" cy="15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00000"/>
              </a:solidFill>
              <a:latin typeface="Century Schoolbook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143240" y="499680"/>
            <a:ext cx="23356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6595920" y="499680"/>
            <a:ext cx="23356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143240" y="3484800"/>
            <a:ext cx="23356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D7AD39-A247-464F-8E51-FCB68A6C0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42920" y="357120"/>
            <a:ext cx="3286080" cy="15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00000"/>
              </a:solidFill>
              <a:latin typeface="Century Schoolbook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143240" y="499680"/>
            <a:ext cx="23356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6595920" y="499680"/>
            <a:ext cx="23356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595920" y="3484800"/>
            <a:ext cx="23356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1E9DA0-021D-4898-B4DB-EF9644786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42920" y="357120"/>
            <a:ext cx="3286080" cy="15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00000"/>
              </a:solidFill>
              <a:latin typeface="Century Schoolboo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143240" y="499680"/>
            <a:ext cx="23356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6595920" y="499680"/>
            <a:ext cx="23356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143240" y="3484800"/>
            <a:ext cx="47865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94C7C7-BAC9-45F6-896A-1961A48C7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42920" y="357120"/>
            <a:ext cx="3286080" cy="15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00000"/>
              </a:solidFill>
              <a:latin typeface="Century Schoolbook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143240" y="499680"/>
            <a:ext cx="47865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143240" y="3484800"/>
            <a:ext cx="47865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A60DB8-A655-476F-817A-AA81DFE60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42920" y="357120"/>
            <a:ext cx="3286080" cy="15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00000"/>
              </a:solidFill>
              <a:latin typeface="Century Schoolboo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143240" y="499680"/>
            <a:ext cx="23356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6595920" y="499680"/>
            <a:ext cx="23356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143240" y="3484800"/>
            <a:ext cx="23356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595920" y="3484800"/>
            <a:ext cx="23356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0872B4-20C9-4B6A-8010-F0202C298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42920" y="357120"/>
            <a:ext cx="3286080" cy="15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00000"/>
              </a:solidFill>
              <a:latin typeface="Century Schoolbook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143240" y="499680"/>
            <a:ext cx="15411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5761800" y="499680"/>
            <a:ext cx="15411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7380360" y="499680"/>
            <a:ext cx="15411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143240" y="3484800"/>
            <a:ext cx="15411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5761800" y="3484800"/>
            <a:ext cx="15411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7380360" y="3484800"/>
            <a:ext cx="15411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9341F0-DB76-4AC0-8C2E-85DFC05A4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83832D-1A6B-4B1D-89DC-8A7E678BC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42920" y="357120"/>
            <a:ext cx="3286080" cy="15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00000"/>
              </a:solidFill>
              <a:latin typeface="Century Schoolbook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143240" y="499680"/>
            <a:ext cx="478656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AD6626-E2D9-4320-9FB2-BCDD8C278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42920" y="357120"/>
            <a:ext cx="3286080" cy="15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00000"/>
              </a:solidFill>
              <a:latin typeface="Century Schoolboo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143240" y="499680"/>
            <a:ext cx="47865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8FA142-160A-4CF7-90EF-9FDA6396E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2920" y="357120"/>
            <a:ext cx="3286080" cy="15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Century Schoolbook"/>
              </a:rPr>
              <a:t>Click to edit the title text format</a:t>
            </a:r>
            <a:endParaRPr b="1" lang="en-US" sz="3600" spc="-1" strike="noStrike">
              <a:solidFill>
                <a:srgbClr val="c00000"/>
              </a:solidFill>
              <a:latin typeface="Century Schoolboo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143240" y="499680"/>
            <a:ext cx="47865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000" indent="-245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82800" indent="-196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375920" indent="-196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09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c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43120" y="6356520"/>
            <a:ext cx="3929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c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2EA34-EFD2-434F-A71E-9AA74A923868}" type="slidenum">
              <a:rPr b="1" lang="ru-RU" sz="1200" spc="-1" strike="noStrike">
                <a:solidFill>
                  <a:srgbClr val="c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2920" y="357120"/>
            <a:ext cx="3286080" cy="15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Century Schoolbook"/>
              </a:rPr>
              <a:t>Click to edit the title text format</a:t>
            </a:r>
            <a:endParaRPr b="1" lang="en-US" sz="3600" spc="-1" strike="noStrike">
              <a:solidFill>
                <a:srgbClr val="c00000"/>
              </a:solidFill>
              <a:latin typeface="Century Schoolboo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143240" y="499680"/>
            <a:ext cx="47865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000" indent="-245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82800" indent="-196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375920" indent="-196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709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c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2643120" y="6356520"/>
            <a:ext cx="3929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8576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c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43E41-10AA-449F-BC53-F19D63FF2805}" type="slidenum">
              <a:rPr b="1" lang="ru-RU" sz="1200" spc="-1" strike="noStrike">
                <a:solidFill>
                  <a:srgbClr val="c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42920" y="357120"/>
            <a:ext cx="3286080" cy="15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Century Schoolbook"/>
              </a:rPr>
              <a:t>Click to edit the title text format</a:t>
            </a:r>
            <a:endParaRPr b="1" lang="en-US" sz="3600" spc="-1" strike="noStrike">
              <a:solidFill>
                <a:srgbClr val="c00000"/>
              </a:solidFill>
              <a:latin typeface="Century School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143240" y="499680"/>
            <a:ext cx="47865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000" indent="-245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82800" indent="-196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375920" indent="-196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709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c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2643120" y="6356520"/>
            <a:ext cx="3929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8576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c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E0C93-D769-4F13-B01E-8F3A086312CA}" type="slidenum">
              <a:rPr b="1" lang="ru-RU" sz="1200" spc="-1" strike="noStrike">
                <a:solidFill>
                  <a:srgbClr val="c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42920" y="357120"/>
            <a:ext cx="3286080" cy="15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Century Schoolbook"/>
              </a:rPr>
              <a:t>Click to edit the title text format</a:t>
            </a:r>
            <a:endParaRPr b="1" lang="en-US" sz="3600" spc="-1" strike="noStrike">
              <a:solidFill>
                <a:srgbClr val="c00000"/>
              </a:solidFill>
              <a:latin typeface="Century Schoolboo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143240" y="499680"/>
            <a:ext cx="47865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000" indent="-245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82800" indent="-196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375920" indent="-196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709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c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2643120" y="6356520"/>
            <a:ext cx="3929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8576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c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DBD8E-788C-4375-8F63-0F68D0C2B983}" type="slidenum">
              <a:rPr b="1" lang="ru-RU" sz="1200" spc="-1" strike="noStrike">
                <a:solidFill>
                  <a:srgbClr val="c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42920" y="357120"/>
            <a:ext cx="3286080" cy="15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Century Schoolbook"/>
              </a:rPr>
              <a:t>Click to edit the title text format</a:t>
            </a:r>
            <a:endParaRPr b="1" lang="en-US" sz="3600" spc="-1" strike="noStrike">
              <a:solidFill>
                <a:srgbClr val="c00000"/>
              </a:solidFill>
              <a:latin typeface="Century Schoolboo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143240" y="499680"/>
            <a:ext cx="47865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000" indent="-245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82800" indent="-196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375920" indent="-196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709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c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2643120" y="6356520"/>
            <a:ext cx="3929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8576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c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A2316-FD46-4612-BD93-986D845C344F}" type="slidenum">
              <a:rPr b="1" lang="ru-RU" sz="1200" spc="-1" strike="noStrike">
                <a:solidFill>
                  <a:srgbClr val="c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42920" y="357120"/>
            <a:ext cx="3286080" cy="15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Century Schoolbook"/>
              </a:rPr>
              <a:t>Click to edit the title text format</a:t>
            </a:r>
            <a:endParaRPr b="1" lang="en-US" sz="3600" spc="-1" strike="noStrike">
              <a:solidFill>
                <a:srgbClr val="c00000"/>
              </a:solidFill>
              <a:latin typeface="Century School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143240" y="499680"/>
            <a:ext cx="47865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000" indent="-245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82800" indent="-196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375920" indent="-196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709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c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2643120" y="6356520"/>
            <a:ext cx="3929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8576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c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4C03D-E633-4E69-A0EA-6152C97E3E6D}" type="slidenum">
              <a:rPr b="1" lang="ru-RU" sz="1200" spc="-1" strike="noStrike">
                <a:solidFill>
                  <a:srgbClr val="c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42920" y="357120"/>
            <a:ext cx="3286080" cy="15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Century Schoolbook"/>
              </a:rPr>
              <a:t>Click to edit the title text format</a:t>
            </a:r>
            <a:endParaRPr b="1" lang="en-US" sz="3600" spc="-1" strike="noStrike">
              <a:solidFill>
                <a:srgbClr val="c00000"/>
              </a:solidFill>
              <a:latin typeface="Century Schoolbook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143240" y="499680"/>
            <a:ext cx="47865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000" indent="-245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82800" indent="-196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375920" indent="-196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709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c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2643120" y="6356520"/>
            <a:ext cx="3929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8576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c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D2936-2EF7-4632-B9E6-7C1EE2184283}" type="slidenum">
              <a:rPr b="1" lang="ru-RU" sz="1200" spc="-1" strike="noStrike">
                <a:solidFill>
                  <a:srgbClr val="c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42920" y="357120"/>
            <a:ext cx="3286080" cy="15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Century Schoolbook"/>
              </a:rPr>
              <a:t>Click to edit the title text format</a:t>
            </a:r>
            <a:endParaRPr b="1" lang="en-US" sz="3600" spc="-1" strike="noStrike">
              <a:solidFill>
                <a:srgbClr val="c00000"/>
              </a:solidFill>
              <a:latin typeface="Century Schoolbook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143240" y="499680"/>
            <a:ext cx="47865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000" indent="-245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82800" indent="-196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375920" indent="-196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709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c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2643120" y="6356520"/>
            <a:ext cx="3929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8576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c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6679D-204B-4326-89B5-5D176983A9A5}" type="slidenum">
              <a:rPr b="1" lang="ru-RU" sz="1200" spc="-1" strike="noStrike">
                <a:solidFill>
                  <a:srgbClr val="c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42920" y="357120"/>
            <a:ext cx="3286080" cy="15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Century Schoolbook"/>
              </a:rPr>
              <a:t>Click to edit the title text format</a:t>
            </a:r>
            <a:endParaRPr b="1" lang="en-US" sz="3600" spc="-1" strike="noStrike">
              <a:solidFill>
                <a:srgbClr val="c00000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143240" y="499680"/>
            <a:ext cx="47865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000" indent="-245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82800" indent="-196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375920" indent="-196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709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c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2643120" y="6356520"/>
            <a:ext cx="3929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8576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c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735E6-1E09-4CBC-9F3D-1AE796006B3C}" type="slidenum">
              <a:rPr b="1" lang="ru-RU" sz="1200" spc="-1" strike="noStrike">
                <a:solidFill>
                  <a:srgbClr val="c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42920" y="2785680"/>
            <a:ext cx="328608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entury Schoolbook"/>
              </a:rPr>
              <a:t>Филиал</a:t>
            </a:r>
            <a:br>
              <a:rPr sz="1600"/>
            </a:b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Century Schoolbook"/>
              </a:rPr>
              <a:t>МБОУ СОШ с.В.Ломов</a:t>
            </a:r>
            <a:br>
              <a:rPr sz="1600"/>
            </a:b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Century Schoolbook"/>
              </a:rPr>
              <a:t>в с.Атмис</a:t>
            </a:r>
            <a:endParaRPr b="1" lang="en-US" sz="1600" spc="-1" strike="noStrike">
              <a:solidFill>
                <a:srgbClr val="c00000"/>
              </a:solidFill>
              <a:latin typeface="Century Schoolbook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142920" y="285480"/>
            <a:ext cx="3286080" cy="1571400"/>
          </a:xfrm>
          <a:prstGeom prst="rect">
            <a:avLst/>
          </a:prstGeom>
          <a:blipFill rotWithShape="0">
            <a:blip r:embed="rId1">
              <a:alphaModFix amt="44000"/>
            </a:blip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Century Schoolbook"/>
              </a:rPr>
              <a:t>Трудовое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Century Schoolbook"/>
              </a:rPr>
              <a:t>обучение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4214880" y="571680"/>
            <a:ext cx="4643280" cy="56433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70c0"/>
                </a:solidFill>
                <a:latin typeface="Century Schoolbook"/>
              </a:rPr>
              <a:t>ПРОЕКТ </a:t>
            </a:r>
            <a:endParaRPr b="0" lang="en-US" sz="4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omic Sans MS"/>
              </a:rPr>
              <a:t>«От расчетов к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Comic Sans MS"/>
              </a:rPr>
              <a:t>результатам»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42920" y="357120"/>
            <a:ext cx="3286080" cy="15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Arial"/>
                <a:ea typeface="Arial"/>
              </a:rPr>
              <a:t>Трудовое</a:t>
            </a:r>
            <a:br>
              <a:rPr sz="1600"/>
            </a:br>
            <a:r>
              <a:rPr b="1" lang="ru-RU" sz="1600" spc="-1" strike="noStrike">
                <a:solidFill>
                  <a:srgbClr val="0070c0"/>
                </a:solidFill>
                <a:latin typeface="Arial"/>
                <a:ea typeface="Arial"/>
              </a:rPr>
              <a:t>обучение</a:t>
            </a:r>
            <a:br>
              <a:rPr sz="1600"/>
            </a:br>
            <a:endParaRPr b="1" lang="en-US" sz="1600" spc="-1" strike="noStrike">
              <a:solidFill>
                <a:srgbClr val="c00000"/>
              </a:solidFill>
              <a:latin typeface="Century Schoolbook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4143240" y="499680"/>
            <a:ext cx="478656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      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entury Schoolbook"/>
              </a:rPr>
              <a:t>          </a:t>
            </a:r>
            <a:r>
              <a:rPr b="0" i="1" lang="ru-RU" sz="2000" spc="-1" strike="noStrike">
                <a:solidFill>
                  <a:srgbClr val="000000"/>
                </a:solidFill>
                <a:latin typeface="Century Schoolbook"/>
              </a:rPr>
              <a:t>В теплице проходили уроки труда в осенне-весенний период обучения,  проводились занятия кружков , велась опытно - экспериментальная работа на уроках биологии. В ходе  проведения этих занятий учащиеся школы получали практические навыки работы с землёй, знакомились с основами растениеводства и учились агротехническим навыкам выращивания тепличных культур. Работала производственная бригада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entury Schoolbook"/>
              </a:rPr>
              <a:t>     </a:t>
            </a:r>
            <a:r>
              <a:rPr b="0" i="1" lang="ru-RU" sz="2000" spc="-1" strike="noStrike">
                <a:solidFill>
                  <a:srgbClr val="000000"/>
                </a:solidFill>
                <a:latin typeface="Century Schoolbook"/>
              </a:rPr>
              <a:t>Благодаря выращенной на пришкольном участке продукции школа круглый год  обеспечена зеленью и овощами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14" name="Picture 6" descr="H:\DCIM\111___12\IMG_0828.JPG"/>
          <p:cNvPicPr/>
          <p:nvPr/>
        </p:nvPicPr>
        <p:blipFill>
          <a:blip r:embed="rId1"/>
          <a:stretch/>
        </p:blipFill>
        <p:spPr>
          <a:xfrm>
            <a:off x="611280" y="3357720"/>
            <a:ext cx="2665440" cy="259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42920" y="357120"/>
            <a:ext cx="3286080" cy="15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Arial"/>
                <a:ea typeface="Arial"/>
              </a:rPr>
              <a:t>       </a:t>
            </a:r>
            <a:r>
              <a:rPr b="1" lang="ru-RU" sz="1600" spc="-1" strike="noStrike">
                <a:solidFill>
                  <a:srgbClr val="0070c0"/>
                </a:solidFill>
                <a:latin typeface="Arial"/>
                <a:ea typeface="Arial"/>
              </a:rPr>
              <a:t>Трудовое</a:t>
            </a:r>
            <a:br>
              <a:rPr sz="1600"/>
            </a:br>
            <a:r>
              <a:rPr b="1" lang="ru-RU" sz="1600" spc="-1" strike="noStrike">
                <a:solidFill>
                  <a:srgbClr val="0070c0"/>
                </a:solidFill>
                <a:latin typeface="Arial"/>
                <a:ea typeface="Arial"/>
              </a:rPr>
              <a:t>       обучение</a:t>
            </a:r>
            <a:br>
              <a:rPr sz="1600"/>
            </a:br>
            <a:endParaRPr b="1" lang="en-US" sz="1600" spc="-1" strike="noStrike">
              <a:solidFill>
                <a:srgbClr val="c00000"/>
              </a:solidFill>
              <a:latin typeface="Century Schoolbook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28400" y="2928960"/>
            <a:ext cx="2857320" cy="200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4214880" y="428400"/>
            <a:ext cx="4643280" cy="92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2" name="Рисунок 22" descr=""/>
          <p:cNvPicPr/>
          <p:nvPr/>
        </p:nvPicPr>
        <p:blipFill>
          <a:blip r:embed="rId1"/>
          <a:stretch/>
        </p:blipFill>
        <p:spPr>
          <a:xfrm>
            <a:off x="357120" y="2714760"/>
            <a:ext cx="3035520" cy="2214360"/>
          </a:xfrm>
          <a:prstGeom prst="rect">
            <a:avLst/>
          </a:prstGeom>
          <a:ln w="0">
            <a:noFill/>
          </a:ln>
        </p:spPr>
      </p:pic>
      <p:sp>
        <p:nvSpPr>
          <p:cNvPr id="383" name="Горизонтальный свиток 10"/>
          <p:cNvSpPr/>
          <p:nvPr/>
        </p:nvSpPr>
        <p:spPr>
          <a:xfrm>
            <a:off x="4356000" y="1214280"/>
            <a:ext cx="4430880" cy="4159440"/>
          </a:xfrm>
          <a:prstGeom prst="horizontalScroll">
            <a:avLst>
              <a:gd name="adj" fmla="val 12500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роект подготовила ученица 7 клас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Тумакова Алё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Руководитель: учитель математ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авлова Светлана Николаев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42920" y="357120"/>
            <a:ext cx="3286080" cy="15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Century Schoolbook"/>
              </a:rPr>
              <a:t>Трудовое </a:t>
            </a:r>
            <a:br>
              <a:rPr sz="1600"/>
            </a:br>
            <a:r>
              <a:rPr b="1" lang="ru-RU" sz="1600" spc="-1" strike="noStrike">
                <a:solidFill>
                  <a:srgbClr val="c00000"/>
                </a:solidFill>
                <a:latin typeface="Century Schoolbook"/>
              </a:rPr>
              <a:t>обучение</a:t>
            </a:r>
            <a:endParaRPr b="1" lang="en-US" sz="1600" spc="-1" strike="noStrike">
              <a:solidFill>
                <a:srgbClr val="c00000"/>
              </a:solidFill>
              <a:latin typeface="Century Schoolbook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357440" y="499680"/>
            <a:ext cx="450036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Актуальность проекта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entury Schoolbook"/>
              </a:rPr>
              <a:t>           </a:t>
            </a:r>
            <a:r>
              <a:rPr b="0" i="1" lang="ru-RU" sz="1800" spc="-1" strike="noStrike">
                <a:solidFill>
                  <a:srgbClr val="000000"/>
                </a:solidFill>
                <a:latin typeface="Century Schoolbook"/>
              </a:rPr>
              <a:t>Мы провели исследование состояния рынка и выявили, что  овощная продукция пользуется большим спросом. Для себя отметили: импортная продукция имеет красивый внешний вид и широкий рынок сбыта. Цены высокие, но не всегда хорошие вкусовые качества. В теплице , на участке и в саду мы выращиваем экологически чистые овощи, фрукты, используем их в школьной столовой и могли бы часть из них предложить жителям села. Таким образом мы заботимся о здоровье людей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6" name="Содержимое 4" descr="http://im3-tub-ru.yandex.net/i?id=104711403-66-72"/>
          <p:cNvPicPr/>
          <p:nvPr/>
        </p:nvPicPr>
        <p:blipFill>
          <a:blip r:embed="rId1"/>
          <a:stretch/>
        </p:blipFill>
        <p:spPr>
          <a:xfrm>
            <a:off x="684360" y="2924280"/>
            <a:ext cx="2519280" cy="216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42920" y="357120"/>
            <a:ext cx="3286080" cy="15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Century Schoolbook"/>
              </a:rPr>
              <a:t>Трудовое</a:t>
            </a:r>
            <a:br>
              <a:rPr sz="3200"/>
            </a:br>
            <a:r>
              <a:rPr b="1" lang="ru-RU" sz="3200" spc="-1" strike="noStrike">
                <a:solidFill>
                  <a:srgbClr val="0070c0"/>
                </a:solidFill>
                <a:latin typeface="Century Schoolbook"/>
              </a:rPr>
              <a:t>обучение</a:t>
            </a:r>
            <a:br>
              <a:rPr sz="3200"/>
            </a:br>
            <a:endParaRPr b="1" lang="en-US" sz="3200" spc="-1" strike="noStrike">
              <a:solidFill>
                <a:srgbClr val="c00000"/>
              </a:solidFill>
              <a:latin typeface="Century Schoolbook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4140360" y="1412640"/>
            <a:ext cx="4789440" cy="480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entury Schoolbook"/>
              </a:rPr>
              <a:t>       </a:t>
            </a:r>
            <a:r>
              <a:rPr b="0" i="1" lang="ru-RU" sz="2000" spc="-1" strike="noStrike">
                <a:solidFill>
                  <a:srgbClr val="000000"/>
                </a:solidFill>
                <a:latin typeface="Century Schoolbook"/>
              </a:rPr>
              <a:t>Трудовой деятельностью мы занимаемся в течение года. Зимой выращиваем лук, весной занимаемся посадкой рассады. Работая в теплице и на участке, мы заметили, чтобы преуспевать и чувствовать себя уверенно в современном мире, необходимо много учиться и много знать</a:t>
            </a:r>
            <a:r>
              <a:rPr b="0" i="1" lang="ru-RU" sz="1600" spc="-1" strike="noStrike">
                <a:solidFill>
                  <a:srgbClr val="000000"/>
                </a:solidFill>
                <a:latin typeface="Century Schoolbook"/>
              </a:rPr>
              <a:t>. 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00720" y="333000"/>
            <a:ext cx="4248000" cy="105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b0f0"/>
                </a:solidFill>
                <a:latin typeface="Century Schoolbook"/>
              </a:rPr>
              <a:t>Школа и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b0f0"/>
                </a:solidFill>
                <a:latin typeface="Century Schoolbook"/>
              </a:rPr>
              <a:t>трудовое обучение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90" name="Picture 6" descr="D:\Рисунки\DSC00366.JPG"/>
          <p:cNvPicPr/>
          <p:nvPr/>
        </p:nvPicPr>
        <p:blipFill>
          <a:blip r:embed="rId1"/>
          <a:stretch/>
        </p:blipFill>
        <p:spPr>
          <a:xfrm>
            <a:off x="-12801600" y="-9601200"/>
            <a:ext cx="4319640" cy="324000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8" descr="Юдины 294"/>
          <p:cNvPicPr/>
          <p:nvPr/>
        </p:nvPicPr>
        <p:blipFill>
          <a:blip r:embed="rId2"/>
          <a:stretch/>
        </p:blipFill>
        <p:spPr>
          <a:xfrm>
            <a:off x="395280" y="2421000"/>
            <a:ext cx="1819440" cy="173520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7" descr="F:\Юдины 137.jpg"/>
          <p:cNvPicPr/>
          <p:nvPr/>
        </p:nvPicPr>
        <p:blipFill>
          <a:blip r:embed="rId3"/>
          <a:stretch/>
        </p:blipFill>
        <p:spPr>
          <a:xfrm>
            <a:off x="1214280" y="4390920"/>
            <a:ext cx="2389320" cy="2038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42920" y="357120"/>
            <a:ext cx="3286080" cy="15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Century Schoolbook"/>
              </a:rPr>
              <a:t>Трудовое</a:t>
            </a:r>
            <a:br>
              <a:rPr sz="1600"/>
            </a:br>
            <a:r>
              <a:rPr b="1" lang="ru-RU" sz="1600" spc="-1" strike="noStrike">
                <a:solidFill>
                  <a:srgbClr val="c00000"/>
                </a:solidFill>
                <a:latin typeface="Century Schoolbook"/>
              </a:rPr>
              <a:t>обучение</a:t>
            </a:r>
            <a:endParaRPr b="1" lang="en-US" sz="1600" spc="-1" strike="noStrike">
              <a:solidFill>
                <a:srgbClr val="c00000"/>
              </a:solidFill>
              <a:latin typeface="Century Schoolbook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4071600" y="1142640"/>
            <a:ext cx="47862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рименение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навыков трудовой деятельности на примере своей школы.</a:t>
            </a:r>
            <a:r>
              <a:rPr b="1" i="1" lang="ru-RU" sz="28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00720" y="499680"/>
            <a:ext cx="4643280" cy="63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7030a0"/>
                </a:solidFill>
                <a:latin typeface="Century Schoolbook"/>
              </a:rPr>
              <a:t>Цели проекта: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96" name="Рисунок 5" descr=""/>
          <p:cNvPicPr/>
          <p:nvPr/>
        </p:nvPicPr>
        <p:blipFill>
          <a:blip r:embed="rId1"/>
          <a:stretch/>
        </p:blipFill>
        <p:spPr>
          <a:xfrm>
            <a:off x="250920" y="2708280"/>
            <a:ext cx="3529080" cy="331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42920" y="357120"/>
            <a:ext cx="3286080" cy="15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entury Schoolbook"/>
              </a:rPr>
              <a:t>Трудовое</a:t>
            </a:r>
            <a:br>
              <a:rPr sz="2400"/>
            </a:br>
            <a:r>
              <a:rPr b="1" lang="ru-RU" sz="2400" spc="-1" strike="noStrike">
                <a:solidFill>
                  <a:srgbClr val="c00000"/>
                </a:solidFill>
                <a:latin typeface="Century Schoolbook"/>
              </a:rPr>
              <a:t>обучение</a:t>
            </a:r>
            <a:endParaRPr b="1" lang="en-US" sz="2400" spc="-1" strike="noStrike">
              <a:solidFill>
                <a:srgbClr val="c00000"/>
              </a:solidFill>
              <a:latin typeface="Century Schoolbook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4143240" y="499680"/>
            <a:ext cx="478656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Century Schoolbook"/>
              </a:rPr>
              <a:t>       </a:t>
            </a:r>
            <a:r>
              <a:rPr b="0" i="1" lang="ru-RU" sz="3200" spc="-1" strike="noStrike">
                <a:solidFill>
                  <a:srgbClr val="000000"/>
                </a:solidFill>
                <a:latin typeface="Century Schoolbook"/>
              </a:rPr>
              <a:t>Задачи проекта</a:t>
            </a:r>
            <a:r>
              <a:rPr b="0" i="1" lang="ru-RU" sz="3600" spc="-1" strike="noStrike">
                <a:solidFill>
                  <a:srgbClr val="000000"/>
                </a:solidFill>
                <a:latin typeface="Century Schoolbook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       </a:t>
            </a:r>
            <a:r>
              <a:rPr b="1" i="1" lang="ru-RU" sz="2000" spc="-1" strike="noStrike">
                <a:solidFill>
                  <a:srgbClr val="000000"/>
                </a:solidFill>
                <a:latin typeface="Century Schoolbook"/>
              </a:rPr>
              <a:t>-  Показать взаимосвязь трудовой деятельности с предпринимательством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entury Schoolbook"/>
              </a:rPr>
              <a:t>       </a:t>
            </a:r>
            <a:r>
              <a:rPr b="1" i="1" lang="ru-RU" sz="2000" spc="-1" strike="noStrike">
                <a:solidFill>
                  <a:srgbClr val="000000"/>
                </a:solidFill>
                <a:latin typeface="Century Schoolbook"/>
              </a:rPr>
              <a:t>- Провести расчёт прибыли с выращенной продукции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99" name="Picture 2" descr=""/>
          <p:cNvPicPr/>
          <p:nvPr/>
        </p:nvPicPr>
        <p:blipFill>
          <a:blip r:embed="rId1"/>
          <a:stretch/>
        </p:blipFill>
        <p:spPr>
          <a:xfrm>
            <a:off x="250920" y="3213000"/>
            <a:ext cx="3457440" cy="2443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42560" y="356760"/>
            <a:ext cx="3143160" cy="85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Century Schoolbook"/>
              </a:rPr>
              <a:t>Трудовое</a:t>
            </a:r>
            <a:br>
              <a:rPr sz="1400"/>
            </a:br>
            <a:r>
              <a:rPr b="1" lang="ru-RU" sz="1400" spc="-1" strike="noStrike">
                <a:solidFill>
                  <a:srgbClr val="c00000"/>
                </a:solidFill>
                <a:latin typeface="Century Schoolbook"/>
              </a:rPr>
              <a:t>обучение</a:t>
            </a:r>
            <a:endParaRPr b="1" lang="en-US" sz="1400" spc="-1" strike="noStrike">
              <a:solidFill>
                <a:srgbClr val="c00000"/>
              </a:solidFill>
              <a:latin typeface="Century Schoolbook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4143240" y="499680"/>
            <a:ext cx="478656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       </a:t>
            </a: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В нашей школе имеется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Теплица, ее площадь 32 кв.м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Пришкольный участок, его площадь 100 кв.м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Фруктовый сад, его площадь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      </a:t>
            </a: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60 кв.м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02" name="Picture 2" descr="F:\спорт 010.jpg"/>
          <p:cNvPicPr/>
          <p:nvPr/>
        </p:nvPicPr>
        <p:blipFill>
          <a:blip r:embed="rId1"/>
          <a:stretch/>
        </p:blipFill>
        <p:spPr>
          <a:xfrm>
            <a:off x="428760" y="2154240"/>
            <a:ext cx="2571480" cy="192420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3" descr="F:\Юдины 142.jpg"/>
          <p:cNvPicPr/>
          <p:nvPr/>
        </p:nvPicPr>
        <p:blipFill>
          <a:blip r:embed="rId2"/>
          <a:stretch/>
        </p:blipFill>
        <p:spPr>
          <a:xfrm>
            <a:off x="1084320" y="4389480"/>
            <a:ext cx="2535120" cy="189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42920" y="357120"/>
            <a:ext cx="3286080" cy="15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Arial"/>
                <a:ea typeface="Arial"/>
              </a:rPr>
              <a:t>Трудовое</a:t>
            </a:r>
            <a:br>
              <a:rPr sz="1600"/>
            </a:br>
            <a:r>
              <a:rPr b="1" lang="ru-RU" sz="1600" spc="-1" strike="noStrike">
                <a:solidFill>
                  <a:srgbClr val="0070c0"/>
                </a:solidFill>
                <a:latin typeface="Arial"/>
                <a:ea typeface="Arial"/>
              </a:rPr>
              <a:t>обучение</a:t>
            </a:r>
            <a:br>
              <a:rPr sz="1600"/>
            </a:br>
            <a:endParaRPr b="1" lang="en-US" sz="1600" spc="-1" strike="noStrike">
              <a:solidFill>
                <a:srgbClr val="c00000"/>
              </a:solidFill>
              <a:latin typeface="Century Schoolbook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4214880" y="571680"/>
            <a:ext cx="4643280" cy="564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entury Schoolbook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entury Schoolbook"/>
              </a:rPr>
              <a:t>  </a:t>
            </a:r>
            <a:r>
              <a:rPr b="0" i="1" lang="ru-RU" sz="1400" spc="-1" strike="noStrike">
                <a:solidFill>
                  <a:srgbClr val="000000"/>
                </a:solidFill>
                <a:latin typeface="Century Schoolbook"/>
              </a:rPr>
              <a:t>       </a:t>
            </a:r>
            <a:r>
              <a:rPr b="1" i="1" lang="ru-RU" sz="1400" spc="-1" strike="noStrike">
                <a:solidFill>
                  <a:srgbClr val="000000"/>
                </a:solidFill>
                <a:latin typeface="Century Schoolbook"/>
              </a:rPr>
              <a:t>    </a:t>
            </a:r>
            <a:r>
              <a:rPr b="1" i="1" lang="ru-RU" sz="1400" spc="-1" strike="noStrike">
                <a:solidFill>
                  <a:srgbClr val="000000"/>
                </a:solidFill>
                <a:latin typeface="Century Schoolbook"/>
              </a:rPr>
              <a:t>Пришкольный участок - это  для учащихся  своего рода «азбука» земли</a:t>
            </a:r>
            <a:r>
              <a:rPr b="0" i="1" lang="ru-RU" sz="1400" spc="-1" strike="noStrike">
                <a:solidFill>
                  <a:srgbClr val="000000"/>
                </a:solidFill>
                <a:latin typeface="Century Schoolbook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Century Schoolbook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i="1" lang="ru-RU" sz="1400" spc="-1" strike="noStrike">
                <a:solidFill>
                  <a:srgbClr val="000000"/>
                </a:solidFill>
                <a:latin typeface="Century Schoolbook"/>
              </a:rPr>
              <a:t>    </a:t>
            </a:r>
            <a:r>
              <a:rPr b="0" i="1" lang="ru-RU" sz="1400" spc="-1" strike="noStrike">
                <a:solidFill>
                  <a:srgbClr val="000000"/>
                </a:solidFill>
                <a:latin typeface="Century Schoolbook"/>
              </a:rPr>
              <a:t>Практические работы на пришкольном участке играют большую роль в трудовом и профориентационном  воспитании учащихся. С малых лет у школьников формируется представление о растительности как об основном источнике жизни на земле и воспитывается бережное отношение к растениям; для учащихся представляется возможность применить на практике теоретические знания, полученные на уроках биологии. </a:t>
            </a:r>
            <a:br>
              <a:rPr sz="1400"/>
            </a:br>
            <a:r>
              <a:rPr b="0" i="1" lang="ru-RU" sz="1400" spc="-1" strike="noStrike">
                <a:solidFill>
                  <a:srgbClr val="000000"/>
                </a:solidFill>
                <a:latin typeface="Century Schoolbook"/>
              </a:rPr>
              <a:t>  Пришкольный участок используется как основной источник для выращивания и заготовки натурального наглядного материала, без которого  невозможно вести уроки сельскохозяйственного труда и биологии на уровне современных требований. А так же используется для выращивания овощей для школьной столовой.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06" name="Содержимое 9" descr="http://bogadi-school.ucoz.ru/prishkolni/risunok1.jpg"/>
          <p:cNvPicPr/>
          <p:nvPr/>
        </p:nvPicPr>
        <p:blipFill>
          <a:blip r:embed="rId1"/>
          <a:stretch/>
        </p:blipFill>
        <p:spPr>
          <a:xfrm>
            <a:off x="250920" y="2205000"/>
            <a:ext cx="3097080" cy="2087640"/>
          </a:xfrm>
          <a:prstGeom prst="rect">
            <a:avLst/>
          </a:prstGeom>
          <a:ln w="0">
            <a:noFill/>
          </a:ln>
        </p:spPr>
      </p:pic>
      <p:pic>
        <p:nvPicPr>
          <p:cNvPr id="407" name="Рисунок 10" descr="http://im7-tub-ru.yandex.net/i?id=190307843-30-72"/>
          <p:cNvPicPr/>
          <p:nvPr/>
        </p:nvPicPr>
        <p:blipFill>
          <a:blip r:embed="rId2"/>
          <a:stretch/>
        </p:blipFill>
        <p:spPr>
          <a:xfrm>
            <a:off x="1042920" y="4653000"/>
            <a:ext cx="2376720" cy="151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42920" y="357120"/>
            <a:ext cx="3286080" cy="15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Arial"/>
                <a:ea typeface="Arial"/>
              </a:rPr>
              <a:t>Трудовое</a:t>
            </a:r>
            <a:br>
              <a:rPr sz="1600"/>
            </a:br>
            <a:r>
              <a:rPr b="1" lang="ru-RU" sz="1600" spc="-1" strike="noStrike">
                <a:solidFill>
                  <a:srgbClr val="0070c0"/>
                </a:solidFill>
                <a:latin typeface="Arial"/>
                <a:ea typeface="Arial"/>
              </a:rPr>
              <a:t>обучение</a:t>
            </a:r>
            <a:br>
              <a:rPr sz="1600"/>
            </a:br>
            <a:endParaRPr b="1" lang="en-US" sz="1600" spc="-1" strike="noStrike">
              <a:solidFill>
                <a:srgbClr val="c00000"/>
              </a:solidFill>
              <a:latin typeface="Century Schoolbook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4211640" y="499680"/>
            <a:ext cx="4718160" cy="602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         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Одна из самых востребованных культур – зеленый лук,  который мы выращиваем зимой на зелень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a119f"/>
                </a:solidFill>
                <a:latin typeface="Century Schoolbook"/>
              </a:rPr>
              <a:t>                      </a:t>
            </a:r>
            <a:r>
              <a:rPr b="0" i="1" lang="ru-RU" sz="2000" spc="-1" strike="noStrike">
                <a:solidFill>
                  <a:srgbClr val="3a119f"/>
                </a:solidFill>
                <a:latin typeface="Century Schoolbook"/>
              </a:rPr>
              <a:t>Расчеты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a119f"/>
                </a:solidFill>
                <a:latin typeface="Century Schoolbook"/>
              </a:rPr>
              <a:t>1 пучок лука стоит 10 рублей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a119f"/>
                </a:solidFill>
                <a:latin typeface="Century Schoolbook"/>
              </a:rPr>
              <a:t>Его собираем из 4 луковиц. Из 400 посаженных луковиц получаем 100 пучков по 10 рублей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a119f"/>
                </a:solidFill>
                <a:latin typeface="Century Schoolbook"/>
              </a:rPr>
              <a:t>Можно реализовать ещё 50 кг репчатого лука по 20 рублей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a119f"/>
                </a:solidFill>
                <a:latin typeface="Century Schoolbook"/>
              </a:rPr>
              <a:t>за кг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a119f"/>
                </a:solidFill>
                <a:latin typeface="Century Schoolbook"/>
              </a:rPr>
              <a:t>Результаты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a119f"/>
                </a:solidFill>
                <a:latin typeface="Century Schoolbook"/>
              </a:rPr>
              <a:t> </a:t>
            </a:r>
            <a:r>
              <a:rPr b="0" i="1" lang="ru-RU" sz="2000" spc="-1" strike="noStrike">
                <a:solidFill>
                  <a:srgbClr val="3a119f"/>
                </a:solidFill>
                <a:latin typeface="Century Schoolbook"/>
              </a:rPr>
              <a:t>Полученный доход, в размере 2000 рублей, можно использовать на приобретение посадочных семян, пленки для теплицы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10" name="Picture 7" descr="http://im3-tub-ru.yandex.net/i?id=34632064-63-72"/>
          <p:cNvPicPr/>
          <p:nvPr/>
        </p:nvPicPr>
        <p:blipFill>
          <a:blip r:embed="rId1"/>
          <a:stretch/>
        </p:blipFill>
        <p:spPr>
          <a:xfrm>
            <a:off x="160200" y="2276640"/>
            <a:ext cx="2435400" cy="223200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2" descr="D:\Users\user\Documents\101MSDCF\DSC04990.JPG"/>
          <p:cNvPicPr/>
          <p:nvPr/>
        </p:nvPicPr>
        <p:blipFill>
          <a:blip r:embed="rId2"/>
          <a:stretch/>
        </p:blipFill>
        <p:spPr>
          <a:xfrm>
            <a:off x="1763640" y="3933720"/>
            <a:ext cx="1944720" cy="25909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5T14:57:39Z</dcterms:created>
  <dc:creator>User (HOME)</dc:creator>
  <dc:description/>
  <dc:language>en-US</dc:language>
  <cp:lastModifiedBy>user</cp:lastModifiedBy>
  <dcterms:modified xsi:type="dcterms:W3CDTF">2023-04-09T12:45:46Z</dcterms:modified>
  <cp:revision>129</cp:revision>
  <dc:subject/>
  <dc:title>Муниципальное образовательное учреждение  средняя общеобразовательная школа № 1 р. п. Лунино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30007631</vt:lpwstr>
  </property>
</Properties>
</file>