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move the slide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5982-7D74-43B4-96DB-8DF1FB5ADE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0587-CC40-482D-865F-6AB0E7FF8B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1E10-6C3B-485F-B51F-B1EF8AFD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3078-27FE-4278-8156-C4C7D23C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3FECB-6563-4BF0-A346-F37034C9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5BEFE-1796-4E8B-B730-080830F8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5C2A5-7A62-4B71-AE74-4DF9590A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46A98-CCAA-4276-813F-977ED019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394BC-002A-400B-893A-627110B4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D2856-2ABF-4211-9459-114BAF5C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AAA7F-2401-4B9C-A60C-7FE700AE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339D3-7FAE-4034-A166-5C030A71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42CC2-3218-44E5-8B6A-FEE0A1E5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970-1CBB-44E8-9AD8-65146BB1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E82B-AEAC-4521-BA3F-2AC0E092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9CE9-3C81-486C-8633-FBA76FA6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C0E1-E2F0-4FA2-9BD0-9AE61491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7E87-CAF4-46C6-B0D2-4CC04DA4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47E5-6634-4C3C-B477-F0786314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3C7E-6148-40B7-903C-A0DE9B61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8475-3D53-4E78-837F-2AD1D95C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F066-F763-4C77-A76C-90B66878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7821-57E0-4222-8273-A126CCD5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08DC-6700-4B78-80F3-30FB8EE4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D3DB-A838-4701-94F8-67A14823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AB56-6B46-46CC-BB0E-BFFF23A4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F9F6-B153-405E-B95D-28B3B154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559D-258F-43C9-9576-0B902906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DC5FB-0C79-4014-A337-E84FE5FD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0CCFA-836C-4C4D-98F7-976ADF4A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36323-2496-4C09-B7D6-B3D04970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A2AA7-49AF-44AE-AB23-47F7256B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2C38D-BCA6-4966-87CA-C04B4B54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1DFC-53F6-4657-81FA-CC86CA4A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EA732-E542-48E0-8E87-AB3F1BD9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7F22E-7119-4710-8F23-5C4B81E6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4D8CB-4288-4A43-84F5-2FA8D22C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65B65-D8D8-4CC6-B6D9-3813A3E2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2CF14-2322-4C69-99B5-BDAE4EE6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2C8D6-B986-4BBB-84FC-96EBEE3B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02295-FC93-427C-812E-F00C075E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A2508-ABF2-45FD-A01B-E6E06B6B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64A63-3F67-49C4-9F8D-B1C14E95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761E8-70D8-4188-9B72-F460C489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D3E0-CE5C-4454-9093-52B257A1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11693-A46A-458E-93FD-C8C08205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C4AE1-DAB3-4815-8FD6-F809323D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1CC93-B64C-4DBE-89F7-68DC82F7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76B20-7D49-41D6-8CBA-2B93B68F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ABA31-B15F-4F6C-A072-F52A6370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D06CD-BB57-43E3-B1CC-15CB39F2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BAE97-AD0F-4E1A-AA82-0A36C567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251B5-8A51-4B3F-A8C8-CDE68633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2D9BD-C245-4A6F-A601-5E46392D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D4BC3-E20D-4204-A500-0ACEA859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E3BE-F43A-471B-A854-23472D4F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234AC-2EF9-4885-8725-26424C37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EE5DF-A76A-45F2-B114-A52D523B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47778-024A-4264-9AE7-F13E4903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18675-5BDC-49D3-AA21-D95AB82D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AAC33-BCEB-4F99-9682-DF449FBF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4C34F-338C-4D63-9870-FF544DEC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63B53-83F9-45D4-B714-8898D190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F10B7-7D57-4BF7-99B2-2E4495AC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53251-F6F0-4DA4-A3B1-ECA1EFDF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95B80-E465-4614-B6F4-8C9C72B7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B8F-E585-4AF6-B7C1-358A8662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62026-CD66-481A-9983-3483C6D0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63839-36C4-4E23-A7C3-B18DAEF8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9C32B-BA1B-4DFB-8B88-F922C6A2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8901D-B68D-4364-9A48-232EA8B3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66782-0E82-499A-B17A-84D50897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C7518-2422-44E2-8DD5-82FE9CB5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98181-7C39-4674-92B9-C280ED86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794ED-30A0-425E-83C1-235B8B85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166AC-9D44-4C85-B56C-7B115E78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F3BDD-0285-425B-8A7D-56F5147F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A83F-07FF-406C-94FB-DF10C98C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7036A-1558-441C-85E8-387C615C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87221-3678-457C-A116-00664795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F3A97-FE16-429D-8246-B00D1D82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D0B38-15FE-41F0-96A8-583D93B4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69FA4-DEF2-480B-8D54-5FBDF69E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EF2C4-7D4B-4F73-A721-F0844F75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0B0F0-021C-4567-AA93-2923D157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F7C32-725C-4DAE-A009-8AF3614C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F46ED-14A3-4C72-AA9F-D6D4A223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C72D2-5870-405C-BFAF-87EFEF45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2A8C-97F9-4667-B6C9-27C7F8E9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21851-1EBE-438A-8386-48B774D5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DFAD2-BC9F-4AC5-A16E-6053CBE0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E2FBF-0205-48BE-A899-9F93C094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D1BD7-D8CA-4CB1-AB39-28828A1D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11201-3DE0-438A-BA2D-622ED95A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E3487-2F3F-4871-AEC6-E7356B7D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5723E-CC2B-49BA-8678-7CAF0557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B0D21-4BE1-4EA9-8F4B-6C24F531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1D8EB-BB5A-4635-BC9D-8A0CDB0F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D4779-C162-4CF3-95E3-3CDDEC08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0ECA-66E3-429C-A1FE-8A145158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4CA91-7AB5-401F-BE84-0703783E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77D18-CC52-4812-8286-B8D962CB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4C509-8528-4796-95DF-878DCEF8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6980D-91AD-4BE6-ACF7-84A29303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9C1FB-9945-48C4-98E0-6C6550EF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CF1F7-0788-4546-BC2A-23046253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4B9CC-EDF4-4844-B404-9FC6850F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0FFFE-0E39-45B3-9080-9FFB500D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326CE-101E-4B76-B6A5-EEA12E38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A8E48-9445-4323-A0B1-07A7C6CE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7827-DABC-4316-94DF-073A0CE04CBA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5952-9CBE-441C-8D5D-B377C7604086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9DD2-B07E-451B-B276-C0A8265ACAC5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430A-0E8A-4493-AE16-9B91CE18F143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EDB6-0142-4262-AB5F-02717B0E0D4A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BF2E-3A1E-4840-8CE4-4640B806CA76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4E64-98F7-4D1F-A494-864B4A1C2CB9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45CE-4EB3-4E74-8DA5-482CFBB7D8B2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59B9-25CC-4D15-AA67-FC0BD29F446B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2920" y="2785680"/>
            <a:ext cx="328608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Филиал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МБОУ СОШ с.В.Ломов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в с.Атмис</a:t>
            </a: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2920" y="285480"/>
            <a:ext cx="3286080" cy="1571400"/>
          </a:xfrm>
          <a:prstGeom prst="rect">
            <a:avLst/>
          </a:prstGeom>
          <a:blipFill rotWithShape="0">
            <a:blip r:embed="rId1">
              <a:alphaModFix amt="44000"/>
            </a:blip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Трудово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обучени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14880" y="571680"/>
            <a:ext cx="4643280" cy="5643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entury Schoolbook"/>
              </a:rPr>
              <a:t>ПРОЕКТ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«От расчетов к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mic Sans MS"/>
              </a:rPr>
              <a:t>результатам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Трудовое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В теплице проходили уроки труда в осенне-весенний период обучения,  проводились занятия кружков , велась опытно - экспериментальная работа на уроках биологии. В ходе  проведения этих занятий учащиеся школы получали практические навыки работы с землёй, знакомились с основами растениеводства и учились агротехническим навыкам выращивания тепличных культур. Работала производственная бригад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Благодаря выращенной на пришкольном участке продукции школа круглый год  обеспечена зеленью и овощам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4" name="Picture 6" descr="H:\DCIM\111___12\IMG_0828.JPG"/>
          <p:cNvPicPr/>
          <p:nvPr/>
        </p:nvPicPr>
        <p:blipFill>
          <a:blip r:embed="rId1"/>
          <a:stretch/>
        </p:blipFill>
        <p:spPr>
          <a:xfrm>
            <a:off x="611280" y="3357720"/>
            <a:ext cx="266544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      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Трудовое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       обучение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8400" y="2928960"/>
            <a:ext cx="28573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214880" y="428400"/>
            <a:ext cx="464328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Рисунок 22" descr=""/>
          <p:cNvPicPr/>
          <p:nvPr/>
        </p:nvPicPr>
        <p:blipFill>
          <a:blip r:embed="rId1"/>
          <a:stretch/>
        </p:blipFill>
        <p:spPr>
          <a:xfrm>
            <a:off x="357120" y="2714760"/>
            <a:ext cx="3035520" cy="2214360"/>
          </a:xfrm>
          <a:prstGeom prst="rect">
            <a:avLst/>
          </a:prstGeom>
          <a:ln w="0">
            <a:noFill/>
          </a:ln>
        </p:spPr>
      </p:pic>
      <p:sp>
        <p:nvSpPr>
          <p:cNvPr id="383" name="Горизонтальный свиток 10"/>
          <p:cNvSpPr/>
          <p:nvPr/>
        </p:nvSpPr>
        <p:spPr>
          <a:xfrm>
            <a:off x="4356000" y="1214280"/>
            <a:ext cx="4430880" cy="415944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ект подготовила ученица 7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умакова Алё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уководитель: 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влова Светлана Николае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entury Schoolbook"/>
              </a:rPr>
              <a:t>Трудовое 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entury Schoolbook"/>
              </a:rPr>
              <a:t>обучение</a:t>
            </a: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357440" y="499680"/>
            <a:ext cx="45003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ктуальность проек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Мы провели исследование состояния рынка и выявили, что  овощная продукция пользуется большим спросом. Для себя отметили: импортная продукция имеет красивый внешний вид и широкий рынок сбыта. Цены высокие, но не всегда хорошие вкусовые качества. В теплице , на участке и в саду мы выращиваем экологически чистые овощи, фрукты, используем их в школьной столовой и могли бы часть из них предложить жителям села. Таким образом мы заботимся о здоровье люд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Содержимое 4" descr="http://im3-tub-ru.yandex.net/i?id=104711403-66-72"/>
          <p:cNvPicPr/>
          <p:nvPr/>
        </p:nvPicPr>
        <p:blipFill>
          <a:blip r:embed="rId1"/>
          <a:stretch/>
        </p:blipFill>
        <p:spPr>
          <a:xfrm>
            <a:off x="684360" y="2924280"/>
            <a:ext cx="251928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Трудовое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обучение</a:t>
            </a:r>
            <a:br>
              <a:rPr sz="3200"/>
            </a:br>
            <a:endParaRPr b="1" lang="en-US" sz="32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140360" y="1412640"/>
            <a:ext cx="478944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Трудовой деятельностью мы занимаемся в течение года. Зимой выращиваем лук, весной занимаемся посадкой рассады. Работая в теплице и на участке, мы заметили, чтобы преуспевать и чувствовать себя уверенно в современном мире, необходимо много учиться и много знать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. 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00720" y="333000"/>
            <a:ext cx="42480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f0"/>
                </a:solidFill>
                <a:latin typeface="Century Schoolbook"/>
              </a:rPr>
              <a:t>Школа 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f0"/>
                </a:solidFill>
                <a:latin typeface="Century Schoolbook"/>
              </a:rPr>
              <a:t>трудовое обуче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6" descr="D:\Рисунки\DSC00366.JPG"/>
          <p:cNvPicPr/>
          <p:nvPr/>
        </p:nvPicPr>
        <p:blipFill>
          <a:blip r:embed="rId1"/>
          <a:stretch/>
        </p:blipFill>
        <p:spPr>
          <a:xfrm>
            <a:off x="-12801600" y="-960120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Юдины 294"/>
          <p:cNvPicPr/>
          <p:nvPr/>
        </p:nvPicPr>
        <p:blipFill>
          <a:blip r:embed="rId2"/>
          <a:stretch/>
        </p:blipFill>
        <p:spPr>
          <a:xfrm>
            <a:off x="395280" y="2421000"/>
            <a:ext cx="1819440" cy="17352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F:\Юдины 137.jpg"/>
          <p:cNvPicPr/>
          <p:nvPr/>
        </p:nvPicPr>
        <p:blipFill>
          <a:blip r:embed="rId3"/>
          <a:stretch/>
        </p:blipFill>
        <p:spPr>
          <a:xfrm>
            <a:off x="1214280" y="4390920"/>
            <a:ext cx="238932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entury Schoolbook"/>
              </a:rPr>
              <a:t>Трудовое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entury Schoolbook"/>
              </a:rPr>
              <a:t>обучение</a:t>
            </a: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071600" y="1142640"/>
            <a:ext cx="4786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менени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выков трудовой деятельности на примере своей школы.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00720" y="499680"/>
            <a:ext cx="4643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030a0"/>
                </a:solidFill>
                <a:latin typeface="Century Schoolbook"/>
              </a:rPr>
              <a:t>Цели проекта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6" name="Рисунок 5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352908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Трудовое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бучение</a:t>
            </a:r>
            <a:endParaRPr b="1" lang="en-US" sz="24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Задачи проекта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-  Показать взаимосвязь трудовой деятельности с предпринимательство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- Провести расчёт прибыли с выращенной продукци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250920" y="3213000"/>
            <a:ext cx="345744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2560" y="356760"/>
            <a:ext cx="31431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Трудовое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обучение</a:t>
            </a:r>
            <a:endParaRPr b="1" lang="en-US" sz="14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 нашей школе имеетс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Теплица, ее площадь 32 кв.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ришкольный участок, его площадь 100 кв.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Фруктовый сад, его площад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60 кв.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Picture 2" descr="F:\спорт 010.jpg"/>
          <p:cNvPicPr/>
          <p:nvPr/>
        </p:nvPicPr>
        <p:blipFill>
          <a:blip r:embed="rId1"/>
          <a:stretch/>
        </p:blipFill>
        <p:spPr>
          <a:xfrm>
            <a:off x="428760" y="2154240"/>
            <a:ext cx="2571480" cy="19242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F:\Юдины 142.jpg"/>
          <p:cNvPicPr/>
          <p:nvPr/>
        </p:nvPicPr>
        <p:blipFill>
          <a:blip r:embed="rId2"/>
          <a:stretch/>
        </p:blipFill>
        <p:spPr>
          <a:xfrm>
            <a:off x="1084320" y="4389480"/>
            <a:ext cx="253512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Трудовое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214880" y="571680"/>
            <a:ext cx="46432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  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Пришкольный участок - это  для учащихся  своего рода «азбука» земли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   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Практические работы на пришкольном участке играют большую роль в трудовом и профориентационном  воспитании учащихся. С малых лет у школьников формируется представление о растительности как об основном источнике жизни на земле и воспитывается бережное отношение к растениям; для учащихся представляется возможность применить на практике теоретические знания, полученные на уроках биологии.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  Пришкольный участок используется как основной источник для выращивания и заготовки натурального наглядного материала, без которого  невозможно вести уроки сельскохозяйственного труда и биологии на уровне современных требований. А так же используется для выращивания овощей для школьной столовой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6" name="Содержимое 9" descr="http://bogadi-school.ucoz.ru/prishkolni/risunok1.jpg"/>
          <p:cNvPicPr/>
          <p:nvPr/>
        </p:nvPicPr>
        <p:blipFill>
          <a:blip r:embed="rId1"/>
          <a:stretch/>
        </p:blipFill>
        <p:spPr>
          <a:xfrm>
            <a:off x="250920" y="2205000"/>
            <a:ext cx="3097080" cy="208764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10" descr="http://im7-tub-ru.yandex.net/i?id=190307843-30-72"/>
          <p:cNvPicPr/>
          <p:nvPr/>
        </p:nvPicPr>
        <p:blipFill>
          <a:blip r:embed="rId2"/>
          <a:stretch/>
        </p:blipFill>
        <p:spPr>
          <a:xfrm>
            <a:off x="1042920" y="4653000"/>
            <a:ext cx="2376720" cy="15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Трудовое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211640" y="499680"/>
            <a:ext cx="471816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дна из самых востребованных культур – зеленый лук,  который мы выращиваем зимой на зелень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a119f"/>
                </a:solidFill>
                <a:latin typeface="Century Schoolbook"/>
              </a:rPr>
              <a:t>                      </a:t>
            </a:r>
            <a:r>
              <a:rPr b="0" i="1" lang="ru-RU" sz="2000" spc="-1" strike="noStrike">
                <a:solidFill>
                  <a:srgbClr val="3a119f"/>
                </a:solidFill>
                <a:latin typeface="Century Schoolbook"/>
              </a:rPr>
              <a:t>Расчет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a119f"/>
                </a:solidFill>
                <a:latin typeface="Century Schoolbook"/>
              </a:rPr>
              <a:t>1 пучок лука стоит 10 рубл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a119f"/>
                </a:solidFill>
                <a:latin typeface="Century Schoolbook"/>
              </a:rPr>
              <a:t>Его собираем из 4 луковиц. Из 400 посаженных луковиц получаем 100 пучков по 10 рубле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a119f"/>
                </a:solidFill>
                <a:latin typeface="Century Schoolbook"/>
              </a:rPr>
              <a:t>Можно реализовать ещё 50 кг репчатого лука по 20 рубле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a119f"/>
                </a:solidFill>
                <a:latin typeface="Century Schoolbook"/>
              </a:rPr>
              <a:t>за кг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a119f"/>
                </a:solidFill>
                <a:latin typeface="Century Schoolbook"/>
              </a:rPr>
              <a:t>Результат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a119f"/>
                </a:solidFill>
                <a:latin typeface="Century Schoolbook"/>
              </a:rPr>
              <a:t> </a:t>
            </a:r>
            <a:r>
              <a:rPr b="0" i="1" lang="ru-RU" sz="2000" spc="-1" strike="noStrike">
                <a:solidFill>
                  <a:srgbClr val="3a119f"/>
                </a:solidFill>
                <a:latin typeface="Century Schoolbook"/>
              </a:rPr>
              <a:t>Полученный доход, в размере 2000 рублей, можно использовать на приобретение посадочных семян, пленки для теплиц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0" name="Picture 7" descr="http://im3-tub-ru.yandex.net/i?id=34632064-63-72"/>
          <p:cNvPicPr/>
          <p:nvPr/>
        </p:nvPicPr>
        <p:blipFill>
          <a:blip r:embed="rId1"/>
          <a:stretch/>
        </p:blipFill>
        <p:spPr>
          <a:xfrm>
            <a:off x="160200" y="2276640"/>
            <a:ext cx="2435400" cy="2232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D:\Users\user\Documents\101MSDCF\DSC04990.JPG"/>
          <p:cNvPicPr/>
          <p:nvPr/>
        </p:nvPicPr>
        <p:blipFill>
          <a:blip r:embed="rId2"/>
          <a:stretch/>
        </p:blipFill>
        <p:spPr>
          <a:xfrm>
            <a:off x="1763640" y="3933720"/>
            <a:ext cx="19447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4:57:39Z</dcterms:created>
  <dc:creator>User (HOME)</dc:creator>
  <dc:description/>
  <dc:language>en-US</dc:language>
  <cp:lastModifiedBy>user</cp:lastModifiedBy>
  <dcterms:modified xsi:type="dcterms:W3CDTF">2023-04-09T12:45:46Z</dcterms:modified>
  <cp:revision>129</cp:revision>
  <dc:subject/>
  <dc:title>Муниципальное образовательное учреждение  средняя общеобразовательная школа № 1 р. п. Лунин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007631</vt:lpwstr>
  </property>
</Properties>
</file>