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AF66-9E6F-4FD7-B376-DA2218BA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93F-D7F8-425B-BEDD-2887DE48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EB0-A133-43BD-8461-FFA06F0F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7FF-7CA1-4FAF-B521-11F8764C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401F-F394-4FEA-B6B5-EDC152BE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9E8-97D0-411D-9266-F1E00BDE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D8DF-ECCB-4054-B3F5-5FE73DF0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40D-067F-45A9-8C16-F606B81B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20C-A7F6-40D2-949A-DBBED480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6E0-9CA0-4DF9-AB60-8BF52D42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38F-07FD-48B4-A705-237E1678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B66-D728-40C0-962D-9E4B858A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F7CD-6341-455C-A494-3FC800E3D47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87280" y="234936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ahoma"/>
              </a:rPr>
              <a:t>Тарелочка из глин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859280" y="465768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Bookman Old Style"/>
              </a:rPr>
              <a:t>Воспитатель Прокопьева В.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3276720" cy="2476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2"/>
          <a:stretch/>
        </p:blipFill>
        <p:spPr>
          <a:xfrm>
            <a:off x="1116000" y="333360"/>
            <a:ext cx="1657440" cy="1650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3"/>
          <a:stretch/>
        </p:blipFill>
        <p:spPr>
          <a:xfrm>
            <a:off x="3780000" y="692280"/>
            <a:ext cx="1728720" cy="1689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"/>
          <p:cNvPicPr/>
          <p:nvPr/>
        </p:nvPicPr>
        <p:blipFill>
          <a:blip r:embed="rId4"/>
          <a:stretch/>
        </p:blipFill>
        <p:spPr>
          <a:xfrm>
            <a:off x="6659640" y="404640"/>
            <a:ext cx="165744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611280" y="324000"/>
            <a:ext cx="843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Для придания блеска и большей прочности керамические издел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окрывают специальной глазурью и еще раз обжигают в печ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032360" cy="4032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4032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1547640" y="468360"/>
            <a:ext cx="685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Вот такая красивая посуда получается из гл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105440" cy="2738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4032000" cy="2737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2195640" y="5118120"/>
            <a:ext cx="57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СПАСИБО ЗА ВНИМАНИ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862440" y="36684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ОС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бывает разн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2592360" cy="234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3276720" y="2136600"/>
            <a:ext cx="2808000" cy="2081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3"/>
          <a:stretch/>
        </p:blipFill>
        <p:spPr>
          <a:xfrm>
            <a:off x="6372360" y="620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"/>
          <p:cNvPicPr/>
          <p:nvPr/>
        </p:nvPicPr>
        <p:blipFill>
          <a:blip r:embed="rId4"/>
          <a:stretch/>
        </p:blipFill>
        <p:spPr>
          <a:xfrm>
            <a:off x="324000" y="3789360"/>
            <a:ext cx="259236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5"/>
          <a:stretch/>
        </p:blipFill>
        <p:spPr>
          <a:xfrm>
            <a:off x="6443640" y="378936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5"/>
          <p:cNvSpPr/>
          <p:nvPr/>
        </p:nvSpPr>
        <p:spPr>
          <a:xfrm>
            <a:off x="878040" y="3086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БУМАЖ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6804000" y="308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ДЕРЕВЯН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3780000" y="43099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СТЕКЛЯН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476640" y="61657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МЕТАЛЛИЧЕСК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6501240" y="62532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ПЛАСТИКО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987640" y="272880"/>
            <a:ext cx="359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ы расскажем 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ЛИНЯНОЙ ПОСУ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553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258920" y="781200"/>
            <a:ext cx="730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ffff00"/>
                </a:solidFill>
                <a:latin typeface="Bookman Old Style"/>
              </a:rPr>
              <a:t>Глина – природный материал. Она добывается из земли, обычно в тех местах, где когда-то проходили реки или в карьер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Bookman Old Style"/>
              </a:rPr>
              <a:t>Глина бывает сухой и мокрой, разного цвета и с разными свойств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076720" y="3068640"/>
            <a:ext cx="3672000" cy="244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755640" y="3068640"/>
            <a:ext cx="352908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403280" y="395280"/>
            <a:ext cx="718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к люди научились дела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линяную посуд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012320" y="1644480"/>
            <a:ext cx="804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Много тысяч лет тому назад на Земле жили первобытные люд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Кто-то из них однажды заметил, что глина мягкая и податлива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из нее можно лепить. Попробовал древний человек слепить горш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Первая посуда была не такой красивой как сейчас, пропускал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оду и трескалас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2627280" y="321300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826920" y="493560"/>
            <a:ext cx="8194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ошло время и люди придумали специальное приспособле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для изготовления глиняной посуды. Называлось оно – гончарный кру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А чтобы посуда стала более прочной, стали обжигать ее в специальных печ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2195640" y="2205000"/>
            <a:ext cx="504036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68360" y="189000"/>
            <a:ext cx="895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Людей, которые занимались изготовлением глиняной посуд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тали называть гончарами. Гончар брал кусок глины, помеща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 центр круга и вращая его, придавал форму будущему горш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059280" y="1557360"/>
            <a:ext cx="33289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50920" y="39528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Шло время. Постепенно люди научились делать посуд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разной форм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300720" y="1197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3"/>
          <a:stretch/>
        </p:blipFill>
        <p:spPr>
          <a:xfrm>
            <a:off x="2987640" y="4005360"/>
            <a:ext cx="3168720" cy="2111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836280" y="349236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горш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6659640" y="37162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6804000" y="349236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кувш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780000" y="6165720"/>
            <a:ext cx="15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арел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50920" y="395280"/>
            <a:ext cx="88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ейчас, чтобы глиняная посуда была прочной, ее обжигают на зав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 печи при очень высокой температуре. А чтобы изделия гончар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были еще и красивыми, их расписывают художники в мастерс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Глиняную посуду называют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КЕРАМИК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050920" y="2205000"/>
            <a:ext cx="511344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4T13:18:37Z</dcterms:created>
  <dc:creator>PC</dc:creator>
  <dc:description/>
  <dc:language>en-US</dc:language>
  <cp:lastModifiedBy>User</cp:lastModifiedBy>
  <dcterms:modified xsi:type="dcterms:W3CDTF">2023-04-03T10:47:46Z</dcterms:modified>
  <cp:revision>5</cp:revision>
  <dc:subject/>
  <dc:title>Слайд 1</dc:title>
</cp:coreProperties>
</file>