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F88-0816-4C6D-B598-1C75CEE4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B1D-2E40-4895-9CE9-E9F55BC8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3BA-F2C9-4483-AC16-1CACDF41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444-E1ED-46BF-9865-D4D70301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49E-CE41-440F-9648-23899F92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229-D47C-42F8-B37C-C48E7BE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79F-516E-45A5-BCEF-BB9347E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366-B0CA-4BB2-8E17-55070EFD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61B-B5A4-43CE-BB3F-9B43290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A8B-DC9D-49D0-B5F0-0CB7E12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09E-6AC2-406B-8468-F15B6566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C22-8F6E-45A3-9EB2-E53ADFD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C11-324B-452F-B5A8-3AF7C2FE57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2349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Тарелочка из глин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859280" y="465768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Воспитатель Прокопьева В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27672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165744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3780000" y="692280"/>
            <a:ext cx="1728720" cy="168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4"/>
          <a:stretch/>
        </p:blipFill>
        <p:spPr>
          <a:xfrm>
            <a:off x="6659640" y="404640"/>
            <a:ext cx="16574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324000"/>
            <a:ext cx="843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придания блеска и большей прочности керамические изде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крывают специальной глазурью и еще раз обжигают в п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27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03200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195640" y="511812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62440" y="3668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бывает раз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592360" cy="234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3276720" y="2136600"/>
            <a:ext cx="2808000" cy="208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tretch/>
        </p:blipFill>
        <p:spPr>
          <a:xfrm>
            <a:off x="6372360" y="62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25923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878040" y="308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УМАЖ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04000" y="30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ДЕРЕВЯ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780000" y="430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ТЕКЛЯ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76640" y="6165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ЕТАЛЛ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501240" y="62532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ЛАСТИК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987640" y="272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ы расскажем 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ЛИНЯНОЙ ПОС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58920" y="781200"/>
            <a:ext cx="73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Глина – природный материал. Она добывается из земли, обычно в тех местах, где когда-то проходили реки или в карьер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Bookman Old Style"/>
              </a:rPr>
              <a:t>Глина бывает сухой и мокрой, разного цвета и с разными свойств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672000" cy="244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529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403280" y="39528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к люди научились дел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линяную посу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12320" y="1644480"/>
            <a:ext cx="80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ного тысяч лет тому назад на Земле жили первобытные лю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то-то из них однажды заметил, что глина мягкая и податлива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з нее можно лепить. Попробовал древний человек слепить горш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ервая посуда была не такой красивой как сейчас, пропуска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оду и трескала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49356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шло время и люди придумали специальное приспособл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изготовления глиняной посуды. Называлось оно – гончарный кр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 чтобы посуда стала более прочной, стали обжигать ее в специальных печ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0403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89000"/>
            <a:ext cx="895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юдей, которые занимались изготовлением глиняной посу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тали называть гончарами. Гончар брал кусок глины, помещ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центр круга и вращая его, придавал форму будущему горш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33289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395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Шло время. Постепенно люди научились делать посу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зной форм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30072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168720" cy="2111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836280" y="349236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горш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659640" y="3716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804000" y="3492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увш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780000" y="616572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арел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39528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ейчас, чтобы глиняная посуда была прочной, ее обжигают на за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печи при очень высокой температуре. А чтобы изделия гонч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ыли еще и красивыми, их расписывают художники в масте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линяную посуду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ЕРАМИ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3:18:37Z</dcterms:created>
  <dc:creator>PC</dc:creator>
  <dc:description/>
  <dc:language>en-US</dc:language>
  <cp:lastModifiedBy>User</cp:lastModifiedBy>
  <dcterms:modified xsi:type="dcterms:W3CDTF">2023-04-03T10:47:46Z</dcterms:modified>
  <cp:revision>5</cp:revision>
  <dc:subject/>
  <dc:title>Слайд 1</dc:title>
</cp:coreProperties>
</file>