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EC0-CD2D-4FD2-B1AF-30FA7734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48F-E22A-4005-8576-9B4D5CEB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E49-160D-4183-B006-7843DD95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6B3-0973-4E18-B4D4-5366BAB3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393-C46D-4D5B-808B-AE111617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43D-6067-47A0-B172-425861D8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829-7A15-4C21-9F40-EBA69329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F13-E9AC-447C-88F9-B70DAF1D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DD3-5DA2-445C-8D12-07079812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58F-AFC9-43E1-97FA-DE4C25DB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DE4-F23E-449C-82B9-BAC5FB0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A74-75C1-4896-873B-44BBE8D8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F4D5-EBB0-4C71-B842-DBB029A2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24000" y="0"/>
            <a:ext cx="53276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ДОУ ЦРР детский сад №2 «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684360" y="1197000"/>
            <a:ext cx="484020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Приобщение детей к культуре родного края через ознакомление с творчеством поэтов и писателей Южного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539640" y="5805360"/>
            <a:ext cx="5124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атель: Пархоменко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63388" t="0" r="0" b="0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ты, дедушка Молчок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ки-чики, чики-чок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ты, дедушка Молчок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ходи к нам, посидим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лчим…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ышишь, добрый старичок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-ши-на… пришел Молчок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пугни его, смотри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271520"/>
            <a:ext cx="4119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ит нас мирилочка – вместе говорило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– т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– 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ы – хороший у мен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 подарок дорог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 нужен мне друг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вел Петрович Баж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нига: &quot;Уральские сказы: Сборник с иллюстрациями&quot; - Павел Бажов. Купить  книгу, читать рецензии | ISBN 5-9539-0189-5 | Лабиринт"/>
          <p:cNvPicPr/>
          <p:nvPr/>
        </p:nvPicPr>
        <p:blipFill>
          <a:blip r:embed="rId1"/>
          <a:stretch/>
        </p:blipFill>
        <p:spPr>
          <a:xfrm>
            <a:off x="611280" y="1628640"/>
            <a:ext cx="3457440" cy="469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Павел Бажов лучшие книги по рейтингу сайта на Readly.ru"/>
          <p:cNvPicPr/>
          <p:nvPr/>
        </p:nvPicPr>
        <p:blipFill>
          <a:blip r:embed="rId2"/>
          <a:stretch/>
        </p:blipFill>
        <p:spPr>
          <a:xfrm>
            <a:off x="4788000" y="1557360"/>
            <a:ext cx="36176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корытов Юрий Георги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Юрий Подкорытов – лучшие книги"/>
          <p:cNvPicPr/>
          <p:nvPr/>
        </p:nvPicPr>
        <p:blipFill>
          <a:blip r:embed="rId1"/>
          <a:stretch/>
        </p:blipFill>
        <p:spPr>
          <a:xfrm>
            <a:off x="5292720" y="1413000"/>
            <a:ext cx="3273480" cy="499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Юрий Подкорытов – биография, книги, отзывы, цитаты"/>
          <p:cNvPicPr/>
          <p:nvPr/>
        </p:nvPicPr>
        <p:blipFill>
          <a:blip r:embed="rId2"/>
          <a:stretch/>
        </p:blipFill>
        <p:spPr>
          <a:xfrm>
            <a:off x="684360" y="1484280"/>
            <a:ext cx="37195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сатели и поэты Верхнего Уфал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асов М.В. «Верхний Уфа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сников А.В. «Про Уфалей» (песн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. Биллер «Ах, Уфа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вакин А.Ф. «Что вам сказать про Уфалей?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0481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.Биллер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«Ах, Уфал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5640" y="1268280"/>
            <a:ext cx="54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ром солнце встает из-за Волчьей горы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аряет дома, тротуары, двор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ыпается лес да и пруд голубо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чего ж ты хорош, город мой небольшой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Уфалее живет не ленивый народ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 утра дотемна здесь работа идет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ят дороги, фонтаны, дом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од родной, не старей никогд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Верхний уфалей: истории из жизни, советы, новости, юмор и картинки —  Горячее | Пикабу"/>
          <p:cNvPicPr/>
          <p:nvPr/>
        </p:nvPicPr>
        <p:blipFill>
          <a:blip r:embed="rId1"/>
          <a:srcRect l="31641" t="0" r="15429" b="1263"/>
          <a:stretch/>
        </p:blipFill>
        <p:spPr>
          <a:xfrm>
            <a:off x="5651640" y="1268280"/>
            <a:ext cx="316836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ышаленкова Р. А. (Магнитогорск)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«Верхний Уфалей»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Коляба-Моляба путешествует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549600" cy="4297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95640" y="2055960"/>
            <a:ext cx="47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х, если в Верхний Уфале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еду я с утр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этот праздник поскоре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бежится детвора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ёра, горы и лес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ядутся окрест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тем, кто опоздал, друзья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два ли хватит мест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6338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11280" y="88200"/>
            <a:ext cx="640872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ня научит детвор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Верхний Уфале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ть рыболовом, грибнико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ть горняком, лесовико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гда я сделаюсь — ура! —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х бабушек мудрей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десь дети знают птичий свист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есной звериный след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авинки знают, каждый лист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 множество прим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уральский город Уфалей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очу уехать поскорей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ль убегу на лыжах —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лыжах даже бл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ое чтение детей и взрослых произведений, написанных о родном, близком, для человека месте - поможет начинающему читателю ощутить неповторимость уральской речи, узнать происхождение названий местных гор, озер и рек, заинтересует славной историей и неповторимой природой родного кр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6338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3386" t="0" r="0" b="0"/>
          <a:stretch/>
        </p:blipFill>
        <p:spPr>
          <a:xfrm>
            <a:off x="665964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8323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Главный приоритет образ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12144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достойного гражданина, который знает и любит свою Род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81360"/>
            <a:ext cx="6516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гиональный компонент содержания образования позволяет решать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365720"/>
            <a:ext cx="59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я детьми знаниями в области экологии, истории и культуры своего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ия патриотизма и чувства гражданственности у подрастающе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63386" t="0" r="0" b="0"/>
          <a:stretch/>
        </p:blipFill>
        <p:spPr>
          <a:xfrm>
            <a:off x="7308720" y="0"/>
            <a:ext cx="1835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-3960"/>
            <a:ext cx="6769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удожественная литература родного кра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вает и объясняет детям жизнь общества и природы, мир человеческих чувств и взаимо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вает мышление и воображение ребенка, обогащает его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едения поэтов и писателей – земляков раскрывают красоту окружающе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бовь к природе у людей, способных понимать её живую красоту, постепенно сливается с чувством Родины, переходит в глубокие патриотические убе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3386" t="0" r="0" b="0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619560"/>
            <a:ext cx="496728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я работы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по приобщению к культуре родного края через ознакомление с творчеством поэтов и писателей Южного Урал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но-развивающая сред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деть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родителям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кулева Нина Василь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Излучающая радость… | Объединенный государственный архив Челябинской области"/>
          <p:cNvPicPr/>
          <p:nvPr/>
        </p:nvPicPr>
        <p:blipFill>
          <a:blip r:embed="rId1"/>
          <a:stretch/>
        </p:blipFill>
        <p:spPr>
          <a:xfrm>
            <a:off x="755640" y="1341360"/>
            <a:ext cx="7848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Песенка про двух утят"/>
          <p:cNvPicPr/>
          <p:nvPr/>
        </p:nvPicPr>
        <p:blipFill>
          <a:blip r:embed="rId1"/>
          <a:stretch/>
        </p:blipFill>
        <p:spPr>
          <a:xfrm>
            <a:off x="1476360" y="1125360"/>
            <a:ext cx="6659640" cy="5307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енка про двух ут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127" t="15977" r="0" b="13476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знецов Василий Никол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81080" cy="3700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2637000"/>
            <a:ext cx="2927520" cy="390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32972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дия Александровна Преображе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2529000" cy="4227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811240" cy="437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84720" y="1844640"/>
            <a:ext cx="27496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6T18:19:33Z</dcterms:created>
  <dc:creator>Ирина</dc:creator>
  <dc:description/>
  <dc:language>en-US</dc:language>
  <cp:lastModifiedBy>Ирина</cp:lastModifiedBy>
  <dcterms:modified xsi:type="dcterms:W3CDTF">2023-01-17T07:34:23Z</dcterms:modified>
  <cp:revision>15</cp:revision>
  <dc:subject/>
  <dc:title>Слайд 1</dc:title>
</cp:coreProperties>
</file>