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D42-55A8-40F4-89A3-04C20DED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7B8-EC8D-4B39-8AF7-7D1EE55F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356-DF19-4386-AAA1-100AB5D3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4528-5C37-4E20-BBDF-54DA4974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9D6-031B-4213-8D59-02CB0B7B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B6E-B019-41E1-BEDC-5B3E762C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81F-3128-47C1-98D3-CF250074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48D-E1D2-4068-ACB7-9507EADA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4E02-C29D-4E39-8BC5-51C03F4E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D99-F895-44D5-9D48-1C5AB8C4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A1A-21ED-4775-B55C-3062E4D3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4E7-651B-4F5E-8A93-27DB0A72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7C1F-DE8D-4406-83CC-C866F70C6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324000" y="0"/>
            <a:ext cx="53276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ДОУ ЦРР детский сад №2 «Развит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684360" y="1197000"/>
            <a:ext cx="484020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00"/>
                </a:solidFill>
                <a:latin typeface="Arial"/>
              </a:rPr>
              <a:t>Приобщение детей к культуре родного края через ознакомление с творчеством поэтов и писателей Южного Ур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539640" y="5805360"/>
            <a:ext cx="5124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питатель: Пархоменко И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63388" t="0" r="0" b="0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4186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ты, дедушка Молчок?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ки-чики, чики-чок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ты, дедушка Молчок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ходи к нам, посидим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лчим…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ышишь, добрый старичок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-ши-на… пришел Молчок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спугни его, смотри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1271520"/>
            <a:ext cx="4119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рит нас мирилочка – вместе говорилоч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– ты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это – 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ы – хороший у мен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й подарок дорог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е нужен мне друг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вел Петрович Баж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Книга: &quot;Уральские сказы: Сборник с иллюстрациями&quot; - Павел Бажов. Купить  книгу, читать рецензии | ISBN 5-9539-0189-5 | Лабиринт"/>
          <p:cNvPicPr/>
          <p:nvPr/>
        </p:nvPicPr>
        <p:blipFill>
          <a:blip r:embed="rId1"/>
          <a:stretch/>
        </p:blipFill>
        <p:spPr>
          <a:xfrm>
            <a:off x="611280" y="1628640"/>
            <a:ext cx="3457440" cy="4695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Павел Бажов лучшие книги по рейтингу сайта на Readly.ru"/>
          <p:cNvPicPr/>
          <p:nvPr/>
        </p:nvPicPr>
        <p:blipFill>
          <a:blip r:embed="rId2"/>
          <a:stretch/>
        </p:blipFill>
        <p:spPr>
          <a:xfrm>
            <a:off x="4788000" y="1557360"/>
            <a:ext cx="361764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корытов Юрий Георги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Юрий Подкорытов – лучшие книги"/>
          <p:cNvPicPr/>
          <p:nvPr/>
        </p:nvPicPr>
        <p:blipFill>
          <a:blip r:embed="rId1"/>
          <a:stretch/>
        </p:blipFill>
        <p:spPr>
          <a:xfrm>
            <a:off x="5292720" y="1413000"/>
            <a:ext cx="3273480" cy="4992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Юрий Подкорытов – биография, книги, отзывы, цитаты"/>
          <p:cNvPicPr/>
          <p:nvPr/>
        </p:nvPicPr>
        <p:blipFill>
          <a:blip r:embed="rId2"/>
          <a:stretch/>
        </p:blipFill>
        <p:spPr>
          <a:xfrm>
            <a:off x="684360" y="1484280"/>
            <a:ext cx="371952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исатели и поэты Верхнего Уфале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расов М.В. «Верхний Уфа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сников А.В. «Про Уфалей» (песн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. Биллер «Ах, Уфа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вакин А.Ф. «Что вам сказать про Уфалей?»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0481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Е.Биллер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«Ах, Уфал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5640" y="1268280"/>
            <a:ext cx="54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тром солнце встает из-за Волчьей горы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аряет дома, тротуары, дворы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ыпается лес да и пруд голубой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чего ж ты хорош, город мой небольшой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Уфалее живет не ленивый народ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 утра дотемна здесь работа идет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ят дороги, фонтаны, дома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од родной, не старей никогд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Верхний уфалей: истории из жизни, советы, новости, юмор и картинки —  Горячее | Пикабу"/>
          <p:cNvPicPr/>
          <p:nvPr/>
        </p:nvPicPr>
        <p:blipFill>
          <a:blip r:embed="rId1"/>
          <a:srcRect l="31641" t="0" r="15429" b="1263"/>
          <a:stretch/>
        </p:blipFill>
        <p:spPr>
          <a:xfrm>
            <a:off x="5651640" y="1268280"/>
            <a:ext cx="316836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686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ышаленкова Р. А. (Магнитогорск)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«Верхний Уфалей»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Коляба-Моляба путешествует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549600" cy="4297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95640" y="2055960"/>
            <a:ext cx="478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х, если в Верхний Уфале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еду я с утра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этот праздник поскоре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бежится детвора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ёра, горы и лес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ядутся окрест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тем, кто опоздал, друзья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два ли хватит мест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6338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11280" y="88200"/>
            <a:ext cx="640872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ня научит детвор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Верхний Уфале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ть рыболовом, грибником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ть горняком, лесовиком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гда я сделаюсь — ура! —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х бабушек мудрей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десь дети знают птичий свист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есной звериный след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авинки знают, каждый лист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 множество прим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уральский город Уфалей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очу уехать поскорей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ль убегу на лыжах —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 лыжах даже бл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местное чтение детей и взрослых произведений, написанных о родном, близком, для человека месте - поможет начинающему читателю ощутить неповторимость уральской речи, узнать происхождение названий местных гор, озер и рек, заинтересует славной историей и неповторимой природой родного кр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6338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63386" t="0" r="0" b="0"/>
          <a:stretch/>
        </p:blipFill>
        <p:spPr>
          <a:xfrm>
            <a:off x="6659640" y="0"/>
            <a:ext cx="2484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58323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Главный приоритет образ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12144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ание достойного гражданина, который знает и любит свою Род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781360"/>
            <a:ext cx="65167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гиональный компонент содержания образования позволяет решать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365720"/>
            <a:ext cx="59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ладения детьми знаниями в области экологии, истории и культуры своего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ния патриотизма и чувства гражданственности у подрастающего поко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63386" t="0" r="0" b="0"/>
          <a:stretch/>
        </p:blipFill>
        <p:spPr>
          <a:xfrm>
            <a:off x="7308720" y="0"/>
            <a:ext cx="1835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-3960"/>
            <a:ext cx="6769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удожественная литература родного кра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рывает и объясняет детям жизнь общества и природы, мир человеческих чувств и взаимо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вает мышление и воображение ребенка, обогащает его эмо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изведения поэтов и писателей – земляков раскрывают красоту окружающей прир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юбовь к природе у людей, способных понимать её живую красоту, постепенно сливается с чувством Родины, переходит в глубокие патриотические убеж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63386" t="0" r="0" b="0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619560"/>
            <a:ext cx="496728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аправления работы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по приобщению к культуре родного края через ознакомление с творчеством поэтов и писателей Южного Урал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метно-развивающая сред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с деть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с родителям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кулева Нина Василье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Излучающая радость… | Объединенный государственный архив Челябинской области"/>
          <p:cNvPicPr/>
          <p:nvPr/>
        </p:nvPicPr>
        <p:blipFill>
          <a:blip r:embed="rId1"/>
          <a:stretch/>
        </p:blipFill>
        <p:spPr>
          <a:xfrm>
            <a:off x="755640" y="1341360"/>
            <a:ext cx="78487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Песенка про двух утят"/>
          <p:cNvPicPr/>
          <p:nvPr/>
        </p:nvPicPr>
        <p:blipFill>
          <a:blip r:embed="rId1"/>
          <a:stretch/>
        </p:blipFill>
        <p:spPr>
          <a:xfrm>
            <a:off x="1476360" y="1125360"/>
            <a:ext cx="6659640" cy="5307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сенка про двух утя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3168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127" t="15977" r="0" b="13476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знецов Василий Никола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881080" cy="3700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2637000"/>
            <a:ext cx="2927520" cy="3908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32972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дия Александровна Преображен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2529000" cy="4227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2811240" cy="4373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84720" y="1844640"/>
            <a:ext cx="27496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6T18:19:33Z</dcterms:created>
  <dc:creator>Ирина</dc:creator>
  <dc:description/>
  <dc:language>en-US</dc:language>
  <cp:lastModifiedBy>Ирина</cp:lastModifiedBy>
  <dcterms:modified xsi:type="dcterms:W3CDTF">2023-01-17T07:34:23Z</dcterms:modified>
  <cp:revision>15</cp:revision>
  <dc:subject/>
  <dc:title>Слайд 1</dc:title>
</cp:coreProperties>
</file>