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FEB-576C-4510-9754-0AE8DA53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319-CE62-4227-81BF-53954ABD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EAD3E-A48B-402A-AE50-77AE693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4B7B8-8AAF-4668-A6C1-F2970889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D7743-85BA-46A0-A775-7F545481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10846-54BB-462F-8BA2-951F736B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AF4FA-EA91-4A80-AB6B-B4AE99B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8CDEA-6110-45DF-A069-220BF3FA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72ED8-B895-4D50-9571-5146F3B4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06B90-E7BB-4D6B-98DF-2455E8A5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E28E9-15CF-4B63-8104-57973C5F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03CD0-FE83-4224-AC67-E92C11EE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0B1-2743-4DB6-8022-2367E19D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6E86-DB37-4F4F-A034-F0CF65CB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9EB97-B440-4F9B-8D3D-39389BF4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EC7EE-9C57-4568-95D4-C485B529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F53B7-C974-4214-A026-287CDE06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B07A3-7A78-4B45-AC91-B11B73D9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886CE-2A06-435A-BF23-014564E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4331-9983-4C08-BAEB-37C81C6E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96D5D-690F-481C-B188-9E12FB16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EA90D-246A-4CF4-BB05-203EE6F6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E649D-7AA2-45CD-9F69-32D30FF5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FFA-4FE9-49E5-AD0B-3218BEA1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B5C98-5DD7-4BD6-9096-0A02260E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DEBF8-3676-4099-948D-55503DA4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32098-C19A-4A8A-8F53-1248240B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60FCC-D08D-48FC-BD2B-A63C173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7CBC1-482D-4447-BAF6-A5FCF8A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F209C-B663-4947-A2D7-AB1245B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6AC7F-60E7-4CDD-AB8E-E6DAEAB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DAB2C-8F40-4D92-AB67-64656C8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F8931-B173-475E-A4EF-7D77DEBF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9A94C-4544-4B37-A2E5-DBA0DD9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F05C-4877-44CF-968A-295E75C4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B858A-8BA5-48C4-8A01-45F38F62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D2935-18BA-4C22-A95E-48C9BF25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E5F29-6534-4989-B24D-ED3A4408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02F0-1114-4D4C-82FD-62F42CB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8B6F-C90C-43D6-8488-3639E08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CE43-75B6-4DC2-A447-F0377205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0669-7201-42FE-987D-1D757C70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C0DE-A86B-49AD-83B3-FB5EFE2C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7E36-3475-4389-B192-A57524FF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8B6-9521-4E3E-A428-3187B6C0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44C-9D57-4648-9F9A-120019C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368-6E7F-4830-BC42-DF0096D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2A85-0277-427F-9D4C-60AC56E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628B-766B-4A6C-A67F-CEC43A7C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4D2D-ED09-4E03-AB13-DC4ACDD0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9DF3-EB13-4F13-8AFD-DD70FF43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53C5-8CB9-46B7-A97C-CFA0BD5B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6DA6-862E-4D46-ADAD-6DE16F37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80A2-1B20-467C-85A1-4A84DB1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45A7-CC0C-4BA8-9709-3FD0BF2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7D4-D3ED-46EE-AFD7-C10DCF23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BBC0-A0A9-459B-9BC8-32B52FE4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5D3F-C2F7-4364-9F82-071BE26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FE7B-2A22-4B27-BE15-1ED2520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18C9-B0AC-4F0A-A1C8-54F7E8C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5285-170D-4989-9D84-BA1A082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C64A-7ED3-4E3A-A3E5-7B2B3EEC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2D2B-6087-43CB-A085-C95AC696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184A-71F3-4AB6-BBB7-CA111539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DB88-6137-49F4-B999-DCD2AA9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562C-53D4-4828-A252-A91646E2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581-7A73-43A5-9FF0-D011367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E9B92-F53C-47E9-A0F4-5D4FC35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72E7-D96C-4095-9C56-5E503321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66AE-CC56-435A-8114-9B03E3A1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4381F-A188-4D90-AEC7-1760AC0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7675-6087-4D99-A314-1479B80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11BA-5F6A-459E-97AF-0F79FCC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EACC-68C2-48C9-A78E-A3A055D4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A90E-0F1D-428D-B9F1-56BAA062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8FD3-CA41-4D18-9757-2E9BB5FC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3035-647B-4BC5-9FA3-829CA6DC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894-2928-45FB-8B8E-80CF645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F06EE-916A-48BE-85CA-42ED34E1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B7E9-24D6-42F8-900D-D40696D3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90BD-37FB-4020-AEDD-1A1208E3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85C1-188A-4DD6-AFD6-A51C8ACC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DE68-2E76-4806-8938-81F46925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8252-CA83-4FF0-B0B6-E7E2028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1610-6782-45BB-9414-5341B013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B16D-1E11-40BA-887F-FBB0607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BFEFF-D7D3-4ADA-9935-7BC785E5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E934-6AD9-45D5-8F4E-3AE6E606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D1B-234A-4C9E-8B81-93D6D4C2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48F8-6D1E-4531-BE8B-33BFC014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33451-27F9-4512-91B5-5F2BF176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F6151-74F9-4345-B3A4-CB47311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82AD-C58A-4DDA-8EBB-784CFF2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14D2-3959-4023-A42C-984DAB15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BF977-7C7F-4132-9CC1-A3C29CD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AA4D-AECC-4B14-9150-EBD9B73A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65F8-3522-477F-93B9-12CEA04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4F5C-CCD6-4082-A654-877134D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08412-1DA6-43D1-B97C-A3E19541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50B-548E-4D48-B1C8-D9488DA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F55D7-56BF-47B4-8216-9053689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6AA0-B5A1-495D-9134-7BB3A1B2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7B02-C3DC-465C-A679-8EBC1261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2CF22-F6B5-481C-A8F9-0FFABE95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26C54-9FFC-4F91-BD6E-9A308FBA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8AC9-2BB9-43B6-B192-091D4DB2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08EB-26BE-48C6-ABEF-EFEB7383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33B9F-004F-4052-A78F-420C83ED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6EDA-5D51-4E6D-8AD6-153B12E0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4DC0F-BBF7-43E2-AF2E-A9D71996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7C7-0E93-41BB-B188-5A8633A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8C96-2F51-42E3-B7B3-ACF955F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8266-49C8-4351-9F5A-FEF1247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96267-383C-474D-BE2F-4DC2B7E4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74614-BFC5-42FC-8CDB-8AA9B34E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8B115-D340-433E-A41B-E6CCBF45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78DC7-4768-43BB-AE17-8C74D371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A2B7-32B5-4C81-8AEC-E22EC05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0ED9D-6520-4510-AAF1-F2E76385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64D3-11A9-413B-BCC9-DF7AF630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940A-21F7-49C0-88DA-C013764D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350-2462-4C04-9892-12BAAF1E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D7065-7CA5-411A-A0EA-E6F5F93D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E0B2-5935-4D3F-9CAB-178CA8F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547CF-CC48-4FE5-B6A7-B73302CB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A719-9781-44B5-9F81-3860716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EF4F6-846E-4B10-A14E-0EF1EFB2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396F-292B-46A3-BC6A-32675F20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5200-CAED-474D-94B1-03FAA6A2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D1B81-2852-4724-9AAE-68F4CB4D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CC067-114C-490C-A3CC-8A263A3D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0544E-AF62-4F8E-B8CD-0B178198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0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6.png"/><Relationship Id="rId8" Type="http://schemas.openxmlformats.org/officeDocument/2006/relationships/image" Target="../media/image11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7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8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162-D4DC-437C-80C5-FC9A6CD2F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0" descr="в.png"/>
          <p:cNvPicPr/>
          <p:nvPr/>
        </p:nvPicPr>
        <p:blipFill>
          <a:blip r:embed="rId7"/>
          <a:srcRect l="5938" t="2501" r="4063" b="81254"/>
          <a:stretch/>
        </p:blipFill>
        <p:spPr>
          <a:xfrm>
            <a:off x="1714680" y="4786200"/>
            <a:ext cx="5715000" cy="6429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2" descr=",fбачки.png"/>
          <p:cNvPicPr/>
          <p:nvPr/>
        </p:nvPicPr>
        <p:blipFill>
          <a:blip r:embed="rId8"/>
          <a:srcRect l="17187" t="45002" r="65002" b="32504"/>
          <a:stretch/>
        </p:blipFill>
        <p:spPr>
          <a:xfrm rot="20262000">
            <a:off x="6694200" y="-4320"/>
            <a:ext cx="1357200" cy="12859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9" descr="р1.png"/>
          <p:cNvPicPr/>
          <p:nvPr/>
        </p:nvPicPr>
        <p:blipFill>
          <a:blip r:embed="rId9"/>
          <a:stretch/>
        </p:blipFill>
        <p:spPr>
          <a:xfrm rot="19517400">
            <a:off x="285480" y="5500440"/>
            <a:ext cx="1260360" cy="13572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DC4A-F033-4B8C-B4A5-2FFE18359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10" descr="р.png"/>
          <p:cNvPicPr/>
          <p:nvPr/>
        </p:nvPicPr>
        <p:blipFill>
          <a:blip r:embed="rId7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56C-58D2-42CB-BFBD-97D904A8F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р.png"/>
          <p:cNvPicPr/>
          <p:nvPr/>
        </p:nvPicPr>
        <p:blipFill>
          <a:blip r:embed="rId7"/>
          <a:stretch/>
        </p:blipFill>
        <p:spPr>
          <a:xfrm>
            <a:off x="6929280" y="5072040"/>
            <a:ext cx="188136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к.png"/>
          <p:cNvPicPr/>
          <p:nvPr/>
        </p:nvPicPr>
        <p:blipFill>
          <a:blip r:embed="rId8"/>
          <a:stretch/>
        </p:blipFill>
        <p:spPr>
          <a:xfrm>
            <a:off x="1143000" y="2000160"/>
            <a:ext cx="685800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,fбачки.png"/>
          <p:cNvPicPr/>
          <p:nvPr/>
        </p:nvPicPr>
        <p:blipFill>
          <a:blip r:embed="rId9"/>
          <a:stretch/>
        </p:blipFill>
        <p:spPr>
          <a:xfrm rot="19900200">
            <a:off x="6786360" y="57168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ром.png"/>
          <p:cNvPicPr/>
          <p:nvPr/>
        </p:nvPicPr>
        <p:blipFill>
          <a:blip r:embed="rId10"/>
          <a:stretch/>
        </p:blipFill>
        <p:spPr>
          <a:xfrm>
            <a:off x="214200" y="4071960"/>
            <a:ext cx="2368800" cy="2647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,fбачки.png"/>
          <p:cNvPicPr/>
          <p:nvPr/>
        </p:nvPicPr>
        <p:blipFill>
          <a:blip r:embed="rId11"/>
          <a:stretch/>
        </p:blipFill>
        <p:spPr>
          <a:xfrm>
            <a:off x="1357200" y="3857760"/>
            <a:ext cx="1357560" cy="1214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0E2-9434-467A-B401-EDD2D1DAB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р1.png"/>
          <p:cNvPicPr/>
          <p:nvPr/>
        </p:nvPicPr>
        <p:blipFill>
          <a:blip r:embed="rId6"/>
          <a:stretch/>
        </p:blipFill>
        <p:spPr>
          <a:xfrm>
            <a:off x="285840" y="5857920"/>
            <a:ext cx="928440" cy="1000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р1.png"/>
          <p:cNvPicPr/>
          <p:nvPr/>
        </p:nvPicPr>
        <p:blipFill>
          <a:blip r:embed="rId7"/>
          <a:stretch/>
        </p:blipFill>
        <p:spPr>
          <a:xfrm>
            <a:off x="1500120" y="6165720"/>
            <a:ext cx="642960" cy="692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р1.png"/>
          <p:cNvPicPr/>
          <p:nvPr/>
        </p:nvPicPr>
        <p:blipFill>
          <a:blip r:embed="rId8"/>
          <a:stretch/>
        </p:blipFill>
        <p:spPr>
          <a:xfrm>
            <a:off x="142920" y="5143680"/>
            <a:ext cx="530280" cy="571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7C8D-D4F0-4295-AE76-6C8823930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к.png"/>
          <p:cNvPicPr/>
          <p:nvPr/>
        </p:nvPicPr>
        <p:blipFill>
          <a:blip r:embed="rId7"/>
          <a:stretch/>
        </p:blipFill>
        <p:spPr>
          <a:xfrm>
            <a:off x="642960" y="4357800"/>
            <a:ext cx="8001000" cy="1428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1" descr="ром.png"/>
          <p:cNvPicPr/>
          <p:nvPr/>
        </p:nvPicPr>
        <p:blipFill>
          <a:blip r:embed="rId8"/>
          <a:stretch/>
        </p:blipFill>
        <p:spPr>
          <a:xfrm>
            <a:off x="6500880" y="3929040"/>
            <a:ext cx="252396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2" descr="р1.png"/>
          <p:cNvPicPr/>
          <p:nvPr/>
        </p:nvPicPr>
        <p:blipFill>
          <a:blip r:embed="rId9"/>
          <a:stretch/>
        </p:blipFill>
        <p:spPr>
          <a:xfrm>
            <a:off x="214200" y="557208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,fбачки.png"/>
          <p:cNvPicPr/>
          <p:nvPr/>
        </p:nvPicPr>
        <p:blipFill>
          <a:blip r:embed="rId10"/>
          <a:stretch/>
        </p:blipFill>
        <p:spPr>
          <a:xfrm>
            <a:off x="7286760" y="478620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,fбачки.png"/>
          <p:cNvPicPr/>
          <p:nvPr/>
        </p:nvPicPr>
        <p:blipFill>
          <a:blip r:embed="rId11"/>
          <a:stretch/>
        </p:blipFill>
        <p:spPr>
          <a:xfrm rot="1701000">
            <a:off x="1110960" y="660240"/>
            <a:ext cx="928440" cy="10004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,fбачки.png"/>
          <p:cNvPicPr/>
          <p:nvPr/>
        </p:nvPicPr>
        <p:blipFill>
          <a:blip r:embed="rId12"/>
          <a:stretch/>
        </p:blipFill>
        <p:spPr>
          <a:xfrm rot="20148600">
            <a:off x="7701120" y="2280960"/>
            <a:ext cx="1207800" cy="8776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6" descr=",fбачки.png"/>
          <p:cNvPicPr/>
          <p:nvPr/>
        </p:nvPicPr>
        <p:blipFill>
          <a:blip r:embed="rId13"/>
          <a:stretch/>
        </p:blipFill>
        <p:spPr>
          <a:xfrm>
            <a:off x="500040" y="4857840"/>
            <a:ext cx="1071720" cy="1428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E6A1-06EA-4430-916B-3A29481D7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9" descr="р1.png"/>
          <p:cNvPicPr/>
          <p:nvPr/>
        </p:nvPicPr>
        <p:blipFill>
          <a:blip r:embed="rId6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D2B-AE94-43D2-8588-13670C93DB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9" descr="р1.png"/>
          <p:cNvPicPr/>
          <p:nvPr/>
        </p:nvPicPr>
        <p:blipFill>
          <a:blip r:embed="rId6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23C1-5110-4C79-A7C2-65194D8D0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р1.png"/>
          <p:cNvPicPr/>
          <p:nvPr/>
        </p:nvPicPr>
        <p:blipFill>
          <a:blip r:embed="rId6"/>
          <a:stretch/>
        </p:blipFill>
        <p:spPr>
          <a:xfrm rot="15733200">
            <a:off x="8050320" y="6325560"/>
            <a:ext cx="479160" cy="5173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р1.png"/>
          <p:cNvPicPr/>
          <p:nvPr/>
        </p:nvPicPr>
        <p:blipFill>
          <a:blip r:embed="rId7"/>
          <a:stretch/>
        </p:blipFill>
        <p:spPr>
          <a:xfrm rot="15811800">
            <a:off x="8360280" y="4943520"/>
            <a:ext cx="803160" cy="8650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1" descr="р1.png"/>
          <p:cNvPicPr/>
          <p:nvPr/>
        </p:nvPicPr>
        <p:blipFill>
          <a:blip r:embed="rId8"/>
          <a:stretch/>
        </p:blipFill>
        <p:spPr>
          <a:xfrm rot="18241200">
            <a:off x="7369920" y="6121800"/>
            <a:ext cx="684000" cy="73656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2" descr="р.png"/>
          <p:cNvPicPr/>
          <p:nvPr/>
        </p:nvPicPr>
        <p:blipFill>
          <a:blip r:embed="rId9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3" descr=",fбачки.png"/>
          <p:cNvPicPr/>
          <p:nvPr/>
        </p:nvPicPr>
        <p:blipFill>
          <a:blip r:embed="rId10"/>
          <a:stretch/>
        </p:blipFill>
        <p:spPr>
          <a:xfrm>
            <a:off x="7215120" y="5500800"/>
            <a:ext cx="743040" cy="1143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79C3-161C-4F07-AAA5-E73EC9042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0" descr="ром.png"/>
          <p:cNvPicPr/>
          <p:nvPr/>
        </p:nvPicPr>
        <p:blipFill>
          <a:blip r:embed="rId7"/>
          <a:stretch/>
        </p:blipFill>
        <p:spPr>
          <a:xfrm rot="20690400">
            <a:off x="214200" y="4500360"/>
            <a:ext cx="1857600" cy="2076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1" descr=",fбачки.png"/>
          <p:cNvPicPr/>
          <p:nvPr/>
        </p:nvPicPr>
        <p:blipFill>
          <a:blip r:embed="rId8"/>
          <a:stretch/>
        </p:blipFill>
        <p:spPr>
          <a:xfrm rot="18672000">
            <a:off x="7472880" y="366840"/>
            <a:ext cx="1428840" cy="9954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2" descr=",fбачки.png"/>
          <p:cNvPicPr/>
          <p:nvPr/>
        </p:nvPicPr>
        <p:blipFill>
          <a:blip r:embed="rId9"/>
          <a:stretch/>
        </p:blipFill>
        <p:spPr>
          <a:xfrm>
            <a:off x="214200" y="3500280"/>
            <a:ext cx="790560" cy="85752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,fбачки.png"/>
          <p:cNvPicPr/>
          <p:nvPr/>
        </p:nvPicPr>
        <p:blipFill>
          <a:blip r:embed="rId10"/>
          <a:stretch/>
        </p:blipFill>
        <p:spPr>
          <a:xfrm>
            <a:off x="1714680" y="5214960"/>
            <a:ext cx="958680" cy="1214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5314-480B-4DF8-AE44-97F161293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" descr="ф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7" descr="в.png"/>
          <p:cNvPicPr/>
          <p:nvPr/>
        </p:nvPicPr>
        <p:blipFill>
          <a:blip r:embed="rId4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9" descr="р1.png"/>
          <p:cNvPicPr/>
          <p:nvPr/>
        </p:nvPicPr>
        <p:blipFill>
          <a:blip r:embed="rId5"/>
          <a:stretch/>
        </p:blipFill>
        <p:spPr>
          <a:xfrm>
            <a:off x="0" y="428760"/>
            <a:ext cx="1193760" cy="12859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9" descr="ф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0" descr="в.png"/>
          <p:cNvPicPr/>
          <p:nvPr/>
        </p:nvPicPr>
        <p:blipFill>
          <a:blip r:embed="rId7"/>
          <a:srcRect l="5938" t="2501" r="4063" b="81254"/>
          <a:stretch/>
        </p:blipFill>
        <p:spPr>
          <a:xfrm>
            <a:off x="285840" y="214200"/>
            <a:ext cx="3214440" cy="1285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1" descr="р.png"/>
          <p:cNvPicPr/>
          <p:nvPr/>
        </p:nvPicPr>
        <p:blipFill>
          <a:blip r:embed="rId8"/>
          <a:stretch/>
        </p:blipFill>
        <p:spPr>
          <a:xfrm rot="2554800">
            <a:off x="250920" y="5270400"/>
            <a:ext cx="1531800" cy="1338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6318-5524-4F49-8113-0AE129DD0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4880" y="2139480"/>
            <a:ext cx="777240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Kursiv95"/>
              </a:rPr>
              <a:t>Автоматизация звуков</a:t>
            </a:r>
            <a:br>
              <a:rPr sz="3600"/>
            </a:br>
            <a:r>
              <a:rPr b="0" i="1" lang="ru-RU" sz="2400" spc="-1" strike="noStrike">
                <a:solidFill>
                  <a:srgbClr val="000000"/>
                </a:solidFill>
                <a:latin typeface="Kursiv95"/>
              </a:rPr>
              <a:t>(тренажёр-шаблон «Баскетбол»)</a:t>
            </a:r>
            <a:endParaRPr b="0" lang="en-US" sz="2400" spc="-1" strike="noStrike">
              <a:solidFill>
                <a:srgbClr val="000000"/>
              </a:solidFill>
              <a:latin typeface="Kursiv9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28" name="Заголовок 6"/>
          <p:cNvSpPr/>
          <p:nvPr/>
        </p:nvSpPr>
        <p:spPr>
          <a:xfrm>
            <a:off x="2882880" y="3429000"/>
            <a:ext cx="977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31" name="Заголовок 6"/>
          <p:cNvSpPr/>
          <p:nvPr/>
        </p:nvSpPr>
        <p:spPr>
          <a:xfrm>
            <a:off x="6083280" y="3429000"/>
            <a:ext cx="118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6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4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2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30" dur="1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7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38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38" name="Заголовок 6"/>
          <p:cNvSpPr/>
          <p:nvPr/>
        </p:nvSpPr>
        <p:spPr>
          <a:xfrm>
            <a:off x="2882880" y="3429000"/>
            <a:ext cx="977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41" name="Заголовок 6"/>
          <p:cNvSpPr/>
          <p:nvPr/>
        </p:nvSpPr>
        <p:spPr>
          <a:xfrm>
            <a:off x="6083280" y="3429000"/>
            <a:ext cx="118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51" dur="1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59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6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67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75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83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48" name="Заголовок 6"/>
          <p:cNvSpPr/>
          <p:nvPr/>
        </p:nvSpPr>
        <p:spPr>
          <a:xfrm>
            <a:off x="2882880" y="3429000"/>
            <a:ext cx="1022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51" name="Заголовок 6"/>
          <p:cNvSpPr/>
          <p:nvPr/>
        </p:nvSpPr>
        <p:spPr>
          <a:xfrm>
            <a:off x="6083280" y="3429000"/>
            <a:ext cx="118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96" dur="1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04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112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120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22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27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128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Рисунок 4" descr="мячи.jpg2.jpg"/>
          <p:cNvPicPr/>
          <p:nvPr/>
        </p:nvPicPr>
        <p:blipFill>
          <a:blip r:embed="rId1"/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6" descr="мячи.jpg2.jpg"/>
          <p:cNvPicPr/>
          <p:nvPr/>
        </p:nvPicPr>
        <p:blipFill>
          <a:blip r:embed="rId3"/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7" descr="мячи.jpg2.jpg"/>
          <p:cNvPicPr/>
          <p:nvPr/>
        </p:nvPicPr>
        <p:blipFill>
          <a:blip r:embed="rId4"/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8" descr="мячи.jpg2.jpg"/>
          <p:cNvPicPr/>
          <p:nvPr/>
        </p:nvPicPr>
        <p:blipFill>
          <a:blip r:embed="rId5"/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58" name="Заголовок 6"/>
          <p:cNvSpPr/>
          <p:nvPr/>
        </p:nvSpPr>
        <p:spPr>
          <a:xfrm>
            <a:off x="2857680" y="3429000"/>
            <a:ext cx="1002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Рисунок 12" descr="мячи.jpg2.jpg"/>
          <p:cNvPicPr/>
          <p:nvPr/>
        </p:nvPicPr>
        <p:blipFill>
          <a:blip r:embed="rId6"/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61" name="Заголовок 6"/>
          <p:cNvSpPr/>
          <p:nvPr/>
        </p:nvSpPr>
        <p:spPr>
          <a:xfrm>
            <a:off x="6143760" y="3429000"/>
            <a:ext cx="1122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141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49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6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157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4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165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7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173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7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Рисунок 4" descr="мячи.jpg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2611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5" descr="баскетбольная корзина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513560" y="2428920"/>
            <a:ext cx="1916280" cy="16225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6" descr="мячи.jpg2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123840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7" descr="мячи.jpg2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2927520" y="2612880"/>
            <a:ext cx="887400" cy="85752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8" descr="мячи.jpg2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4572000" y="2612880"/>
            <a:ext cx="887400" cy="857520"/>
          </a:xfrm>
          <a:prstGeom prst="rect">
            <a:avLst/>
          </a:prstGeom>
          <a:ln w="0">
            <a:noFill/>
          </a:ln>
        </p:spPr>
      </p:pic>
      <p:sp>
        <p:nvSpPr>
          <p:cNvPr id="568" name="Заголовок 6"/>
          <p:cNvSpPr/>
          <p:nvPr/>
        </p:nvSpPr>
        <p:spPr>
          <a:xfrm>
            <a:off x="2882880" y="3429000"/>
            <a:ext cx="1022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Заголовок 6"/>
          <p:cNvSpPr/>
          <p:nvPr/>
        </p:nvSpPr>
        <p:spPr>
          <a:xfrm>
            <a:off x="449892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12" descr="мячи.jpg2.jpg"/>
          <p:cNvPicPr/>
          <p:nvPr/>
        </p:nvPicPr>
        <p:blipFill>
          <a:blip r:embed="rId6">
            <a:lum bright="-10000"/>
          </a:blip>
          <a:stretch/>
        </p:blipFill>
        <p:spPr>
          <a:xfrm>
            <a:off x="0" y="1028880"/>
            <a:ext cx="887400" cy="857160"/>
          </a:xfrm>
          <a:prstGeom prst="rect">
            <a:avLst/>
          </a:prstGeom>
          <a:ln w="0">
            <a:noFill/>
          </a:ln>
        </p:spPr>
      </p:pic>
      <p:sp>
        <p:nvSpPr>
          <p:cNvPr id="571" name="Заголовок 6"/>
          <p:cNvSpPr/>
          <p:nvPr/>
        </p:nvSpPr>
        <p:spPr>
          <a:xfrm>
            <a:off x="6215040" y="3429000"/>
            <a:ext cx="1112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Заголовок 6"/>
          <p:cNvSpPr/>
          <p:nvPr/>
        </p:nvSpPr>
        <p:spPr>
          <a:xfrm>
            <a:off x="1214280" y="3429000"/>
            <a:ext cx="97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093 L 0.1349 0.23055 E">
                                      <p:cBhvr>
                                        <p:cTn id="186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00046 L 0.05053 -0.19398 C 0.06094 -0.23773 0.07691 -0.26181 0.09323 -0.26296 C 0.11216 -0.26296 0.12743 -0.23819 0.13768 -0.19398 L 0.18768 -0.00046 E">
                                      <p:cBhvr>
                                        <p:cTn id="194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023 L 0.05278 -0.19607 C 0.0625 -0.24028 0.07778 -0.26458 0.09358 -0.26597 C 0.11181 -0.26597 0.12657 -0.24074 0.13646 -0.19607 L 0.18386 -0.00023 E">
                                      <p:cBhvr>
                                        <p:cTn id="202" dur="1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507 -0.19351 C 0.06111 -0.23726 0.07691 -0.26134 0.09306 -0.2625 C 0.11164 -0.2625 0.12674 -0.23773 0.13698 -0.19351 L 0.18594 -4.81481E-006 E">
                                      <p:cBhvr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17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29 0.00023 L 0.05434 -0.19329 C 0.06475 -0.23704 0.08073 -0.26112 0.09704 -0.26227 C 0.11597 -0.26227 0.13125 -0.2375 0.14149 -0.19329 L 0.19149 0.00023 E">
                                      <p:cBhvr>
                                        <p:cTn id="218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2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1"/>
          <p:cNvSpPr/>
          <p:nvPr/>
        </p:nvSpPr>
        <p:spPr>
          <a:xfrm>
            <a:off x="142920" y="1857240"/>
            <a:ext cx="90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avuch.info/metodichka/hitrosti/pictures/-tema-4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allday.ru/uploads/posts/2009-01/1233326678_shutterstock22091320conxg2.jpg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jc-capital.ru/img/backboard_accessories/macgregor/v1_b.jpg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ursiv95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Kursiv95"/>
              </a:rPr>
              <a:t>Источники Интернет-ресурсов</a:t>
            </a:r>
            <a:endParaRPr b="0" lang="en-US" sz="4000" spc="-1" strike="noStrike">
              <a:solidFill>
                <a:srgbClr val="000000"/>
              </a:solidFill>
              <a:latin typeface="Kursiv95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7:24:02Z</dcterms:created>
  <dc:creator>Татьяна</dc:creator>
  <dc:description/>
  <dc:language>en-US</dc:language>
  <cp:lastModifiedBy>user</cp:lastModifiedBy>
  <dcterms:modified xsi:type="dcterms:W3CDTF">2023-03-14T01:47:45Z</dcterms:modified>
  <cp:revision>22</cp:revision>
  <dc:subject/>
  <dc:title>Слайд 1</dc:title>
</cp:coreProperties>
</file>