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8E4-8EDB-435C-B224-1415F205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508-8079-48DB-AD9E-86F36791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20091-B48B-4D37-B9A9-E4E4749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92797-4364-4076-AFC2-8ED3BA6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D19C2-340D-48B6-9407-DA3E827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07D20-6058-49FD-87BF-8308944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3A0D3-85B4-433E-BC3E-9F9CE32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5A3EB-BAE2-48E9-9CB5-CB39BF7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9308D-4A05-4DCB-B03D-DF0E08B5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1E47D-739C-45B4-8700-B54223E6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F6DAC-ED54-4D55-843F-2E94D536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FA659-891A-4873-B5FA-D79661A9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9BE-A0AD-4AB2-906D-B3402C7B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378FC-0BBC-40E8-8FBA-F68F1D5E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86705-0E3D-419A-984B-6D19D1BB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06C4-318A-4108-9AA6-69EAAB60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DD911-01AA-490D-A2FF-3D66235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CDF24-57DE-4278-87F9-DB3F3F5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F5655-1943-4D96-9C1C-05373B2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43508-1014-4E8F-8F41-B7138C6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EDBB6-959D-4AAA-A5F6-A4F9379F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50400-4509-45D1-A8B9-FACB75A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FE179-CB97-4212-BA70-0A9F51D5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4B2-60D9-4C47-B010-36D99413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01ECF-E420-464E-B956-BC1F0D49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B2307-886F-4A40-AA0C-E23F2EB9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E95A9-F7E6-4CB8-B686-F7C7542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5A335-FF72-4E85-87A2-9D953B25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4D4A-5687-43DA-B62C-EE422B8B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F3FE9-A2CD-4303-B627-BBE8C705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118F1-3CB8-4690-98D1-CFF7C1EC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EAFBB-7171-417E-9186-92006D2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F30BE-CFFE-4FE5-842C-832EFC6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AE8B9-27D1-4BF5-A7C0-C4A1A899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70A3-DF33-44D2-AE8D-841F6E40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2BD85-8A66-4238-A327-F65811B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1127-648B-4C56-9EB5-7E5CBFFB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71BB9-8F0D-4C3E-912D-70D059CD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FB35-12CE-456A-93A4-BB55AB93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6DCE-B464-4FB5-809D-20F0D1AB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51F-7B63-4D35-8752-5D4E6E5B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D29F-012F-4432-9A16-5CF7198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643-C29A-46C4-8021-B36B5B2F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D23E-024C-4D2C-8D4B-7C0C6B0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862-AACF-4D2D-B18C-F24822C2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45A2-DA80-4E55-9EEE-4EAED88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D28-4A06-4AFE-812D-EDA755B4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2D35-9946-4691-9EEA-9F54BA1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123-0E2B-40CB-B616-48DA99BF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8407-CDE4-457E-9878-8DF42F66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71BF-9BC0-419A-8EAE-C25E40A1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C0A7-2C47-43B4-95DF-B8387EB0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4D6E-89EF-4634-9AB1-4E75E73D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751B-CCFB-4A4C-92D6-32D95FC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899C-CA9D-42B2-9DB4-E5EF3E3B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701-D5CE-44F1-B4F2-DFFBDA71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8A0E-4242-4E86-B407-6872E24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4C74-C3CF-4596-B3BB-2F6B9D71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81CC-6D89-4314-89C5-53D8F8D4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7F62-AAD1-4D99-8037-4A3CF1D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CE64-6A4E-4A36-A584-D596BC03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6E2A-04C1-4637-8341-036BDAF6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5748-B1EA-474E-9F89-14E19ECE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D53A-A407-4148-8280-EDF959C7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037E-EE0F-43E0-97EC-7D321F5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FBC8-B990-41E4-B850-655F50ED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D65-7CBB-4466-870D-E5E4A35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4D1F-B908-4B7C-983D-66E93386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3635-63D5-4B0F-B4AF-558F2CC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CB7D-68A6-4BC1-A302-188DE7F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A7DBB-0A91-4541-805E-348C726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C501-08AF-4478-A159-11CAEFD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B506-214F-4315-9009-4B9B75BD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2B39F-5B20-4591-B684-3440055B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69C3-670E-4D2A-B14C-C5245A17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EAD2-57DE-4C87-A4B3-9F6B2F6B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F5738-2E6B-44B8-96D6-6ED0204A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349-BEAA-43FA-9894-EC69D9FC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3E037-F996-4FD0-BA32-E98026C6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0A85-B371-42C5-8F22-1CA4551F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33D7-3A49-48BF-8E4C-A1144B40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F112-6983-4661-A24B-E679852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8EC3-1DB4-4F74-9184-D885639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2A54-BF54-4D4B-9204-E6467351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B21C-A558-4B0C-B113-856EEA6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D6A5-A2D4-4142-80DD-B5674D8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C8D7-3CBF-4864-B998-A7B45213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11AB-E23D-42AD-B1DB-37A2F531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AC7-1BB9-4747-B58F-3446AF0F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A32F-F7CD-4F08-92DE-5FBC9AC2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19A7E-B468-46F2-9BB0-A51A8E17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FB71-32C4-4309-89AC-3AD6093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CC888-C2BA-4052-8269-A1523B6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F8D1F-A058-4B76-B7A5-C1D2267C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810C-092F-4123-A4B0-434273D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812D-E586-4F50-AE92-59D0DDCB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3CED-2CF5-420E-BE7F-694E079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5D0CE-0A13-4360-A1DB-0B1A1D0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AE6D-D255-4B35-A698-2A03D0F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CD3-E492-4677-9DE7-15D8C41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B456C-4C9D-4813-B37D-54B7CFF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CE9F-2ECD-4056-9000-B62C7BC0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CEFA-E43B-4D33-91DA-52B81396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D66E-4839-4E86-BCCC-4163B1A9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4DCC-B1CA-480C-9AC3-54BF4625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0B27D-EA1F-4FEA-A33E-17F3E642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A420-A998-4DD2-824E-83D80DEE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F815-3C51-4A18-8127-3E19AB42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ED5C9-A423-4A85-9A9E-57C2C35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4CBB-5A40-42C4-A5B3-026A2C6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AA7-9C26-47CD-BFC4-BCF4618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9B30-C1A2-4859-8D4E-D010BB3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773E8-F024-450A-950A-C007D76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3CF5-2BF6-48DA-B650-E419317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1A09-B495-403D-847F-296B6625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F8B0-51F8-45BD-8453-0F4B1024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CEE0-EA8A-4E88-9885-38E335A1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65A4-E761-425C-BA34-1E4748DF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2729-920E-4B12-8741-8FE1D75A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CA62-D0A5-4F04-8AD7-3B0F127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8695-71B6-4DFE-9BDE-3664D2D2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C3D-2970-41BD-B97D-ED7D248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83175-E16E-4C72-9525-BB5224A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0ED7-C0A5-4B24-908D-C9359311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F872-EC2A-4FB1-9994-A6CF14DA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0DA6F-7050-41C4-97E3-02BDE30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2AFCB-3519-4172-A566-7E0FAA76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9009-AA12-4CEF-B4FE-14AD760A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915AA-2362-4557-9B72-935CB385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E6CEC-CDB3-4E49-96A4-4B1C31AE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2A70D-B082-4E1F-B72E-326B5AA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B8D25-BEC6-44D4-96FF-75460129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0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8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590-214E-48C0-B511-AFECAA582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0" descr="в.png"/>
          <p:cNvPicPr/>
          <p:nvPr/>
        </p:nvPicPr>
        <p:blipFill>
          <a:blip r:embed="rId7"/>
          <a:srcRect l="5938" t="2501" r="4063" b="81254"/>
          <a:stretch/>
        </p:blipFill>
        <p:spPr>
          <a:xfrm>
            <a:off x="1714680" y="4786200"/>
            <a:ext cx="5715000" cy="6429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2" descr=",fбачки.png"/>
          <p:cNvPicPr/>
          <p:nvPr/>
        </p:nvPicPr>
        <p:blipFill>
          <a:blip r:embed="rId8"/>
          <a:srcRect l="17187" t="45002" r="65002" b="32504"/>
          <a:stretch/>
        </p:blipFill>
        <p:spPr>
          <a:xfrm rot="20262000">
            <a:off x="6694200" y="-4320"/>
            <a:ext cx="1357200" cy="12859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9" descr="р1.png"/>
          <p:cNvPicPr/>
          <p:nvPr/>
        </p:nvPicPr>
        <p:blipFill>
          <a:blip r:embed="rId9"/>
          <a:stretch/>
        </p:blipFill>
        <p:spPr>
          <a:xfrm rot="19517400">
            <a:off x="285480" y="5500440"/>
            <a:ext cx="1260360" cy="13572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4A6-96B2-446A-AA53-A0BDDB6A3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0" descr="р.png"/>
          <p:cNvPicPr/>
          <p:nvPr/>
        </p:nvPicPr>
        <p:blipFill>
          <a:blip r:embed="rId7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075-1A0D-49AA-B370-C8D6BAD2D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р.png"/>
          <p:cNvPicPr/>
          <p:nvPr/>
        </p:nvPicPr>
        <p:blipFill>
          <a:blip r:embed="rId7"/>
          <a:stretch/>
        </p:blipFill>
        <p:spPr>
          <a:xfrm>
            <a:off x="6929280" y="5072040"/>
            <a:ext cx="188136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к.png"/>
          <p:cNvPicPr/>
          <p:nvPr/>
        </p:nvPicPr>
        <p:blipFill>
          <a:blip r:embed="rId8"/>
          <a:stretch/>
        </p:blipFill>
        <p:spPr>
          <a:xfrm>
            <a:off x="1143000" y="2000160"/>
            <a:ext cx="685800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,fбачки.png"/>
          <p:cNvPicPr/>
          <p:nvPr/>
        </p:nvPicPr>
        <p:blipFill>
          <a:blip r:embed="rId9"/>
          <a:stretch/>
        </p:blipFill>
        <p:spPr>
          <a:xfrm rot="19900200">
            <a:off x="6786360" y="57168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ром.png"/>
          <p:cNvPicPr/>
          <p:nvPr/>
        </p:nvPicPr>
        <p:blipFill>
          <a:blip r:embed="rId10"/>
          <a:stretch/>
        </p:blipFill>
        <p:spPr>
          <a:xfrm>
            <a:off x="214200" y="4071960"/>
            <a:ext cx="2368800" cy="2647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,fбачки.png"/>
          <p:cNvPicPr/>
          <p:nvPr/>
        </p:nvPicPr>
        <p:blipFill>
          <a:blip r:embed="rId11"/>
          <a:stretch/>
        </p:blipFill>
        <p:spPr>
          <a:xfrm>
            <a:off x="1357200" y="3857760"/>
            <a:ext cx="1357560" cy="1214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C62-0B8B-4AEE-8AE9-2887A4460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р1.png"/>
          <p:cNvPicPr/>
          <p:nvPr/>
        </p:nvPicPr>
        <p:blipFill>
          <a:blip r:embed="rId6"/>
          <a:stretch/>
        </p:blipFill>
        <p:spPr>
          <a:xfrm>
            <a:off x="285840" y="5857920"/>
            <a:ext cx="928440" cy="1000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р1.png"/>
          <p:cNvPicPr/>
          <p:nvPr/>
        </p:nvPicPr>
        <p:blipFill>
          <a:blip r:embed="rId7"/>
          <a:stretch/>
        </p:blipFill>
        <p:spPr>
          <a:xfrm>
            <a:off x="1500120" y="6165720"/>
            <a:ext cx="642960" cy="692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р1.png"/>
          <p:cNvPicPr/>
          <p:nvPr/>
        </p:nvPicPr>
        <p:blipFill>
          <a:blip r:embed="rId8"/>
          <a:stretch/>
        </p:blipFill>
        <p:spPr>
          <a:xfrm>
            <a:off x="142920" y="5143680"/>
            <a:ext cx="530280" cy="571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EEA-D45E-4C93-A774-77ECA5B66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к.png"/>
          <p:cNvPicPr/>
          <p:nvPr/>
        </p:nvPicPr>
        <p:blipFill>
          <a:blip r:embed="rId7"/>
          <a:stretch/>
        </p:blipFill>
        <p:spPr>
          <a:xfrm>
            <a:off x="642960" y="4357800"/>
            <a:ext cx="8001000" cy="1428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1" descr="ром.png"/>
          <p:cNvPicPr/>
          <p:nvPr/>
        </p:nvPicPr>
        <p:blipFill>
          <a:blip r:embed="rId8"/>
          <a:stretch/>
        </p:blipFill>
        <p:spPr>
          <a:xfrm>
            <a:off x="6500880" y="3929040"/>
            <a:ext cx="252396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2" descr="р1.png"/>
          <p:cNvPicPr/>
          <p:nvPr/>
        </p:nvPicPr>
        <p:blipFill>
          <a:blip r:embed="rId9"/>
          <a:stretch/>
        </p:blipFill>
        <p:spPr>
          <a:xfrm>
            <a:off x="214200" y="557208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,fбачки.png"/>
          <p:cNvPicPr/>
          <p:nvPr/>
        </p:nvPicPr>
        <p:blipFill>
          <a:blip r:embed="rId10"/>
          <a:stretch/>
        </p:blipFill>
        <p:spPr>
          <a:xfrm>
            <a:off x="7286760" y="478620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,fбачки.png"/>
          <p:cNvPicPr/>
          <p:nvPr/>
        </p:nvPicPr>
        <p:blipFill>
          <a:blip r:embed="rId11"/>
          <a:stretch/>
        </p:blipFill>
        <p:spPr>
          <a:xfrm rot="1701000">
            <a:off x="1110960" y="660240"/>
            <a:ext cx="928440" cy="1000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,fбачки.png"/>
          <p:cNvPicPr/>
          <p:nvPr/>
        </p:nvPicPr>
        <p:blipFill>
          <a:blip r:embed="rId12"/>
          <a:stretch/>
        </p:blipFill>
        <p:spPr>
          <a:xfrm rot="20148600">
            <a:off x="7701120" y="2280960"/>
            <a:ext cx="1207800" cy="8776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6" descr=",fбачки.png"/>
          <p:cNvPicPr/>
          <p:nvPr/>
        </p:nvPicPr>
        <p:blipFill>
          <a:blip r:embed="rId13"/>
          <a:stretch/>
        </p:blipFill>
        <p:spPr>
          <a:xfrm>
            <a:off x="500040" y="4857840"/>
            <a:ext cx="1071720" cy="1428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2B8-34E9-4F5C-B07D-99C112D0F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р1.png"/>
          <p:cNvPicPr/>
          <p:nvPr/>
        </p:nvPicPr>
        <p:blipFill>
          <a:blip r:embed="rId6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4B7-D78A-40EC-98CA-CC2381004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9" descr="р1.png"/>
          <p:cNvPicPr/>
          <p:nvPr/>
        </p:nvPicPr>
        <p:blipFill>
          <a:blip r:embed="rId6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7C3-2EB0-4263-BA28-02B44E3E8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р1.png"/>
          <p:cNvPicPr/>
          <p:nvPr/>
        </p:nvPicPr>
        <p:blipFill>
          <a:blip r:embed="rId6"/>
          <a:stretch/>
        </p:blipFill>
        <p:spPr>
          <a:xfrm rot="15733200">
            <a:off x="8050320" y="6325560"/>
            <a:ext cx="479160" cy="5173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р1.png"/>
          <p:cNvPicPr/>
          <p:nvPr/>
        </p:nvPicPr>
        <p:blipFill>
          <a:blip r:embed="rId7"/>
          <a:stretch/>
        </p:blipFill>
        <p:spPr>
          <a:xfrm rot="15811800">
            <a:off x="8360280" y="4943520"/>
            <a:ext cx="803160" cy="8650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1" descr="р1.png"/>
          <p:cNvPicPr/>
          <p:nvPr/>
        </p:nvPicPr>
        <p:blipFill>
          <a:blip r:embed="rId8"/>
          <a:stretch/>
        </p:blipFill>
        <p:spPr>
          <a:xfrm rot="18241200">
            <a:off x="7369920" y="6121800"/>
            <a:ext cx="684000" cy="7365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2" descr="р.png"/>
          <p:cNvPicPr/>
          <p:nvPr/>
        </p:nvPicPr>
        <p:blipFill>
          <a:blip r:embed="rId9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3" descr=",fбачки.png"/>
          <p:cNvPicPr/>
          <p:nvPr/>
        </p:nvPicPr>
        <p:blipFill>
          <a:blip r:embed="rId10"/>
          <a:stretch/>
        </p:blipFill>
        <p:spPr>
          <a:xfrm>
            <a:off x="7215120" y="5500800"/>
            <a:ext cx="743040" cy="1143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7AB-6BE3-496A-AD35-84149A267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0" descr="ром.png"/>
          <p:cNvPicPr/>
          <p:nvPr/>
        </p:nvPicPr>
        <p:blipFill>
          <a:blip r:embed="rId7"/>
          <a:stretch/>
        </p:blipFill>
        <p:spPr>
          <a:xfrm rot="20690400">
            <a:off x="214200" y="4500360"/>
            <a:ext cx="1857600" cy="2076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1" descr=",fбачки.png"/>
          <p:cNvPicPr/>
          <p:nvPr/>
        </p:nvPicPr>
        <p:blipFill>
          <a:blip r:embed="rId8"/>
          <a:stretch/>
        </p:blipFill>
        <p:spPr>
          <a:xfrm rot="18672000">
            <a:off x="7472880" y="366840"/>
            <a:ext cx="1428840" cy="9954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2" descr=",fбачки.png"/>
          <p:cNvPicPr/>
          <p:nvPr/>
        </p:nvPicPr>
        <p:blipFill>
          <a:blip r:embed="rId9"/>
          <a:stretch/>
        </p:blipFill>
        <p:spPr>
          <a:xfrm>
            <a:off x="214200" y="3500280"/>
            <a:ext cx="790560" cy="85752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,fбачки.png"/>
          <p:cNvPicPr/>
          <p:nvPr/>
        </p:nvPicPr>
        <p:blipFill>
          <a:blip r:embed="rId10"/>
          <a:stretch/>
        </p:blipFill>
        <p:spPr>
          <a:xfrm>
            <a:off x="1714680" y="5214960"/>
            <a:ext cx="958680" cy="1214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93F0-792F-46EF-9625-CB4E4B56C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0" descr="в.png"/>
          <p:cNvPicPr/>
          <p:nvPr/>
        </p:nvPicPr>
        <p:blipFill>
          <a:blip r:embed="rId7"/>
          <a:srcRect l="5938" t="2501" r="4063" b="81254"/>
          <a:stretch/>
        </p:blipFill>
        <p:spPr>
          <a:xfrm>
            <a:off x="285840" y="214200"/>
            <a:ext cx="3214440" cy="1285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1" descr="р.png"/>
          <p:cNvPicPr/>
          <p:nvPr/>
        </p:nvPicPr>
        <p:blipFill>
          <a:blip r:embed="rId8"/>
          <a:stretch/>
        </p:blipFill>
        <p:spPr>
          <a:xfrm rot="2554800">
            <a:off x="250920" y="5270400"/>
            <a:ext cx="1531800" cy="1338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F2E-8881-4859-83D3-1BA436653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4880" y="2139480"/>
            <a:ext cx="777240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Kursiv95"/>
              </a:rPr>
              <a:t>Автоматизация звуков</a:t>
            </a:r>
            <a:br>
              <a:rPr sz="3600"/>
            </a:br>
            <a:r>
              <a:rPr b="0" i="1" lang="ru-RU" sz="2400" spc="-1" strike="noStrike">
                <a:solidFill>
                  <a:srgbClr val="000000"/>
                </a:solidFill>
                <a:latin typeface="Kursiv95"/>
              </a:rPr>
              <a:t>(тренажёр-шаблон «Баскетбол»)</a:t>
            </a:r>
            <a:endParaRPr b="0" lang="en-US" sz="2400" spc="-1" strike="noStrike">
              <a:solidFill>
                <a:srgbClr val="000000"/>
              </a:solidFill>
              <a:latin typeface="Kursiv9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28" name="Заголовок 6"/>
          <p:cNvSpPr/>
          <p:nvPr/>
        </p:nvSpPr>
        <p:spPr>
          <a:xfrm>
            <a:off x="2882880" y="3429000"/>
            <a:ext cx="977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31" name="Заголовок 6"/>
          <p:cNvSpPr/>
          <p:nvPr/>
        </p:nvSpPr>
        <p:spPr>
          <a:xfrm>
            <a:off x="6083280" y="3429000"/>
            <a:ext cx="11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4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2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30" dur="1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7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38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38" name="Заголовок 6"/>
          <p:cNvSpPr/>
          <p:nvPr/>
        </p:nvSpPr>
        <p:spPr>
          <a:xfrm>
            <a:off x="2882880" y="3429000"/>
            <a:ext cx="977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41" name="Заголовок 6"/>
          <p:cNvSpPr/>
          <p:nvPr/>
        </p:nvSpPr>
        <p:spPr>
          <a:xfrm>
            <a:off x="6083280" y="3429000"/>
            <a:ext cx="11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51" dur="1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59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6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67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75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83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48" name="Заголовок 6"/>
          <p:cNvSpPr/>
          <p:nvPr/>
        </p:nvSpPr>
        <p:spPr>
          <a:xfrm>
            <a:off x="2882880" y="3429000"/>
            <a:ext cx="1022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51" name="Заголовок 6"/>
          <p:cNvSpPr/>
          <p:nvPr/>
        </p:nvSpPr>
        <p:spPr>
          <a:xfrm>
            <a:off x="6083280" y="3429000"/>
            <a:ext cx="11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96" dur="1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04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112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120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27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128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58" name="Заголовок 6"/>
          <p:cNvSpPr/>
          <p:nvPr/>
        </p:nvSpPr>
        <p:spPr>
          <a:xfrm>
            <a:off x="2857680" y="3429000"/>
            <a:ext cx="1002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61" name="Заголовок 6"/>
          <p:cNvSpPr/>
          <p:nvPr/>
        </p:nvSpPr>
        <p:spPr>
          <a:xfrm>
            <a:off x="6143760" y="3429000"/>
            <a:ext cx="1122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141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49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6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157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4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165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7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173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7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Рисунок 4" descr="мячи.jpg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6" descr="мячи.jpg2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7" descr="мячи.jpg2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8" descr="мячи.jpg2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68" name="Заголовок 6"/>
          <p:cNvSpPr/>
          <p:nvPr/>
        </p:nvSpPr>
        <p:spPr>
          <a:xfrm>
            <a:off x="2882880" y="3429000"/>
            <a:ext cx="1022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12" descr="мячи.jpg2.jpg"/>
          <p:cNvPicPr/>
          <p:nvPr/>
        </p:nvPicPr>
        <p:blipFill>
          <a:blip r:embed="rId6">
            <a:lum bright="-10000"/>
          </a:blip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71" name="Заголовок 6"/>
          <p:cNvSpPr/>
          <p:nvPr/>
        </p:nvSpPr>
        <p:spPr>
          <a:xfrm>
            <a:off x="6215040" y="3429000"/>
            <a:ext cx="1112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186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94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202" dur="1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17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218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2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1"/>
          <p:cNvSpPr/>
          <p:nvPr/>
        </p:nvSpPr>
        <p:spPr>
          <a:xfrm>
            <a:off x="142920" y="1857240"/>
            <a:ext cx="90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avuch.info/metodichka/hitrosti/pictures/-tema-4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allday.ru/uploads/posts/2009-01/1233326678_shutterstock22091320conxg2.jpg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jc-capital.ru/img/backboard_accessories/macgregor/v1_b.jpg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ursiv95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Kursiv95"/>
              </a:rPr>
              <a:t>Источники Интернет-ресурсов</a:t>
            </a:r>
            <a:endParaRPr b="0" lang="en-US" sz="4000" spc="-1" strike="noStrike">
              <a:solidFill>
                <a:srgbClr val="000000"/>
              </a:solidFill>
              <a:latin typeface="Kursiv95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7:24:02Z</dcterms:created>
  <dc:creator>Татьяна</dc:creator>
  <dc:description/>
  <dc:language>en-US</dc:language>
  <cp:lastModifiedBy>user</cp:lastModifiedBy>
  <dcterms:modified xsi:type="dcterms:W3CDTF">2023-03-14T01:47:45Z</dcterms:modified>
  <cp:revision>22</cp:revision>
  <dc:subject/>
  <dc:title>Слайд 1</dc:title>
</cp:coreProperties>
</file>