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.wmf" ContentType="image/x-wmf"/>
  <Override PartName="/ppt/media/image56.gif" ContentType="image/gif"/>
  <Override PartName="/ppt/media/image4.wmf" ContentType="image/x-wmf"/>
  <Override PartName="/ppt/media/image9.gif" ContentType="image/gif"/>
  <Override PartName="/ppt/media/image3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7.gif" ContentType="image/gif"/>
  <Override PartName="/ppt/media/image36.gif" ContentType="image/gif"/>
  <Override PartName="/ppt/media/image32.wmf" ContentType="image/x-wmf"/>
  <Override PartName="/ppt/media/image2.wmf" ContentType="image/x-wmf"/>
  <Override PartName="/ppt/media/image54.gif" ContentType="image/gif"/>
  <Override PartName="/ppt/media/image47.png" ContentType="image/png"/>
  <Override PartName="/ppt/media/image1.jpeg" ContentType="image/jpeg"/>
  <Override PartName="/ppt/media/image38.gif" ContentType="image/gif"/>
  <Override PartName="/ppt/media/image34.wmf" ContentType="image/x-wmf"/>
  <Override PartName="/ppt/media/image8.gif" ContentType="image/gif"/>
  <Override PartName="/ppt/media/image27.wmf" ContentType="image/x-wmf"/>
  <Override PartName="/ppt/media/image19.png" ContentType="image/png"/>
  <Override PartName="/ppt/media/image61.png" ContentType="image/png"/>
  <Override PartName="/ppt/media/image26.gif" ContentType="image/gif"/>
  <Override PartName="/ppt/media/image21.gif" ContentType="image/gif"/>
  <Override PartName="/ppt/media/image22.gif" ContentType="image/gif"/>
  <Override PartName="/ppt/media/image59.gif" ContentType="image/gif"/>
  <Override PartName="/ppt/media/image18.png" ContentType="image/png"/>
  <Override PartName="/ppt/media/image25.gif" ContentType="image/gif"/>
  <Override PartName="/ppt/media/image62.gif" ContentType="image/gif"/>
  <Override PartName="/ppt/media/image24.gif" ContentType="image/gif"/>
  <Override PartName="/ppt/media/image20.wmf" ContentType="image/x-wmf"/>
  <Override PartName="/ppt/media/image60.gif" ContentType="image/gif"/>
  <Override PartName="/ppt/media/image63.png" ContentType="image/png"/>
  <Override PartName="/ppt/media/image23.gif" ContentType="image/gif"/>
  <Override PartName="/ppt/media/image29.wmf" ContentType="image/x-wmf"/>
  <Override PartName="/ppt/media/image58.gif" ContentType="image/gif"/>
  <Override PartName="/ppt/media/image6.wmf" ContentType="image/x-wmf"/>
  <Override PartName="/ppt/media/image15.png" ContentType="image/png"/>
  <Override PartName="/ppt/media/image12.gif" ContentType="image/gif"/>
  <Override PartName="/ppt/media/image49.gif" ContentType="image/gif"/>
  <Override PartName="/ppt/media/image16.png" ContentType="image/png"/>
  <Override PartName="/ppt/media/image13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48.gif" ContentType="image/gif"/>
  <Override PartName="/ppt/media/image30.wmf" ContentType="image/x-wmf"/>
  <Override PartName="/ppt/media/image31.wmf" ContentType="image/x-wmf"/>
  <Override PartName="/ppt/media/image37.wmf" ContentType="image/x-wmf"/>
  <Override PartName="/ppt/media/image17.png" ContentType="image/png"/>
  <Override PartName="/ppt/media/image39.jpeg" ContentType="image/jpeg"/>
  <Override PartName="/ppt/media/image43.gif" ContentType="image/gif"/>
  <Override PartName="/ppt/media/image41.gif" ContentType="image/gif"/>
  <Override PartName="/ppt/media/image44.png" ContentType="image/png"/>
  <Override PartName="/ppt/media/image51.gif" ContentType="image/gif"/>
  <Override PartName="/ppt/media/image42.gif" ContentType="image/gif"/>
  <Override PartName="/ppt/media/image45.png" ContentType="image/png"/>
  <Override PartName="/ppt/media/image52.gif" ContentType="image/gif"/>
  <Override PartName="/ppt/media/image46.gif" ContentType="image/gif"/>
  <Override PartName="/ppt/media/image50.png" ContentType="image/png"/>
  <Override PartName="/ppt/media/image53.gif" ContentType="image/gif"/>
  <Override PartName="/ppt/media/image40.gif" ContentType="image/gif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0AB-EAC1-4258-BC91-761EC4FA2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F076-2119-4837-9A7C-CC68BFE9F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AA7-8093-4C0A-82E5-9828457C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F4D-71B2-471C-867D-0AE520AA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861-C807-49F4-9903-D27B06C6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737-3A53-4A5B-BAB5-5D0FDD5A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2E2-5469-442A-AD3F-46D8A91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9B5-C10B-4736-820E-0E497F5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86C-20F6-4436-83FB-AEFAEEA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F6D-8E58-4A02-9883-A028B6D1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F52-99E1-4AA6-9897-E4F7BE49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BBD-550E-491E-8157-61F605C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4AC-22C9-4DC7-8417-C4DECB2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633-7F8C-4299-8CFA-292876D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7DA3-F0A6-4497-88BE-64D50948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" Target="slide5.xml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slide" Target="slide26.xml"/><Relationship Id="rId7" Type="http://schemas.openxmlformats.org/officeDocument/2006/relationships/slide" Target="slide24.xml"/><Relationship Id="rId8" Type="http://schemas.openxmlformats.org/officeDocument/2006/relationships/slide" Target="slide23.xml"/><Relationship Id="rId9" Type="http://schemas.openxmlformats.org/officeDocument/2006/relationships/slide" Target="slide27.xml"/><Relationship Id="rId10" Type="http://schemas.openxmlformats.org/officeDocument/2006/relationships/slide" Target="slide25.xml"/><Relationship Id="rId11" Type="http://schemas.openxmlformats.org/officeDocument/2006/relationships/image" Target="../media/image53.gif"/><Relationship Id="rId12" Type="http://schemas.openxmlformats.org/officeDocument/2006/relationships/slide" Target="slide28.xm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AUTOMECH.WMF"/>
          <p:cNvPicPr/>
          <p:nvPr/>
        </p:nvPicPr>
        <p:blipFill>
          <a:blip r:embed="rId2"/>
          <a:stretch/>
        </p:blipFill>
        <p:spPr>
          <a:xfrm>
            <a:off x="7162920" y="533520"/>
            <a:ext cx="1508040" cy="1525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CNSTWRKR.WMF"/>
          <p:cNvPicPr/>
          <p:nvPr/>
        </p:nvPicPr>
        <p:blipFill>
          <a:blip r:embed="rId3"/>
          <a:stretch/>
        </p:blipFill>
        <p:spPr>
          <a:xfrm>
            <a:off x="7086600" y="3352680"/>
            <a:ext cx="1658880" cy="169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COURIER.WMF"/>
          <p:cNvPicPr/>
          <p:nvPr/>
        </p:nvPicPr>
        <p:blipFill>
          <a:blip r:embed="rId4"/>
          <a:stretch/>
        </p:blipFill>
        <p:spPr>
          <a:xfrm>
            <a:off x="609480" y="533520"/>
            <a:ext cx="1447920" cy="1612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ELTRCIAN.WMF"/>
          <p:cNvPicPr/>
          <p:nvPr/>
        </p:nvPicPr>
        <p:blipFill>
          <a:blip r:embed="rId5"/>
          <a:stretch/>
        </p:blipFill>
        <p:spPr>
          <a:xfrm>
            <a:off x="533520" y="3505320"/>
            <a:ext cx="170316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WELDER.WMF"/>
          <p:cNvPicPr/>
          <p:nvPr/>
        </p:nvPicPr>
        <p:blipFill>
          <a:blip r:embed="rId6"/>
          <a:stretch/>
        </p:blipFill>
        <p:spPr>
          <a:xfrm>
            <a:off x="3809880" y="4267080"/>
            <a:ext cx="1611360" cy="1808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057400" y="7621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 </a:t>
            </a: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в моей профе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514600" y="28954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для учащихс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133720" y="1066680"/>
            <a:ext cx="586728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тизатор, рессоры, трансмиссия, карбюратор, сепаратор, электробензонасос, поршень, цилиндр, двигатель, аккумулятор, кузов, маховик, топливопривод, колесо, 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125.wmf"/>
          <p:cNvPicPr/>
          <p:nvPr/>
        </p:nvPicPr>
        <p:blipFill>
          <a:blip r:embed="rId2"/>
          <a:stretch/>
        </p:blipFill>
        <p:spPr>
          <a:xfrm>
            <a:off x="5486400" y="3809880"/>
            <a:ext cx="2711520" cy="2670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70.wm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209376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362320" y="1295280"/>
            <a:ext cx="464796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товка, маска, кратер, горелка, наплавка, огарок, свариваемость, сварка, мундштук, прожог, провар, баллон, кромка, электрод, флю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304.wmf"/>
          <p:cNvPicPr/>
          <p:nvPr/>
        </p:nvPicPr>
        <p:blipFill>
          <a:blip r:embed="rId2"/>
          <a:stretch/>
        </p:blipFill>
        <p:spPr>
          <a:xfrm>
            <a:off x="1219320" y="228600"/>
            <a:ext cx="2057400" cy="330660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возврат 4">
            <a:hlinkClick r:id="rId3" action="ppaction://hlinksldjump"/>
          </p:cNvPr>
          <p:cNvSpPr/>
          <p:nvPr/>
        </p:nvSpPr>
        <p:spPr>
          <a:xfrm>
            <a:off x="800100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1-251.gif"/>
          <p:cNvPicPr/>
          <p:nvPr/>
        </p:nvPicPr>
        <p:blipFill>
          <a:blip r:embed="rId4"/>
          <a:stretch/>
        </p:blipFill>
        <p:spPr>
          <a:xfrm>
            <a:off x="56386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4600" y="685800"/>
            <a:ext cx="4572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 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Орфографическая разм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PENPAPER.WMF"/>
          <p:cNvPicPr/>
          <p:nvPr/>
        </p:nvPicPr>
        <p:blipFill>
          <a:blip r:embed="rId2"/>
          <a:stretch/>
        </p:blipFill>
        <p:spPr>
          <a:xfrm rot="19775400">
            <a:off x="1271160" y="3389040"/>
            <a:ext cx="2693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b42.gif"/>
          <p:cNvPicPr/>
          <p:nvPr/>
        </p:nvPicPr>
        <p:blipFill>
          <a:blip r:embed="rId2"/>
          <a:stretch/>
        </p:blipFill>
        <p:spPr>
          <a:xfrm>
            <a:off x="380880" y="3886200"/>
            <a:ext cx="3090960" cy="2055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svarshik.jpg"/>
          <p:cNvPicPr/>
          <p:nvPr/>
        </p:nvPicPr>
        <p:blipFill>
          <a:blip r:embed="rId3"/>
          <a:stretch/>
        </p:blipFill>
        <p:spPr>
          <a:xfrm>
            <a:off x="6400800" y="4343400"/>
            <a:ext cx="2438280" cy="2048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constr28.gif"/>
          <p:cNvPicPr/>
          <p:nvPr/>
        </p:nvPicPr>
        <p:blipFill>
          <a:blip r:embed="rId4"/>
          <a:stretch/>
        </p:blipFill>
        <p:spPr>
          <a:xfrm>
            <a:off x="6781680" y="304920"/>
            <a:ext cx="1914480" cy="3392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constr34.gif"/>
          <p:cNvPicPr/>
          <p:nvPr/>
        </p:nvPicPr>
        <p:blipFill>
          <a:blip r:embed="rId5"/>
          <a:stretch/>
        </p:blipFill>
        <p:spPr>
          <a:xfrm>
            <a:off x="380880" y="304920"/>
            <a:ext cx="1828800" cy="3011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car_running_md_wht.gif"/>
          <p:cNvPicPr/>
          <p:nvPr/>
        </p:nvPicPr>
        <p:blipFill>
          <a:blip r:embed="rId6"/>
          <a:stretch/>
        </p:blipFill>
        <p:spPr>
          <a:xfrm>
            <a:off x="3276720" y="2666880"/>
            <a:ext cx="375588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constr52.gif"/>
          <p:cNvPicPr/>
          <p:nvPr/>
        </p:nvPicPr>
        <p:blipFill>
          <a:blip r:embed="rId7"/>
          <a:stretch/>
        </p:blipFill>
        <p:spPr>
          <a:xfrm>
            <a:off x="1905120" y="304920"/>
            <a:ext cx="1600200" cy="275904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право 8"/>
          <p:cNvSpPr/>
          <p:nvPr/>
        </p:nvSpPr>
        <p:spPr>
          <a:xfrm>
            <a:off x="5410080" y="457200"/>
            <a:ext cx="1524240" cy="10666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9"/>
          <p:cNvSpPr/>
          <p:nvPr/>
        </p:nvSpPr>
        <p:spPr>
          <a:xfrm>
            <a:off x="5181480" y="5410080"/>
            <a:ext cx="1524240" cy="10670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9" action="ppaction://hlinksldjump"/>
              </a:rPr>
              <a:t>34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лево 14"/>
          <p:cNvSpPr/>
          <p:nvPr/>
        </p:nvSpPr>
        <p:spPr>
          <a:xfrm>
            <a:off x="3352680" y="1219320"/>
            <a:ext cx="1524240" cy="10666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15"/>
          <p:cNvSpPr/>
          <p:nvPr/>
        </p:nvSpPr>
        <p:spPr>
          <a:xfrm>
            <a:off x="5715000" y="1905120"/>
            <a:ext cx="1219320" cy="14475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1" action="ppaction://hlinksldjump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лево 16"/>
          <p:cNvSpPr/>
          <p:nvPr/>
        </p:nvSpPr>
        <p:spPr>
          <a:xfrm>
            <a:off x="3048120" y="4572000"/>
            <a:ext cx="1523880" cy="11430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2" action="ppaction://hlinksldjump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возврат 13">
            <a:hlinkClick r:id="rId13" action="ppaction://hlinksldjump"/>
          </p:cNvPr>
          <p:cNvSpPr/>
          <p:nvPr/>
        </p:nvSpPr>
        <p:spPr>
          <a:xfrm>
            <a:off x="1522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8eb4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556200"/>
            <a:ext cx="6324480" cy="48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4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 р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, дро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йный 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, электр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вая сварка, б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ф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р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ы, к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иент наплавки, бе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жекторная 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ка, му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 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ки, про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, 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вая смес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2" descr="88297.png"/>
          <p:cNvPicPr/>
          <p:nvPr/>
        </p:nvPicPr>
        <p:blipFill>
          <a:blip r:embed="rId2"/>
          <a:stretch/>
        </p:blipFill>
        <p:spPr>
          <a:xfrm>
            <a:off x="7010280" y="4267080"/>
            <a:ext cx="1962360" cy="213372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676520" y="552240"/>
            <a:ext cx="57150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яторная батарея, воздух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ели, дви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,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чатый вал,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, радиус кри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, система ох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ния,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юратор, свеча з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ия, гид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" descr="88297.png"/>
          <p:cNvPicPr/>
          <p:nvPr/>
        </p:nvPicPr>
        <p:blipFill>
          <a:blip r:embed="rId2"/>
          <a:stretch/>
        </p:blipFill>
        <p:spPr>
          <a:xfrm>
            <a:off x="6629400" y="43434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95280" y="553320"/>
            <a:ext cx="6934320" cy="43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тор, элект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ка, за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яющие 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ки, др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, автоматические пре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ели, лю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тные лампы, штеп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ая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ка, электрический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кт, 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иниевая о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чка, учётн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льный щ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88297.png"/>
          <p:cNvPicPr/>
          <p:nvPr/>
        </p:nvPicPr>
        <p:blipFill>
          <a:blip r:embed="rId2"/>
          <a:stretch/>
        </p:blipFill>
        <p:spPr>
          <a:xfrm>
            <a:off x="6858000" y="45720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возврат 4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295280" y="550800"/>
            <a:ext cx="66294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ылитель, траф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, за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тель, луз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, фа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, ш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ёвка, флейц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е, гип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, мел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сионная о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чная ш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ё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88297.png"/>
          <p:cNvPicPr/>
          <p:nvPr/>
        </p:nvPicPr>
        <p:blipFill>
          <a:blip r:embed="rId2"/>
          <a:stretch/>
        </p:blipFill>
        <p:spPr>
          <a:xfrm>
            <a:off x="6248520" y="4191120"/>
            <a:ext cx="196200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371600" y="327960"/>
            <a:ext cx="6477120" cy="50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тративно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риальное  деление, се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лка, экспре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, почтовая кар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, 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, ме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е почтовые отп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ния, прямой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йнер, ку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ская почта,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дарный штем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88297.png"/>
          <p:cNvPicPr/>
          <p:nvPr/>
        </p:nvPicPr>
        <p:blipFill>
          <a:blip r:embed="rId2"/>
          <a:stretch/>
        </p:blipFill>
        <p:spPr>
          <a:xfrm>
            <a:off x="6781680" y="4267080"/>
            <a:ext cx="1962360" cy="213372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057400" y="304920"/>
            <a:ext cx="4800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 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олков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слова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56505.png"/>
          <p:cNvPicPr/>
          <p:nvPr/>
        </p:nvPicPr>
        <p:blipFill>
          <a:blip r:embed="rId2"/>
          <a:stretch/>
        </p:blipFill>
        <p:spPr>
          <a:xfrm>
            <a:off x="5791320" y="2514600"/>
            <a:ext cx="2286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19520" y="457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Правила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447920" y="1219320"/>
            <a:ext cx="739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В игре 5 ту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Каждый правильный ответ оценивается в 1 бал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Побеждает команда, набравшая большее  количество бал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7.gif"/>
          <p:cNvPicPr/>
          <p:nvPr/>
        </p:nvPicPr>
        <p:blipFill>
          <a:blip r:embed="rId2"/>
          <a:stretch/>
        </p:blipFill>
        <p:spPr>
          <a:xfrm>
            <a:off x="3733920" y="4267080"/>
            <a:ext cx="2133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295280" y="303120"/>
            <a:ext cx="7391520" cy="63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ж, 2к, 3а, 4и, 5б, 6д, 7в, 8г, 9з, 10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4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е, 2в, 3к, 4а, 5з, 6и, 7б, 8г, 9д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з, 2д, 3к, 4е, 5а, 6в, 7б, 8и, 9г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, 2к, 3а, 4и, 5б, 6з, 7в, 8д, 9е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, 2д, 3к, 4а, 5з, 6и, 7б, 8в, 9ж, 10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AG00595_.GIF"/>
          <p:cNvPicPr/>
          <p:nvPr/>
        </p:nvPicPr>
        <p:blipFill>
          <a:blip r:embed="rId2"/>
          <a:stretch/>
        </p:blipFill>
        <p:spPr>
          <a:xfrm>
            <a:off x="228600" y="457200"/>
            <a:ext cx="1539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3716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 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Аббревиату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zvuki.gif"/>
          <p:cNvPicPr/>
          <p:nvPr/>
        </p:nvPicPr>
        <p:blipFill>
          <a:blip r:embed="rId2"/>
          <a:stretch/>
        </p:blipFill>
        <p:spPr>
          <a:xfrm>
            <a:off x="2895480" y="3886200"/>
            <a:ext cx="2190960" cy="2263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d007.gif"/>
          <p:cNvPicPr/>
          <p:nvPr/>
        </p:nvPicPr>
        <p:blipFill>
          <a:blip r:embed="rId3"/>
          <a:stretch/>
        </p:blipFill>
        <p:spPr>
          <a:xfrm>
            <a:off x="4724280" y="4073400"/>
            <a:ext cx="19051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b75.gif"/>
          <p:cNvPicPr/>
          <p:nvPr/>
        </p:nvPicPr>
        <p:blipFill>
          <a:blip r:embed="rId2"/>
          <a:stretch/>
        </p:blipFill>
        <p:spPr>
          <a:xfrm>
            <a:off x="6400800" y="350532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welder1.gif"/>
          <p:cNvPicPr/>
          <p:nvPr/>
        </p:nvPicPr>
        <p:blipFill>
          <a:blip r:embed="rId3"/>
          <a:stretch/>
        </p:blipFill>
        <p:spPr>
          <a:xfrm>
            <a:off x="762120" y="3352680"/>
            <a:ext cx="1523880" cy="21765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constr33.gif"/>
          <p:cNvPicPr/>
          <p:nvPr/>
        </p:nvPicPr>
        <p:blipFill>
          <a:blip r:embed="rId4"/>
          <a:stretch/>
        </p:blipFill>
        <p:spPr>
          <a:xfrm>
            <a:off x="6248520" y="3049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shinin_red_sports_car.gif"/>
          <p:cNvPicPr/>
          <p:nvPr/>
        </p:nvPicPr>
        <p:blipFill>
          <a:blip r:embed="rId5"/>
          <a:stretch/>
        </p:blipFill>
        <p:spPr>
          <a:xfrm>
            <a:off x="3124080" y="1981080"/>
            <a:ext cx="3370320" cy="175284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11"/>
          <p:cNvSpPr/>
          <p:nvPr/>
        </p:nvSpPr>
        <p:spPr>
          <a:xfrm>
            <a:off x="1371600" y="2209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6" action="ppaction://hlinksldjump"/>
              </a:rPr>
              <a:t>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3"/>
          <p:cNvSpPr/>
          <p:nvPr/>
        </p:nvSpPr>
        <p:spPr>
          <a:xfrm>
            <a:off x="1295280" y="5715000"/>
            <a:ext cx="152424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7" action="ppaction://hlinksldjump"/>
              </a:rPr>
              <a:t>34.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14"/>
          <p:cNvSpPr/>
          <p:nvPr/>
        </p:nvSpPr>
        <p:spPr>
          <a:xfrm>
            <a:off x="6553080" y="2209680"/>
            <a:ext cx="152424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15"/>
          <p:cNvSpPr/>
          <p:nvPr/>
        </p:nvSpPr>
        <p:spPr>
          <a:xfrm>
            <a:off x="3962520" y="37339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9" action="ppaction://hlinksldjump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16"/>
          <p:cNvSpPr/>
          <p:nvPr/>
        </p:nvSpPr>
        <p:spPr>
          <a:xfrm>
            <a:off x="7010280" y="5715000"/>
            <a:ext cx="152424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7" descr="m2.gif"/>
          <p:cNvPicPr/>
          <p:nvPr/>
        </p:nvPicPr>
        <p:blipFill>
          <a:blip r:embed="rId11"/>
          <a:stretch/>
        </p:blipFill>
        <p:spPr>
          <a:xfrm>
            <a:off x="1523880" y="152280"/>
            <a:ext cx="1447920" cy="197964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озврат 18">
            <a:hlinkClick r:id="rId12" action="ppaction://hlinksldjump"/>
          </p:cNvPr>
          <p:cNvSpPr/>
          <p:nvPr/>
        </p:nvSpPr>
        <p:spPr>
          <a:xfrm>
            <a:off x="15228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4f81b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11597 C -0.03107 0.11412 -0.0283 0.11366 -0.02621 0.11134 C -0.02517 0.11019 -0.02482 0.10787 -0.02378 0.10648 C -0.02274 0.10509 -0.02135 0.1044 -0.02014 0.10324 C -0.01319 0.10648 -0.00764 0.10694 -3.33333E-006 0.1081 C 0.00313 0.11019 0.01007 0.11829 0.0132 0.11921 C 0.01823 0.12083 0.02344 0.12037 0.02865 0.12083 C 0.03299 0.12292 0.03733 0.12384 0.04167 0.12546 C 0.05261 0.12454 0.0566 0.12639 0.06424 0.11921 C 0.0665 0.11042 0.07466 0.10625 0.08091 0.10324 C 0.09028 0.09444 0.08594 0.09676 0.09289 0.09375 C 0.09688 0.08866 0.09983 0.08819 0.10486 0.08588 C 0.10886 0.08773 0.10747 0.08634 0.10955 0.08912 E">
                                      <p:cBhvr>
                                        <p:cTn id="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295280" y="1767600"/>
            <a:ext cx="739152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С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ная электростанц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Ц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плоэлектроцентра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ределительное устройст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магнитное пол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форматорная подстанц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линия электропереда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tn_lampa.gif"/>
          <p:cNvPicPr/>
          <p:nvPr/>
        </p:nvPicPr>
        <p:blipFill>
          <a:blip r:embed="rId2"/>
          <a:stretch/>
        </p:blipFill>
        <p:spPr>
          <a:xfrm>
            <a:off x="457200" y="457200"/>
            <a:ext cx="1295280" cy="141444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возврат 3">
            <a:hlinkClick r:id="rId3" action="ppaction://hlinksldjump"/>
          </p:cNvPr>
          <p:cNvSpPr/>
          <p:nvPr/>
        </p:nvSpPr>
        <p:spPr>
          <a:xfrm>
            <a:off x="1219320" y="56386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7389" y="7493"/>
                </a:moveTo>
                <a:lnTo>
                  <a:pt x="10897" y="7493"/>
                </a:lnTo>
                <a:lnTo>
                  <a:pt x="10897" y="12828"/>
                </a:lnTo>
                <a:cubicBezTo>
                  <a:pt x="10897" y="13751"/>
                  <a:pt x="11698" y="14482"/>
                  <a:pt x="12733" y="14482"/>
                </a:cubicBezTo>
                <a:lnTo>
                  <a:pt x="14396" y="14482"/>
                </a:lnTo>
                <a:cubicBezTo>
                  <a:pt x="15431" y="14482"/>
                  <a:pt x="16232" y="13751"/>
                  <a:pt x="16232" y="12828"/>
                </a:cubicBezTo>
                <a:lnTo>
                  <a:pt x="16232" y="7493"/>
                </a:lnTo>
                <a:lnTo>
                  <a:pt x="14396" y="7493"/>
                </a:lnTo>
                <a:lnTo>
                  <a:pt x="17903" y="3985"/>
                </a:lnTo>
                <a:lnTo>
                  <a:pt x="21576" y="7493"/>
                </a:lnTo>
                <a:lnTo>
                  <a:pt x="19740" y="7493"/>
                </a:lnTo>
                <a:lnTo>
                  <a:pt x="19740" y="12828"/>
                </a:lnTo>
                <a:cubicBezTo>
                  <a:pt x="19740" y="15596"/>
                  <a:pt x="17164" y="18155"/>
                  <a:pt x="14396" y="18155"/>
                </a:cubicBezTo>
                <a:lnTo>
                  <a:pt x="12733" y="18155"/>
                </a:lnTo>
                <a:cubicBezTo>
                  <a:pt x="9966" y="18155"/>
                  <a:pt x="7389" y="15596"/>
                  <a:pt x="7389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38080" y="699840"/>
            <a:ext cx="8001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Д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форматор дуговой многопост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рямитель дуговой многопост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й станд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ная дуговая свар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елка микромощ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ыковое соединение без скоса кромок, односторон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2" descr="svarchik.jpg"/>
          <p:cNvPicPr/>
          <p:nvPr/>
        </p:nvPicPr>
        <p:blipFill>
          <a:blip r:embed="rId2"/>
          <a:stretch/>
        </p:blipFill>
        <p:spPr>
          <a:xfrm>
            <a:off x="5257800" y="3505320"/>
            <a:ext cx="2514600" cy="2813040"/>
          </a:xfrm>
          <a:prstGeom prst="rect">
            <a:avLst/>
          </a:prstGeom>
          <a:ln w="0">
            <a:noFill/>
          </a:ln>
        </p:spPr>
      </p:pic>
      <p:sp>
        <p:nvSpPr>
          <p:cNvPr id="170" name="Управляющая кнопка: возврат 3">
            <a:hlinkClick r:id="rId3" action="ppaction://hlinksldjump"/>
          </p:cNvPr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990720" y="2145960"/>
            <a:ext cx="8001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/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нентский ящ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ч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ая ча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ератор свя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Ш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иск календарного штемп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милия, имя, от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ФП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федеральной почтов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2" descr="1-203.gif"/>
          <p:cNvPicPr/>
          <p:nvPr/>
        </p:nvPicPr>
        <p:blipFill>
          <a:blip r:embed="rId2"/>
          <a:stretch/>
        </p:blipFill>
        <p:spPr>
          <a:xfrm>
            <a:off x="5181480" y="914400"/>
            <a:ext cx="1905120" cy="2143080"/>
          </a:xfrm>
          <a:prstGeom prst="rect">
            <a:avLst/>
          </a:prstGeom>
          <a:ln w="0">
            <a:noFill/>
          </a:ln>
        </p:spPr>
      </p:pic>
      <p:sp>
        <p:nvSpPr>
          <p:cNvPr id="173" name="Управляющая кнопка: возврат 3">
            <a:hlinkClick r:id="rId3" action="ppaction://hlinksldjump"/>
          </p:cNvPr>
          <p:cNvSpPr/>
          <p:nvPr/>
        </p:nvSpPr>
        <p:spPr>
          <a:xfrm>
            <a:off x="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447920" y="1078920"/>
            <a:ext cx="7162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остойкие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нестойкие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й станд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Н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или потолочные направляющ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С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евесно-стружечн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17R1.gif"/>
          <p:cNvPicPr/>
          <p:nvPr/>
        </p:nvPicPr>
        <p:blipFill>
          <a:blip r:embed="rId2"/>
          <a:stretch/>
        </p:blipFill>
        <p:spPr>
          <a:xfrm>
            <a:off x="59436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6" name="Управляющая кнопка: возврат 3"/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523880" y="1461960"/>
            <a:ext cx="70866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ция технического обслуживания автомоби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жняя мёртвая точ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Б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ный блок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ое обслужи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жский автоза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зонное обслу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gif"/>
          <p:cNvPicPr/>
          <p:nvPr/>
        </p:nvPicPr>
        <p:blipFill>
          <a:blip r:embed="rId2"/>
          <a:stretch/>
        </p:blipFill>
        <p:spPr>
          <a:xfrm>
            <a:off x="2971800" y="5173560"/>
            <a:ext cx="2971800" cy="64296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возврат 4"/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1371600" y="685800"/>
            <a:ext cx="685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Propisi"/>
              </a:rPr>
              <a:t>Синквей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горящ. свеча-ан.gif"/>
          <p:cNvPicPr/>
          <p:nvPr/>
        </p:nvPicPr>
        <p:blipFill>
          <a:blip r:embed="rId2"/>
          <a:stretch/>
        </p:blipFill>
        <p:spPr>
          <a:xfrm>
            <a:off x="3124080" y="3581280"/>
            <a:ext cx="3211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47920" y="8380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ropisi"/>
              </a:rPr>
              <a:t>Алгоритм  написания  синкв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33520" y="1981080"/>
            <a:ext cx="84582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й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имени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делает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   что автор думает о теме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за из 4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 что?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звучание темы 1 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" descr="book32.gif"/>
          <p:cNvPicPr/>
          <p:nvPr/>
        </p:nvPicPr>
        <p:blipFill>
          <a:blip r:embed="rId2"/>
          <a:stretch/>
        </p:blipFill>
        <p:spPr>
          <a:xfrm>
            <a:off x="3276720" y="4114800"/>
            <a:ext cx="2307960" cy="1924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возврат 4"/>
          <p:cNvSpPr/>
          <p:nvPr/>
        </p:nvSpPr>
        <p:spPr>
          <a:xfrm>
            <a:off x="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6" descr="peo-girl.gif"/>
          <p:cNvPicPr/>
          <p:nvPr/>
        </p:nvPicPr>
        <p:blipFill>
          <a:blip r:embed="rId2"/>
          <a:stretch/>
        </p:blipFill>
        <p:spPr>
          <a:xfrm>
            <a:off x="3505320" y="3581280"/>
            <a:ext cx="168732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child_finger_painting_md_wht.gif"/>
          <p:cNvPicPr/>
          <p:nvPr/>
        </p:nvPicPr>
        <p:blipFill>
          <a:blip r:embed="rId3"/>
          <a:stretch/>
        </p:blipFill>
        <p:spPr>
          <a:xfrm>
            <a:off x="175248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boy22.gif"/>
          <p:cNvPicPr/>
          <p:nvPr/>
        </p:nvPicPr>
        <p:blipFill>
          <a:blip r:embed="rId4"/>
          <a:stretch/>
        </p:blipFill>
        <p:spPr>
          <a:xfrm>
            <a:off x="609480" y="4724280"/>
            <a:ext cx="116856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c10.gif"/>
          <p:cNvPicPr/>
          <p:nvPr/>
        </p:nvPicPr>
        <p:blipFill>
          <a:blip r:embed="rId5"/>
          <a:stretch/>
        </p:blipFill>
        <p:spPr>
          <a:xfrm>
            <a:off x="6324480" y="1676520"/>
            <a:ext cx="14320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boy18.gif"/>
          <p:cNvPicPr/>
          <p:nvPr/>
        </p:nvPicPr>
        <p:blipFill>
          <a:blip r:embed="rId6"/>
          <a:stretch/>
        </p:blipFill>
        <p:spPr>
          <a:xfrm>
            <a:off x="0" y="1371600"/>
            <a:ext cx="1447920" cy="2205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boy24.gif"/>
          <p:cNvPicPr/>
          <p:nvPr/>
        </p:nvPicPr>
        <p:blipFill>
          <a:blip r:embed="rId7"/>
          <a:stretch/>
        </p:blipFill>
        <p:spPr>
          <a:xfrm>
            <a:off x="5715000" y="4648320"/>
            <a:ext cx="1590840" cy="159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514600" y="457200"/>
            <a:ext cx="40384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Propisi"/>
              </a:rPr>
              <a:t>Давайте  познакомим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Облако 6"/>
          <p:cNvGrpSpPr/>
          <p:nvPr/>
        </p:nvGrpSpPr>
        <p:grpSpPr>
          <a:xfrm>
            <a:off x="579600" y="433440"/>
            <a:ext cx="1882440" cy="1193760"/>
            <a:chOff x="579600" y="433440"/>
            <a:chExt cx="1882440" cy="1193760"/>
          </a:xfrm>
        </p:grpSpPr>
        <p:pic>
          <p:nvPicPr>
            <p:cNvPr id="66" name="Облако 6" descr=""/>
            <p:cNvPicPr/>
            <p:nvPr/>
          </p:nvPicPr>
          <p:blipFill>
            <a:blip r:embed="rId8"/>
            <a:stretch/>
          </p:blipFill>
          <p:spPr>
            <a:xfrm>
              <a:off x="579600" y="433440"/>
              <a:ext cx="1882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61840" y="630360"/>
              <a:ext cx="1194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Облако 7"/>
          <p:cNvGrpSpPr/>
          <p:nvPr/>
        </p:nvGrpSpPr>
        <p:grpSpPr>
          <a:xfrm>
            <a:off x="3749760" y="2487600"/>
            <a:ext cx="1912680" cy="1200240"/>
            <a:chOff x="3749760" y="2487600"/>
            <a:chExt cx="1912680" cy="1200240"/>
          </a:xfrm>
        </p:grpSpPr>
        <p:pic>
          <p:nvPicPr>
            <p:cNvPr id="69" name="Облако 7" descr=""/>
            <p:cNvPicPr/>
            <p:nvPr/>
          </p:nvPicPr>
          <p:blipFill>
            <a:blip r:embed="rId9"/>
            <a:stretch/>
          </p:blipFill>
          <p:spPr>
            <a:xfrm>
              <a:off x="3749760" y="2487600"/>
              <a:ext cx="19126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062240" y="2687760"/>
              <a:ext cx="1194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Облако 8"/>
          <p:cNvGrpSpPr/>
          <p:nvPr/>
        </p:nvGrpSpPr>
        <p:grpSpPr>
          <a:xfrm>
            <a:off x="1158840" y="3786120"/>
            <a:ext cx="1913040" cy="1193760"/>
            <a:chOff x="1158840" y="3786120"/>
            <a:chExt cx="1913040" cy="1193760"/>
          </a:xfrm>
        </p:grpSpPr>
        <p:pic>
          <p:nvPicPr>
            <p:cNvPr id="72" name="Облако 8" descr=""/>
            <p:cNvPicPr/>
            <p:nvPr/>
          </p:nvPicPr>
          <p:blipFill>
            <a:blip r:embed="rId10"/>
            <a:stretch/>
          </p:blipFill>
          <p:spPr>
            <a:xfrm>
              <a:off x="1158840" y="3786120"/>
              <a:ext cx="19130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71680" y="398304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1.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блако 9"/>
          <p:cNvGrpSpPr/>
          <p:nvPr/>
        </p:nvGrpSpPr>
        <p:grpSpPr>
          <a:xfrm>
            <a:off x="7023240" y="658800"/>
            <a:ext cx="1919160" cy="1200240"/>
            <a:chOff x="7023240" y="658800"/>
            <a:chExt cx="1919160" cy="1200240"/>
          </a:xfrm>
        </p:grpSpPr>
        <p:pic>
          <p:nvPicPr>
            <p:cNvPr id="75" name="Облако 9" descr=""/>
            <p:cNvPicPr/>
            <p:nvPr/>
          </p:nvPicPr>
          <p:blipFill>
            <a:blip r:embed="rId11"/>
            <a:stretch/>
          </p:blipFill>
          <p:spPr>
            <a:xfrm>
              <a:off x="7023240" y="658800"/>
              <a:ext cx="19191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338960" y="85896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2060"/>
                  </a:solidFill>
                  <a:latin typeface="Propisi"/>
                </a:rPr>
                <a:t>34.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блако 10"/>
          <p:cNvGrpSpPr/>
          <p:nvPr/>
        </p:nvGrpSpPr>
        <p:grpSpPr>
          <a:xfrm>
            <a:off x="6108840" y="3706920"/>
            <a:ext cx="1919160" cy="1199880"/>
            <a:chOff x="6108840" y="3706920"/>
            <a:chExt cx="1919160" cy="1199880"/>
          </a:xfrm>
        </p:grpSpPr>
        <p:pic>
          <p:nvPicPr>
            <p:cNvPr id="78" name="Облако 10" descr=""/>
            <p:cNvPicPr/>
            <p:nvPr/>
          </p:nvPicPr>
          <p:blipFill>
            <a:blip r:embed="rId12"/>
            <a:stretch/>
          </p:blipFill>
          <p:spPr>
            <a:xfrm>
              <a:off x="6108840" y="3706920"/>
              <a:ext cx="1919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24560" y="390672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Григорий Гладков - Профессии.mp3" descr=""/>
          <p:cNvPicPr/>
          <p:nvPr/>
        </p:nvPicPr>
        <p:blipFill>
          <a:blip r:embed="rId13"/>
          <a:stretch/>
        </p:blipFill>
        <p:spPr>
          <a:xfrm>
            <a:off x="7997760" y="5864400"/>
            <a:ext cx="847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3172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609480" y="1295280"/>
            <a:ext cx="85345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роф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Интересная, высокооплачивае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оможет, прокормит, доставит удоволь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олучайте нужную профессию – это ваш хлеб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Обеспеченное будущ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3" descr="81406.png"/>
          <p:cNvPicPr/>
          <p:nvPr/>
        </p:nvPicPr>
        <p:blipFill>
          <a:blip r:embed="rId2"/>
          <a:stretch/>
        </p:blipFill>
        <p:spPr>
          <a:xfrm>
            <a:off x="5638680" y="3505320"/>
            <a:ext cx="1981440" cy="283680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возврат 4"/>
          <p:cNvSpPr/>
          <p:nvPr/>
        </p:nvSpPr>
        <p:spPr>
          <a:xfrm>
            <a:off x="1143000" y="57913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1" descr="7f87cd8f8528.gif"/>
          <p:cNvPicPr/>
          <p:nvPr/>
        </p:nvPicPr>
        <p:blipFill>
          <a:blip r:embed="rId2"/>
          <a:stretch/>
        </p:blipFill>
        <p:spPr>
          <a:xfrm>
            <a:off x="3505320" y="35053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600200" y="76212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Поздравляем  победител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Желаем успехов в профессиональной деятельност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меня зовут рабочий класс.mp3" descr=""/>
          <p:cNvPicPr/>
          <p:nvPr/>
        </p:nvPicPr>
        <p:blipFill>
          <a:blip r:embed="rId3"/>
          <a:stretch/>
        </p:blipFill>
        <p:spPr>
          <a:xfrm>
            <a:off x="450720" y="5632560"/>
            <a:ext cx="10065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1731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160020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Источники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523880" y="1752480"/>
            <a:ext cx="6400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magenesanimadas.net/Profesiones/Mecanicos.as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картинки с професс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639440" y="2590920"/>
            <a:ext cx="64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enagold.ru/gla/shkola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артинки на школьную темат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CLIPBRD1.WMF"/>
          <p:cNvPicPr/>
          <p:nvPr/>
        </p:nvPicPr>
        <p:blipFill>
          <a:blip r:embed="rId2"/>
          <a:stretch/>
        </p:blipFill>
        <p:spPr>
          <a:xfrm rot="20152200">
            <a:off x="2874960" y="3136680"/>
            <a:ext cx="2187720" cy="2974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057400" y="30492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 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Пута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h13.gif"/>
          <p:cNvPicPr/>
          <p:nvPr/>
        </p:nvPicPr>
        <p:blipFill>
          <a:blip r:embed="rId3"/>
          <a:stretch/>
        </p:blipFill>
        <p:spPr>
          <a:xfrm>
            <a:off x="4419720" y="3733920"/>
            <a:ext cx="2479680" cy="1900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 rot="20059800">
            <a:off x="2862720" y="387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ropisi"/>
              </a:rPr>
              <a:t>Индекс, реле, кисть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3" descr="electrician.gif"/>
          <p:cNvPicPr/>
          <p:nvPr/>
        </p:nvPicPr>
        <p:blipFill>
          <a:blip r:embed="rId2"/>
          <a:stretch/>
        </p:blipFill>
        <p:spPr>
          <a:xfrm>
            <a:off x="6019920" y="1447920"/>
            <a:ext cx="267624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mechanic_stuck_under_hood_md_wht.gif"/>
          <p:cNvPicPr/>
          <p:nvPr/>
        </p:nvPicPr>
        <p:blipFill>
          <a:blip r:embed="rId3"/>
          <a:stretch/>
        </p:blipFill>
        <p:spPr>
          <a:xfrm>
            <a:off x="3429000" y="1371600"/>
            <a:ext cx="24764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1" descr="str4.gif"/>
          <p:cNvPicPr/>
          <p:nvPr/>
        </p:nvPicPr>
        <p:blipFill>
          <a:blip r:embed="rId4"/>
          <a:stretch/>
        </p:blipFill>
        <p:spPr>
          <a:xfrm>
            <a:off x="1600200" y="4419720"/>
            <a:ext cx="1600200" cy="2049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b44.gif"/>
          <p:cNvPicPr/>
          <p:nvPr/>
        </p:nvPicPr>
        <p:blipFill>
          <a:blip r:embed="rId5"/>
          <a:stretch/>
        </p:blipFill>
        <p:spPr>
          <a:xfrm>
            <a:off x="152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10037847304b77b378c3eba.gif"/>
          <p:cNvPicPr/>
          <p:nvPr/>
        </p:nvPicPr>
        <p:blipFill>
          <a:blip r:embed="rId6"/>
          <a:stretch/>
        </p:blipFill>
        <p:spPr>
          <a:xfrm>
            <a:off x="4724280" y="4495680"/>
            <a:ext cx="2346480" cy="2025720"/>
          </a:xfrm>
          <a:prstGeom prst="rect">
            <a:avLst/>
          </a:prstGeom>
          <a:ln w="0">
            <a:noFill/>
          </a:ln>
        </p:spPr>
      </p:pic>
      <p:sp>
        <p:nvSpPr>
          <p:cNvPr id="90" name="Выноска-облако 2"/>
          <p:cNvSpPr/>
          <p:nvPr/>
        </p:nvSpPr>
        <p:spPr>
          <a:xfrm>
            <a:off x="7315200" y="152280"/>
            <a:ext cx="1676520" cy="1219320"/>
          </a:xfrm>
          <a:prstGeom prst="cloudCallout">
            <a:avLst>
              <a:gd name="adj1" fmla="val -48754"/>
              <a:gd name="adj2" fmla="val 8392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7" action="ppaction://hlinksldjump"/>
              </a:rPr>
              <a:t>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>
            <a:off x="6781680" y="3429000"/>
            <a:ext cx="1981440" cy="1143000"/>
          </a:xfrm>
          <a:prstGeom prst="cloudCallout">
            <a:avLst>
              <a:gd name="adj1" fmla="val -66736"/>
              <a:gd name="adj2" fmla="val 5392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4.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5">
            <a:hlinkClick r:id="rId9" action="ppaction://hlinksldjump"/>
          </p:cNvPr>
          <p:cNvSpPr/>
          <p:nvPr/>
        </p:nvSpPr>
        <p:spPr>
          <a:xfrm>
            <a:off x="4267080" y="228600"/>
            <a:ext cx="1905120" cy="1295280"/>
          </a:xfrm>
          <a:prstGeom prst="cloudCallout">
            <a:avLst>
              <a:gd name="adj1" fmla="val -42263"/>
              <a:gd name="adj2" fmla="val 9275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носка-облако 6"/>
          <p:cNvSpPr/>
          <p:nvPr/>
        </p:nvSpPr>
        <p:spPr>
          <a:xfrm>
            <a:off x="3200400" y="3352680"/>
            <a:ext cx="1600200" cy="1143000"/>
          </a:xfrm>
          <a:prstGeom prst="cloudCallout">
            <a:avLst>
              <a:gd name="adj1" fmla="val -95662"/>
              <a:gd name="adj2" fmla="val 5487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1" action="ppaction://hlinksldjump"/>
              </a:rPr>
              <a:t>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ыноска-облако 7">
            <a:hlinkClick r:id="rId12" action="ppaction://hlinksldjump"/>
          </p:cNvPr>
          <p:cNvSpPr/>
          <p:nvPr/>
        </p:nvSpPr>
        <p:spPr>
          <a:xfrm>
            <a:off x="990720" y="990720"/>
            <a:ext cx="1600200" cy="1143000"/>
          </a:xfrm>
          <a:prstGeom prst="cloudCallout">
            <a:avLst>
              <a:gd name="adj1" fmla="val -38518"/>
              <a:gd name="adj2" fmla="val 8916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3" action="ppaction://hlinksldjump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возврат 15">
            <a:hlinkClick r:id="rId14" action="ppaction://hlinksldjump"/>
          </p:cNvPr>
          <p:cNvSpPr/>
          <p:nvPr/>
        </p:nvSpPr>
        <p:spPr>
          <a:xfrm>
            <a:off x="7315200" y="53341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7493"/>
                </a:moveTo>
                <a:lnTo>
                  <a:pt x="9460" y="7493"/>
                </a:lnTo>
                <a:lnTo>
                  <a:pt x="9460" y="12828"/>
                </a:lnTo>
                <a:cubicBezTo>
                  <a:pt x="9460" y="13751"/>
                  <a:pt x="10261" y="14482"/>
                  <a:pt x="11297" y="14482"/>
                </a:cubicBezTo>
                <a:lnTo>
                  <a:pt x="12959" y="14482"/>
                </a:lnTo>
                <a:cubicBezTo>
                  <a:pt x="13995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59" y="7493"/>
                </a:lnTo>
                <a:lnTo>
                  <a:pt x="16467" y="3985"/>
                </a:lnTo>
                <a:lnTo>
                  <a:pt x="20140" y="7493"/>
                </a:lnTo>
                <a:lnTo>
                  <a:pt x="18303" y="7493"/>
                </a:lnTo>
                <a:lnTo>
                  <a:pt x="18303" y="12828"/>
                </a:lnTo>
                <a:cubicBezTo>
                  <a:pt x="18303" y="15596"/>
                  <a:pt x="15727" y="18155"/>
                  <a:pt x="12959" y="18155"/>
                </a:cubicBezTo>
                <a:lnTo>
                  <a:pt x="11297" y="18155"/>
                </a:lnTo>
                <a:cubicBezTo>
                  <a:pt x="8529" y="18155"/>
                  <a:pt x="5953" y="15596"/>
                  <a:pt x="5953" y="12828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457200" y="2862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, индекс, резистор, прожог, краскораспылитель, свариваемость,  щиток, телеграф,  провод, трафарет, колесо,  заготовка, флейцевание, сепаратор, маска, наплавка,  заполнитель, кромка, катушка, маховик,  фасад, трансмиссия,  кабель, ротор, флюс, аккумулятор, грунтовка, пускатель, бандероль, цилиндр, рубильник, электрод, карбюратор,  контакт, амортизатор, провар,   статор, фаска, топливопривод, мундштук,  квитанция, шлифование, корреспонденция, горелка,  почтамт, баллон, обрызг, пломбир, привод, огарок, двигатель,  письмо, торцевание, мост,  кратер,  опись, разъединитель, телеграмма,  поршень, колер, адрес, изоляция, сварка, электробензонасос, штукатурка, посылка, окраска, кузов, зануление , секограмма,  лузг, рессоры, усёнок, заказное, грун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12">
            <a:hlinkClick r:id="rId2" action="ppaction://hlinksldjump"/>
          </p:cNvPr>
          <p:cNvSpPr/>
          <p:nvPr/>
        </p:nvSpPr>
        <p:spPr>
          <a:xfrm>
            <a:off x="7620120" y="57150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7493"/>
                </a:moveTo>
                <a:lnTo>
                  <a:pt x="8129" y="7493"/>
                </a:lnTo>
                <a:lnTo>
                  <a:pt x="8129" y="12828"/>
                </a:lnTo>
                <a:cubicBezTo>
                  <a:pt x="8129" y="13751"/>
                  <a:pt x="8930" y="14482"/>
                  <a:pt x="9965" y="14482"/>
                </a:cubicBezTo>
                <a:lnTo>
                  <a:pt x="11628" y="14482"/>
                </a:lnTo>
                <a:cubicBezTo>
                  <a:pt x="12663" y="14482"/>
                  <a:pt x="13464" y="13751"/>
                  <a:pt x="13464" y="12828"/>
                </a:cubicBezTo>
                <a:lnTo>
                  <a:pt x="13464" y="7493"/>
                </a:lnTo>
                <a:lnTo>
                  <a:pt x="11628" y="7493"/>
                </a:lnTo>
                <a:lnTo>
                  <a:pt x="15135" y="3985"/>
                </a:lnTo>
                <a:lnTo>
                  <a:pt x="18808" y="7493"/>
                </a:lnTo>
                <a:lnTo>
                  <a:pt x="16972" y="7493"/>
                </a:lnTo>
                <a:lnTo>
                  <a:pt x="16972" y="12828"/>
                </a:lnTo>
                <a:cubicBezTo>
                  <a:pt x="16972" y="15596"/>
                  <a:pt x="14396" y="18155"/>
                  <a:pt x="11628" y="18155"/>
                </a:cubicBezTo>
                <a:lnTo>
                  <a:pt x="9965" y="18155"/>
                </a:lnTo>
                <a:cubicBezTo>
                  <a:pt x="7198" y="18155"/>
                  <a:pt x="4621" y="15596"/>
                  <a:pt x="4621" y="12828"/>
                </a:cubicBezTo>
                <a:close/>
              </a:path>
            </a:pathLst>
          </a:cu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828800" y="1828800"/>
            <a:ext cx="693432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, резистор, щиток, провод, катушка, кабель, ротор, пускатель, рубильник, контакт, статор, привод, разъединитель, изоляция, зану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77.wmf"/>
          <p:cNvPicPr/>
          <p:nvPr/>
        </p:nvPicPr>
        <p:blipFill>
          <a:blip r:embed="rId2"/>
          <a:stretch/>
        </p:blipFill>
        <p:spPr>
          <a:xfrm>
            <a:off x="6095880" y="4267080"/>
            <a:ext cx="1549440" cy="24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289.wmf"/>
          <p:cNvPicPr/>
          <p:nvPr/>
        </p:nvPicPr>
        <p:blipFill>
          <a:blip r:embed="rId3"/>
          <a:stretch/>
        </p:blipFill>
        <p:spPr>
          <a:xfrm>
            <a:off x="152280" y="457200"/>
            <a:ext cx="1676520" cy="283860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371600" y="1981080"/>
            <a:ext cx="70102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, телеграф, бандероль, адрес, квитанция, заказное, опись, пломбир, секограмма, телеграмма, письмо, корреспонденция, посылка, почтамт, телегра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276.wmf"/>
          <p:cNvPicPr/>
          <p:nvPr/>
        </p:nvPicPr>
        <p:blipFill>
          <a:blip r:embed="rId2"/>
          <a:srcRect l="0" t="0" r="30556" b="0"/>
          <a:stretch/>
        </p:blipFill>
        <p:spPr>
          <a:xfrm>
            <a:off x="7238880" y="3124080"/>
            <a:ext cx="1905120" cy="3259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57.wmf"/>
          <p:cNvPicPr/>
          <p:nvPr/>
        </p:nvPicPr>
        <p:blipFill>
          <a:blip r:embed="rId3"/>
          <a:stretch/>
        </p:blipFill>
        <p:spPr>
          <a:xfrm rot="2883600">
            <a:off x="925560" y="-91440"/>
            <a:ext cx="1844640" cy="3311280"/>
          </a:xfrm>
          <a:prstGeom prst="rect">
            <a:avLst/>
          </a:prstGeom>
          <a:ln w="0">
            <a:noFill/>
          </a:ln>
        </p:spPr>
      </p:pic>
      <p:sp>
        <p:nvSpPr>
          <p:cNvPr id="105" name="Управляющая кнопка: возврат 5">
            <a:hlinkClick r:id="rId4" action="ppaction://hlinksldjump"/>
          </p:cNvPr>
          <p:cNvSpPr/>
          <p:nvPr/>
        </p:nvSpPr>
        <p:spPr>
          <a:xfrm>
            <a:off x="7086600" y="56386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6"/>
                  <a:pt x="9138" y="14486"/>
                </a:cubicBezTo>
                <a:lnTo>
                  <a:pt x="10800" y="14486"/>
                </a:lnTo>
                <a:cubicBezTo>
                  <a:pt x="11836" y="14486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0"/>
                  <a:pt x="13568" y="18159"/>
                  <a:pt x="10800" y="18159"/>
                </a:cubicBezTo>
                <a:lnTo>
                  <a:pt x="9138" y="18159"/>
                </a:lnTo>
                <a:cubicBezTo>
                  <a:pt x="6370" y="18159"/>
                  <a:pt x="3794" y="15600"/>
                  <a:pt x="3794" y="12833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133720" y="838080"/>
            <a:ext cx="4952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распылитель, трафарет, колер, заполнитель, обрызг, грунтовка, штукатурка, шлифование, окраска, торцевание, флейцевание, фаска, усёнок, лузг, фа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47.wmf"/>
          <p:cNvPicPr/>
          <p:nvPr/>
        </p:nvPicPr>
        <p:blipFill>
          <a:blip r:embed="rId2"/>
          <a:stretch/>
        </p:blipFill>
        <p:spPr>
          <a:xfrm>
            <a:off x="228600" y="2971800"/>
            <a:ext cx="1981080" cy="2982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115.wmf"/>
          <p:cNvPicPr/>
          <p:nvPr/>
        </p:nvPicPr>
        <p:blipFill>
          <a:blip r:embed="rId3"/>
          <a:stretch/>
        </p:blipFill>
        <p:spPr>
          <a:xfrm>
            <a:off x="6172200" y="152280"/>
            <a:ext cx="2716200" cy="287676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2-10-22T16:16:37Z</dcterms:modified>
  <cp:revision>50</cp:revision>
  <dc:subject/>
  <dc:title>Слайд 1</dc:title>
</cp:coreProperties>
</file>