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252-1ABD-4445-843D-0CD07150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89D-6D14-4F3B-B493-0AB4983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9DA-CC9A-4E24-9657-EFA9A24E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746-BA50-48B0-991F-E94BD75A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B4A-02ED-4523-97DE-70F0B78E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CD3-678B-4641-8F65-3544789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D8B-EAB9-462D-B0D1-74F24CC3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5DD-45BA-489C-B666-93923C1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59B-DE01-44EB-9F08-84623407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2F8-437D-42ED-90E2-0921DAB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F30-576A-4155-BECE-37FB9F0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75A-EC01-4715-B209-5C0EBE0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B7D5-CC1F-4796-A9A8-2BA36066C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09840" y="1989000"/>
            <a:ext cx="58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Интерактивна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дидактическая иг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«Бюджет семь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804000" y="350028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img4.teletype.in/files/3a/4d/3a4d020c-9da1-4a37-a717-43b26119b5fc.png"/>
          <p:cNvPicPr/>
          <p:nvPr/>
        </p:nvPicPr>
        <p:blipFill>
          <a:blip r:embed="rId1"/>
          <a:stretch/>
        </p:blipFill>
        <p:spPr>
          <a:xfrm>
            <a:off x="395280" y="1773360"/>
            <a:ext cx="3351240" cy="2508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71640" y="26028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«Улыбка» п.Малиновски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076920" y="566100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 воспитатель: Кузнецова Александра Александ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24000" y="620640"/>
            <a:ext cx="842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Цель: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Формирование знаний детей о расходах семь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Задачи: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Формировать знания и умения планирования расходов семьи, учить системному анализу несложных экономических расче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звивать навыки диалогической речи обучающихся при ответах на вопросы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звивать навыки коммуникативного поведения при принятии коллективных решений в процессе обсуждения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Воспитывать организованность, бережливость, умение жить по средствам, ответственность перед другими членами семьи за принятое решени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6418" t="0" r="13594" b="0"/>
          <a:stretch/>
        </p:blipFill>
        <p:spPr>
          <a:xfrm>
            <a:off x="2960640" y="101520"/>
            <a:ext cx="1727280" cy="219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и бабушка."/>
          <p:cNvPicPr/>
          <p:nvPr/>
        </p:nvPicPr>
        <p:blipFill>
          <a:blip r:embed="rId3"/>
          <a:srcRect l="10216" t="0" r="12897" b="0"/>
          <a:stretch/>
        </p:blipFill>
        <p:spPr>
          <a:xfrm>
            <a:off x="4687920" y="66600"/>
            <a:ext cx="148104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14208" t="0" r="15247" b="0"/>
          <a:stretch/>
        </p:blipFill>
        <p:spPr>
          <a:xfrm>
            <a:off x="1741320" y="620640"/>
            <a:ext cx="1320840" cy="20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380360" y="2395440"/>
            <a:ext cx="143964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72360" y="727200"/>
            <a:ext cx="1490400" cy="20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Okay! "/>
          <p:cNvPicPr/>
          <p:nvPr/>
        </p:nvPicPr>
        <p:blipFill>
          <a:blip r:embed="rId7"/>
          <a:srcRect l="26739" t="0" r="23373" b="0"/>
          <a:stretch/>
        </p:blipFill>
        <p:spPr>
          <a:xfrm>
            <a:off x="536400" y="1668600"/>
            <a:ext cx="1204920" cy="24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-2629080" y="3359160"/>
            <a:ext cx="17290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-1549440" y="408312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-1549440" y="512928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-3060720" y="46702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18519E-006 C 0.00678 -0.00208 0.01216 -0.00393 0.01824 -0.0081 C 0.02379 -0.02291 0.02657 -0.03124 0.0349 -0.04236 C 0.04063 -0.06435 0.03473 -0.04536 0.04706 -0.0706 C 0.04827 -0.07291 0.05088 -0.07916 0.05331 -0.08078 C 0.05504 -0.08194 0.05713 -0.08217 0.05938 -0.08286 C 0.06199 -0.09467 0.06876 -0.09999 0.07726 -0.103 C 0.08577 -0.1118 0.0948 -0.12314 0.10608 -0.12523 C 0.11407 -0.12685 0.12223 -0.12661 0.13039 -0.12731 C 0.20174 -0.15393 0.24202 -0.1412 0.33803 -0.14328 C 0.38542 -0.14259 0.43299 -0.14328 0.48039 -0.14143 C 0.49029 -0.14097 0.49966 -0.13587 0.50921 -0.13333 C 0.53924 -0.12546 0.56876 -0.11435 0.59862 -0.10509 C 0.61303 -0.10069 0.62657 -0.09236 0.64098 -0.08888 C 0.64654 -0.06249 0.64393 -0.07962 0.64393 -0.03634 L 0.67275 -0.05254 L 0.64549 -0.04629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33333E-006 C 0.00452 -0.00069 0.00956 0.00069 0.01372 -0.00208 C 0.01633 -0.0037 0.0165 -0.0088 0.01824 -0.01204 C 0.0191 -0.01389 0.0231 -0.01875 0.02431 -0.02014 C 0.02674 -0.03032 0.02674 -0.03704 0.0349 -0.04028 C 0.03803 -0.05417 0.0507 -0.07454 0.0606 -0.08079 C 0.06789 -0.09051 0.08091 -0.10023 0.09098 -0.10301 C 0.09758 -0.12083 0.08924 -0.10347 0.09983 -0.11319 C 0.10157 -0.11458 0.10157 -0.11759 0.10296 -0.11921 C 0.10938 -0.12662 0.11372 -0.12778 0.12101 -0.13125 C 0.12518 -0.13935 0.12605 -0.14097 0.13317 -0.14352 C 0.15261 -0.16273 0.12744 -0.13935 0.14532 -0.15139 C 0.15643 -0.1588 0.16546 -0.17222 0.17709 -0.17778 C 0.18542 -0.18819 0.20973 -0.19143 0.22101 -0.19398 C 0.24202 -0.20463 0.26268 -0.20856 0.2849 -0.21204 C 0.29671 -0.21759 0.30886 -0.21806 0.32101 -0.22222 C 0.34028 -0.23889 0.3264 -0.22824 0.37865 -0.22824 C 0.42709 -0.22824 0.47587 -0.22685 0.52431 -0.22616 C 0.52831 -0.22477 0.53265 -0.22454 0.53612 -0.22222 C 0.53768 -0.22106 0.53768 -0.21759 0.53942 -0.2162 C 0.54167 -0.21412 0.54445 -0.21343 0.54706 -0.21204 C 0.55018 -0.19398 0.54549 -0.21204 0.55278 -0.2 C 0.55886 -0.19028 0.54914 -0.19653 0.55886 -0.1919 C 0.56008 -0.18981 0.56094 -0.1875 0.56216 -0.18588 C 0.5632 -0.18426 0.56546 -0.18356 0.56667 -0.18171 C 0.5691 -0.17755 0.56824 -0.16968 0.57431 -0.16968 E">
                                      <p:cBhvr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-0.01665 C -0.04167 -0.01942 -0.02796 -0.0252 -0.02171 -0.03075 C -0.00678 -0.04416 -0.01841 -0.03861 -0.00799 -0.04278 C 0.00434 -0.05387 0.0026 -0.05804 0.0177 -0.06104 C 0.02066 -0.06243 0.02395 -0.06312 0.02673 -0.06497 C 0.03229 -0.06867 0.03541 -0.07653 0.04201 -0.07908 C 0.05277 -0.08879 0.04757 -0.08601 0.05711 -0.08925 C 0.06562 -0.09665 0.07204 -0.10127 0.08142 -0.10752 C 0.08975 -0.11283 0.09566 -0.12185 0.10399 -0.12578 C 0.10902 -0.14451 0.11788 -0.14081 0.12829 -0.15214 C 0.13628 -0.16046 0.14409 -0.17226 0.15399 -0.17619 C 0.16059 -0.18497 0.17066 -0.1933 0.17986 -0.19653 C 0.18958 -0.20509 0.17847 -0.19653 0.19687 -0.20254 C 0.20555 -0.20555 0.2125 -0.21734 0.22083 -0.22058 C 0.22708 -0.22312 0.23385 -0.22197 0.24045 -0.22266 C 0.25104 -0.22543 0.26163 -0.22798 0.27222 -0.23075 C 0.27725 -0.23214 0.28732 -0.23468 0.28732 -0.23445 C 0.28888 -0.23746 0.28975 -0.24116 0.29201 -0.24278 C 0.29513 -0.24486 0.29913 -0.24347 0.3026 -0.24486 C 0.30434 -0.24555 0.30555 -0.2474 0.30711 -0.24879 C 0.37882 -0.24809 0.45052 -0.24879 0.52222 -0.24694 C 0.53767 -0.24648 0.53559 -0.23885 0.55104 -0.23468 C 0.56041 -0.23214 0.57986 -0.23075 0.57986 -0.23052 C 0.59357 -0.22659 0.61441 -0.22312 0.62829 -0.21665 C 0.63402 -0.20902 0.64652 -0.20879 0.65399 -0.20648 C 0.6677 -0.19769 0.65069 -0.2074 0.67378 -0.20046 C 0.6776 -0.19931 0.68073 -0.19607 0.68437 -0.19445 C 0.68767 -0.18752 0.68611 -0.19006 0.68888 -0.18636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3422 C 0.0026 -0.03654 0.00469 -0.04 0.00746 -0.04232 C 0.00885 -0.04347 0.01059 -0.04324 0.01198 -0.04417 C 0.03264 -0.05804 0.00712 -0.04393 0.02708 -0.05434 C 0.03021 -0.06613 0.04392 -0.06914 0.05139 -0.07654 C 0.08316 -0.10798 0.09757 -0.08925 0.15451 -0.09064 C 0.16007 -0.09573 0.17187 -0.10035 0.17864 -0.10081 C 0.22361 -0.10336 0.26857 -0.10336 0.31354 -0.10474 C 0.34809 -0.1207 0.5493 -0.10937 0.58785 -0.10891 C 0.60712 -0.10012 0.62882 -0.09804 0.64844 -0.09064 C 0.67274 -0.08162 0.69635 -0.06914 0.72118 -0.06243 C 0.72899 -0.05804 0.72864 -0.06197 0.72864 -0.05642 E"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7143" t="0" r="17961" b="0"/>
          <a:stretch/>
        </p:blipFill>
        <p:spPr>
          <a:xfrm>
            <a:off x="2852640" y="222120"/>
            <a:ext cx="1602000" cy="219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348080" y="157320"/>
            <a:ext cx="2016360" cy="222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24026" t="0" r="8065" b="0"/>
          <a:stretch/>
        </p:blipFill>
        <p:spPr>
          <a:xfrm>
            <a:off x="1565280" y="620640"/>
            <a:ext cx="1413000" cy="228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201080" y="2428920"/>
            <a:ext cx="1439640" cy="192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45360" y="906480"/>
            <a:ext cx="1395360" cy="192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Okay! "/>
          <p:cNvPicPr/>
          <p:nvPr/>
        </p:nvPicPr>
        <p:blipFill>
          <a:blip r:embed="rId7"/>
          <a:srcRect l="22853" t="0" r="32751" b="0"/>
          <a:stretch/>
        </p:blipFill>
        <p:spPr>
          <a:xfrm>
            <a:off x="179280" y="1996920"/>
            <a:ext cx="1260720" cy="284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2852640" y="3392640"/>
            <a:ext cx="1728720" cy="122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4492800" y="347184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3600360" y="328464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3824280" y="3897360"/>
            <a:ext cx="1728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32378 -0.00717 0.11927 -0.00393 0.61354 -0.00393 E"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6744" t="0" r="14266" b="0"/>
          <a:stretch/>
        </p:blipFill>
        <p:spPr>
          <a:xfrm>
            <a:off x="3006720" y="101520"/>
            <a:ext cx="1855800" cy="239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492800" y="66600"/>
            <a:ext cx="2195280" cy="242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tretch/>
        </p:blipFill>
        <p:spPr>
          <a:xfrm>
            <a:off x="1258920" y="765000"/>
            <a:ext cx="1996920" cy="219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524720" y="218124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11880" y="946080"/>
            <a:ext cx="1500120" cy="20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Okay! "/>
          <p:cNvPicPr/>
          <p:nvPr/>
        </p:nvPicPr>
        <p:blipFill>
          <a:blip r:embed="rId7"/>
          <a:srcRect l="23149" t="0" r="28818" b="0"/>
          <a:stretch/>
        </p:blipFill>
        <p:spPr>
          <a:xfrm>
            <a:off x="250920" y="2181240"/>
            <a:ext cx="1261800" cy="262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2852640" y="3392640"/>
            <a:ext cx="1728720" cy="122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4492800" y="347184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3600360" y="328464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C 0.02483 0.02639 0.03959 0.025 0.07275 0.02616 C 0.12118 0.02778 0.16979 0.02894 0.21823 0.03033 C 0.23004 0.04074 0.24532 0.04005 0.25903 0.04236 C 0.30191 0.04167 0.34497 0.04213 0.38785 0.04028 C 0.39098 0.04005 0.39375 0.03727 0.39688 0.03635 C 0.41997 0.02986 0.44358 0.01806 0.46667 0.01412 C 0.4757 0.00787 0.48559 0.00695 0.49549 0.00394 C 0.50417 -0.00347 0.51424 -0.0044 0.52431 -0.00625 C 0.52934 -0.00833 0.53299 -0.01365 0.53785 -0.01018 E"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C 0.00243 0.00046 0.01163 0.00139 0.0151 0.00416 C 0.01719 0.00578 0.01945 0.01041 0.02118 0.01226 C 0.02726 0.01875 0.03455 0.02453 0.04097 0.03032 C 0.04358 0.03264 0.04705 0.0331 0.05 0.03449 C 0.05174 0.03518 0.05278 0.0375 0.05451 0.03842 C 0.06476 0.04421 0.07379 0.04699 0.0849 0.04861 C 0.09653 0.05301 0.10799 0.05532 0.11979 0.05856 C 0.12674 0.06041 0.13229 0.06481 0.13941 0.06666 C 0.15243 0.07569 0.13733 0.06643 0.1592 0.07268 C 0.16181 0.07338 0.16406 0.07615 0.16667 0.07685 C 0.1717 0.07824 0.17674 0.07824 0.18177 0.07893 C 0.21754 0.09421 0.26528 0.09004 0.3 0.09097 C 0.35174 0.09027 0.57292 0.14467 0.66979 0.05856 C 0.67083 0.05648 0.67135 0.05416 0.67274 0.05254 C 0.67778 0.04722 0.67726 0.05347 0.67726 0.04861 E">
                                      <p:cBhvr>
                                        <p:cTn id="7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5600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3857" t="0" r="16082" b="0"/>
          <a:stretch/>
        </p:blipFill>
        <p:spPr>
          <a:xfrm>
            <a:off x="2527200" y="298440"/>
            <a:ext cx="182880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артинки бабушка."/>
          <p:cNvPicPr/>
          <p:nvPr/>
        </p:nvPicPr>
        <p:blipFill>
          <a:blip r:embed="rId3"/>
          <a:srcRect l="17527" t="0" r="14362" b="0"/>
          <a:stretch/>
        </p:blipFill>
        <p:spPr>
          <a:xfrm>
            <a:off x="4454640" y="87480"/>
            <a:ext cx="1495440" cy="2427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rcRect l="14286" t="0" r="15026" b="0"/>
          <a:stretch/>
        </p:blipFill>
        <p:spPr>
          <a:xfrm>
            <a:off x="958680" y="620640"/>
            <a:ext cx="1597320" cy="24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210440" y="2602080"/>
            <a:ext cx="1441440" cy="192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72360" y="1197000"/>
            <a:ext cx="140004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Okay! "/>
          <p:cNvPicPr/>
          <p:nvPr/>
        </p:nvPicPr>
        <p:blipFill>
          <a:blip r:embed="rId7"/>
          <a:srcRect l="28865" t="0" r="28215" b="0"/>
          <a:stretch/>
        </p:blipFill>
        <p:spPr>
          <a:xfrm>
            <a:off x="250920" y="2693880"/>
            <a:ext cx="1218960" cy="284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3492360" y="31734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9468000" y="40258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27746E-006 L -0.54323 -0.02914 E">
                                      <p:cBhvr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без фона. деньги. компьютерные иконки. инкапсулированный PostScript. прозра..."/>
          <p:cNvPicPr/>
          <p:nvPr/>
        </p:nvPicPr>
        <p:blipFill>
          <a:blip r:embed="rId1"/>
          <a:stretch/>
        </p:blipFill>
        <p:spPr>
          <a:xfrm>
            <a:off x="2521080" y="27306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свободно дедушка, мультфильм, рисунок прозрачное изображение."/>
          <p:cNvPicPr/>
          <p:nvPr/>
        </p:nvPicPr>
        <p:blipFill>
          <a:blip r:embed="rId2"/>
          <a:srcRect l="15054" t="0" r="14287" b="0"/>
          <a:stretch/>
        </p:blipFill>
        <p:spPr>
          <a:xfrm>
            <a:off x="2960640" y="101520"/>
            <a:ext cx="1901880" cy="239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Картинки бабушка."/>
          <p:cNvPicPr/>
          <p:nvPr/>
        </p:nvPicPr>
        <p:blipFill>
          <a:blip r:embed="rId3"/>
          <a:stretch/>
        </p:blipFill>
        <p:spPr>
          <a:xfrm>
            <a:off x="4492800" y="344520"/>
            <a:ext cx="201600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Папа - Смехотерапия - 26 ноября - 43567341607 - Медиаплатформа МирТесен."/>
          <p:cNvPicPr/>
          <p:nvPr/>
        </p:nvPicPr>
        <p:blipFill>
          <a:blip r:embed="rId4"/>
          <a:stretch/>
        </p:blipFill>
        <p:spPr>
          <a:xfrm>
            <a:off x="1042920" y="822240"/>
            <a:ext cx="2081160" cy="2287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Мальчик на белом фоне (170 фото) ."/>
          <p:cNvPicPr/>
          <p:nvPr/>
        </p:nvPicPr>
        <p:blipFill>
          <a:blip r:embed="rId5"/>
          <a:stretch/>
        </p:blipFill>
        <p:spPr>
          <a:xfrm>
            <a:off x="7499520" y="246852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Просмотр содержимого документа &amp;quot;Словарные слова в картинках&amp;quot; ."/>
          <p:cNvPicPr/>
          <p:nvPr/>
        </p:nvPicPr>
        <p:blipFill>
          <a:blip r:embed="rId6"/>
          <a:stretch/>
        </p:blipFill>
        <p:spPr>
          <a:xfrm>
            <a:off x="6311880" y="620640"/>
            <a:ext cx="152712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Okay! "/>
          <p:cNvPicPr/>
          <p:nvPr/>
        </p:nvPicPr>
        <p:blipFill>
          <a:blip r:embed="rId7"/>
          <a:srcRect l="25263" t="0" r="26857" b="0"/>
          <a:stretch/>
        </p:blipFill>
        <p:spPr>
          <a:xfrm>
            <a:off x="250920" y="2146320"/>
            <a:ext cx="1306440" cy="27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This is actually a short article or even picture approximately the Монетка на..."/>
          <p:cNvPicPr/>
          <p:nvPr/>
        </p:nvPicPr>
        <p:blipFill>
          <a:blip r:embed="rId8"/>
          <a:stretch/>
        </p:blipFill>
        <p:spPr>
          <a:xfrm>
            <a:off x="3492360" y="31734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This is actually a short article or even picture approximately the Монетка на..."/>
          <p:cNvPicPr/>
          <p:nvPr/>
        </p:nvPicPr>
        <p:blipFill>
          <a:blip r:embed="rId9"/>
          <a:stretch/>
        </p:blipFill>
        <p:spPr>
          <a:xfrm>
            <a:off x="9109080" y="40989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This is actually a short article or even picture approximately the Монетка на..."/>
          <p:cNvPicPr/>
          <p:nvPr/>
        </p:nvPicPr>
        <p:blipFill>
          <a:blip r:embed="rId10"/>
          <a:stretch/>
        </p:blipFill>
        <p:spPr>
          <a:xfrm>
            <a:off x="9972720" y="4397400"/>
            <a:ext cx="1728720" cy="1222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This is actually a short article or even picture approximately the Монетка на..."/>
          <p:cNvPicPr/>
          <p:nvPr/>
        </p:nvPicPr>
        <p:blipFill>
          <a:blip r:embed="rId11"/>
          <a:stretch/>
        </p:blipFill>
        <p:spPr>
          <a:xfrm>
            <a:off x="9325080" y="532296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This is actually a short article or even picture approximately the Монетка на..."/>
          <p:cNvPicPr/>
          <p:nvPr/>
        </p:nvPicPr>
        <p:blipFill>
          <a:blip r:embed="rId12"/>
          <a:stretch/>
        </p:blipFill>
        <p:spPr>
          <a:xfrm>
            <a:off x="9756720" y="317340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4185 L -0.61424 0.0111 E">
                                      <p:cBhvr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0.01017 L -0.4882 -0.09225 E">
                                      <p:cBhvr>
                                        <p:cTn id="1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2104 L -0.7559 -0.11468 E">
                                      <p:cBhvr>
                                        <p:cTn id="10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3145 L -0.58282 -0.21804 E">
                                      <p:cBhvr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85720" y="476280"/>
            <a:ext cx="801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Молодцы ребя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Вы справились с заданием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https://avatars.dzeninfra.ru/get-zen_doc/4585608/pub_6077c6f7b57e177a1ca59c1d_6077d24da6d6b07c3820a699/scale_1200"/>
          <p:cNvPicPr/>
          <p:nvPr/>
        </p:nvPicPr>
        <p:blipFill>
          <a:blip r:embed="rId1"/>
          <a:srcRect l="3888" t="5417" r="13332" b="13168"/>
          <a:stretch/>
        </p:blipFill>
        <p:spPr>
          <a:xfrm>
            <a:off x="2728800" y="2230560"/>
            <a:ext cx="43671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5T16:52:06Z</dcterms:created>
  <dc:creator>UZER</dc:creator>
  <dc:description/>
  <dc:language>en-US</dc:language>
  <cp:lastModifiedBy>dexp</cp:lastModifiedBy>
  <dcterms:modified xsi:type="dcterms:W3CDTF">2022-10-29T09:33:00Z</dcterms:modified>
  <cp:revision>16</cp:revision>
  <dc:subject/>
  <dc:title>Презентация PowerPoint</dc:title>
</cp:coreProperties>
</file>