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C2A4-1A99-4CF2-8533-27005BC99C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9935-8C46-4713-ABD5-D1DB11287D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9DB-2AA6-4EC0-A501-5B0B97E4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7A5-7252-4C2E-9992-CB20B80D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92D-4261-40E3-AC47-C1869400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AF3-22EE-495C-9B30-F9A2860A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77A0-8FF8-4695-9F06-08FCFB58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DB6A-92F8-433F-8FD1-6EBADFFA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8D25-98BE-4CAF-BF34-386F023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29B8-085E-4A88-9F58-36693D59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3A6C-6440-440F-AE68-8AAD5FB8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7226-10C7-4FA2-8278-4AD74F02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2760-3782-441A-896D-E6895887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BCA-A5B4-4C05-A55A-BF975F91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0B6B-9625-4C19-B10B-9F769D7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87B7-DE3B-4492-B90B-01E8292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9051-7353-4B7B-B47B-E6A7147E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C130-99A3-461D-8FEB-2299A2F8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829A-60CC-4685-9C20-7DC5A47C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69D-96D6-4904-B960-EA852192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D3B-1245-4654-B532-26AA45CE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DD2-B0AF-47CB-B4AE-513F9A54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42C-92EC-4C29-AA0A-6EC45E1F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26E-7CF5-48C7-9C5D-6C275BF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F17-66F4-4AD7-936C-D27A08ED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6F1-A841-43BA-9277-D62A680E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DAA0-8D9E-4BDD-8D58-040DA0F502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6EB3-91BE-43CD-886F-5AD8916E4B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foto.mail.ru/mail/lady_gold67/_blogs/i-4327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1/61/657/61657815_vetton_ru_89.jpg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Природа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Разнообразие природы</a:t>
            </a:r>
            <a:br>
              <a:rPr sz="4400"/>
            </a:br>
            <a:br>
              <a:rPr sz="4800"/>
            </a:b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окружающий мир</a:t>
            </a:r>
            <a:br>
              <a:rPr sz="2800"/>
            </a:b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 3 класс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58560" y="4005360"/>
            <a:ext cx="7561080" cy="26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8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8b"/>
                </a:solidFill>
                <a:latin typeface="Arial"/>
              </a:rPr>
              <a:t>Санкт-Петербург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572000" y="4292640"/>
            <a:ext cx="4176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8b"/>
                </a:solidFill>
                <a:latin typeface="Arial"/>
              </a:rPr>
              <a:t>Степура Галина Михайловна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8b"/>
                </a:solidFill>
                <a:latin typeface="Arial"/>
              </a:rPr>
              <a:t>учитель начальной школы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8b"/>
                </a:solidFill>
                <a:latin typeface="Arial"/>
              </a:rPr>
              <a:t>ГБОУ СОШ №18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 Black"/>
              </a:rPr>
              <a:t>Использованные </a:t>
            </a: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i="1" lang="ru-RU" sz="3600" spc="-1" strike="noStrike">
                <a:solidFill>
                  <a:srgbClr val="ffff66"/>
                </a:solidFill>
                <a:latin typeface="Arial Black"/>
              </a:rPr>
              <a:t>нтернет-ресурс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content.foto.mail.ru/mail/lady_gold67/_blogs/i-4327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invistra.m-l-m.info/?tag=%D0%BC%D0%B8%D0%BA%D1%80%D0%BE%D0%B1%D1%8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klinikasoyuz.ru/polucheny-novye-dannye-o-povedenii-bakterij-v-organizme-cheloveka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canews.com/articles/112410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coolclip.ru/displayimage-88-32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astrokarty.ru/ydiv_vodanalune.p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99"/>
                </a:solidFill>
                <a:latin typeface="Arial Black"/>
              </a:rPr>
              <a:t>Природ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6600"/>
                </a:solidFill>
                <a:uFillTx/>
                <a:latin typeface="Arial"/>
              </a:rPr>
              <a:t>Природ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сё, что нас окружает и не сделано руками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42920" y="3429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радуг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967120" y="414972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книг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272200" y="3860640"/>
            <a:ext cx="21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медвед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948360" y="522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тракт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984920" y="48690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ду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042920" y="5516640"/>
            <a:ext cx="16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кирпи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564000" y="602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глин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99"/>
                </a:solidFill>
                <a:latin typeface="Arial Black"/>
              </a:rPr>
              <a:t>Природ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Жив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аб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урав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Нежив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вёз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б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ке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 rot="3340800">
            <a:off x="5268600" y="1644480"/>
            <a:ext cx="1295280" cy="691920"/>
          </a:xfrm>
          <a:prstGeom prst="rightArrow">
            <a:avLst>
              <a:gd name="adj1" fmla="val 50000"/>
              <a:gd name="adj2" fmla="val 468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 rot="18217800">
            <a:off x="2766960" y="1633320"/>
            <a:ext cx="1295640" cy="711000"/>
          </a:xfrm>
          <a:prstGeom prst="leftArrow">
            <a:avLst>
              <a:gd name="adj1" fmla="val 50000"/>
              <a:gd name="adj2" fmla="val 4555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826920" y="5300640"/>
            <a:ext cx="8317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6600"/>
                </a:solidFill>
                <a:uFillTx/>
                <a:latin typeface="Arial"/>
              </a:rPr>
              <a:t>Вывод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b7"/>
                </a:solidFill>
                <a:latin typeface="Arial"/>
              </a:rPr>
              <a:t>живые существа, или организмы, дышат, питаются, растут, развиваются, приносят потомство, умирают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25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66"/>
                </a:solidFill>
                <a:latin typeface="Arial Black"/>
              </a:rPr>
              <a:t>Биология</a:t>
            </a:r>
            <a:br>
              <a:rPr sz="66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Совокупность наук о живой природе.</a:t>
            </a:r>
            <a:br>
              <a:rPr sz="3600"/>
            </a:br>
            <a:r>
              <a:rPr b="1" i="1" lang="ru-RU" sz="2800" spc="-1" strike="noStrike" u="sng">
                <a:solidFill>
                  <a:srgbClr val="ff6600"/>
                </a:solidFill>
                <a:uFillTx/>
                <a:latin typeface="Arial Black"/>
              </a:rPr>
              <a:t>Биология</a:t>
            </a:r>
            <a:r>
              <a:rPr b="1" i="1" lang="ru-RU" sz="2800" spc="-1" strike="noStrike">
                <a:solidFill>
                  <a:srgbClr val="ffffb7"/>
                </a:solidFill>
                <a:latin typeface="Arial Black"/>
              </a:rPr>
              <a:t>(греч</a:t>
            </a: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.) – «биос»-жизнь, «логос»- наук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770200" y="3141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067280" y="3645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7280" y="4653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4067280" y="5157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067280" y="5661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067280" y="6165720"/>
            <a:ext cx="6490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3419640" y="3645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4067280" y="4149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2771640" y="3645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770200" y="4149720"/>
            <a:ext cx="4525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2122560" y="3141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1476360" y="3141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419640" y="3141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067280" y="3141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4716360" y="3141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2124000" y="3645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2771640" y="4149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4716360" y="4149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5364000" y="4149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3419640" y="4653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419640" y="4149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6012000" y="4149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6012000" y="4653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36400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471636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147636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212400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277164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4716360" y="5661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2124000" y="5661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2771640" y="5661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3419640" y="5661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2124000" y="5157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0"/>
          <p:cNvSpPr/>
          <p:nvPr/>
        </p:nvSpPr>
        <p:spPr>
          <a:xfrm>
            <a:off x="2771640" y="515772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>
            <a:off x="3419640" y="515772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2771640" y="6165720"/>
            <a:ext cx="6494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3419640" y="6165720"/>
            <a:ext cx="6490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7308720" y="5661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659640" y="5661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6"/>
          <p:cNvSpPr/>
          <p:nvPr/>
        </p:nvSpPr>
        <p:spPr>
          <a:xfrm>
            <a:off x="6012000" y="5661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7"/>
          <p:cNvSpPr/>
          <p:nvPr/>
        </p:nvSpPr>
        <p:spPr>
          <a:xfrm>
            <a:off x="5362560" y="5662440"/>
            <a:ext cx="6494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6012000" y="6165720"/>
            <a:ext cx="6490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5364000" y="6165720"/>
            <a:ext cx="6494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0"/>
          <p:cNvSpPr/>
          <p:nvPr/>
        </p:nvSpPr>
        <p:spPr>
          <a:xfrm>
            <a:off x="4714920" y="6165720"/>
            <a:ext cx="6490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1"/>
          <p:cNvSpPr/>
          <p:nvPr/>
        </p:nvSpPr>
        <p:spPr>
          <a:xfrm>
            <a:off x="2124000" y="6165720"/>
            <a:ext cx="6494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1"/>
          <p:cNvSpPr/>
          <p:nvPr/>
        </p:nvSpPr>
        <p:spPr>
          <a:xfrm>
            <a:off x="6659640" y="4653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6"/>
          <p:cNvSpPr/>
          <p:nvPr/>
        </p:nvSpPr>
        <p:spPr>
          <a:xfrm>
            <a:off x="7956720" y="4653000"/>
            <a:ext cx="64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7"/>
          <p:cNvSpPr/>
          <p:nvPr/>
        </p:nvSpPr>
        <p:spPr>
          <a:xfrm>
            <a:off x="7308720" y="4653000"/>
            <a:ext cx="6494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66"/>
                </a:solidFill>
                <a:latin typeface="Arial Black"/>
              </a:rPr>
              <a:t>Царства</a:t>
            </a:r>
            <a:br>
              <a:rPr sz="7200"/>
            </a:br>
            <a:r>
              <a:rPr b="1" i="1" lang="ru-RU" sz="2800" spc="-1" strike="noStrike">
                <a:solidFill>
                  <a:srgbClr val="ff6600"/>
                </a:solidFill>
                <a:latin typeface="Arial Black"/>
              </a:rPr>
              <a:t>- это большие группы органического мир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3660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9"/>
          <p:cNvSpPr/>
          <p:nvPr/>
        </p:nvSpPr>
        <p:spPr>
          <a:xfrm>
            <a:off x="3492360" y="2276640"/>
            <a:ext cx="2521080" cy="6476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Природ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1908000" y="3284640"/>
            <a:ext cx="151164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Жив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1"/>
          <p:cNvSpPr/>
          <p:nvPr/>
        </p:nvSpPr>
        <p:spPr>
          <a:xfrm>
            <a:off x="5796000" y="3284640"/>
            <a:ext cx="1944720" cy="792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Нежив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0"/>
          <p:cNvSpPr/>
          <p:nvPr/>
        </p:nvSpPr>
        <p:spPr>
          <a:xfrm>
            <a:off x="33480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62"/>
          <p:cNvSpPr/>
          <p:nvPr/>
        </p:nvSpPr>
        <p:spPr>
          <a:xfrm>
            <a:off x="611280" y="530064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аст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3"/>
          <p:cNvSpPr/>
          <p:nvPr/>
        </p:nvSpPr>
        <p:spPr>
          <a:xfrm>
            <a:off x="2195640" y="5300640"/>
            <a:ext cx="1655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Живот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4"/>
          <p:cNvSpPr/>
          <p:nvPr/>
        </p:nvSpPr>
        <p:spPr>
          <a:xfrm>
            <a:off x="4067280" y="5300640"/>
            <a:ext cx="136836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риб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5"/>
          <p:cNvSpPr/>
          <p:nvPr/>
        </p:nvSpPr>
        <p:spPr>
          <a:xfrm>
            <a:off x="5651640" y="5300640"/>
            <a:ext cx="14414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актер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69"/>
          <p:cNvSpPr/>
          <p:nvPr/>
        </p:nvSpPr>
        <p:spPr>
          <a:xfrm flipH="1">
            <a:off x="1332000" y="4221000"/>
            <a:ext cx="129528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70"/>
          <p:cNvSpPr/>
          <p:nvPr/>
        </p:nvSpPr>
        <p:spPr>
          <a:xfrm>
            <a:off x="2627280" y="4221000"/>
            <a:ext cx="289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71"/>
          <p:cNvSpPr/>
          <p:nvPr/>
        </p:nvSpPr>
        <p:spPr>
          <a:xfrm>
            <a:off x="2627280" y="4221000"/>
            <a:ext cx="2089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72"/>
          <p:cNvSpPr/>
          <p:nvPr/>
        </p:nvSpPr>
        <p:spPr>
          <a:xfrm>
            <a:off x="2627280" y="4221000"/>
            <a:ext cx="367344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73"/>
          <p:cNvSpPr/>
          <p:nvPr/>
        </p:nvSpPr>
        <p:spPr>
          <a:xfrm flipH="1">
            <a:off x="2700360" y="2997360"/>
            <a:ext cx="201600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74"/>
          <p:cNvSpPr/>
          <p:nvPr/>
        </p:nvSpPr>
        <p:spPr>
          <a:xfrm>
            <a:off x="4716360" y="2997360"/>
            <a:ext cx="208764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66"/>
                </a:solidFill>
                <a:latin typeface="Arial Black"/>
              </a:rPr>
              <a:t>Бактерии</a:t>
            </a:r>
            <a:br>
              <a:rPr sz="48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Особое царство живой природ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MC900438738"/>
          <p:cNvPicPr/>
          <p:nvPr/>
        </p:nvPicPr>
        <p:blipFill>
          <a:blip r:embed="rId1"/>
          <a:stretch/>
        </p:blipFill>
        <p:spPr>
          <a:xfrm>
            <a:off x="179280" y="177336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2484360" y="220500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Бактерии – это микроорганизмы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ни живут повсюду – в воде, в воздухе, даже во рту человек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79280" y="4724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Микроскоп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величительный прибо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9" descr="MP900433129"/>
          <p:cNvPicPr/>
          <p:nvPr/>
        </p:nvPicPr>
        <p:blipFill>
          <a:blip r:embed="rId2"/>
          <a:stretch/>
        </p:blipFill>
        <p:spPr>
          <a:xfrm>
            <a:off x="6732720" y="4005360"/>
            <a:ext cx="21002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66"/>
                </a:solidFill>
                <a:latin typeface="Arial Black"/>
              </a:rPr>
              <a:t>Природа и человек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215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Человек – часть живой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воздуха, пищи,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здоров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крас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материалов дл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добр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точник позн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5">
            <a:hlinkClick r:id="rId1"/>
          </p:cNvPr>
          <p:cNvSpPr/>
          <p:nvPr/>
        </p:nvSpPr>
        <p:spPr>
          <a:xfrm>
            <a:off x="179280" y="0"/>
            <a:ext cx="507708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Для самых любознательных</a:t>
            </a:r>
            <a:br>
              <a:rPr sz="4000"/>
            </a:b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9933"/>
                </a:solidFill>
                <a:latin typeface="Arial Black"/>
              </a:rPr>
              <a:t>Кто такие микробы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Микробы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(греч. «микрос» - малы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это крошечные микроорганизмы, не видимые простым глаз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К микробам относятся бактерии и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slide0009_image047[1]"/>
          <p:cNvPicPr/>
          <p:nvPr/>
        </p:nvPicPr>
        <p:blipFill>
          <a:blip r:embed="rId1"/>
          <a:stretch/>
        </p:blipFill>
        <p:spPr>
          <a:xfrm>
            <a:off x="755640" y="4387680"/>
            <a:ext cx="1181160" cy="120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slide0009_image048[1]"/>
          <p:cNvPicPr/>
          <p:nvPr/>
        </p:nvPicPr>
        <p:blipFill>
          <a:blip r:embed="rId2"/>
          <a:stretch/>
        </p:blipFill>
        <p:spPr>
          <a:xfrm>
            <a:off x="1835280" y="5651640"/>
            <a:ext cx="1582560" cy="119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lide0013_image430[1]"/>
          <p:cNvPicPr/>
          <p:nvPr/>
        </p:nvPicPr>
        <p:blipFill>
          <a:blip r:embed="rId3"/>
          <a:stretch/>
        </p:blipFill>
        <p:spPr>
          <a:xfrm>
            <a:off x="2771640" y="4221000"/>
            <a:ext cx="1440000" cy="1285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slide0015_image450[1]"/>
          <p:cNvPicPr/>
          <p:nvPr/>
        </p:nvPicPr>
        <p:blipFill>
          <a:blip r:embed="rId4"/>
          <a:stretch/>
        </p:blipFill>
        <p:spPr>
          <a:xfrm>
            <a:off x="4356000" y="4680000"/>
            <a:ext cx="1195560" cy="1655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slide0009_image051[1]"/>
          <p:cNvPicPr/>
          <p:nvPr/>
        </p:nvPicPr>
        <p:blipFill>
          <a:blip r:embed="rId5"/>
          <a:stretch/>
        </p:blipFill>
        <p:spPr>
          <a:xfrm>
            <a:off x="7132680" y="4076640"/>
            <a:ext cx="1409760" cy="120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slide0021_image514"/>
          <p:cNvPicPr/>
          <p:nvPr/>
        </p:nvPicPr>
        <p:blipFill>
          <a:blip r:embed="rId6"/>
          <a:stretch/>
        </p:blipFill>
        <p:spPr>
          <a:xfrm>
            <a:off x="7132680" y="5310360"/>
            <a:ext cx="1871640" cy="1263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slide0022_image525[1]"/>
          <p:cNvPicPr/>
          <p:nvPr/>
        </p:nvPicPr>
        <p:blipFill>
          <a:blip r:embed="rId7"/>
          <a:stretch/>
        </p:blipFill>
        <p:spPr>
          <a:xfrm>
            <a:off x="5796000" y="5129280"/>
            <a:ext cx="12063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 Black"/>
              </a:rPr>
              <a:t>До новых интересных открытий, друзья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Содержимое 7" descr="Germs-289x300.jpg"/>
          <p:cNvPicPr/>
          <p:nvPr/>
        </p:nvPicPr>
        <p:blipFill>
          <a:blip r:embed="rId1"/>
          <a:stretch/>
        </p:blipFill>
        <p:spPr>
          <a:xfrm>
            <a:off x="2298600" y="-208080"/>
            <a:ext cx="51199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9:45:51Z</dcterms:created>
  <dc:creator>Галя</dc:creator>
  <dc:description/>
  <dc:language>en-US</dc:language>
  <cp:lastModifiedBy>Microsoft</cp:lastModifiedBy>
  <dcterms:modified xsi:type="dcterms:W3CDTF">2021-10-26T19:12:43Z</dcterms:modified>
  <cp:revision>34</cp:revision>
  <dc:subject/>
  <dc:title>Природа</dc:title>
</cp:coreProperties>
</file>