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40B-B51D-47B5-B145-2D7DC71A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004-5384-4F14-9768-9419703E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AD8-6FD3-4614-B9A0-655DB064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8E6-0F18-4C16-8730-26B48152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A00-C67D-410E-8548-F2554FF5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666-78BE-41E7-9C9C-524225C1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3B9-E9EA-4217-A8E3-66522447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535-C015-47E5-888D-D89556B5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B0D-4ACD-4E93-8549-A3878300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323-32CA-4242-BD1A-3CB9ED52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8EB-E996-42D3-99B2-D0E46BA2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C42-3CC5-48B9-8884-C036625A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CF30-5996-42F6-826B-D229632AD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43000" y="12193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Развитие форм рельеф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ural3"/>
          <p:cNvPicPr/>
          <p:nvPr/>
        </p:nvPicPr>
        <p:blipFill>
          <a:blip r:embed="rId1"/>
          <a:stretch/>
        </p:blipFill>
        <p:spPr>
          <a:xfrm>
            <a:off x="457200" y="3733920"/>
            <a:ext cx="4191120" cy="279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6" descr="kuz-alatau7"/>
          <p:cNvPicPr/>
          <p:nvPr/>
        </p:nvPicPr>
        <p:blipFill>
          <a:blip r:embed="rId2"/>
          <a:stretch/>
        </p:blipFill>
        <p:spPr>
          <a:xfrm>
            <a:off x="6629400" y="685800"/>
            <a:ext cx="20527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arani-lby"/>
          <p:cNvPicPr/>
          <p:nvPr/>
        </p:nvPicPr>
        <p:blipFill>
          <a:blip r:embed="rId1"/>
          <a:stretch/>
        </p:blipFill>
        <p:spPr>
          <a:xfrm>
            <a:off x="457200" y="304920"/>
            <a:ext cx="2652840" cy="2819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7" name="Picture 3" descr="cirk-dolina"/>
          <p:cNvPicPr/>
          <p:nvPr/>
        </p:nvPicPr>
        <p:blipFill>
          <a:blip r:embed="rId2"/>
          <a:stretch/>
        </p:blipFill>
        <p:spPr>
          <a:xfrm>
            <a:off x="4191120" y="304920"/>
            <a:ext cx="4038480" cy="3028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8" name="Picture 5" descr="led-ozero11"/>
          <p:cNvPicPr/>
          <p:nvPr/>
        </p:nvPicPr>
        <p:blipFill>
          <a:blip r:embed="rId3"/>
          <a:stretch/>
        </p:blipFill>
        <p:spPr>
          <a:xfrm>
            <a:off x="380880" y="3657600"/>
            <a:ext cx="3594240" cy="256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Picture 7" descr="drumlin1"/>
          <p:cNvPicPr/>
          <p:nvPr/>
        </p:nvPicPr>
        <p:blipFill>
          <a:blip r:embed="rId4"/>
          <a:stretch/>
        </p:blipFill>
        <p:spPr>
          <a:xfrm>
            <a:off x="4800600" y="3962520"/>
            <a:ext cx="3638520" cy="2219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457200" y="32767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838080" y="3124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араньи лб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33412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ки и тр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066680" y="62485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дников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943600" y="6172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м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2590920" y="304920"/>
            <a:ext cx="4114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Деятельность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3520" y="1295280"/>
            <a:ext cx="373356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лоские низкие примор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авнины, возникшие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ступлении мо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послеледниковы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952880" y="1295280"/>
            <a:ext cx="35816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есчаные к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pechora"/>
          <p:cNvPicPr/>
          <p:nvPr/>
        </p:nvPicPr>
        <p:blipFill>
          <a:blip r:embed="rId1"/>
          <a:stretch/>
        </p:blipFill>
        <p:spPr>
          <a:xfrm>
            <a:off x="4648320" y="3429000"/>
            <a:ext cx="3914640" cy="238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prikaspi 1"/>
          <p:cNvPicPr/>
          <p:nvPr/>
        </p:nvPicPr>
        <p:blipFill>
          <a:blip r:embed="rId2"/>
          <a:stretch/>
        </p:blipFill>
        <p:spPr>
          <a:xfrm>
            <a:off x="609480" y="3429000"/>
            <a:ext cx="3594240" cy="240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Line 12"/>
          <p:cNvSpPr/>
          <p:nvPr/>
        </p:nvSpPr>
        <p:spPr>
          <a:xfrm flipH="1">
            <a:off x="2209680" y="914400"/>
            <a:ext cx="23623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572000" y="914400"/>
            <a:ext cx="21337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838080" y="5791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спий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5410080" y="5791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ор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3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52480" y="380880"/>
            <a:ext cx="56390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еятельность текучи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80880" y="1447920"/>
            <a:ext cx="36576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вражно-балочный релье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876920" y="1447920"/>
            <a:ext cx="39621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Флювиальный рельеф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143000" y="25909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оро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143000" y="35053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мо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1143000" y="44197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вр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143000" y="5410080"/>
            <a:ext cx="2209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809880" y="2590920"/>
            <a:ext cx="2286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розио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400800" y="2590920"/>
            <a:ext cx="24382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ккумуля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4114800" y="3505320"/>
            <a:ext cx="6094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334120" y="3505320"/>
            <a:ext cx="6094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6477120" y="3505320"/>
            <a:ext cx="5331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7391520" y="3505320"/>
            <a:ext cx="6094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8305920" y="3505320"/>
            <a:ext cx="5331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 flipV="1">
            <a:off x="5318280" y="4822920"/>
            <a:ext cx="32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 rot="5400000">
            <a:off x="3939840" y="45165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у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 rot="5400000">
            <a:off x="4769280" y="444888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ечная до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1"/>
          <p:cNvSpPr/>
          <p:nvPr/>
        </p:nvSpPr>
        <p:spPr>
          <a:xfrm rot="5400000">
            <a:off x="6233040" y="438228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 rot="5400000">
            <a:off x="7275960" y="44568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ель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 rot="5400000">
            <a:off x="8155440" y="4374360"/>
            <a:ext cx="8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й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6"/>
          <p:cNvSpPr/>
          <p:nvPr/>
        </p:nvSpPr>
        <p:spPr>
          <a:xfrm flipH="1">
            <a:off x="2133360" y="91440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7"/>
          <p:cNvSpPr/>
          <p:nvPr/>
        </p:nvSpPr>
        <p:spPr>
          <a:xfrm>
            <a:off x="4572000" y="914400"/>
            <a:ext cx="23623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8"/>
          <p:cNvSpPr/>
          <p:nvPr/>
        </p:nvSpPr>
        <p:spPr>
          <a:xfrm>
            <a:off x="2209680" y="2286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9"/>
          <p:cNvSpPr/>
          <p:nvPr/>
        </p:nvSpPr>
        <p:spPr>
          <a:xfrm>
            <a:off x="2209680" y="3124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0"/>
          <p:cNvSpPr/>
          <p:nvPr/>
        </p:nvSpPr>
        <p:spPr>
          <a:xfrm>
            <a:off x="2209680" y="4038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2209680" y="4952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2"/>
          <p:cNvSpPr/>
          <p:nvPr/>
        </p:nvSpPr>
        <p:spPr>
          <a:xfrm flipH="1">
            <a:off x="4876920" y="2286000"/>
            <a:ext cx="1752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3"/>
          <p:cNvSpPr/>
          <p:nvPr/>
        </p:nvSpPr>
        <p:spPr>
          <a:xfrm>
            <a:off x="6629400" y="2286000"/>
            <a:ext cx="10666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4"/>
          <p:cNvSpPr/>
          <p:nvPr/>
        </p:nvSpPr>
        <p:spPr>
          <a:xfrm>
            <a:off x="44197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5"/>
          <p:cNvSpPr/>
          <p:nvPr/>
        </p:nvSpPr>
        <p:spPr>
          <a:xfrm>
            <a:off x="55627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6"/>
          <p:cNvSpPr/>
          <p:nvPr/>
        </p:nvSpPr>
        <p:spPr>
          <a:xfrm>
            <a:off x="67057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7"/>
          <p:cNvSpPr/>
          <p:nvPr/>
        </p:nvSpPr>
        <p:spPr>
          <a:xfrm>
            <a:off x="769608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8"/>
          <p:cNvSpPr/>
          <p:nvPr/>
        </p:nvSpPr>
        <p:spPr>
          <a:xfrm>
            <a:off x="85345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55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981080" y="380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вражно-балочный рель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borozda"/>
          <p:cNvPicPr/>
          <p:nvPr/>
        </p:nvPicPr>
        <p:blipFill>
          <a:blip r:embed="rId1"/>
          <a:stretch/>
        </p:blipFill>
        <p:spPr>
          <a:xfrm>
            <a:off x="304920" y="990720"/>
            <a:ext cx="2457360" cy="327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9" name="Picture 6" descr="promoina"/>
          <p:cNvPicPr/>
          <p:nvPr/>
        </p:nvPicPr>
        <p:blipFill>
          <a:blip r:embed="rId2"/>
          <a:stretch/>
        </p:blipFill>
        <p:spPr>
          <a:xfrm>
            <a:off x="2209680" y="2819520"/>
            <a:ext cx="2157480" cy="3257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0" name="Picture 7" descr="ovrag"/>
          <p:cNvPicPr/>
          <p:nvPr/>
        </p:nvPicPr>
        <p:blipFill>
          <a:blip r:embed="rId3"/>
          <a:stretch/>
        </p:blipFill>
        <p:spPr>
          <a:xfrm>
            <a:off x="4343400" y="990720"/>
            <a:ext cx="2400480" cy="3200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9" descr="balka1"/>
          <p:cNvPicPr/>
          <p:nvPr/>
        </p:nvPicPr>
        <p:blipFill>
          <a:blip r:embed="rId4"/>
          <a:stretch/>
        </p:blipFill>
        <p:spPr>
          <a:xfrm>
            <a:off x="6400800" y="2895480"/>
            <a:ext cx="2465280" cy="32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2" name="Text Box 10"/>
          <p:cNvSpPr/>
          <p:nvPr/>
        </p:nvSpPr>
        <p:spPr>
          <a:xfrm>
            <a:off x="685800" y="41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266688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о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5029200" y="41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р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7238880" y="6095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4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5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5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1066680" y="457200"/>
            <a:ext cx="7162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Эоловый рельеф – деятельность в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066680" y="1523880"/>
            <a:ext cx="28958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Дю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образуются по берег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рек и мор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486400" y="1523880"/>
            <a:ext cx="27432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Б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возникают в пусты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2514600" y="1066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6781680" y="1066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3" descr="duna 1"/>
          <p:cNvPicPr/>
          <p:nvPr/>
        </p:nvPicPr>
        <p:blipFill>
          <a:blip r:embed="rId1"/>
          <a:stretch/>
        </p:blipFill>
        <p:spPr>
          <a:xfrm>
            <a:off x="228600" y="3276720"/>
            <a:ext cx="4114800" cy="2747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2" name="Picture 14" descr="barhan1"/>
          <p:cNvPicPr/>
          <p:nvPr/>
        </p:nvPicPr>
        <p:blipFill>
          <a:blip r:embed="rId2"/>
          <a:stretch/>
        </p:blipFill>
        <p:spPr>
          <a:xfrm>
            <a:off x="4876920" y="3276720"/>
            <a:ext cx="3962160" cy="2778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762120" y="457200"/>
            <a:ext cx="7772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цессы, вызванные действием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762120" y="1752480"/>
            <a:ext cx="1904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бвалы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сы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657600" y="1752480"/>
            <a:ext cx="2057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пол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705720" y="1752480"/>
            <a:ext cx="18288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4648320" y="1371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 flipH="1">
            <a:off x="1676160" y="13716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4648320" y="13716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obval"/>
          <p:cNvPicPr/>
          <p:nvPr/>
        </p:nvPicPr>
        <p:blipFill>
          <a:blip r:embed="rId1"/>
          <a:stretch/>
        </p:blipFill>
        <p:spPr>
          <a:xfrm>
            <a:off x="228600" y="4343400"/>
            <a:ext cx="3333600" cy="221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1" name="Picture 14" descr="opolzen"/>
          <p:cNvPicPr/>
          <p:nvPr/>
        </p:nvPicPr>
        <p:blipFill>
          <a:blip r:embed="rId2"/>
          <a:stretch/>
        </p:blipFill>
        <p:spPr>
          <a:xfrm>
            <a:off x="2209680" y="2666880"/>
            <a:ext cx="4724640" cy="237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2" name="Picture 15" descr="sel"/>
          <p:cNvPicPr/>
          <p:nvPr/>
        </p:nvPicPr>
        <p:blipFill>
          <a:blip r:embed="rId3"/>
          <a:stretch/>
        </p:blipFill>
        <p:spPr>
          <a:xfrm>
            <a:off x="6324480" y="3200400"/>
            <a:ext cx="2598840" cy="347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81080" y="457200"/>
            <a:ext cx="5257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Антропогенный рель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04920" y="1600200"/>
            <a:ext cx="1981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отлов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666880" y="16002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ерри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952880" y="16002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086600" y="16002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сы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 flipH="1">
            <a:off x="1294920" y="1143000"/>
            <a:ext cx="34290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3580920" y="114300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4724280" y="114300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4724280" y="1143000"/>
            <a:ext cx="3276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0" descr="kotlovan 1"/>
          <p:cNvPicPr/>
          <p:nvPr/>
        </p:nvPicPr>
        <p:blipFill>
          <a:blip r:embed="rId1"/>
          <a:stretch/>
        </p:blipFill>
        <p:spPr>
          <a:xfrm>
            <a:off x="152280" y="2362320"/>
            <a:ext cx="2971800" cy="2236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3" name="Picture 22" descr="karer1"/>
          <p:cNvPicPr/>
          <p:nvPr/>
        </p:nvPicPr>
        <p:blipFill>
          <a:blip r:embed="rId2"/>
          <a:stretch/>
        </p:blipFill>
        <p:spPr>
          <a:xfrm>
            <a:off x="4114800" y="2286000"/>
            <a:ext cx="3092400" cy="2327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4" name="Picture 23" descr="nasyip 1"/>
          <p:cNvPicPr/>
          <p:nvPr/>
        </p:nvPicPr>
        <p:blipFill>
          <a:blip r:embed="rId3"/>
          <a:stretch/>
        </p:blipFill>
        <p:spPr>
          <a:xfrm>
            <a:off x="6172200" y="4495680"/>
            <a:ext cx="2743200" cy="210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5" name="Picture 24" descr="terrikon1"/>
          <p:cNvPicPr/>
          <p:nvPr/>
        </p:nvPicPr>
        <p:blipFill>
          <a:blip r:embed="rId4"/>
          <a:stretch/>
        </p:blipFill>
        <p:spPr>
          <a:xfrm>
            <a:off x="1600200" y="4495680"/>
            <a:ext cx="3594240" cy="2171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241280" y="228600"/>
            <a:ext cx="72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ьеф постоянно меняется под действием внешни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экзогенных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внутренни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эндогенных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land07"/>
          <p:cNvPicPr/>
          <p:nvPr/>
        </p:nvPicPr>
        <p:blipFill>
          <a:blip r:embed="rId1"/>
          <a:stretch/>
        </p:blipFill>
        <p:spPr>
          <a:xfrm>
            <a:off x="1828800" y="1447920"/>
            <a:ext cx="55818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819520" y="2666880"/>
            <a:ext cx="37335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 проце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838080" y="3886200"/>
            <a:ext cx="3353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ейшие тектон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029200" y="3886200"/>
            <a:ext cx="3352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лка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819520" y="5257800"/>
            <a:ext cx="3809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3886200" y="3276720"/>
            <a:ext cx="76320" cy="609480"/>
          </a:xfrm>
          <a:prstGeom prst="downArrow">
            <a:avLst>
              <a:gd name="adj1" fmla="val 50000"/>
              <a:gd name="adj2" fmla="val 199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429000" y="45720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4191120" y="41911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daiki2"/>
          <p:cNvPicPr/>
          <p:nvPr/>
        </p:nvPicPr>
        <p:blipFill>
          <a:blip r:embed="rId1"/>
          <a:stretch/>
        </p:blipFill>
        <p:spPr>
          <a:xfrm>
            <a:off x="304920" y="228600"/>
            <a:ext cx="4152960" cy="221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Picture 11" descr="volcano"/>
          <p:cNvPicPr/>
          <p:nvPr/>
        </p:nvPicPr>
        <p:blipFill>
          <a:blip r:embed="rId2"/>
          <a:stretch/>
        </p:blipFill>
        <p:spPr>
          <a:xfrm>
            <a:off x="5257800" y="228600"/>
            <a:ext cx="3352680" cy="222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676520" y="609480"/>
            <a:ext cx="5715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ейшие тектонические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914400" y="1828800"/>
            <a:ext cx="3124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изонт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76920" y="1828800"/>
            <a:ext cx="3581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ленные верти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80880" y="2971800"/>
            <a:ext cx="1981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лад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743200" y="29718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ы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380880" y="3962520"/>
            <a:ext cx="198144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йон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йнозо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авк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2743200" y="3962520"/>
            <a:ext cx="19051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ла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ом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лтай, Сая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л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5257800" y="3124080"/>
            <a:ext cx="31240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я тер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и испы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н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скаются цент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й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падно-Сибир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внины, Прикаспийс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веро-Сибирс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но-Индигирска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лымская низм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 flipH="1">
            <a:off x="2514240" y="1295280"/>
            <a:ext cx="1981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4495680" y="1295280"/>
            <a:ext cx="22860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0"/>
          <p:cNvSpPr/>
          <p:nvPr/>
        </p:nvSpPr>
        <p:spPr>
          <a:xfrm flipH="1">
            <a:off x="1294920" y="251460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2514600" y="2514600"/>
            <a:ext cx="11430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137160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365760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6705720" y="2514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3520" y="457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видетельством продолжающихся в настоящее время тектонических движений служат 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ЗЕМЛЕТРЯС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zemletryasenie"/>
          <p:cNvPicPr/>
          <p:nvPr/>
        </p:nvPicPr>
        <p:blipFill>
          <a:blip r:embed="rId1"/>
          <a:stretch/>
        </p:blipFill>
        <p:spPr>
          <a:xfrm>
            <a:off x="1143000" y="1600200"/>
            <a:ext cx="70102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819520" y="380880"/>
            <a:ext cx="3352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улк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33520" y="152388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нусы вулк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505320" y="1523880"/>
            <a:ext cx="23619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акко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324480" y="1523880"/>
            <a:ext cx="2362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авовые пла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lakkolit11"/>
          <p:cNvPicPr/>
          <p:nvPr/>
        </p:nvPicPr>
        <p:blipFill>
          <a:blip r:embed="rId1"/>
          <a:stretch/>
        </p:blipFill>
        <p:spPr>
          <a:xfrm>
            <a:off x="3276720" y="2666880"/>
            <a:ext cx="2832120" cy="19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4" descr="lavovye-plato1"/>
          <p:cNvPicPr/>
          <p:nvPr/>
        </p:nvPicPr>
        <p:blipFill>
          <a:blip r:embed="rId2"/>
          <a:stretch/>
        </p:blipFill>
        <p:spPr>
          <a:xfrm>
            <a:off x="6248520" y="2666880"/>
            <a:ext cx="2724120" cy="19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5" descr="vulkanK"/>
          <p:cNvPicPr/>
          <p:nvPr/>
        </p:nvPicPr>
        <p:blipFill>
          <a:blip r:embed="rId3"/>
          <a:stretch/>
        </p:blipFill>
        <p:spPr>
          <a:xfrm>
            <a:off x="304920" y="2666880"/>
            <a:ext cx="2832120" cy="19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Picture 16" descr="lakkolit41"/>
          <p:cNvPicPr/>
          <p:nvPr/>
        </p:nvPicPr>
        <p:blipFill>
          <a:blip r:embed="rId4"/>
          <a:stretch/>
        </p:blipFill>
        <p:spPr>
          <a:xfrm>
            <a:off x="2819520" y="4876920"/>
            <a:ext cx="3593880" cy="10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Text Box 17"/>
          <p:cNvSpPr/>
          <p:nvPr/>
        </p:nvSpPr>
        <p:spPr>
          <a:xfrm>
            <a:off x="228600" y="62485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ющие вулканы в России есть только на Камчатке и Кури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4572000" y="1066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 flipH="1">
            <a:off x="1752480" y="1066680"/>
            <a:ext cx="2819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4572000" y="1066680"/>
            <a:ext cx="2971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175248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75438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4"/>
          <p:cNvSpPr/>
          <p:nvPr/>
        </p:nvSpPr>
        <p:spPr>
          <a:xfrm>
            <a:off x="4648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62120" y="990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55760" y="722160"/>
            <a:ext cx="672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066680" y="2362320"/>
            <a:ext cx="78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ветри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ревние оледе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мор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текучих вод (эроз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ве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цессы, вызванные действием силы тяж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2120" y="60948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внешним процессам, оказывающим влияние на формирование рельефа, относ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vyvetrivanie14"/>
          <p:cNvPicPr/>
          <p:nvPr/>
        </p:nvPicPr>
        <p:blipFill>
          <a:blip r:embed="rId1"/>
          <a:stretch/>
        </p:blipFill>
        <p:spPr>
          <a:xfrm>
            <a:off x="1143000" y="380880"/>
            <a:ext cx="6858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90920" y="228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ревние олед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85800" y="990720"/>
            <a:ext cx="79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четвертичный период было 4 эпохи оледенения: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алдайское, Московское, Днепровское, Ок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Центрами оледенения служили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Скандинавские горы, Полярный Урал, плато Путорана, горы Бырранга (Таймы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oledenenie"/>
          <p:cNvPicPr/>
          <p:nvPr/>
        </p:nvPicPr>
        <p:blipFill>
          <a:blip r:embed="rId1"/>
          <a:stretch/>
        </p:blipFill>
        <p:spPr>
          <a:xfrm>
            <a:off x="1600200" y="2514600"/>
            <a:ext cx="62485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9:06:11Z</dcterms:created>
  <dc:creator>HP</dc:creator>
  <dc:description/>
  <dc:language>en-US</dc:language>
  <cp:lastModifiedBy>Пользователь Windows</cp:lastModifiedBy>
  <dcterms:modified xsi:type="dcterms:W3CDTF">2023-04-11T14:44:4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