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gif" ContentType="image/gif"/>
  <Override PartName="/ppt/media/image6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1.png" ContentType="image/png"/>
  <Override PartName="/ppt/media/image3.gif" ContentType="image/gif"/>
  <Override PartName="/ppt/media/image2.png" ContentType="image/png"/>
  <Override PartName="/ppt/media/image25.jpeg" ContentType="image/jpeg"/>
  <Override PartName="/ppt/media/image4.wmf" ContentType="image/x-wmf"/>
  <Override PartName="/ppt/media/image26.png" ContentType="image/pn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.jpeg" ContentType="image/jpeg"/>
  <Override PartName="/ppt/media/image20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DD4-9633-4CAC-8D55-CA0A13E0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68B-F357-4DB4-9B6A-ED1B3EE1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B53-A8F7-4FEA-A0E6-F52F5408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9C2-A7B9-4E4F-A1C7-132234D7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61F7-9702-470B-A07B-05742FE2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B9FD-9290-4525-8C91-7BDC1222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F25F-98FD-473C-90B1-E806286E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6A77-769C-4341-B295-597CFD1D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D051-92E4-48C2-8A59-0B6FC98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45F8-CFA7-43A4-8F61-F31480F7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D9D6-A93F-484E-914C-B0F9499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D82-CC2B-47F7-8272-5CFA2A44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17A4-30C7-4245-88B6-D2A6D411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D48B-D954-4D9E-A14F-07E1FAD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55FB-AAF1-4A40-BC07-CA52D813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C12B-F6E6-46C7-B1FF-13EE7270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BCC9-F07C-4AA4-A420-57DFBCB1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B03-FC9D-409B-8DF5-495B372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3C7-0593-4FE3-A665-9B3559AC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454-9170-42B3-BDC5-A490FDD7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8A6-15C8-4AFB-B9D3-542AD30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A5A-3A4E-451A-8039-AC19FB6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F9A-F9CF-4E1D-8631-A5B2D46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DF9-6685-4CDF-BD53-FBC1F780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9C82-D1E9-4BD7-A4F5-554278F4252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C74D-9F30-4234-8569-170CEE3CF9F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11" descr=""/>
          <p:cNvPicPr/>
          <p:nvPr/>
        </p:nvPicPr>
        <p:blipFill>
          <a:blip r:embed="rId2"/>
          <a:stretch/>
        </p:blipFill>
        <p:spPr>
          <a:xfrm>
            <a:off x="420840" y="1371600"/>
            <a:ext cx="8229600" cy="190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716000" y="4508640"/>
            <a:ext cx="402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3" descr="AG00355_"/>
          <p:cNvPicPr/>
          <p:nvPr/>
        </p:nvPicPr>
        <p:blipFill>
          <a:blip r:embed="rId3"/>
          <a:stretch/>
        </p:blipFill>
        <p:spPr>
          <a:xfrm>
            <a:off x="826920" y="3357720"/>
            <a:ext cx="165600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ый ого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ср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ксичные продукты го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еря видимости вследствие задым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иженная концентрация кислор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689040" y="298440"/>
            <a:ext cx="7626240" cy="363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р м дома"/>
          <p:cNvPicPr/>
          <p:nvPr/>
        </p:nvPicPr>
        <p:blipFill>
          <a:blip r:embed="rId3"/>
          <a:stretch/>
        </p:blipFill>
        <p:spPr>
          <a:xfrm>
            <a:off x="3276720" y="3933720"/>
            <a:ext cx="2879640" cy="264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арная вол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олочные п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еприпас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ные разрушения зданий и сооруж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уш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ж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ражение атмосферы и мест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топл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6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772400" cy="2260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mage968"/>
          <p:cNvPicPr/>
          <p:nvPr/>
        </p:nvPicPr>
        <p:blipFill>
          <a:blip r:embed="rId3"/>
          <a:stretch/>
        </p:blipFill>
        <p:spPr>
          <a:xfrm>
            <a:off x="291636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3573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бель люд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еря здоров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териальный ущер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я в окружающей сре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лес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619280" y="360360"/>
            <a:ext cx="352908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ак, в 98% пожары происходят по вине человека, а взрывы – это халатность человека или целенаправленная его деяте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ствия  очень страшные. Так давайте же избегать таких катастроф. Давайте  будем  бдительными и внимательн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безымянный18"/>
          <p:cNvPicPr/>
          <p:nvPr/>
        </p:nvPicPr>
        <p:blipFill>
          <a:blip r:embed="rId3"/>
          <a:stretch/>
        </p:blipFill>
        <p:spPr>
          <a:xfrm>
            <a:off x="3348000" y="4653000"/>
            <a:ext cx="25192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1128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Неосторожное обращение с электрическими приборам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j0199283"/>
          <p:cNvPicPr/>
          <p:nvPr/>
        </p:nvPicPr>
        <p:blipFill>
          <a:blip r:embed="rId2"/>
          <a:stretch/>
        </p:blipFill>
        <p:spPr>
          <a:xfrm>
            <a:off x="395280" y="4425840"/>
            <a:ext cx="3313080" cy="243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j0234266"/>
          <p:cNvPicPr/>
          <p:nvPr/>
        </p:nvPicPr>
        <p:blipFill>
          <a:blip r:embed="rId3"/>
          <a:stretch/>
        </p:blipFill>
        <p:spPr>
          <a:xfrm>
            <a:off x="6443640" y="4292640"/>
            <a:ext cx="2319480" cy="226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22"/>
          <p:cNvPicPr/>
          <p:nvPr/>
        </p:nvPicPr>
        <p:blipFill>
          <a:blip r:embed="rId4"/>
          <a:stretch/>
        </p:blipFill>
        <p:spPr>
          <a:xfrm>
            <a:off x="4356000" y="4653000"/>
            <a:ext cx="169560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Искра- причина возникновения пожар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j0295241"/>
          <p:cNvPicPr/>
          <p:nvPr/>
        </p:nvPicPr>
        <p:blipFill>
          <a:blip r:embed="rId2"/>
          <a:stretch/>
        </p:blipFill>
        <p:spPr>
          <a:xfrm>
            <a:off x="4788000" y="2924280"/>
            <a:ext cx="3941640" cy="33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40695"/>
          <p:cNvPicPr/>
          <p:nvPr/>
        </p:nvPicPr>
        <p:blipFill>
          <a:blip r:embed="rId3"/>
          <a:stretch/>
        </p:blipFill>
        <p:spPr>
          <a:xfrm>
            <a:off x="826920" y="3138480"/>
            <a:ext cx="3600720" cy="288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мыкание в электропроводк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j0234657"/>
          <p:cNvPicPr/>
          <p:nvPr/>
        </p:nvPicPr>
        <p:blipFill>
          <a:blip r:embed="rId2"/>
          <a:stretch/>
        </p:blipFill>
        <p:spPr>
          <a:xfrm>
            <a:off x="2700360" y="2492280"/>
            <a:ext cx="360036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2400" cy="146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bb"/>
          <p:cNvPicPr/>
          <p:nvPr/>
        </p:nvPicPr>
        <p:blipFill>
          <a:blip r:embed="rId3"/>
          <a:stretch/>
        </p:blipFill>
        <p:spPr>
          <a:xfrm>
            <a:off x="4557600" y="3424320"/>
            <a:ext cx="28800" cy="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668750VkH"/>
          <p:cNvPicPr/>
          <p:nvPr/>
        </p:nvPicPr>
        <p:blipFill>
          <a:blip r:embed="rId4"/>
          <a:stretch/>
        </p:blipFill>
        <p:spPr>
          <a:xfrm>
            <a:off x="1763640" y="2301840"/>
            <a:ext cx="5761080" cy="383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соблюдение мер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правил безопасности при эксплуатации электрооборудования, а также его неисправ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я в проектиров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безымянный15"/>
          <p:cNvPicPr/>
          <p:nvPr/>
        </p:nvPicPr>
        <p:blipFill>
          <a:blip r:embed="rId3"/>
          <a:stretch/>
        </p:blipFill>
        <p:spPr>
          <a:xfrm>
            <a:off x="6732720" y="4437000"/>
            <a:ext cx="1655640" cy="163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редприятия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реждение производственных ёмкостей, аппаратуры и трубопрово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контр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тупления от технологического реж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жилых дом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ечка га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ранение взрывчатых веще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ррористические ак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5" descr="безымянный13"/>
          <p:cNvPicPr/>
          <p:nvPr/>
        </p:nvPicPr>
        <p:blipFill>
          <a:blip r:embed="rId2"/>
          <a:stretch/>
        </p:blipFill>
        <p:spPr>
          <a:xfrm>
            <a:off x="2916360" y="3573360"/>
            <a:ext cx="302400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7" descr=""/>
          <p:cNvPicPr/>
          <p:nvPr/>
        </p:nvPicPr>
        <p:blipFill>
          <a:blip r:embed="rId2"/>
          <a:stretch/>
        </p:blipFill>
        <p:spPr>
          <a:xfrm>
            <a:off x="689040" y="298440"/>
            <a:ext cx="7626240" cy="3633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mage112"/>
          <p:cNvPicPr/>
          <p:nvPr/>
        </p:nvPicPr>
        <p:blipFill>
          <a:blip r:embed="rId3"/>
          <a:stretch/>
        </p:blipFill>
        <p:spPr>
          <a:xfrm>
            <a:off x="2556000" y="3429000"/>
            <a:ext cx="38876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59:50Z</dcterms:created>
  <dc:creator>ученик</dc:creator>
  <dc:description/>
  <dc:language>en-US</dc:language>
  <cp:lastModifiedBy>User</cp:lastModifiedBy>
  <dcterms:modified xsi:type="dcterms:W3CDTF">2023-04-11T19:42:17Z</dcterms:modified>
  <cp:revision>26</cp:revision>
  <dc:subject/>
  <dc:title>«Затопила печку, а сама на крылечко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