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gif" ContentType="image/gif"/>
  <Override PartName="/ppt/media/image6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1.png" ContentType="image/png"/>
  <Override PartName="/ppt/media/image3.gif" ContentType="image/gif"/>
  <Override PartName="/ppt/media/image2.png" ContentType="image/png"/>
  <Override PartName="/ppt/media/image25.jpeg" ContentType="image/jpeg"/>
  <Override PartName="/ppt/media/image4.wmf" ContentType="image/x-wmf"/>
  <Override PartName="/ppt/media/image26.png" ContentType="image/pn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.jpeg" ContentType="image/jpeg"/>
  <Override PartName="/ppt/media/image20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BE8-D090-4638-9C91-09DC906F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4CD-D5FB-4848-8A21-518B3124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9D4-5910-4671-9AAA-AE663696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445-BD7C-4974-B244-4CDC5F12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DA9-4284-4C8A-870C-CB2A3B86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D47D-3163-4B64-A680-8C03E5AB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DDED-4632-4756-9CB9-70AE784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A1E-D992-42C8-891D-6805FFE4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E447-0F9A-4B04-A64A-1A1ACFA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4362-06EA-4779-97C8-2EFEBC04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1063-EF94-4A7B-B9DA-EA372DC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587-BF7D-47A5-8AB3-7F03F1C4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D824-A0C8-4198-A142-8D56DCB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F23F-6DFC-4FB2-8977-089776A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F5ED-6DC5-49C9-AD7B-8C68A0F4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DD0A-DAC7-48BB-83D9-C751433A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1AEC-2C42-4320-9A3D-58884DCF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E88-B38D-487F-BBD8-1FFDE77C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730-41BF-4084-A275-A1B1B9C3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9DE-BA82-480D-BDDF-F347AEF0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013-AA7C-4F3E-B340-CCD6EE3E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B65-5F40-4AD6-97D6-A6027FA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160-3BCA-4175-9A51-D75D6848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14E-0225-424E-A772-A215E8C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C776-5E3C-4B09-9740-E70CA2F6DF0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9D1D-A6BB-49A3-B220-3C337D8EFB0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11" descr=""/>
          <p:cNvPicPr/>
          <p:nvPr/>
        </p:nvPicPr>
        <p:blipFill>
          <a:blip r:embed="rId2"/>
          <a:stretch/>
        </p:blipFill>
        <p:spPr>
          <a:xfrm>
            <a:off x="420840" y="1371600"/>
            <a:ext cx="8229600" cy="190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716000" y="4508640"/>
            <a:ext cx="402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3" descr="AG00355_"/>
          <p:cNvPicPr/>
          <p:nvPr/>
        </p:nvPicPr>
        <p:blipFill>
          <a:blip r:embed="rId3"/>
          <a:stretch/>
        </p:blipFill>
        <p:spPr>
          <a:xfrm>
            <a:off x="826920" y="3357720"/>
            <a:ext cx="165600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ый ого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ср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ксичные продукты го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еря видимости вследствие задым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иженная концентрация кислор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689040" y="298440"/>
            <a:ext cx="7626240" cy="363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р м дома"/>
          <p:cNvPicPr/>
          <p:nvPr/>
        </p:nvPicPr>
        <p:blipFill>
          <a:blip r:embed="rId3"/>
          <a:stretch/>
        </p:blipFill>
        <p:spPr>
          <a:xfrm>
            <a:off x="3276720" y="3933720"/>
            <a:ext cx="2879640" cy="264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арная вол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олочные п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еприпас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ные разрушения зданий и сооруж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уш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ж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ражение атмосферы и мест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топл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6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772400" cy="2260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mage968"/>
          <p:cNvPicPr/>
          <p:nvPr/>
        </p:nvPicPr>
        <p:blipFill>
          <a:blip r:embed="rId3"/>
          <a:stretch/>
        </p:blipFill>
        <p:spPr>
          <a:xfrm>
            <a:off x="291636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3573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бель люд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еря здоров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териальный ущер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я в окружающей сре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лес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619280" y="360360"/>
            <a:ext cx="352908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ак, в 98% пожары происходят по вине человека, а взрывы – это халатность человека или целенаправленная его деяте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ствия  очень страшные. Так давайте же избегать таких катастроф. Давайте  будем  бдительными и внимательн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безымянный18"/>
          <p:cNvPicPr/>
          <p:nvPr/>
        </p:nvPicPr>
        <p:blipFill>
          <a:blip r:embed="rId3"/>
          <a:stretch/>
        </p:blipFill>
        <p:spPr>
          <a:xfrm>
            <a:off x="3348000" y="4653000"/>
            <a:ext cx="25192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1128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Неосторожное обращение с электрическими приборам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j0199283"/>
          <p:cNvPicPr/>
          <p:nvPr/>
        </p:nvPicPr>
        <p:blipFill>
          <a:blip r:embed="rId2"/>
          <a:stretch/>
        </p:blipFill>
        <p:spPr>
          <a:xfrm>
            <a:off x="395280" y="4425840"/>
            <a:ext cx="3313080" cy="243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j0234266"/>
          <p:cNvPicPr/>
          <p:nvPr/>
        </p:nvPicPr>
        <p:blipFill>
          <a:blip r:embed="rId3"/>
          <a:stretch/>
        </p:blipFill>
        <p:spPr>
          <a:xfrm>
            <a:off x="6443640" y="4292640"/>
            <a:ext cx="2319480" cy="226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22"/>
          <p:cNvPicPr/>
          <p:nvPr/>
        </p:nvPicPr>
        <p:blipFill>
          <a:blip r:embed="rId4"/>
          <a:stretch/>
        </p:blipFill>
        <p:spPr>
          <a:xfrm>
            <a:off x="4356000" y="4653000"/>
            <a:ext cx="169560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Искра- причина возникновения пожар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j0295241"/>
          <p:cNvPicPr/>
          <p:nvPr/>
        </p:nvPicPr>
        <p:blipFill>
          <a:blip r:embed="rId2"/>
          <a:stretch/>
        </p:blipFill>
        <p:spPr>
          <a:xfrm>
            <a:off x="4788000" y="2924280"/>
            <a:ext cx="3941640" cy="33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40695"/>
          <p:cNvPicPr/>
          <p:nvPr/>
        </p:nvPicPr>
        <p:blipFill>
          <a:blip r:embed="rId3"/>
          <a:stretch/>
        </p:blipFill>
        <p:spPr>
          <a:xfrm>
            <a:off x="826920" y="3138480"/>
            <a:ext cx="3600720" cy="288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мыкание в электропроводк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j0234657"/>
          <p:cNvPicPr/>
          <p:nvPr/>
        </p:nvPicPr>
        <p:blipFill>
          <a:blip r:embed="rId2"/>
          <a:stretch/>
        </p:blipFill>
        <p:spPr>
          <a:xfrm>
            <a:off x="2700360" y="2492280"/>
            <a:ext cx="360036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2400" cy="146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bb"/>
          <p:cNvPicPr/>
          <p:nvPr/>
        </p:nvPicPr>
        <p:blipFill>
          <a:blip r:embed="rId3"/>
          <a:stretch/>
        </p:blipFill>
        <p:spPr>
          <a:xfrm>
            <a:off x="4557600" y="3424320"/>
            <a:ext cx="28800" cy="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668750VkH"/>
          <p:cNvPicPr/>
          <p:nvPr/>
        </p:nvPicPr>
        <p:blipFill>
          <a:blip r:embed="rId4"/>
          <a:stretch/>
        </p:blipFill>
        <p:spPr>
          <a:xfrm>
            <a:off x="1763640" y="2301840"/>
            <a:ext cx="5761080" cy="383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соблюдение мер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правил безопасности при эксплуатации электрооборудования, а также его неисправ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я в проектиров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безымянный15"/>
          <p:cNvPicPr/>
          <p:nvPr/>
        </p:nvPicPr>
        <p:blipFill>
          <a:blip r:embed="rId3"/>
          <a:stretch/>
        </p:blipFill>
        <p:spPr>
          <a:xfrm>
            <a:off x="6732720" y="4437000"/>
            <a:ext cx="1655640" cy="163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редприятия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реждение производственных ёмкостей, аппаратуры и трубопрово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контр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тупления от технологического реж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жилых дом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ечка га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ранение взрывчатых веще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ррористические ак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5" descr="безымянный13"/>
          <p:cNvPicPr/>
          <p:nvPr/>
        </p:nvPicPr>
        <p:blipFill>
          <a:blip r:embed="rId2"/>
          <a:stretch/>
        </p:blipFill>
        <p:spPr>
          <a:xfrm>
            <a:off x="2916360" y="3573360"/>
            <a:ext cx="302400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7" descr=""/>
          <p:cNvPicPr/>
          <p:nvPr/>
        </p:nvPicPr>
        <p:blipFill>
          <a:blip r:embed="rId2"/>
          <a:stretch/>
        </p:blipFill>
        <p:spPr>
          <a:xfrm>
            <a:off x="689040" y="298440"/>
            <a:ext cx="7626240" cy="3633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mage112"/>
          <p:cNvPicPr/>
          <p:nvPr/>
        </p:nvPicPr>
        <p:blipFill>
          <a:blip r:embed="rId3"/>
          <a:stretch/>
        </p:blipFill>
        <p:spPr>
          <a:xfrm>
            <a:off x="2556000" y="3429000"/>
            <a:ext cx="38876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59:50Z</dcterms:created>
  <dc:creator>ученик</dc:creator>
  <dc:description/>
  <dc:language>en-US</dc:language>
  <cp:lastModifiedBy>User</cp:lastModifiedBy>
  <dcterms:modified xsi:type="dcterms:W3CDTF">2023-04-11T19:42:17Z</dcterms:modified>
  <cp:revision>26</cp:revision>
  <dc:subject/>
  <dc:title>«Затопила печку, а сама на крылечко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