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C6D-9C2F-440D-9CE2-9B4FB785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701-5857-4D62-B659-F235B9A6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997-666E-41F2-BD37-1F4FD258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5FF-C273-41E5-8C27-A5F113FD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5D75-E964-49C6-B404-AF31DD51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5E3-E6F1-41BF-B96D-EE5979AF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DD9-D80F-4A72-98AF-B85E23C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4FEC-32B4-4150-98D4-7EB25806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07C-482E-4AB2-9284-DD734833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AE3B-356A-4E55-BFA4-245A2CA7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CA32-F832-42C8-84DD-2D4887D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604-58DF-4441-A3B5-9E99B06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4FB6-CB63-4B8A-8270-D902F7FF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6D51-33BA-40F7-B19B-4401A98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254B-2E59-4928-9CC0-EFDBDFB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E801-10B3-46B3-970F-E4339450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A0F5-8555-4ED5-8A03-A032AB54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AAFF-4F42-46D6-B382-08550571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A75F-A16E-4C40-B44F-2BF55A43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480C-B2BE-4E02-9EAA-0E128ED1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1281-4F9E-4A6F-933F-68F4D998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AE5B-0027-450E-952E-F1938CFA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C0C-A384-4640-91D3-569AA123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4944-92CD-427B-BCED-350480E2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F21C-C370-440C-8B9C-B80266D6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CE1B-FDD4-4D64-931D-F12B011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0671-BE0C-4426-A344-EC7E885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8DDF-C26F-48D2-BE37-E77B3B93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E450-324F-4808-A58B-F4F95547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AFD4-D041-44AF-9813-1925DE20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18D-3D41-4905-9D44-B5B95244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2CF-5D1F-44BA-9263-65404433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46D-A754-4FAA-BEE0-3465DC8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A5E-31A2-4A66-98FB-47F5D00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0BA-B893-486C-AF49-166542A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4E3-DD73-436F-936F-858E5DE8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EB6-34CE-4409-9744-45CCCF5EB7C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C28F-7803-4433-9C9E-63FD36ACD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06C7-023D-4D0B-BAD2-5E79DF4458F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06DC-1F07-45D0-A960-85926D973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4BD-F06F-42DF-8F68-467881EC624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4CD-6B65-4E94-977E-1D5B350BA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АХОВ нейротропного действия относятся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углерод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E7F7-6CDB-49D6-8178-55BA5FF6C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3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167-41E3-43E0-A5F6-44FD736DE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6" name="Содержимое 3" descr="1.jpg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7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D622-0F2A-48F5-B830-A3DE163A7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9" name="Содержимое 3" descr="1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DFD-9FE3-4EB1-B2D0-6DB7D953E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2" name="Содержимое 3" descr="1.jpg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3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B11E-CE5B-45AE-9C32-AAE3DBBFA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5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5B7B-7F99-42B0-AEFC-98D55A984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8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9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7939-35EF-4D43-851D-DCF0ABC5B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1" name="Содержимое 3" descr="1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372-0590-445B-B6E3-CEED38BBB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4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5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498-1FD0-4576-8262-0204E829A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7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8" name="Номер слайда 4"/>
          <p:cNvSpPr/>
          <p:nvPr/>
        </p:nvSpPr>
        <p:spPr>
          <a:xfrm>
            <a:off x="8531280" y="649296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536-3F65-42AC-8039-3DBA22A17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0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1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506F-15A3-4B3D-ACCD-F80269EB1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1"/>
          <p:cNvSpPr/>
          <p:nvPr/>
        </p:nvSpPr>
        <p:spPr>
          <a:xfrm>
            <a:off x="8531280" y="6608880"/>
            <a:ext cx="612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DC4-2B47-4FB0-ACDF-2307BB1C9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3" name="Содержимое 3" descr="{4F01E80C-C006-4B1F-93A4-3FC036B9A08E}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4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FA8-3DEB-44F3-A65F-9D6BD0019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1"/>
          <p:cNvSpPr/>
          <p:nvPr/>
        </p:nvSpPr>
        <p:spPr>
          <a:xfrm>
            <a:off x="8531280" y="6681960"/>
            <a:ext cx="612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DD76-AB22-47CF-8FA0-C55F5A2E7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1"/>
          <p:cNvSpPr/>
          <p:nvPr/>
        </p:nvSpPr>
        <p:spPr>
          <a:xfrm>
            <a:off x="8531280" y="6664320"/>
            <a:ext cx="612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9137-4AD1-4758-BAA7-C3E0725E1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1" name="Содержимое 3" descr="{EBCA3257-06BB-497D-94DB-4FFAD9806095}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2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CF14-4354-45C0-BBEE-D8DD23B84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ХОВ удушающего и нейротропного действия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2920" y="1071720"/>
            <a:ext cx="8858160" cy="4572000"/>
          </a:xfrm>
          <a:prstGeom prst="rect">
            <a:avLst/>
          </a:prstGeom>
          <a:solidFill>
            <a:srgbClr val="edc0dd"/>
          </a:solidFill>
          <a:ln w="0">
            <a:noFill/>
          </a:ln>
        </p:spPr>
        <p:txBody>
          <a:bodyPr anchor="t">
            <a:normAutofit/>
          </a:bodyPr>
          <a:p>
            <a:pPr marL="419040" indent="228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еществам, обладающим удушающим и нейротропным действием, относятся токсические соединения, вызывающие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ек легки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фоне которого развивается тяжелое поражение нервной системы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19040" indent="228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действия этих веществ лежит нарушение генерации, проведения и передачи нервного импульса, которое усугубляется нарушением дыхания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19040" indent="228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дставителем этой группы АХОВ является аммиак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9A69-8FB1-4F26-9633-BE025F854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"/>
          <p:cNvSpPr/>
          <p:nvPr/>
        </p:nvSpPr>
        <p:spPr>
          <a:xfrm>
            <a:off x="8531280" y="6664320"/>
            <a:ext cx="612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2B0-DB22-4312-8A91-8E03783C8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Скругленный прямоугольник 3"/>
          <p:cNvSpPr/>
          <p:nvPr/>
        </p:nvSpPr>
        <p:spPr>
          <a:xfrm>
            <a:off x="357120" y="285840"/>
            <a:ext cx="8501040" cy="5643360"/>
          </a:xfrm>
          <a:prstGeom prst="roundRect">
            <a:avLst>
              <a:gd name="adj" fmla="val 16667"/>
            </a:avLst>
          </a:prstGeom>
          <a:solidFill>
            <a:srgbClr val="f6dfee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 отравлении аммиаком наблюдают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зотечение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ель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рудненное дыхание (возможна остановка дыхания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хриплость голос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ения нарастающего отека легких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вота, возбуждение, судороги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ажение глаз (светобоязнь, конъюктивит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ожоги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2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4FC3-5B48-4FED-AF19-BFA25A0AC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1"/>
          <p:cNvSpPr/>
          <p:nvPr/>
        </p:nvSpPr>
        <p:spPr>
          <a:xfrm>
            <a:off x="8531280" y="6675480"/>
            <a:ext cx="6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EA75-2CCE-45D7-942E-6B02CE733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0:42:18Z</dcterms:created>
  <dc:creator>Евгений Рыжков</dc:creator>
  <dc:description/>
  <dc:language>en-US</dc:language>
  <cp:lastModifiedBy>User</cp:lastModifiedBy>
  <dcterms:modified xsi:type="dcterms:W3CDTF">2023-04-12T12:47:03Z</dcterms:modified>
  <cp:revision>269</cp:revision>
  <dc:subject/>
  <dc:title>Слайд 1</dc:title>
</cp:coreProperties>
</file>