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AEF-6D6F-46EB-9EE4-5268FF23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5D5-DCFF-4843-8DFD-540E0FD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DDC-8DAB-4621-8C85-2BFFA57A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118-BA87-40C4-83E1-A982A6D2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A448-31F4-444B-884A-FBAED21C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964-B60A-491C-9D4B-903CEE2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3863-6C16-4AA2-A410-027E9D3C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91A6-1B6D-4699-A356-2B92B8A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929-6501-4678-A23D-40C009F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31E-BB7D-4782-B324-E9C57D9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058-8102-4194-B9A9-DE28B26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35D-622E-46C5-BE54-7DC217A5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5E1-8909-4843-B8B7-1E5E2EE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4A7-B119-4C8E-A040-FB11675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1A54-C950-4C20-A5B1-48B4C1D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A44-78E8-42B7-AAF9-2AE86DC8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29E2-A3E5-4964-922D-AF68A78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9F26-C99A-43D4-AA69-0C723D18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5785-C82C-4B1C-9858-92FF37A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D69F-A34B-43B7-A810-AC166CF0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8EBC-814F-40EE-9988-8B92F6A0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952A-404F-4325-87E6-5F333B0D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49C-2BB3-4115-B4BF-7A7634F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9AC8-13B8-4DED-A0DE-A522BEE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74F0-4416-402A-B35E-CE50153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1181-296A-496B-81DB-59A32E37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1707-FEE7-4A33-9774-17260A7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34D8-FA98-496E-9853-414E296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FB79-A995-49EC-B1BD-944CB9FB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63B3-3F47-41A1-A48E-C44781D9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FF8-9D3E-4F7D-A849-38A6BB5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255-7139-47CF-B2D7-6810FC3D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0CA-4D5E-4189-B988-B87ECF2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2E5-E662-4381-BCDE-154964C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930-072D-43A5-AB36-F42A6E4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E70-E02F-4240-9A3C-81A6B00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5524-79A2-46CD-AB8C-3A4F80B5962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D373-2E7A-4A81-B3E9-3B666ED0D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F932-7A2A-4F13-808C-8B845481EFB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C0C-0A37-4141-8B6F-3C4A78CEB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C51-3188-4402-9176-CFEFD09DE2D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EB2-1506-499F-ACFA-529E870FD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АХОВ нейротропного действия относятся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фос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углерод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DCD-1BE9-4E08-9AF8-3E51BE1EA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3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3FD-2AB1-4F1D-B579-47CED16B0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Содержимое 3" descr="1.jpg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7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C2D-541B-4707-8348-42735CCF0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9" name="Содержимое 3" descr="1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090-C6CD-49C0-AFCA-9AA97CCB3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2" name="Содержимое 3" descr="1.jpg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8E62-602A-4D17-B6ED-C7954E884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5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9DB-AE7A-4004-8CE7-7B93F51F3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8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53CF-3083-425A-A9E2-C8BA15B71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1" name="Содержимое 3" descr="1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A51B-68AE-4EEF-A599-862ED14B6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4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5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6E6-CB21-40E5-ACCD-92B807210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7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8" name="Номер слайда 4"/>
          <p:cNvSpPr/>
          <p:nvPr/>
        </p:nvSpPr>
        <p:spPr>
          <a:xfrm>
            <a:off x="8531280" y="649296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545-0466-4D6A-AFCE-F340B0E5F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0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1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694-87EE-418E-84E3-7DA4BC91D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1"/>
          <p:cNvSpPr/>
          <p:nvPr/>
        </p:nvSpPr>
        <p:spPr>
          <a:xfrm>
            <a:off x="8531280" y="6608880"/>
            <a:ext cx="612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F1B-9EED-4B8D-BF8C-0080F68D9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Содержимое 3" descr="{4F01E80C-C006-4B1F-93A4-3FC036B9A08E}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4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9AAF-7B7C-43AD-B9DA-D16CA3A60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1"/>
          <p:cNvSpPr/>
          <p:nvPr/>
        </p:nvSpPr>
        <p:spPr>
          <a:xfrm>
            <a:off x="8531280" y="6681960"/>
            <a:ext cx="612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E0E4-81DE-43ED-8F8A-2CF8422EC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1"/>
          <p:cNvSpPr/>
          <p:nvPr/>
        </p:nvSpPr>
        <p:spPr>
          <a:xfrm>
            <a:off x="8531280" y="6664320"/>
            <a:ext cx="612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404-CBDA-4B9E-BAB7-1857DBB83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1" name="Содержимое 3" descr="{EBCA3257-06BB-497D-94DB-4FFAD9806095}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Номер слайда 4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10E-2D62-4504-8036-EBFAAA3A3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ХОВ удушающего и нейротропного действия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2920" y="1071720"/>
            <a:ext cx="8858160" cy="4572000"/>
          </a:xfrm>
          <a:prstGeom prst="rect">
            <a:avLst/>
          </a:prstGeom>
          <a:solidFill>
            <a:srgbClr val="edc0dd"/>
          </a:solidFill>
          <a:ln w="0">
            <a:noFill/>
          </a:ln>
        </p:spPr>
        <p:txBody>
          <a:bodyPr anchor="t">
            <a:normAutofit/>
          </a:bodyPr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еществам, обладающим удушающим и нейротропным действием, относятся токсические соединения, вызывающие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ек легк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фоне которого развивается тяжелое поражение нервной системы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действия этих веществ лежит нарушение генерации, проведения и передачи нервного импульса, которое усугубляется нарушением дыхания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19040" indent="228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ставителем этой группы АХОВ является аммиак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E011-0805-4E27-9710-BA4B3E980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"/>
          <p:cNvSpPr/>
          <p:nvPr/>
        </p:nvSpPr>
        <p:spPr>
          <a:xfrm>
            <a:off x="8531280" y="6664320"/>
            <a:ext cx="612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102-7024-4F9D-913A-9532A7ABC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Скругленный прямоугольник 3"/>
          <p:cNvSpPr/>
          <p:nvPr/>
        </p:nvSpPr>
        <p:spPr>
          <a:xfrm>
            <a:off x="357120" y="285840"/>
            <a:ext cx="8501040" cy="5643360"/>
          </a:xfrm>
          <a:prstGeom prst="roundRect">
            <a:avLst>
              <a:gd name="adj" fmla="val 16667"/>
            </a:avLst>
          </a:prstGeom>
          <a:solidFill>
            <a:srgbClr val="f6dfee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 отравлении аммиаком наблюдают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зотечение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ель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рудненное дыхание (возможна остановка дыхания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хриплость голос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ения нарастающего отека легких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вота, возбуждение, судороги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ажение глаз (светобоязнь, конъюктивит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ожоги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2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F803-7116-4616-A1EE-BAD09A24B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1"/>
          <p:cNvSpPr/>
          <p:nvPr/>
        </p:nvSpPr>
        <p:spPr>
          <a:xfrm>
            <a:off x="8531280" y="6675480"/>
            <a:ext cx="6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DEA-B3B3-4C8D-82AC-14747C309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0:42:18Z</dcterms:created>
  <dc:creator>Евгений Рыжков</dc:creator>
  <dc:description/>
  <dc:language>en-US</dc:language>
  <cp:lastModifiedBy>User</cp:lastModifiedBy>
  <dcterms:modified xsi:type="dcterms:W3CDTF">2023-04-12T12:47:03Z</dcterms:modified>
  <cp:revision>269</cp:revision>
  <dc:subject/>
  <dc:title>Слайд 1</dc:title>
</cp:coreProperties>
</file>