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61E-9AC4-4AF6-A213-22DE23E7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7BA-E6C2-4D6A-BA69-114DE3B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FE0-ECBE-4894-9F69-87838605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B2F-349C-434F-9170-50B5422F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6B1-585A-4C8C-BB07-E92B7D83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D61-E0FF-4AE4-8689-233283A2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E23-B868-4815-A4F1-C82E1270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B96-C17C-4E29-AC9C-9A6EB61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8A1-27D0-429C-9969-C85410DE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B9F-A74F-43FB-98EF-2C8AC5B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9B4-BF3B-4BAB-B730-7C6F68C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813-D909-4BE9-8ECD-0E157DF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84A-602C-4A76-847F-60E3C6F653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Фото-озеро-Байкал-Баргузинский-заповедник-Бурятия-Росс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2f2"/>
                </a:solidFill>
                <a:latin typeface="Blackadder ITC"/>
              </a:rPr>
              <a:t>Баргузинский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17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2f2"/>
                </a:solidFill>
                <a:latin typeface="Blackadder ITC"/>
              </a:rPr>
              <a:t>заповедни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211640" y="522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дготовила: Зоркальце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аталья Герасим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arguzinskiy_zapovednik_4-500x373"/>
          <p:cNvPicPr/>
          <p:nvPr/>
        </p:nvPicPr>
        <p:blipFill>
          <a:blip r:embed="rId1"/>
          <a:stretch/>
        </p:blipFill>
        <p:spPr>
          <a:xfrm>
            <a:off x="1763640" y="2060640"/>
            <a:ext cx="5689800" cy="4244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 водах заповедника встречаются омуль, сиг, осетр, хариус и таймен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img16"/>
          <p:cNvPicPr/>
          <p:nvPr/>
        </p:nvPicPr>
        <p:blipFill>
          <a:blip r:embed="rId1"/>
          <a:srcRect l="0" t="38451" r="0" b="0"/>
          <a:stretch/>
        </p:blipFill>
        <p:spPr>
          <a:xfrm>
            <a:off x="324000" y="549360"/>
            <a:ext cx="85690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тицы заповед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территории Баргузинского заповедника насчитывается около 275 видов птиц. Число пернатых меняется в зависимости от климата и времени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можно встретить  глухаря, рябчика, кукушку, орлана-белохвоста, ястребиную со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6" descr="img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стения лесов заповед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поведнике растут сосна обыкновенная, ель, пихта, багульник, брусника и другие кустарники, тощие березки, смородина душистая, плауны лишайн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arguzinskiy_zapovednik_8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guzinskiy_zapovednik_7-500x315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arguzinskiy_zapovednik_10-500x333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Спасибо за внимание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5" descr="Barguzinskiy_zapovednik_3-500x333"/>
          <p:cNvPicPr/>
          <p:nvPr/>
        </p:nvPicPr>
        <p:blipFill>
          <a:blip r:embed="rId1"/>
          <a:stretch/>
        </p:blipFill>
        <p:spPr>
          <a:xfrm>
            <a:off x="826920" y="1557360"/>
            <a:ext cx="7704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50920" y="14616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ргузинский заповедник, первый в России, образован в 1916 году с целью сохранения и восстановления численности, повсеместно истребляемого ради ценного меха соболя. Заповедник расположен на северо-восточном побережье озера Байкал. В настоящее время территория Баргузинского заповедника – эталон чистоты и первозданности Байкальской прир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431"/>
          <p:cNvPicPr/>
          <p:nvPr/>
        </p:nvPicPr>
        <p:blipFill>
          <a:blip r:embed="rId1"/>
          <a:stretch/>
        </p:blipFill>
        <p:spPr>
          <a:xfrm>
            <a:off x="250920" y="3141720"/>
            <a:ext cx="4608360" cy="316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zhivotnyie-Barguzinskogo-zapovednika"/>
          <p:cNvPicPr/>
          <p:nvPr/>
        </p:nvPicPr>
        <p:blipFill>
          <a:blip r:embed="rId2"/>
          <a:stretch/>
        </p:blipFill>
        <p:spPr>
          <a:xfrm>
            <a:off x="5003640" y="3141720"/>
            <a:ext cx="4140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nformation_items_1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56360" y="25848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1 января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- день образования Баргузинск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поведника – отмечается в РФ к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ень заповедников и национальных парков России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3628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ные сокровища Баргузинского заповедника — горные озера, водопады, горячие источники, сказочная тайга,  реки, скалы, цветущие долины в высокогорьях, курумы (каменные ре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0004-005-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6cc48a71295e7400d409a8805afde1b"/>
          <p:cNvPicPr/>
          <p:nvPr/>
        </p:nvPicPr>
        <p:blipFill>
          <a:blip r:embed="rId1"/>
          <a:stretch/>
        </p:blipFill>
        <p:spPr>
          <a:xfrm>
            <a:off x="-1143000" y="-390600"/>
            <a:ext cx="11430000" cy="76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z7big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ивотные Баргузинского заповедн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вотные в заповеднике преимущественно лесные. Здесь обитают обычный бурый медведь, лось, северный олень, заяц-беляк и, конечно, соболь. Всего 41 вид млекопит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ap_016"/>
          <p:cNvPicPr/>
          <p:nvPr/>
        </p:nvPicPr>
        <p:blipFill>
          <a:blip r:embed="rId1"/>
          <a:stretch/>
        </p:blipFill>
        <p:spPr>
          <a:xfrm>
            <a:off x="0" y="318960"/>
            <a:ext cx="4356000" cy="260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20b870bc86a4"/>
          <p:cNvPicPr/>
          <p:nvPr/>
        </p:nvPicPr>
        <p:blipFill>
          <a:blip r:embed="rId2"/>
          <a:stretch/>
        </p:blipFill>
        <p:spPr>
          <a:xfrm>
            <a:off x="4859280" y="333360"/>
            <a:ext cx="428472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los-roga-boroda-sherst"/>
          <p:cNvPicPr/>
          <p:nvPr/>
        </p:nvPicPr>
        <p:blipFill>
          <a:blip r:embed="rId3"/>
          <a:stretch/>
        </p:blipFill>
        <p:spPr>
          <a:xfrm>
            <a:off x="1547640" y="3500280"/>
            <a:ext cx="5977080" cy="2808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9"/>
          <p:cNvSpPr/>
          <p:nvPr/>
        </p:nvSpPr>
        <p:spPr>
          <a:xfrm>
            <a:off x="1166760" y="2997360"/>
            <a:ext cx="22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урый медве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60"/>
          <p:cNvSpPr/>
          <p:nvPr/>
        </p:nvSpPr>
        <p:spPr>
          <a:xfrm>
            <a:off x="6372360" y="30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яц-беля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61"/>
          <p:cNvSpPr/>
          <p:nvPr/>
        </p:nvSpPr>
        <p:spPr>
          <a:xfrm>
            <a:off x="4049640" y="6299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765"/>
          <p:cNvPicPr/>
          <p:nvPr/>
        </p:nvPicPr>
        <p:blipFill>
          <a:blip r:embed="rId1"/>
          <a:stretch/>
        </p:blipFill>
        <p:spPr>
          <a:xfrm>
            <a:off x="395280" y="260280"/>
            <a:ext cx="369396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84189"/>
          <p:cNvPicPr/>
          <p:nvPr/>
        </p:nvPicPr>
        <p:blipFill>
          <a:blip r:embed="rId2"/>
          <a:stretch/>
        </p:blipFill>
        <p:spPr>
          <a:xfrm>
            <a:off x="2627280" y="3284640"/>
            <a:ext cx="4535640" cy="290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-017"/>
          <p:cNvPicPr/>
          <p:nvPr/>
        </p:nvPicPr>
        <p:blipFill>
          <a:blip r:embed="rId3"/>
          <a:stretch/>
        </p:blipFill>
        <p:spPr>
          <a:xfrm>
            <a:off x="4643280" y="260280"/>
            <a:ext cx="3794400" cy="2664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875880" y="2852640"/>
            <a:ext cx="32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рношапочный сур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585040" y="2924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бар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410360" y="62992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б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06:30:36Z</dcterms:created>
  <dc:creator>Admin</dc:creator>
  <dc:description/>
  <dc:language>en-US</dc:language>
  <cp:lastModifiedBy>Admin</cp:lastModifiedBy>
  <dcterms:modified xsi:type="dcterms:W3CDTF">2023-02-05T18:43:04Z</dcterms:modified>
  <cp:revision>7</cp:revision>
  <dc:subject/>
  <dc:title>Баргузинский</dc:title>
</cp:coreProperties>
</file>