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A72-5335-444B-9E0E-BF81031D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F4B8-309D-4D04-B4A2-98E1AD11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BCF-28D1-4FCC-BFC7-0A663179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5A5-8CD4-4317-868B-316273A1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440F-47F6-4F20-8268-F43A2510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F3F-3708-49A8-A308-A367E71B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6FC-5EA1-4CDF-9E4E-81CFF8F3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AEB6-1FC7-432B-9BF5-80CF3C10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637-A49D-4A9B-BBEA-078A1923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C193-8030-4AEA-BE15-3615C68B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E1DD-DB25-4B78-8E50-74A8A969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7EE1-49ED-4478-B314-AE362132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D578-3E21-4774-AA8D-E95E1AD2FF9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Фото-озеро-Байкал-Баргузинский-заповедник-Бурятия-Росс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2f2"/>
                </a:solidFill>
                <a:latin typeface="Blackadder ITC"/>
              </a:rPr>
              <a:t>Баргузинский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99640" y="2349360"/>
            <a:ext cx="7417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2f2"/>
                </a:solidFill>
                <a:latin typeface="Blackadder ITC"/>
              </a:rPr>
              <a:t>заповедник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211640" y="522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одготовила: Зоркальце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аталья Герасим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arguzinskiy_zapovednik_4-500x373"/>
          <p:cNvPicPr/>
          <p:nvPr/>
        </p:nvPicPr>
        <p:blipFill>
          <a:blip r:embed="rId1"/>
          <a:stretch/>
        </p:blipFill>
        <p:spPr>
          <a:xfrm>
            <a:off x="1763640" y="2060640"/>
            <a:ext cx="5689800" cy="42447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 водах заповедника встречаются омуль, сиг, осетр, хариус и таймен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img16"/>
          <p:cNvPicPr/>
          <p:nvPr/>
        </p:nvPicPr>
        <p:blipFill>
          <a:blip r:embed="rId1"/>
          <a:srcRect l="0" t="38451" r="0" b="0"/>
          <a:stretch/>
        </p:blipFill>
        <p:spPr>
          <a:xfrm>
            <a:off x="324000" y="549360"/>
            <a:ext cx="856908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тицы заповедн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территории Баргузинского заповедника насчитывается около 275 видов птиц. Число пернатых меняется в зависимости от климата и времени г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десь можно встретить  глухаря, рябчика, кукушку, орлана-белохвоста, ястребиную сов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6" descr="img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астения лесов заповедн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заповеднике растут сосна обыкновенная, ель, пихта, багульник, брусника и другие кустарники, тощие березки, смородина душистая, плауны лишайни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Barguzinskiy_zapovednik_8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Barguzinskiy_zapovednik_7-500x315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Barguzinskiy_zapovednik_10-500x333"/>
          <p:cNvPicPr/>
          <p:nvPr/>
        </p:nvPicPr>
        <p:blipFill>
          <a:blip r:embed="rId1"/>
          <a:stretch/>
        </p:blipFill>
        <p:spPr>
          <a:xfrm>
            <a:off x="324000" y="620640"/>
            <a:ext cx="8351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Спасибо за внимание!!!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Picture 5" descr="Barguzinskiy_zapovednik_3-500x333"/>
          <p:cNvPicPr/>
          <p:nvPr/>
        </p:nvPicPr>
        <p:blipFill>
          <a:blip r:embed="rId1"/>
          <a:stretch/>
        </p:blipFill>
        <p:spPr>
          <a:xfrm>
            <a:off x="826920" y="1557360"/>
            <a:ext cx="7704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250920" y="146160"/>
            <a:ext cx="864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ргузинский заповедник, первый в России, образован в 1916 году с целью сохранения и восстановления численности, повсеместно истребляемого ради ценного меха соболя. Заповедник расположен на северо-восточном побережье озера Байкал. В настоящее время территория Баргузинского заповедника – эталон чистоты и первозданности Байкальской природ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5" descr="431"/>
          <p:cNvPicPr/>
          <p:nvPr/>
        </p:nvPicPr>
        <p:blipFill>
          <a:blip r:embed="rId1"/>
          <a:stretch/>
        </p:blipFill>
        <p:spPr>
          <a:xfrm>
            <a:off x="250920" y="3141720"/>
            <a:ext cx="4608360" cy="3162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zhivotnyie-Barguzinskogo-zapovednika"/>
          <p:cNvPicPr/>
          <p:nvPr/>
        </p:nvPicPr>
        <p:blipFill>
          <a:blip r:embed="rId2"/>
          <a:stretch/>
        </p:blipFill>
        <p:spPr>
          <a:xfrm>
            <a:off x="5003640" y="3141720"/>
            <a:ext cx="4140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information_items_13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56360" y="258480"/>
            <a:ext cx="771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1 января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- день образования Баргузинск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заповедника – отмечается в РФ к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ень заповедников и национальных парков России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24000" y="36288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родные сокровища Баргузинского заповедника — горные озера, водопады, горячие источники, сказочная тайга,  реки, скалы, цветущие долины в высокогорьях, курумы (каменные рек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5" descr="0004-005-"/>
          <p:cNvPicPr/>
          <p:nvPr/>
        </p:nvPicPr>
        <p:blipFill>
          <a:blip r:embed="rId1"/>
          <a:stretch/>
        </p:blipFill>
        <p:spPr>
          <a:xfrm>
            <a:off x="468360" y="1989000"/>
            <a:ext cx="8064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66cc48a71295e7400d409a8805afde1b"/>
          <p:cNvPicPr/>
          <p:nvPr/>
        </p:nvPicPr>
        <p:blipFill>
          <a:blip r:embed="rId1"/>
          <a:stretch/>
        </p:blipFill>
        <p:spPr>
          <a:xfrm>
            <a:off x="-1143000" y="-390600"/>
            <a:ext cx="11430000" cy="763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z7big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Животные Баргузинского заповедник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вотные в заповеднике преимущественно лесные. Здесь обитают обычный бурый медведь, лось, северный олень, заяц-беляк и, конечно, соболь. Всего 41 вид млекопитающ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map_016"/>
          <p:cNvPicPr/>
          <p:nvPr/>
        </p:nvPicPr>
        <p:blipFill>
          <a:blip r:embed="rId1"/>
          <a:stretch/>
        </p:blipFill>
        <p:spPr>
          <a:xfrm>
            <a:off x="0" y="318960"/>
            <a:ext cx="4356000" cy="2605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5" descr="20b870bc86a4"/>
          <p:cNvPicPr/>
          <p:nvPr/>
        </p:nvPicPr>
        <p:blipFill>
          <a:blip r:embed="rId2"/>
          <a:stretch/>
        </p:blipFill>
        <p:spPr>
          <a:xfrm>
            <a:off x="4859280" y="333360"/>
            <a:ext cx="4284720" cy="259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los-roga-boroda-sherst"/>
          <p:cNvPicPr/>
          <p:nvPr/>
        </p:nvPicPr>
        <p:blipFill>
          <a:blip r:embed="rId3"/>
          <a:stretch/>
        </p:blipFill>
        <p:spPr>
          <a:xfrm>
            <a:off x="1547640" y="3500280"/>
            <a:ext cx="5977080" cy="2808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9"/>
          <p:cNvSpPr/>
          <p:nvPr/>
        </p:nvSpPr>
        <p:spPr>
          <a:xfrm>
            <a:off x="1166760" y="2997360"/>
            <a:ext cx="22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урый медвед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60"/>
          <p:cNvSpPr/>
          <p:nvPr/>
        </p:nvSpPr>
        <p:spPr>
          <a:xfrm>
            <a:off x="6372360" y="3068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яц-беля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61"/>
          <p:cNvSpPr/>
          <p:nvPr/>
        </p:nvSpPr>
        <p:spPr>
          <a:xfrm>
            <a:off x="4049640" y="6299280"/>
            <a:ext cx="8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ос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6765"/>
          <p:cNvPicPr/>
          <p:nvPr/>
        </p:nvPicPr>
        <p:blipFill>
          <a:blip r:embed="rId1"/>
          <a:stretch/>
        </p:blipFill>
        <p:spPr>
          <a:xfrm>
            <a:off x="395280" y="260280"/>
            <a:ext cx="3693960" cy="2590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284189"/>
          <p:cNvPicPr/>
          <p:nvPr/>
        </p:nvPicPr>
        <p:blipFill>
          <a:blip r:embed="rId2"/>
          <a:stretch/>
        </p:blipFill>
        <p:spPr>
          <a:xfrm>
            <a:off x="2627280" y="3284640"/>
            <a:ext cx="4535640" cy="2908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ba-017"/>
          <p:cNvPicPr/>
          <p:nvPr/>
        </p:nvPicPr>
        <p:blipFill>
          <a:blip r:embed="rId3"/>
          <a:stretch/>
        </p:blipFill>
        <p:spPr>
          <a:xfrm>
            <a:off x="4643280" y="260280"/>
            <a:ext cx="3794400" cy="2664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875880" y="2852640"/>
            <a:ext cx="32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ерношапочный сур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585040" y="29242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абар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410360" y="62992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бо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6T06:30:36Z</dcterms:created>
  <dc:creator>Admin</dc:creator>
  <dc:description/>
  <dc:language>en-US</dc:language>
  <cp:lastModifiedBy>Admin</cp:lastModifiedBy>
  <dcterms:modified xsi:type="dcterms:W3CDTF">2023-02-05T18:43:04Z</dcterms:modified>
  <cp:revision>7</cp:revision>
  <dc:subject/>
  <dc:title>Баргузинский</dc:title>
</cp:coreProperties>
</file>