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E78-B66B-48EF-8D6D-1D569A66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ED4-41FC-49E0-82E5-AC75F98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7F5C9-AF44-403A-8ECD-C5DFC79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5EBEE-6632-4487-BC70-848C67C0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CF742-AE25-4056-B68B-F663DE17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9F42B-9E17-416D-A43C-0EBB64B5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E16FA-655C-4CFE-8D1F-05EA085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5005-C3FF-4595-9023-DD99A356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5AFDF-B0D7-4A8E-A239-3B632BA5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1C471-DC1D-4DA2-A124-C8C4E45E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5AB1A-A504-431E-AFAF-62207B0D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DD068-6E74-4826-AF96-9F89F650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3EB-AEB3-46E8-BAAA-70653794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F3992-9C64-4352-83A7-77FD6B92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474AE-47C2-4A14-9809-2BF312A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9079B-4A5B-46CE-B32A-47D8FE8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A8480-6797-449A-9C32-E0FFBB6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E29C5-A209-4C40-8FAE-ED9B37C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1929-70C0-4741-BB5D-CB1A5F8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5858-76BA-4192-BECF-CF95D88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FD6BA-D115-4C9C-B4CE-CE9BA5D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84309-0768-4655-BBBC-D2CE3A16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16D86-6AAE-4BF8-AAAD-3ACCF86B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A64-94BD-4357-9FCB-02E0A194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32924-4A62-44D7-8EDC-B81CD681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01323-7581-4E83-8232-1B98CCE8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FD059-36F8-400A-AAC6-51350B3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03EE7-A677-48DA-BB6E-1BA93B68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B42F7-620C-4CEB-A282-94FDD01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4F446-FF8D-44C7-8B0F-059DA9F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421E0-8333-4B24-9F60-87EAA98B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4DA7E-D87A-4129-9F91-A9079DF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2305E-1CF5-4DBA-A71C-FCB00D2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E3CC-4090-462E-BFB2-04A93E7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2ACA-5F80-4DC1-8091-7534E6D5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7667E-6F73-4C5B-BD54-1ED0172D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F18EB-7511-48D8-BB31-62754A35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90FA6-7A65-483A-A860-25D9EDF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35F40-C942-4E24-AC2F-D2DB4BEE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C29F8-54ED-4BFD-B373-1AC1349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C20FD-8D7D-4B4B-BF49-14C6192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BCAAA-E61B-4546-B535-84D44AF7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7FBDA-475B-4D6F-B7D4-5D5488A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BE94A-5971-4E66-BEDC-24C0A43F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B2670-A6FA-4A07-9EA2-8BF0E87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E2E1-E620-4688-9BFF-D8805ED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47147-7B8B-4AFC-AC6D-4027FAC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5E4F9-3E97-4FB0-BE29-F06EDFE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97833-9ED9-4947-9E8C-DBEF15C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AE7FC-E184-41B0-8931-EC5EBA10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19241-7ED6-4AB8-97F8-66166CEC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627F-7420-4669-B0A9-911EFD8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389F-F8FD-4D6A-8182-061FB712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4257-5982-4AA8-AC49-F47CE61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D900-8669-4CE4-90BA-F2C128E6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3C39-5521-47E4-938F-8BCF2EB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E18-9DAE-48D9-9E00-92B7D223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F743-445F-4AD6-BB11-969048E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753D-CA6B-4179-B0C9-96C993D4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4C3-180C-4AF4-A093-047F0EC7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044-35EB-4AF3-A535-7F948346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65D-427F-4E2C-9FBF-4E5C5B68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7EA5-8078-4D7B-8B5A-A086855A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5D88-A660-4617-AC43-E3CAAC12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B149-D329-4FD0-9A55-61A73EE1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B020-102F-486C-8A8C-5C47A8C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40BA-5342-4255-BCF5-1087B872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088-280E-47AD-8F77-05DA6AFF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4FFB-364A-414C-9E7A-52B3FE1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460D-0A7D-4C02-B636-710648F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12C6-0E3C-4360-9492-E449D99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3B46-E742-4A77-BBEC-1024F2A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5994-C5DA-47FA-A42C-CF636FE5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880A-ED49-4D21-BE85-7DBFD958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405A-F39C-4050-B9D8-67C44A43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64B5-8DA1-4A1E-A377-0BF2D77B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83E6-0DC9-4A6F-823B-ECB00EC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7456-D1A1-4690-A5C9-78D0A172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E7D-330F-4F62-A8ED-02CE24E4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699D-80C9-4FC1-B4FF-7428784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F0F3-3090-4843-90E7-BDACA9D4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91DE-FC28-4EEE-BBD1-72E5C7A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267A-166A-4EF2-A606-B9419A7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D47A-B486-4474-B224-F2661DD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E21D-1D20-47A3-A5C2-C29F086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A0E3-08DB-43C6-B1A3-907EB32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FC3C-7251-4CD4-8F49-3C50B8F8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EBA6-86B7-45ED-A957-AACE3F84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4FC62-B3D0-49CE-8E06-1AB0D9F6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4A2-B7DC-475B-91F2-5A0A2C8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B616-2B13-4997-B36B-83D8A9AA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8951-5004-4946-900F-CD43C5B8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EE54-52A1-45B9-995E-30407BCF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4504-0D3D-4F67-8EF8-B168F5A3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DC111-D2E9-4501-8739-E2EA465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A637-62E5-4E03-9F9C-536676C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64F7-D27F-4177-8ED1-46D2D445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B659-1358-47DE-8984-0A078B4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6DFE-C7BF-411E-AF0C-43609FB6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4032-22ED-4A65-804F-E8F8B101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5DC-5BD8-4A81-AEED-D10A8447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F979-2773-45CB-8173-7846BA5A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345E-B9F9-40F0-B6A4-51759DDA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52A1-2647-4754-B713-B57B1DA8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0028-8530-40DA-B898-31F4A6A6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CC67F-81AC-4EE3-8BD4-5496751E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5E8D-67CD-4AF8-8FC6-248BA5CB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BD36-1404-4BD2-B7B5-FBA6C2F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0FCF-F9CF-42A3-B9CE-38D7A14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23252-70C9-4CDA-A8A1-55B6D08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ED60-E917-459D-B164-B10F420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4A2-F98B-4A6C-8AF3-8B8A406F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026C-741A-4B20-BC65-7E8E51C3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26C1-ABD4-470A-ACCE-0D8207F8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1135-E0A5-4362-B722-3CD7EDDC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42AD2-4DAB-48AD-A672-18D47F5D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754E-7772-482C-95DE-691900B3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9B7F-568C-49A9-8D6D-7E50A1D4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311A-D7FF-4AF6-BE06-30DDDB6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7A95-1F2E-460C-A4FA-088D10E4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51D67-1C41-4004-8D97-17DB3A4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DCF9-D6BA-4393-9BBB-790B2F1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439-787A-4456-AD59-2B49E578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DAA0E-47CE-4213-92EE-54C03EE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BF6C-1A4E-4607-8A7B-4342AAD1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06F0-3D2B-40CE-B283-ADE8A56B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5BAD-1A66-443E-A033-84766827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AA3DE-617E-466E-9EB1-DED4894B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F1012-E23C-47AA-BA03-3BEF9D67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F65EB-1FB5-4236-8E18-A343569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1E769-F29A-412D-B8AE-BE318E9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3DAA-B35B-4A54-98D8-AF524C2B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3719-66AA-45DD-903C-5FB93D1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517-4EDC-4D49-BC92-7FF88FE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176C-3AC8-4AF1-A3F4-A2D72178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4085-0EC8-419C-9272-150801C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8C60-67D9-4531-86E6-207E7E1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F4CC6-03E7-44FC-8D04-DFC7D31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D622-16A9-43AE-86D3-8FFE5884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FBB8D-CC77-4690-B1B6-75BAAAB7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6D107-AFD1-45EF-AFE1-600919B8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7D41E-A765-4E2E-894B-CE613E2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60FFC-FB52-4DA4-A710-5016F00C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E6959-F712-4B3E-898A-9998508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755A-90D0-4C64-8082-224DA5729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A72-5650-4BC4-B1E2-A5C0BFB47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51B0-C57C-447B-947C-E610DF514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A02-436C-43D6-BC58-FCE9D27A2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15DB-5E4C-417A-A145-D10FE6EF7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7214-00EB-45EE-8306-9FA195EA7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2A54-9CFB-4422-A971-AAC5794F93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6438-7155-449C-A5C6-7D5FC19E8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2D67-AA18-4457-B3A1-A143766AB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C9CB-16BB-498E-BFCE-9B3FEFE5C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B22-74C2-4D31-95F8-274E4E0F2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F2B7-438A-4B66-AEE5-49E68F7A1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407664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1</cp:lastModifiedBy>
  <dcterms:modified xsi:type="dcterms:W3CDTF">2022-02-02T11:41:37Z</dcterms:modified>
  <cp:revision>50</cp:revision>
  <dc:subject/>
  <dc:title>Дети - герои ВОВ</dc:title>
</cp:coreProperties>
</file>