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1AB-5625-4410-845A-7C042907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ACE-8881-43CC-ADCA-82E54C08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7F4-D101-421F-8756-09EC04E6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BB7-65CF-4ECA-A24D-F5A3E512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C99-4BE3-4E69-A697-418BCB32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EF2-DD56-41FB-8933-66A6DB4E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841-C5BB-4990-A196-69048724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702-9FAC-47C7-90F4-EE0F4FBD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477-83B6-48B3-A05D-0CC413D4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68D-DE1A-41F3-A78E-2700B860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F62-B977-4F2A-96E8-10DA28C8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72B-159A-4E0C-8F08-2A05FC74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C8BE-E5DC-4242-ACDF-DEC802CA40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750-750-2991120_kukolnyi_teatr.jpg"/>
          <p:cNvPicPr/>
          <p:nvPr/>
        </p:nvPicPr>
        <p:blipFill>
          <a:blip r:embed="rId1"/>
          <a:stretch/>
        </p:blipFill>
        <p:spPr>
          <a:xfrm>
            <a:off x="658800" y="404640"/>
            <a:ext cx="8029440" cy="6021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557360"/>
            <a:ext cx="648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в младшей группе детского с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2637000"/>
            <a:ext cx="672948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Calibri"/>
              </a:rPr>
              <a:t>Презентация  подготовле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Calibri"/>
              </a:rPr>
              <a:t>воспитателем Колупаевой О.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391402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000" y="260280"/>
            <a:ext cx="86040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еатр – это превосходное средство коррекции, которое учит многому через игру.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е секрет, что через театральную игру расширяется кругозор; развиваются внимание, фантазия, память; происходит координация слуха и зрения; совершенствуется словарь, улучшается звукопроизношение, качественно возрастают навыки связной речи и её выразительность. Также заметны улучшения в моторике и эмоциональной сфере, что указывает на коррекцию поведения в целом. Театрализация – отличный тренажер нравственного поведения, который стимулирует творческую самостоятельность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2"/>
          <a:stretch/>
        </p:blipFill>
        <p:spPr>
          <a:xfrm>
            <a:off x="2189160" y="2633760"/>
            <a:ext cx="47656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391402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  младшей группе дети смотрят небольшие кукольные спектакли и инсценировки, которые разыгрывают взрослые. Они могут носить как развлекательный, так и поучительный характер. Постепенно у ребенка возникает потребность в новых впечатлениях, которая проявляется в любознательности, стимулирует развитие восприятия, мышления, речи, воображения.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 А для родителей использование кукольного театра в домашних условиях предоставляет замечательную возможность поиграть со своим ребенком. Играя вместе со взрослым, ребенок овладевает ценными качествами общени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39140281.jpg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8040" y="260280"/>
            <a:ext cx="84600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Дети с большим удовольствием слушают стихи и сказки, если разыгрывать их в лицах. Более того, через некоторое время они сами повторяют слова персонажей. Этим они, сами того не подозревая, стимулируют речевую деятельность. Также формируется уважение друг к другу, реже звучат слова: «У меня не получается». Рождается уверенность в себе, дети становятся более подготовленными к смене обстановки, к появлению чего-то нового, а еще отлично импровизируют и не теряются в сложных ситуация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391402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Исполнение ролей в этом малышовом возрасте несет в себе искреннюю радость и восторг. Ребенок не должен долго оставаться на стадии зрителя. Его нужно привести от наблюдения к некой театральной игре, также требуется научить играть не индивидуально, а в группе (театральной труппе), показать, что обыгрывать можно не просто «потешки» и песенки, а еще имитировать действия, которые передают эмоции героя.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391402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40" y="189000"/>
            <a:ext cx="88200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 результате ребенок умеет: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йствовать согласованно со всей группой играющих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запоминать заданные позы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запоминать и описывать внешний вид героя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лать длинный выдох при незаметном коротком вдохе, не прерывать дыхания в середине фразы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произносить одну и ту же фразу или скороговорку с разными интонациями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ыразительно прочитать наизусть диалогический стихотворный текст, правильно и четко произнося слова с нужными интонациями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троить простейший диалог, составлять предложения с заданными слова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391402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324000" y="1969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В нашем детском саду ежегодно проходит Театральная неделя, в рамках которой каждая из возрастных групп показывает  театральную постановку. Наша группа в этом 2020-2021 учебном году показывала спектакль к сказке Сутеева « Кто сказал «Мяу»?»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2"/>
          <a:stretch/>
        </p:blipFill>
        <p:spPr>
          <a:xfrm>
            <a:off x="1835280" y="1554120"/>
            <a:ext cx="5821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13:47:01Z</dcterms:created>
  <dc:creator>Сергей</dc:creator>
  <dc:description/>
  <dc:language>en-US</dc:language>
  <cp:lastModifiedBy>Катюша</cp:lastModifiedBy>
  <dcterms:modified xsi:type="dcterms:W3CDTF">2023-04-12T17:31:49Z</dcterms:modified>
  <cp:revision>15</cp:revision>
  <dc:subject/>
  <dc:title>в ясельной группе детского сада.</dc:title>
</cp:coreProperties>
</file>