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33E5-C64C-4389-B7B4-C3B8787284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d t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us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n't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ave to   5 should  6 must 7 don’t have to ( you have a choice) 8 shouldn’t  9 m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1F75-BDFF-4ACA-84C8-90729836A069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82E-ED6E-4469-ADA1-3E36A7BE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1330-874B-4A14-A82E-EAA55E55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A47279-0838-4E49-8D3D-B381565A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DE08AC-8BF0-41E7-811E-0253FADA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F1FFC2-E4C5-49EC-A4FC-5679C81E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3EAC88-22B9-4DDF-8C7E-C47DEDA0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D7D89-2719-4D06-9E28-32AE009B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1BC876-6DC7-4227-A4E1-157AC95B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A3B6B-29C3-4899-8CF9-674D0B65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DB65D9-2F68-429C-B371-31307177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455117-95A5-420E-91F3-9262A4BF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A6E093-A7B5-49EC-B9C5-C5557793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D93D-FABD-4164-B680-0D97DA3C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307576-368E-4597-9C67-7C81D234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D4D099-FBE9-4432-8D63-890BA837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CC7460-18F7-4C28-8A1A-C46D8444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B0F39-129D-49BB-B904-8729D45E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EB7C01-8088-41BC-B772-C588B01A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F461F-2687-4667-A843-754D5B22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82C850-E297-4418-B489-0D43A591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7C9AE3-BF56-4E7B-B278-91666A4E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678859-CA15-472B-92D9-B3C205FF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2AA84B-CF59-488B-8F14-D89387B3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443-0E64-4F87-B224-3FDE135F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E291FF-1027-425B-A4E0-476B337A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6C2D0-DC65-4808-90E2-64A7AE36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39739-901F-495A-8698-50408680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757F0-E583-4C63-A8F9-F9DA8167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15274-7771-42AE-9DBE-5F63C69A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9B5B9-4140-4ADB-B36C-17ACEF22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3A939-37EB-466C-B537-217648F3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1BE6A-9A7E-400A-91C5-A8F51734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80010-8308-44A5-947F-C16A9D80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A2F36-5347-46A4-831C-7D922D25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E9A4-47E7-4AA9-A4EA-3E470349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B3B6D-B40D-4AE5-92B1-46E7D412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F6047-AAC4-414E-B458-E59537C6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FFEBB-BBDB-4E4D-8EAA-6438B995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4C7E8A-D090-471A-9329-869DE78A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557C94-684C-4F87-85AB-3630ABA1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1A441E-567E-4014-B3F8-B48763A8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BED302-FD49-4132-856E-2790854A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94F975-58BB-4F79-B8DD-63289973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AC1A5-B05F-4204-B302-210E2F64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336CDD-4F7D-4048-A159-5386E58C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32F8-46E1-4B0B-B40E-F6BBAF16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1DD3C6-2722-42D8-997F-A0496656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EB850E-B88A-4FB6-A0DA-B5A4F48A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5DF438-8844-48D2-BAAD-EC9B8072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752A81-12F1-41F9-A4B3-F2F064F2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8EB6D6-BEF3-456F-896B-E5B63316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90CE-6CBE-4942-B945-C68E0854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467A-1FC5-4E36-8BC3-81B1C84D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C336-5AB1-48C3-924D-52582633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ED00-0634-44AD-9555-20AA89AB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D404-2EC7-419F-9888-76A41937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9CF-AB7D-44DF-9DED-5E9C1126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91AA-BC02-4676-A571-727DE41B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357F-1ABE-4CCE-9C0B-85392B22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B884-117A-4799-94DC-73998EF3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0DB0-9725-466D-9774-23077294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DA01-F6A3-4C6B-AD57-B71F003D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400F6-0BF7-44EC-8815-CECCABB1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68782-8978-4B26-A467-E95F58AE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27972-9919-48FA-8441-2193EF2E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C6576-7077-4839-A8C4-2AFF7960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BD5B2-8BA7-4D20-A411-C09434CA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F436-3AAB-48F6-9664-E1640673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AFE9C-5664-4291-8548-D5F4895F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3BEC3-C191-45A4-9C83-66FA8525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877F3-56A4-4286-B430-8C9EFEF2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461BB-79D8-48D9-B994-DE9E6B6E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EB36E-CBC9-4C4B-B96C-2DACC10B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283B3-58AB-4408-8883-EFB1E5E6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C1CF3-5582-476E-8AA3-EE49FB94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8B38D-A603-42B8-B7DF-BAD81825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ECD83-D267-4576-83A9-912DC1B4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B8401-1E20-40E6-BEE1-19FA2726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8F1-C7D7-4A2C-9678-9AD8A6EA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15E1D-101C-40CA-9653-992AFBFE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1B4EA-CD23-4869-95E9-BFF3E683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AB4E5-1710-4905-96D7-45246E64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05D94-8CBB-44E5-8791-854C2CED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30149-BA50-4A9D-A6F8-FCF2B4D3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4B581-B083-4D59-902F-DE3B4F3C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48D29-A4D7-4FE0-B52B-B66BC77F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0A7C8-7883-4769-8DBC-533B98E2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B7513-9D89-498D-852C-BE31826B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EB870-B3EC-4698-A737-45B8F11A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6204-82E6-493A-8730-32487364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A7306-38C2-4D9F-A925-75DBDD99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599DC-2CF5-45AD-87C3-CFB2025D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AE7CF-64A1-4DE1-8E94-C8390471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D2C32-8EE0-4CBA-9560-C2E78705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33948-B9AC-4B8D-8706-5A13BCAC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F9352-27DD-4894-B994-5D370FA3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5F821-2030-4447-9A15-025CA29F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3B754-EF00-489C-870B-07C97214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B7D19-85E4-49A9-8446-463FB46D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BA52F-2CDE-4EA1-8BFB-D8843E12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F4EC-AA8A-4823-8139-A13FC119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F34CF-101F-4E31-B37E-43B4F772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CE3DE-5C87-4775-8434-76BBD0B6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A7D21-0608-45F1-A36C-3EF502A1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156CE-4BB6-4A3E-95D5-FDF2EA32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5AFB4-A442-4A33-9555-4B36E44D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CA31B-8DBD-4CFF-A4FF-90A9E44C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ADD30-ED5B-4739-A7B0-76ADB4B6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318F2-5B18-4224-AFC2-A2B4EC68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B6774-3E7E-40D1-863C-CE667C2F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1E50D-630A-487C-A72D-BEE05EB3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A8B-1E8E-43F3-B31D-6668B6C9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1FD2E-B48E-48D6-912A-C040DA8A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A41EF-E813-4ACE-A648-A612930B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CE9B1-FA8A-4E80-AD3A-2BAB25CD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04A24-A708-43D7-93CF-8E5C5B1A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D3948-966C-4D22-8E0C-0B838691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39B1A-ECC8-47B6-86FA-6B49DBF1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88FCA-8C72-4709-941C-46BB3096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53FD2-7392-4E69-97CA-69EAE54A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2AF6A-1722-482E-A0D9-13481E87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5F722-361F-4F27-A430-76BCB158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A48-6D2D-4F7E-9975-8ED6903C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3E701-D614-4813-A11F-32B5B4A5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0859C-2A79-44F8-8BE9-F9AC71D6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8532B-61FE-4658-971F-6B338B4B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81D32-F04C-4B15-AB19-56CEFAC2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47631-7F1D-48E8-ACEA-26F82784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BE38C-E1EB-4922-B3A7-08D89207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7CFCB-6440-4743-B9E5-45BD3073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E9B4B-4FEA-40AD-86C6-ACEF5617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E1A21-B1B8-4673-8ABA-4BA6A37A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D08F2-FCF7-49B2-89E5-7647AF95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348F-2800-4681-A617-2783889B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CE275-3AAE-47CF-8647-731779D7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86ED8-E223-4753-AF07-8973F3BE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37F7F-11AC-4472-A8F1-896CE367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2C966-B74E-479F-834F-C9095016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20A81-F2AF-4B5F-83B6-3DEE900A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B56FB-51ED-4FD6-B1E8-FAD2F63E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FE068-CCBF-4431-B9C2-E4AD4B0A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699A62-EACB-4470-BE32-C51E4DD4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018E3-9865-406C-A53F-0FB2A5C6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47D53-B30C-487A-82A2-7E8D737C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9845-FFFA-4FE2-A434-7D4C212C47C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D829-653E-400F-B592-E4A229CFE0F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A6B0-9966-445A-92CF-B5562C96CEA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79BA-6D57-4B87-9EBA-8588F0BB3CF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5A41-0621-45B4-B368-CEC761F695F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7999-5273-4F8B-AF4C-631823A8894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745D-9D4B-4513-BD2D-686E876DA1B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5031-C7DD-40E8-A140-FF251BE68D5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DEDE-B402-420C-BF7A-F3C9461A5D8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BAF3-D1B6-42D8-8E0F-43DD3297941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50D5-B53C-4794-AC3F-CF19FF9A691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6200-2407-4B18-8479-CA73AFDE6A1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Объект 3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7848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9899"/>
                </a:solidFill>
                <a:latin typeface="Georgia"/>
              </a:rPr>
              <a:t>Have to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18"/>
                </a:solidFill>
                <a:latin typeface="Georgia"/>
              </a:rPr>
              <a:t>Передаёт необходимость совершить действие, т.к. этого требуют обстоятельства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cc18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cc18"/>
                </a:solidFill>
                <a:latin typeface="Georgia"/>
              </a:rPr>
              <a:t>I have to go to school on Monday.</a:t>
            </a:r>
            <a:r>
              <a:rPr b="0" lang="en-US" sz="2700" spc="-1" strike="noStrike">
                <a:solidFill>
                  <a:srgbClr val="00cc18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cc18"/>
                </a:solidFill>
                <a:latin typeface="Georgia"/>
              </a:rPr>
              <a:t>В понедельник я должен идти в школ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18"/>
                </a:solidFill>
                <a:latin typeface="Georgia"/>
              </a:rPr>
              <a:t>I have to get up at seven</a:t>
            </a:r>
            <a:r>
              <a:rPr b="1" lang="ru-RU" sz="3200" spc="-1" strike="noStrike">
                <a:solidFill>
                  <a:srgbClr val="00cc18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cc18"/>
                </a:solidFill>
                <a:latin typeface="Georgia"/>
              </a:rPr>
              <a:t>tomorrow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cc18"/>
                </a:solidFill>
                <a:latin typeface="Georgia"/>
              </a:rPr>
              <a:t>Завтра утром я должен встать в семь часов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В </a:t>
            </a:r>
            <a:r>
              <a:rPr b="1" lang="ru-RU" sz="3600" spc="-1" strike="noStrike">
                <a:solidFill>
                  <a:srgbClr val="7b9899"/>
                </a:solidFill>
                <a:latin typeface="Georgia"/>
              </a:rPr>
              <a:t>отрицательных</a:t>
            </a: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 предложениях.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ри отсутствии необходимости совершить действие употребляется </a:t>
            </a:r>
            <a:r>
              <a:rPr b="1" lang="en-US" sz="3600" spc="-1" strike="noStrike">
                <a:solidFill>
                  <a:srgbClr val="71481c"/>
                </a:solidFill>
                <a:latin typeface="Georgia"/>
              </a:rPr>
              <a:t>don’t have to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Georgia"/>
              </a:rPr>
              <a:t>You don’t have to help them.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бе не надо им помога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В </a:t>
            </a:r>
            <a:r>
              <a:rPr b="1" lang="ru-RU" sz="3600" spc="-1" strike="noStrike">
                <a:solidFill>
                  <a:srgbClr val="7b9899"/>
                </a:solidFill>
                <a:latin typeface="Georgia"/>
              </a:rPr>
              <a:t>вопросительных</a:t>
            </a: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 предложениях.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Вопросительная формы глагола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have to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всегда образуются с помощью вспомогательного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800" spc="-1" strike="noStrike">
                <a:solidFill>
                  <a:srgbClr val="71481c"/>
                </a:solidFill>
                <a:latin typeface="Georgia"/>
              </a:rPr>
              <a:t>do/does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Georgia"/>
              </a:rPr>
              <a:t>Do I have to help them?</a:t>
            </a:r>
            <a:r>
              <a:rPr b="0" lang="ru-RU" sz="2700" spc="-1" strike="noStrike">
                <a:solidFill>
                  <a:srgbClr val="0066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600"/>
                </a:solidFill>
                <a:latin typeface="Georgia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должен помогать им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9899"/>
                </a:solidFill>
                <a:latin typeface="Georgia"/>
              </a:rPr>
              <a:t>Must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50560" y="15573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Georgia"/>
              </a:rPr>
              <a:t>Употребляется говорящим, когда он сам считает, что необходимо совершить действие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Georgia"/>
              </a:rPr>
              <a:t>You must read this book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Georgia"/>
              </a:rPr>
              <a:t>Ты должен прочитать эту книг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b9899"/>
                </a:solidFill>
                <a:latin typeface="Georgia"/>
              </a:rPr>
              <a:t>Must not = mustn’t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Georgia"/>
              </a:rPr>
              <a:t>выражает запрещение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He mustn’t eat sweets.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Ему нельзя есть конфет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You must not make noise at night</a:t>
            </a: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. Н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очью нельзя</a:t>
            </a: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 ш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уметь</a:t>
            </a: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Shoul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1481c"/>
                </a:solidFill>
                <a:latin typeface="Georgia"/>
              </a:rPr>
              <a:t>употребляется для выражения настоятельного совета, рекомендации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1481c"/>
                </a:solidFill>
                <a:latin typeface="Georgia"/>
              </a:rPr>
              <a:t>You should see a doctor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481c"/>
                </a:solidFill>
                <a:latin typeface="Georgia"/>
              </a:rPr>
              <a:t>Вам следует показаться врач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3416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Use the correct verb: must, have to or should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Georgia"/>
              </a:rPr>
              <a:t>I hadn't enough money and I ... pay by chequ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Georgia"/>
              </a:rPr>
              <a:t>You …see it. It's the best film I've ever se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Georgia"/>
              </a:rPr>
              <a:t>He </a:t>
            </a:r>
            <a:r>
              <a:rPr b="0" lang="ru-RU" sz="2700" spc="-1" strike="noStrike">
                <a:solidFill>
                  <a:srgbClr val="ffff00"/>
                </a:solidFill>
                <a:latin typeface="Georgia"/>
              </a:rPr>
              <a:t>….</a:t>
            </a:r>
            <a:r>
              <a:rPr b="0" lang="en-US" sz="2700" spc="-1" strike="noStrike">
                <a:solidFill>
                  <a:srgbClr val="ffff00"/>
                </a:solidFill>
                <a:latin typeface="Georgia"/>
              </a:rPr>
              <a:t>enter this room. It is dangerou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Georgia"/>
              </a:rPr>
              <a:t>English children . . . stay at school till the age of 16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Georgia"/>
              </a:rPr>
              <a:t>I think you … learn Spanish if you want to work ther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Georgia"/>
              </a:rPr>
              <a:t>You …walk across the street on the crossing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Georgia"/>
              </a:rPr>
              <a:t>You … buy coffee in the cafeteri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Georgia"/>
              </a:rPr>
              <a:t>You …worry about it. It’s not importa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Georgia"/>
              </a:rPr>
              <a:t>You …remember to do your homewor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859280" y="-100440"/>
            <a:ext cx="14414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9" name="Объект 3" descr=""/>
          <p:cNvPicPr/>
          <p:nvPr/>
        </p:nvPicPr>
        <p:blipFill>
          <a:blip r:embed="rId1"/>
          <a:stretch/>
        </p:blipFill>
        <p:spPr>
          <a:xfrm>
            <a:off x="250920" y="246240"/>
            <a:ext cx="871380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-2</cp:lastModifiedBy>
  <dcterms:modified xsi:type="dcterms:W3CDTF">2023-04-07T03:36:04Z</dcterms:modified>
  <cp:revision>17</cp:revision>
  <dc:subject/>
  <dc:title>Презентация PowerPoint</dc:title>
</cp:coreProperties>
</file>