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959A-33F5-471E-9D24-2CCA1DBF54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d t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us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n'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ave to   5 should  6 must 7 don’t have to ( you have a choice) 8 shouldn’t  9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2386-1F1E-4534-9EF7-E069B6AD8EC9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7F8-A3C4-492B-8F32-D46DF012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14A-7656-46E9-988A-4EE7B66C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F78A8-0B91-48CD-B5E5-97058C6C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7BA13-CE6A-4587-99E2-40CBCEED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C4D18-F4C7-43D4-B291-EDA8437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59271-2269-40F9-959C-A5593827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FFF5B-43B1-4E60-B002-576904F0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BA97F-BD56-4ED0-9198-64ADDB72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17137-35C0-4712-BBAE-EE622F4A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7736D-E8E3-4E4B-A73F-2889561F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F21B1-79A7-4E18-A667-7D0AD55F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6B2E6-B3A4-4638-9D46-4C15E4B5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DCC-D3CC-49C8-90B6-21586201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71486-154B-4317-9ED4-EBDBDC1B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10AF6-AB43-4758-8145-B20FDEFB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0C6C2-48D1-49D8-9034-70B5BCC7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32CF7-FBEA-4613-ADE7-A7D89EDF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68B3F-E95D-4797-8433-342FA1DE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E3F37-3A22-410A-968D-820989E7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6E759-60F9-47FC-BA15-8512B3C8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7BD1A-2083-47A2-80AE-8B93332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5178F-62FA-437D-8576-119BCAF4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F55D9-7B23-45FF-8000-6F8616EC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EF2-49E6-4BF9-B4FF-BFA2FF0F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BC5D2-CD62-43ED-871D-5C9A9F8E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AB234-044A-42CD-8E1F-870ABB88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24C6E-75B9-4365-BC13-4CEE2F40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03FEC-8D9A-40D2-B602-0AC2DB90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ADE72-CB9D-408E-8183-80757C3B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12B3B-6E00-4558-BD37-1E9939C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123BA-803C-4E27-8232-622FEF2D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E04D3-65A6-4EEA-A820-7437F11E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81443-D7DF-456A-A0CC-9634A278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EE9EE-1F37-42BF-B1D2-690D244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84F6-303D-4D5E-9327-2A6174F3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AB9FF-9A39-4945-992E-053E7EF3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667DC-4392-4752-AB42-F6AF4D2D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D9AAB-2B7C-43CA-B2AB-7BAA1E3F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8D79E-5616-4584-8553-F5996DB4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BADEE-F3AD-41E3-99E8-5F2C4D22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805CE-8576-4200-8B98-1EA0F7DA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73324-38CD-4615-AD1E-362BFE0A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D7696-D107-4E47-A24B-2D90403A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157F4-B8FD-4A90-A59A-7FD34717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2A3BE-F535-49A8-A599-6ACD367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1C6A-AD06-42BA-A801-2B89375B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45863-B162-4091-A3A2-C01F966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4896B-0D7F-4AC3-98F9-66C30DB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D0FE7-277D-490E-9E58-CB774D12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80F5C-65B7-4070-A754-0FBF9E36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93BD3-1E1F-4AF8-9A4F-2753AE2C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1D33-918E-4B0B-B96D-E20E81A2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A9CA-22BB-42A2-99A2-B70852F5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9477-65CC-4EB2-AE69-CCBF2855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5BD1-4F27-400B-A41F-F37C755D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7D08-6007-45C0-8BDE-262908A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215-690A-4D29-81BB-B2B85F70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3099-7886-40FF-B562-646736EA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3238-DDA8-4DFC-8BBC-238D0FC4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A91E-30E8-4CA1-AE81-7762123C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2A5D-0603-49B8-9903-2BE601EF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6991-F6C4-4BD9-993F-73691AEE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2200-9374-4A61-8137-D30A0161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B4D4-FF91-41E1-AD0E-AA5E0418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9B97-8147-4419-805E-568EBC41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6419-27B1-4D9D-91C4-2656D738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9229-A12C-4387-8537-63397C0B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928-CE8A-4176-8673-01E6EBF3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E1EE-F95C-4620-855A-F1D99FE9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08CF-B196-4688-BA54-81B50EBC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B517-31F7-49F4-BD00-AE2E467D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B0862-C855-473D-9312-F7E64064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D816-4375-44FB-BDC6-820D9AEE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83FA-130B-4299-A2B0-D8603FF3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2009-6886-42D8-B157-A6533326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47F1A-D1EF-411E-BFFC-89FD278C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411F9-C10F-47F7-A941-17A1A825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7A94-8DAE-481A-A9C8-54FB1099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5C1-BBC3-4FBB-9A2C-BBC50735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6401-A7ED-4B4E-8180-FF841AB2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7A57A-8945-4AE4-96BD-66FBFBE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4F90F-7F84-4BD9-9711-E33E46BE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56A9D-8D0C-4243-A1F4-71519396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A67DC-44EB-439B-8745-F999C4E8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5200-FD93-4C93-9483-5E194A7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81F8-CF3F-4590-9518-D7804003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EF0C-413F-4E3B-87A9-2A9CE400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F3460-C6FC-4ADB-8982-D2858B1F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F7409-21E7-4FD6-8D66-32DC8F74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EE9-65D8-4D9A-8C4B-79F65E9F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E9DAA-1FF3-4280-91A8-6AF2E06D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F7415-63AB-4BC8-A187-8101C031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13C41-6E60-44D3-A1B4-BFE8F1B0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F0E62-0393-4826-A482-6F624296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60A40-6A7A-4DEA-9FEA-A36CA6FF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4310-175B-458C-B6C8-BB05E8EA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3CC0C-2216-489A-AD94-8C50DA7D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886AB-CF68-4BE4-BBBD-75EE904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473B-CD90-4DE7-A921-DECB8502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A9724-5C30-40DB-B4A7-27C659E6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9DC-98CF-4A7F-B3F4-0B04E227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C9FA6-AE51-4684-A862-818E9BFE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C5654-F3CF-4635-B2C3-4E655520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A1BBB-F13E-4757-A9FE-4BEB11AA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8D95E-0F51-412D-9657-DF4A5EEB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E840A-7568-421C-97A8-0D5326E1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4A691-B4D3-458C-B1F3-1563E54D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347E5-8285-414A-BCEF-C0AFE52D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A3964-9B7D-4415-9C67-AA55769F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0B94D-375A-48B2-AC91-FFA5B4B6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C58A0-C246-474B-8D22-F95F4D1C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875-39B9-49DE-A96D-FDDACB87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9DD18-2901-4D07-9CEA-EA51DFEF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86892-7436-4EF0-A7FB-5D42A749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7E94A-A499-4C9E-90E1-C6C0C79E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216C5-E528-4D2D-8C2D-62266CA2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3F72D-2921-4181-A20E-2C326099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53123-7DB5-48CD-929E-4097B8AE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94568-E107-48DE-A0A6-3AF81AC0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2C283-A067-49B2-A742-2A29122A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B3762-0779-4381-AED7-C6C1738F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5F73D-A076-4DFD-AA2A-56324945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6DD-A9B2-412B-A8E2-C6EE3FC5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6FF95-257E-448D-B5F5-D44D589D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EC8B1-6E83-4DDD-9621-99F5EC94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8ED37-9A05-4692-80A1-DE24EBF2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FCC9F-8584-4709-9019-39BA4FE8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3BD6D-2EBA-455F-9AB5-0C7B6102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21F0-89DD-4D3D-8783-39D549D4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7E087-D6F4-49D7-AF83-E022D36F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C3022-9D57-42D1-B56D-CCDAAA7D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A5FA4-FDB9-4561-AE03-0D1EE042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F412B-76CD-47BE-8B4A-2DDDA9D5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D3A-2C8E-4F4E-9CA3-812D02B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B4192-5304-48BC-AE7F-F87E7D37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23EC4-B3A9-4D67-B26F-617D27AE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49989-64AF-4FCF-AAED-07E5BAD8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FDC0-7C38-489E-AE50-D6404CA7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9660C-94F7-4995-B904-F335F641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C4253-D0F4-43F8-B273-43E5DC26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D14EC-A346-4F86-A421-39BEE30B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C6409-1E6A-419B-AA17-F0BF92ED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345CB-1D02-4D00-9EAE-4B851BD1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AB606-FD58-4D71-B3FA-25250B5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2449-AB36-453D-9FF5-5F7C935C1CA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201B-8EDB-488F-824D-4267A54B06C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BED7-48B1-4838-BDC4-D3B778DE605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7955-BACE-40D2-BADB-932BCF2A91D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76AF-082B-4CFC-B4D3-860C6E9D38D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DADE-E1C9-4304-8A7E-55C3EC83501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6415-11E8-4A01-BAEB-C0621D7FAF0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A75C-0C60-4F15-8319-FDF188966A8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2351-DD83-475B-9681-87D82E9F8E5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D512-FC19-4E16-B6B4-E393C900AE6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89FC-E75A-4E7F-88B3-AE6E3C36027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7F18-A578-49B5-8418-93E34EA8116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Объект 3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848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Have t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18"/>
                </a:solidFill>
                <a:latin typeface="Georgia"/>
              </a:rPr>
              <a:t>Передаёт необходимость совершить действие, т.к. этого требуют обстоятельств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cc18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cc18"/>
                </a:solidFill>
                <a:latin typeface="Georgia"/>
              </a:rPr>
              <a:t>I have to go to school on Monday.</a:t>
            </a:r>
            <a:r>
              <a:rPr b="0" lang="en-US" sz="2700" spc="-1" strike="noStrike">
                <a:solidFill>
                  <a:srgbClr val="00cc18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cc18"/>
                </a:solidFill>
                <a:latin typeface="Georgia"/>
              </a:rPr>
              <a:t>В понедельник я должен идти в школ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18"/>
                </a:solidFill>
                <a:latin typeface="Georgia"/>
              </a:rPr>
              <a:t>I have to get up at seven</a:t>
            </a:r>
            <a:r>
              <a:rPr b="1" lang="ru-RU" sz="3200" spc="-1" strike="noStrike">
                <a:solidFill>
                  <a:srgbClr val="00cc18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cc18"/>
                </a:solidFill>
                <a:latin typeface="Georgia"/>
              </a:rPr>
              <a:t>tomorrow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cc18"/>
                </a:solidFill>
                <a:latin typeface="Georgia"/>
              </a:rPr>
              <a:t>Завтра утром я должен встать в семь часов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В </a:t>
            </a: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отрицательных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предложениях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и отсутствии необходимости совершить действие употребляется </a:t>
            </a:r>
            <a:r>
              <a:rPr b="1" lang="en-US" sz="3600" spc="-1" strike="noStrike">
                <a:solidFill>
                  <a:srgbClr val="71481c"/>
                </a:solidFill>
                <a:latin typeface="Georgia"/>
              </a:rPr>
              <a:t>don’t have to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Georgia"/>
              </a:rPr>
              <a:t>You don’t have to help them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бе не надо им помог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В </a:t>
            </a: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вопросительных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предложениях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опросительная формы глагола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have to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всегда образуются с помощью вспомогательного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71481c"/>
                </a:solidFill>
                <a:latin typeface="Georgia"/>
              </a:rPr>
              <a:t>do/does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Georgia"/>
              </a:rPr>
              <a:t>Do I have to help them?</a:t>
            </a:r>
            <a:r>
              <a:rPr b="0" lang="ru-RU" sz="27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должен помогать и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899"/>
                </a:solidFill>
                <a:latin typeface="Georgia"/>
              </a:rPr>
              <a:t>Must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50560" y="1557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eorgia"/>
              </a:rPr>
              <a:t>Употребляется говорящим, когда он сам считает, что необходимо совершить действ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Georgia"/>
              </a:rPr>
              <a:t>You must read this book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Ты должен прочитать эту книг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b9899"/>
                </a:solidFill>
                <a:latin typeface="Georgia"/>
              </a:rPr>
              <a:t>Must not = mustn’t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выражает запрещени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He mustn’t eat sweets.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Ему нельзя есть конфе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You must not make noise at night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. Н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очью нельзя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 ш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уметь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hou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1481c"/>
                </a:solidFill>
                <a:latin typeface="Georgia"/>
              </a:rPr>
              <a:t>употребляется для выражения настоятельного совета, рекомендаци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481c"/>
                </a:solidFill>
                <a:latin typeface="Georgia"/>
              </a:rPr>
              <a:t>You should see a doctor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481c"/>
                </a:solidFill>
                <a:latin typeface="Georgia"/>
              </a:rPr>
              <a:t>Вам следует показаться врач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3416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 the correct verb: must, have to or should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I hadn't enough money and I ... pay by chequ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You …see it. It's the best film I've ever se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He </a:t>
            </a:r>
            <a:r>
              <a:rPr b="0" lang="ru-RU" sz="2700" spc="-1" strike="noStrike">
                <a:solidFill>
                  <a:srgbClr val="ffff00"/>
                </a:solidFill>
                <a:latin typeface="Georgia"/>
              </a:rPr>
              <a:t>….</a:t>
            </a: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enter this room. It is dangerou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English children . . . stay at school till the age of 16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I think you … learn Spanish if you want to work the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You …walk across the street on the crossing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You … buy coffee in the cafeteri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You …worry about it. It’s not importa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You …remember to do your homewor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859280" y="-100440"/>
            <a:ext cx="14414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Объект 3" descr=""/>
          <p:cNvPicPr/>
          <p:nvPr/>
        </p:nvPicPr>
        <p:blipFill>
          <a:blip r:embed="rId1"/>
          <a:stretch/>
        </p:blipFill>
        <p:spPr>
          <a:xfrm>
            <a:off x="250920" y="246240"/>
            <a:ext cx="87138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-2</cp:lastModifiedBy>
  <dcterms:modified xsi:type="dcterms:W3CDTF">2023-04-07T03:36:04Z</dcterms:modified>
  <cp:revision>17</cp:revision>
  <dc:subject/>
  <dc:title>Презентация PowerPoint</dc:title>
</cp:coreProperties>
</file>