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3287-77E4-42E2-A011-1D0E0B3BD6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A458-E373-4BB2-B44C-0362FC1CDF2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FAB-837A-404D-A466-08B3E70C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484-67F9-4534-A0F0-407FB583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AFC-12B3-4002-96D8-68472E9F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AA7-3D46-469A-92B3-7967C98D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8A57-90AE-40F7-BB91-57CB05F8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CD8E-D1A8-42FD-AEE8-9B173E5A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D438-EFBD-450A-895D-07389616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6A58-A2CB-4D42-B680-C0AD53A5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93B2-693A-46DF-802F-64670D7F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D55F-4386-46E0-8B4D-49BB365B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4EEC-F47C-486B-86BF-5DF077A8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DEB-E9C3-4AAF-A95F-D7A3F95D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BE7F-CCEE-455E-9632-2C5B8A3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A715-FBB9-45B3-B18F-0357FA65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7967-102F-4B8A-A6F4-C186B851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476B-EB43-47D2-99C0-554C9EFC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82ED-E88D-43AD-BAEC-1D61D344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3673-CD95-41EE-9A96-7D11F198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75B6-AAAF-4B8E-9F11-234DE355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6FB8-5C3F-4764-8B3B-A1B50D95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D855-5807-408C-B441-F3F15F16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F340-4778-4537-BFC3-7B6A4F9F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C3E-A707-49B7-BCB7-6C2504E4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F9B5-FC98-4B50-8FBA-B51AEDE6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5C44-0AE7-40D1-B744-7C227B8C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8FCA-0ABF-4E41-B972-8D62A9BF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8FEF8-3CF9-498F-B5C4-2D1E0C6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0B48-B9D2-407D-BC2A-EF50607B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E660-483C-4F51-94E8-EAF75F51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95B8-05EE-4E72-AF4A-F0011022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370B-4237-4C20-AF62-584095F6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3464-7FF1-4C0E-B3C2-410DF5D3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EFA6-260A-446F-B4C5-381D1597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3D5-F056-4E9C-83E1-A41C6382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053C-D17E-461B-B0C6-D64275AD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44FA9-FA44-43DA-966C-579061FD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7C830-AC6E-4D44-B448-E0F680DB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51E1-E7F6-4448-B479-BB496E4C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3734-C023-443D-B0C4-BE23CAB3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0F626-FE99-46E5-B1BD-674C18BB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DA086-8456-44EB-A193-5F5AD856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E309-4E8F-47F9-8241-7BC503BE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4D879-1F63-472C-BD1D-28889451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4AB16-B01B-47F8-B4A0-45CA62CD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190-1B19-4B7B-A52D-F2D26C1C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A358C-34AC-44A7-A23C-F8BCEAB2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78DBC-65FF-4B91-8817-DDA423BB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C6474-5C80-45CB-80CC-C543B0F4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977F6-4337-4671-87C7-CEBFC418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DD090-C49A-4750-A8AF-CEF547E3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51AC9-0374-42DA-BC0A-48E58120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0A6B8-DF5E-48A1-B87B-E34FAF8F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D0ADA-98F8-4ADA-BA16-E0CF2BD7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1358B-FEA0-4607-B049-1DBAF52C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AB361-E228-4DFD-86F2-66B5BA10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873-EF92-44E3-9EF6-0C76E8A3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B932F-3C0E-468A-921F-3856F5B2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6EBB0-5ABF-4639-BC39-9F89466E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3C7A5-5228-4A6C-B018-084AEDC9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60CFF-E829-4F0A-878E-1E089388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C77CD-A799-436F-91DB-E75ABEB1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E1894-A517-428D-9836-A9478D64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4ECA-8627-47F7-B614-4221D3D7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5F247-6B2B-4A53-83C4-95AEF0F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5B39E-9B32-421C-A86D-344B677C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DECB5-43F8-4146-BB24-AB20CFC7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96F-2C21-4952-AA58-F932E99F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36826-5023-45B7-910D-42FD6656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1707C-3CBE-4318-9953-09FA691F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AA6B9-EA75-49B8-86BA-95AE662F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80AE6-2EE6-415D-B0C5-204A11DD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F02CA-DF2B-4B28-9711-E171F3F1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B3B2-E039-46B5-841C-C2D3FD3D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A7BEE-F79F-4F50-B98A-7F4BEA70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240DC-F121-4619-A7DC-08041C73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DE7DC-4DC3-449F-A64E-63A41EDF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55AA5-93B1-49C1-A497-20F5488C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977-7E1E-40EE-A04D-20C5D212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E6523-E860-4E2E-83B8-A6FA77AF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BF10C-1C35-4B54-B9A7-A3772DB5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A5E1D-D133-4243-9F86-C56E2230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4CA4C-977E-4AEF-A864-AAB580BA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6FB19-6BEA-4329-865D-4BBD58C2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F4B-EFA2-4676-8742-F10D34A3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70D5-9FB7-4A28-A3A1-BF2DE0C2E6C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EEC2-EC58-4E03-930C-D3CE65B195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A465-E6C7-427C-82DC-C6FC5E33D9C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5653-9818-4307-975E-7025C98B51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D8F8-6D31-4224-ACD6-3C153169CC4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E24C-E89F-4C57-B051-BA3C64B792E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E7A1-A38B-48C6-9244-D1753DB6F91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F:\1535501642_14.jpg"/>
          <p:cNvPicPr/>
          <p:nvPr/>
        </p:nvPicPr>
        <p:blipFill>
          <a:blip r:embed="rId1"/>
          <a:stretch/>
        </p:blipFill>
        <p:spPr>
          <a:xfrm>
            <a:off x="-28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Заголовок 1"/>
          <p:cNvSpPr/>
          <p:nvPr/>
        </p:nvSpPr>
        <p:spPr>
          <a:xfrm>
            <a:off x="1150920" y="2492280"/>
            <a:ext cx="678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«Инновационные технологии в театральной деятельности детей дошкольного возра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клад из опыта работ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Заголовок 1"/>
          <p:cNvSpPr/>
          <p:nvPr/>
        </p:nvSpPr>
        <p:spPr>
          <a:xfrm>
            <a:off x="1144440" y="1055520"/>
            <a:ext cx="678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е  бюджетное  дошкольное  образовательное учреждение детский сад № 1 «Теремок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"/>
          <p:cNvSpPr/>
          <p:nvPr/>
        </p:nvSpPr>
        <p:spPr>
          <a:xfrm>
            <a:off x="5286240" y="4500720"/>
            <a:ext cx="3286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воспитат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янова А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3816360" y="5732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  Октя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Заголовок 5"/>
          <p:cNvSpPr/>
          <p:nvPr/>
        </p:nvSpPr>
        <p:spPr>
          <a:xfrm>
            <a:off x="1357200" y="928800"/>
            <a:ext cx="6215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ru-RU" sz="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ые  технологии  в театрализованной  деятельности</a:t>
            </a:r>
            <a:br>
              <a:rPr sz="15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Заголовок 5"/>
          <p:cNvSpPr/>
          <p:nvPr/>
        </p:nvSpPr>
        <p:spPr>
          <a:xfrm>
            <a:off x="1143000" y="4643280"/>
            <a:ext cx="34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«Кот, петух и ли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Заголовок 5"/>
          <p:cNvSpPr/>
          <p:nvPr/>
        </p:nvSpPr>
        <p:spPr>
          <a:xfrm>
            <a:off x="4857840" y="5857920"/>
            <a:ext cx="335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«Реп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3357360" cy="2241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3"/>
          <a:stretch/>
        </p:blipFill>
        <p:spPr>
          <a:xfrm>
            <a:off x="5214960" y="2286000"/>
            <a:ext cx="2498760" cy="3332160"/>
          </a:xfrm>
          <a:prstGeom prst="rect">
            <a:avLst/>
          </a:prstGeom>
          <a:ln w="0">
            <a:noFill/>
          </a:ln>
        </p:spPr>
      </p:pic>
      <p:sp>
        <p:nvSpPr>
          <p:cNvPr id="397" name="Заголовок 5"/>
          <p:cNvSpPr/>
          <p:nvPr/>
        </p:nvSpPr>
        <p:spPr>
          <a:xfrm>
            <a:off x="2000160" y="157176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ая 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 «Русские  народные сказ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Заголовок 5"/>
          <p:cNvSpPr/>
          <p:nvPr/>
        </p:nvSpPr>
        <p:spPr>
          <a:xfrm>
            <a:off x="1332000" y="981000"/>
            <a:ext cx="659772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700"/>
            </a:b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ая идея заключается в важности заинтересовать родителей воспитанников перспективами формирования театрализованной деятельности в ДОУ, приобщая их к жизни детского сада и делая их полноправными партнерами в своей работе. 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2"/>
          <a:srcRect l="0" t="3764" r="2063" b="7821"/>
          <a:stretch/>
        </p:blipFill>
        <p:spPr>
          <a:xfrm>
            <a:off x="1071720" y="2357280"/>
            <a:ext cx="3911400" cy="2357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3"/>
          <a:stretch/>
        </p:blipFill>
        <p:spPr>
          <a:xfrm>
            <a:off x="4572000" y="4143240"/>
            <a:ext cx="376236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56840" y="157140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Прямоугольник 1"/>
          <p:cNvSpPr/>
          <p:nvPr/>
        </p:nvSpPr>
        <p:spPr>
          <a:xfrm>
            <a:off x="1285920" y="928800"/>
            <a:ext cx="66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и помощи инновационных технологий в театрализованной деятельности дети свобод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1643040" y="16430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лощение  своих  замы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8" descr=""/>
          <p:cNvPicPr/>
          <p:nvPr/>
        </p:nvPicPr>
        <p:blipFill>
          <a:blip r:embed="rId2"/>
          <a:stretch/>
        </p:blipFill>
        <p:spPr>
          <a:xfrm>
            <a:off x="1643040" y="2214720"/>
            <a:ext cx="5689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Прямоугольник 5"/>
          <p:cNvSpPr/>
          <p:nvPr/>
        </p:nvSpPr>
        <p:spPr>
          <a:xfrm>
            <a:off x="1357200" y="1643040"/>
            <a:ext cx="64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оционально выражают различные состояния персонажа с помощью интонации  и  эмо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"/>
          <p:cNvSpPr/>
          <p:nvPr/>
        </p:nvSpPr>
        <p:spPr>
          <a:xfrm>
            <a:off x="1285920" y="928800"/>
            <a:ext cx="66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и помощи инновационных технологий в театрализованной деятельности дети свобод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1143000" y="2571840"/>
            <a:ext cx="3638520" cy="2428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3"/>
          <a:stretch/>
        </p:blipFill>
        <p:spPr>
          <a:xfrm>
            <a:off x="4857840" y="3643200"/>
            <a:ext cx="33289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1214280" y="164304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имают позы в соответствии с настроением и характером изображаемого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ер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"/>
          <p:cNvSpPr/>
          <p:nvPr/>
        </p:nvSpPr>
        <p:spPr>
          <a:xfrm>
            <a:off x="1285920" y="928800"/>
            <a:ext cx="66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и помощи инновационных технологий в театрализованной деятельности дети свобод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1143000" y="2357280"/>
            <a:ext cx="3286080" cy="331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3"/>
          <a:stretch/>
        </p:blipFill>
        <p:spPr>
          <a:xfrm>
            <a:off x="4857840" y="2500200"/>
            <a:ext cx="29289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7"/>
          <p:cNvSpPr/>
          <p:nvPr/>
        </p:nvSpPr>
        <p:spPr>
          <a:xfrm>
            <a:off x="1571760" y="928800"/>
            <a:ext cx="58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еатральный уголок в 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2"/>
          <a:stretch/>
        </p:blipFill>
        <p:spPr>
          <a:xfrm>
            <a:off x="1285920" y="1714680"/>
            <a:ext cx="3003480" cy="45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1" descr=""/>
          <p:cNvPicPr/>
          <p:nvPr/>
        </p:nvPicPr>
        <p:blipFill>
          <a:blip r:embed="rId3"/>
          <a:stretch/>
        </p:blipFill>
        <p:spPr>
          <a:xfrm>
            <a:off x="4572000" y="2000160"/>
            <a:ext cx="32511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2"/>
          <a:stretch/>
        </p:blipFill>
        <p:spPr>
          <a:xfrm>
            <a:off x="2143080" y="1500120"/>
            <a:ext cx="4267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5"/>
          <p:cNvSpPr/>
          <p:nvPr/>
        </p:nvSpPr>
        <p:spPr>
          <a:xfrm>
            <a:off x="1285920" y="1071720"/>
            <a:ext cx="64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спользование современных информационных технологий повышает качество воспитательно-образовательного процесса, формирует эмоционально положительное отнош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2"/>
          <a:stretch/>
        </p:blipFill>
        <p:spPr>
          <a:xfrm>
            <a:off x="2857680" y="2286000"/>
            <a:ext cx="357156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47640" y="1341000"/>
            <a:ext cx="604872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2" name="Picture 2" descr="J:\Спасибо-за-внимание-смайлик-для-презентации-анимация-1.jpg"/>
          <p:cNvPicPr/>
          <p:nvPr/>
        </p:nvPicPr>
        <p:blipFill>
          <a:blip r:embed="rId2"/>
          <a:srcRect l="22591" t="42719" r="30602" b="0"/>
          <a:stretch/>
        </p:blipFill>
        <p:spPr>
          <a:xfrm>
            <a:off x="2195640" y="2781360"/>
            <a:ext cx="39607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"/>
          <p:cNvSpPr/>
          <p:nvPr/>
        </p:nvSpPr>
        <p:spPr>
          <a:xfrm>
            <a:off x="1835280" y="887400"/>
            <a:ext cx="6000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«Театрализованная деятельность является неисчерпаемым источником развития чувств, переживаний и эмоциональных открытий ребенка, приобщает его к духовному богатству. Постановка сказки заставляет волноваться, сопереживать персонажу и событиям, и в процессе этого сопереживания создаются определенные отношения и моральные оценки, просто сообщаемые и усваиваемы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(В. А. Сухомлинс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2"/>
          <a:stretch/>
        </p:blipFill>
        <p:spPr>
          <a:xfrm>
            <a:off x="1727280" y="2676600"/>
            <a:ext cx="5689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597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ие задачи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58920" y="836280"/>
            <a:ext cx="64008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здать условия для развития творческой активности детей в театрализованной деятельности, обеспечить становление партнёрских отношений между семьёй и ДОУ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3" name="Схема 3" descr=""/>
          <p:cNvPicPr/>
          <p:nvPr/>
        </p:nvPicPr>
        <p:blipFill>
          <a:blip r:embed="rId2"/>
          <a:stretch/>
        </p:blipFill>
        <p:spPr>
          <a:xfrm>
            <a:off x="1189080" y="2255760"/>
            <a:ext cx="609588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ндивидуальна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арн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Работа с родителями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Подзаголовок 6"/>
          <p:cNvSpPr/>
          <p:nvPr/>
        </p:nvSpPr>
        <p:spPr>
          <a:xfrm>
            <a:off x="1500120" y="928800"/>
            <a:ext cx="6400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 теа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2"/>
          <a:srcRect l="0" t="0" r="11010" b="15150"/>
          <a:stretch/>
        </p:blipFill>
        <p:spPr>
          <a:xfrm>
            <a:off x="1214280" y="1285920"/>
            <a:ext cx="3143520" cy="200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3"/>
          <a:stretch/>
        </p:blipFill>
        <p:spPr>
          <a:xfrm>
            <a:off x="857160" y="3714840"/>
            <a:ext cx="3903840" cy="2604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"/>
          <p:cNvPicPr/>
          <p:nvPr/>
        </p:nvPicPr>
        <p:blipFill>
          <a:blip r:embed="rId4"/>
          <a:srcRect l="20056" t="20121" r="3378" b="1637"/>
          <a:stretch/>
        </p:blipFill>
        <p:spPr>
          <a:xfrm>
            <a:off x="4929120" y="2286000"/>
            <a:ext cx="3000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ндивидуальна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арн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Работа с родителями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Подзаголовок 6"/>
          <p:cNvSpPr/>
          <p:nvPr/>
        </p:nvSpPr>
        <p:spPr>
          <a:xfrm>
            <a:off x="1500120" y="857160"/>
            <a:ext cx="6400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 теа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rcRect l="2512" t="15055" r="2063" b="24754"/>
          <a:stretch/>
        </p:blipFill>
        <p:spPr>
          <a:xfrm>
            <a:off x="4357800" y="4214880"/>
            <a:ext cx="3786120" cy="1593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1000080" y="4214880"/>
            <a:ext cx="3103560" cy="207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4"/>
          <a:srcRect l="0" t="0" r="0" b="3110"/>
          <a:stretch/>
        </p:blipFill>
        <p:spPr>
          <a:xfrm>
            <a:off x="2714760" y="1571760"/>
            <a:ext cx="36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F:\1535501642_14.jpg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ндивидуальна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арн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одгрупповая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Работа с родителями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Заголовок 5"/>
          <p:cNvSpPr/>
          <p:nvPr/>
        </p:nvSpPr>
        <p:spPr>
          <a:xfrm>
            <a:off x="1357200" y="112536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600"/>
            </a:br>
            <a:r>
              <a:rPr b="1" lang="ru-RU" sz="23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ые  технологии  в театрализованной  деятельности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2"/>
          <p:cNvCxnSpPr/>
          <p:nvPr/>
        </p:nvCxnSpPr>
        <p:spPr>
          <a:xfrm flipH="1">
            <a:off x="2339280" y="1988640"/>
            <a:ext cx="1656360" cy="1585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70" name="Прямая со стрелкой 9"/>
          <p:cNvCxnSpPr/>
          <p:nvPr/>
        </p:nvCxnSpPr>
        <p:spPr>
          <a:xfrm>
            <a:off x="5003280" y="1988640"/>
            <a:ext cx="1399320" cy="180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371" name="Выноска-облако 12"/>
          <p:cNvSpPr/>
          <p:nvPr/>
        </p:nvSpPr>
        <p:spPr>
          <a:xfrm rot="20617800">
            <a:off x="1041480" y="3645000"/>
            <a:ext cx="3024000" cy="1439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3d3f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ая 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Выноска-облако 15"/>
          <p:cNvSpPr/>
          <p:nvPr/>
        </p:nvSpPr>
        <p:spPr>
          <a:xfrm rot="20986800">
            <a:off x="5324400" y="3813120"/>
            <a:ext cx="2797200" cy="1432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3d3f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я  синквейн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:\1535501642_14.jpg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ндивидуальна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арн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одгрупповая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Работа с родителями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Заголовок 5"/>
          <p:cNvSpPr/>
          <p:nvPr/>
        </p:nvSpPr>
        <p:spPr>
          <a:xfrm>
            <a:off x="1285920" y="1000080"/>
            <a:ext cx="62150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ru-RU" sz="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ые  технологии  в театрализованной  деятельности</a:t>
            </a:r>
            <a:br>
              <a:rPr sz="15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Заголовок 5"/>
          <p:cNvSpPr/>
          <p:nvPr/>
        </p:nvSpPr>
        <p:spPr>
          <a:xfrm>
            <a:off x="1928880" y="17146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000"/>
            </a:b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я «Синквей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1000080" y="2500200"/>
            <a:ext cx="3317760" cy="2214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"/>
          <p:cNvPicPr/>
          <p:nvPr/>
        </p:nvPicPr>
        <p:blipFill>
          <a:blip r:embed="rId3"/>
          <a:stretch/>
        </p:blipFill>
        <p:spPr>
          <a:xfrm>
            <a:off x="4572000" y="3857760"/>
            <a:ext cx="365616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F:\1535501642_14.jpg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28840" y="1714320"/>
            <a:ext cx="628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Работа с родителями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Заголовок 5"/>
          <p:cNvSpPr/>
          <p:nvPr/>
        </p:nvSpPr>
        <p:spPr>
          <a:xfrm>
            <a:off x="1285920" y="78588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600"/>
            </a:br>
            <a:r>
              <a:rPr b="1" lang="ru-RU" sz="23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ые   технологии  в театрализованной   деятельности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Заголовок 5"/>
          <p:cNvSpPr/>
          <p:nvPr/>
        </p:nvSpPr>
        <p:spPr>
          <a:xfrm>
            <a:off x="1928880" y="1571760"/>
            <a:ext cx="5214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100"/>
            </a:b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я «Синквейн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1714680" y="2500200"/>
            <a:ext cx="5689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Заголовок 5"/>
          <p:cNvSpPr/>
          <p:nvPr/>
        </p:nvSpPr>
        <p:spPr>
          <a:xfrm>
            <a:off x="1357200" y="928800"/>
            <a:ext cx="6215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ru-RU" sz="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ые  технологии  в театрализованной  деятельности</a:t>
            </a:r>
            <a:br>
              <a:rPr sz="15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Заголовок 5"/>
          <p:cNvSpPr/>
          <p:nvPr/>
        </p:nvSpPr>
        <p:spPr>
          <a:xfrm>
            <a:off x="2000160" y="157176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ая 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 «Русские  народные сказ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1143000" y="2214720"/>
            <a:ext cx="3425760" cy="2286000"/>
          </a:xfrm>
          <a:prstGeom prst="rect">
            <a:avLst/>
          </a:prstGeom>
          <a:ln w="0">
            <a:noFill/>
          </a:ln>
        </p:spPr>
      </p:pic>
      <p:sp>
        <p:nvSpPr>
          <p:cNvPr id="388" name="Заголовок 5"/>
          <p:cNvSpPr/>
          <p:nvPr/>
        </p:nvSpPr>
        <p:spPr>
          <a:xfrm>
            <a:off x="1143000" y="4643280"/>
            <a:ext cx="34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«Маша и медвед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3"/>
          <a:stretch/>
        </p:blipFill>
        <p:spPr>
          <a:xfrm>
            <a:off x="4786200" y="3500280"/>
            <a:ext cx="3441960" cy="2297160"/>
          </a:xfrm>
          <a:prstGeom prst="rect">
            <a:avLst/>
          </a:prstGeom>
          <a:ln w="0">
            <a:noFill/>
          </a:ln>
        </p:spPr>
      </p:pic>
      <p:sp>
        <p:nvSpPr>
          <p:cNvPr id="390" name="Заголовок 5"/>
          <p:cNvSpPr/>
          <p:nvPr/>
        </p:nvSpPr>
        <p:spPr>
          <a:xfrm>
            <a:off x="4857840" y="5857920"/>
            <a:ext cx="335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«Гуси-лебе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9T07:10:41Z</dcterms:created>
  <dc:creator>теремок</dc:creator>
  <dc:description/>
  <dc:language>en-US</dc:language>
  <cp:lastModifiedBy>Теремок1</cp:lastModifiedBy>
  <dcterms:modified xsi:type="dcterms:W3CDTF">2021-06-10T07:05:12Z</dcterms:modified>
  <cp:revision>28</cp:revision>
  <dc:subject/>
  <dc:title>Слайд 1</dc:title>
</cp:coreProperties>
</file>