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22B-C042-423C-8846-AE6D4A74B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E142-F569-4595-BCE2-7FED4D5FA3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50A-679B-47F4-9AD9-21EDE34C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BAD-3302-450E-93E5-331AA58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9D2-6509-4BDF-98F3-5273A56A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0E5-B4D4-473B-B3E0-477BA72B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4644-47A7-4C00-905B-F49B3037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B390-B307-445F-A205-0EC99E0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8654-6796-4F4F-A304-7268331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25E-8CB6-4A22-A57B-C9732F8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6FD1-C395-4ACA-8479-2E7D01D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612-8E37-415F-9B74-2E7CE188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AF1-6DC7-4290-B925-3FA3B47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35D-BF64-4749-BCBD-9B38EB3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0B6A-DEBD-46F0-AEC0-CE9E4AE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55B3-1891-4066-B011-E3CCC97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657-0532-4C76-B021-50B6606F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92D-016F-4DF3-A6C3-59856B08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5DA-ABAA-4391-B62E-6196CA7B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4E2B-9D18-41E2-9CB2-FC4C4D10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4466-71BB-499D-AAFD-C96B616B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A0A9-392B-428E-9F64-3D21B78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49F1-F3B6-4B13-ABF8-9D06FE0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B868-5F0C-440A-9855-1494F4D3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C9B-164D-49EF-8EDB-E90B360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DCCD-9E4D-440E-82AC-1F74DB8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56F9-9C8A-416C-B730-A11F4A6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957D-352B-41FF-87CE-5A1E2C0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184D-4A64-4075-B605-6342E16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2501-5E08-4171-9FD9-42E509C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F19E-31A5-4DFB-BFD0-2840CF1A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CF03-D458-44C2-92C6-03F9048F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7768-DA1E-4AE0-88CE-2C97DEA6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B6CE-69BA-411D-A60C-ADE990A4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9886-E259-4B63-98A7-98C3DE4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E32-6E70-491B-9221-E6565CFA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8768-660A-4489-A513-08AF16C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F53D-0CC4-4979-9DD5-E5723BE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72E7-CCC0-4C2F-8596-628BCAC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A79C-82E4-4412-BF45-D9C5DF3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FD3F-AB6B-4648-9E23-58182EF0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456B-B4FD-4293-82D2-C111D45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8229D-25A6-4B18-905A-456B923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FC8D6-3B13-42A1-8BE7-D118B22B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321B-4A79-4199-B59B-7315E146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B2AF-7867-426F-8B2F-41D38516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311-EED2-4BAC-A300-E8B7005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6AAE-3AAE-4009-9591-4D24C2D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5B26-FF32-4FC3-B95D-70EF282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6A8E-1E0C-4CBB-8E53-CBF70B9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05BE-F1C9-4F4B-AF40-9F16E7E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CEC0-D847-4989-89C0-C2B55B1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F84E-C5F4-4457-878A-2DFF66D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50B3-8163-41D1-8592-A2A0979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1262-E472-41FD-8E3E-E1A39BC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EA96-2547-42BB-8050-908140EB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4488-A5FD-45BD-9B74-5DB7BF82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286-7F6B-4308-9EC4-AD3366C1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E86F-7F16-4C8E-9712-F4DF644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0564C-DF20-47A2-A69D-09AD3237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DE118-A89E-4F3E-8338-EB8FD50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2C01-5980-4DE4-A73D-2DD25AE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FDEC-7B39-4B9C-A342-A612A5A4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22A9-CC10-4B11-B037-E7C274BC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A165-C595-4A78-BD82-C9773D0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0715-F16A-47DF-B51A-75D489A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1BF5-27CF-4153-968C-D252848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0816-302D-4FC5-BD1F-82A7584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51F-BAB7-4336-A4AB-3171C0B6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AA60-3AF4-4BE4-873A-913740D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4B8B-EE2F-4F93-8F34-FF715A2C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A647-F492-44DE-91CB-D303CE14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A14E-95EE-4DAA-8966-4224B5C9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BDDF-0CAF-44EE-83F0-6551D8F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36D8-B3AB-4FD5-8304-0A83CBEE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95C11-7E9D-4982-A081-890258C8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7609-292B-4C37-824F-1A1DD0A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87A3B-CB67-4A1E-9070-5C3AAD83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8BB2-FFFF-40C3-B746-68390DF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8B0-142F-42F8-8BE8-DCB22A0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37CB-73D9-4FC1-9B55-49043FD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EE13-8967-439F-B7D4-E301B64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97A11-C1A8-4CA3-A762-ED0780E8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6816-F330-4EF9-B6B1-F6F06C7A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D60C-3BA6-4EA6-840C-569BB287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839-60D3-46D5-8152-D3EA5C6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2393-D08F-4F3C-AD6A-9AD7E63122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4B3-C177-41A6-8067-5E840FE1CA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A03-10FB-4490-A3C2-1B3398A484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7DE-9636-47C1-A086-61B1ED9FFC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804-AADD-4D42-9F80-81C95616AA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2408-D236-4483-A1EC-AA38B60920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3FAF-31CD-4484-A65D-BAF388CB05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F:\1535501642_14.jpg"/>
          <p:cNvPicPr/>
          <p:nvPr/>
        </p:nvPicPr>
        <p:blipFill>
          <a:blip r:embed="rId1"/>
          <a:stretch/>
        </p:blipFill>
        <p:spPr>
          <a:xfrm>
            <a:off x="-28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Заголовок 1"/>
          <p:cNvSpPr/>
          <p:nvPr/>
        </p:nvSpPr>
        <p:spPr>
          <a:xfrm>
            <a:off x="1150920" y="2492280"/>
            <a:ext cx="67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Инновационные технологии в театральной деятельности детей 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клад из опыта работ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1144440" y="1055520"/>
            <a:ext cx="678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 бюджетное  дошкольное  образовательное учреждение детский сад № 1 «Теремок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5286240" y="4500720"/>
            <a:ext cx="3286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янова А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3816360" y="5732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  Ок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Заголовок 5"/>
          <p:cNvSpPr/>
          <p:nvPr/>
        </p:nvSpPr>
        <p:spPr>
          <a:xfrm>
            <a:off x="1357200" y="928800"/>
            <a:ext cx="6215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Заголовок 5"/>
          <p:cNvSpPr/>
          <p:nvPr/>
        </p:nvSpPr>
        <p:spPr>
          <a:xfrm>
            <a:off x="1143000" y="4643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Кот, петух и л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Заголовок 5"/>
          <p:cNvSpPr/>
          <p:nvPr/>
        </p:nvSpPr>
        <p:spPr>
          <a:xfrm>
            <a:off x="4857840" y="5857920"/>
            <a:ext cx="335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Реп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3357360" cy="2241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5214960" y="2286000"/>
            <a:ext cx="2498760" cy="3332160"/>
          </a:xfrm>
          <a:prstGeom prst="rect">
            <a:avLst/>
          </a:prstGeom>
          <a:ln w="0">
            <a:noFill/>
          </a:ln>
        </p:spPr>
      </p:pic>
      <p:sp>
        <p:nvSpPr>
          <p:cNvPr id="397" name="Заголовок 5"/>
          <p:cNvSpPr/>
          <p:nvPr/>
        </p:nvSpPr>
        <p:spPr>
          <a:xfrm>
            <a:off x="2000160" y="157176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«Русские  народные сказ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Заголовок 5"/>
          <p:cNvSpPr/>
          <p:nvPr/>
        </p:nvSpPr>
        <p:spPr>
          <a:xfrm>
            <a:off x="1332000" y="981000"/>
            <a:ext cx="65977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ая идея заключается в важности заинтересовать родителей воспитанников перспективами формирования театрализованной деятельности в ДОУ, приобщая их к жизни детского сада и делая их полноправными партнерами в своей работе.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rcRect l="0" t="3764" r="2063" b="7821"/>
          <a:stretch/>
        </p:blipFill>
        <p:spPr>
          <a:xfrm>
            <a:off x="1071720" y="2357280"/>
            <a:ext cx="3911400" cy="2357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3"/>
          <a:stretch/>
        </p:blipFill>
        <p:spPr>
          <a:xfrm>
            <a:off x="4572000" y="4143240"/>
            <a:ext cx="37623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56840" y="157140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1643040" y="16430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лощение  своих  замы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1643040" y="2214720"/>
            <a:ext cx="5689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1357200" y="1643040"/>
            <a:ext cx="64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 выражают различные состояния персонажа с помощью интонации  и  эмо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1143000" y="2571840"/>
            <a:ext cx="3638520" cy="2428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3"/>
          <a:stretch/>
        </p:blipFill>
        <p:spPr>
          <a:xfrm>
            <a:off x="4857840" y="3643200"/>
            <a:ext cx="33289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121428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имают позы в соответствии с настроением и характером изображаемог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1285920" y="9288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 помощи инновационных технологий в театрализованной деятельности дети свобо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1143000" y="2357280"/>
            <a:ext cx="3286080" cy="331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4857840" y="250020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7"/>
          <p:cNvSpPr/>
          <p:nvPr/>
        </p:nvSpPr>
        <p:spPr>
          <a:xfrm>
            <a:off x="1571760" y="928800"/>
            <a:ext cx="58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еатральный уголок в 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2"/>
          <a:stretch/>
        </p:blipFill>
        <p:spPr>
          <a:xfrm>
            <a:off x="1285920" y="1714680"/>
            <a:ext cx="3003480" cy="45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"/>
          <p:cNvPicPr/>
          <p:nvPr/>
        </p:nvPicPr>
        <p:blipFill>
          <a:blip r:embed="rId3"/>
          <a:stretch/>
        </p:blipFill>
        <p:spPr>
          <a:xfrm>
            <a:off x="4572000" y="2000160"/>
            <a:ext cx="32511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267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1285920" y="1071720"/>
            <a:ext cx="64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спользование современных информационных технологий повышает качество воспитательно-образовательного процесса, формирует эмоционально положительное отнош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2857680" y="2286000"/>
            <a:ext cx="35715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47640" y="1341000"/>
            <a:ext cx="604872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Picture 2" descr="J:\Спасибо-за-внимание-смайлик-для-презентации-анимация-1.jpg"/>
          <p:cNvPicPr/>
          <p:nvPr/>
        </p:nvPicPr>
        <p:blipFill>
          <a:blip r:embed="rId2"/>
          <a:srcRect l="22591" t="42719" r="30602" b="0"/>
          <a:stretch/>
        </p:blipFill>
        <p:spPr>
          <a:xfrm>
            <a:off x="2195640" y="2781360"/>
            <a:ext cx="396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1835280" y="887400"/>
            <a:ext cx="6000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Театрализованная деятельность является неисчерпаемым источником развития чувств, переживаний и эмоциональных открытий ребенка, приобщает его к духовному богатству. Постановка сказки заставляет волноваться, сопереживать персонажу и событиям, и в процессе этого сопереживания создаются определенные отношения и моральные оценки, просто сообщаемые и усваиваем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В. А. Сухомли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1727280" y="267660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ие задачи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58920" y="836280"/>
            <a:ext cx="64008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здать условия для развития творческой активности детей в театрализованной деятельности, обеспечить становление партнёрских отношений между семьёй и ДОУ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Схема 3" descr=""/>
          <p:cNvPicPr/>
          <p:nvPr/>
        </p:nvPicPr>
        <p:blipFill>
          <a:blip r:embed="rId2"/>
          <a:stretch/>
        </p:blipFill>
        <p:spPr>
          <a:xfrm>
            <a:off x="1189080" y="2255760"/>
            <a:ext cx="60958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Подзаголовок 6"/>
          <p:cNvSpPr/>
          <p:nvPr/>
        </p:nvSpPr>
        <p:spPr>
          <a:xfrm>
            <a:off x="1500120" y="928800"/>
            <a:ext cx="6400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2"/>
          <a:srcRect l="0" t="0" r="11010" b="15150"/>
          <a:stretch/>
        </p:blipFill>
        <p:spPr>
          <a:xfrm>
            <a:off x="1214280" y="1285920"/>
            <a:ext cx="3143520" cy="200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857160" y="3714840"/>
            <a:ext cx="3903840" cy="2604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4"/>
          <a:srcRect l="20056" t="20121" r="3378" b="1637"/>
          <a:stretch/>
        </p:blipFill>
        <p:spPr>
          <a:xfrm>
            <a:off x="4929120" y="2286000"/>
            <a:ext cx="3000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Подзаголовок 6"/>
          <p:cNvSpPr/>
          <p:nvPr/>
        </p:nvSpPr>
        <p:spPr>
          <a:xfrm>
            <a:off x="1500120" y="857160"/>
            <a:ext cx="6400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rcRect l="2512" t="15055" r="2063" b="24754"/>
          <a:stretch/>
        </p:blipFill>
        <p:spPr>
          <a:xfrm>
            <a:off x="4357800" y="4214880"/>
            <a:ext cx="3786120" cy="159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1000080" y="4214880"/>
            <a:ext cx="3103560" cy="20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rcRect l="0" t="0" r="0" b="3110"/>
          <a:stretch/>
        </p:blipFill>
        <p:spPr>
          <a:xfrm>
            <a:off x="2714760" y="1571760"/>
            <a:ext cx="36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одгруппова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Заголовок 5"/>
          <p:cNvSpPr/>
          <p:nvPr/>
        </p:nvSpPr>
        <p:spPr>
          <a:xfrm>
            <a:off x="1357200" y="112536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600"/>
            </a:br>
            <a:r>
              <a:rPr b="1" lang="ru-RU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2"/>
          <p:cNvCxnSpPr/>
          <p:nvPr/>
        </p:nvCxnSpPr>
        <p:spPr>
          <a:xfrm flipH="1">
            <a:off x="2339280" y="1988640"/>
            <a:ext cx="1656360" cy="1585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70" name="Прямая со стрелкой 9"/>
          <p:cNvCxnSpPr/>
          <p:nvPr/>
        </p:nvCxnSpPr>
        <p:spPr>
          <a:xfrm>
            <a:off x="5003280" y="1988640"/>
            <a:ext cx="1399320" cy="180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371" name="Выноска-облако 12"/>
          <p:cNvSpPr/>
          <p:nvPr/>
        </p:nvSpPr>
        <p:spPr>
          <a:xfrm rot="20617800">
            <a:off x="1041480" y="3645000"/>
            <a:ext cx="3024000" cy="143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Выноска-облако 15"/>
          <p:cNvSpPr/>
          <p:nvPr/>
        </p:nvSpPr>
        <p:spPr>
          <a:xfrm rot="20986800">
            <a:off x="5324400" y="3813120"/>
            <a:ext cx="2797200" cy="1432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 синквейн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ндивидуальна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арн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      подгруппова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Заголовок 5"/>
          <p:cNvSpPr/>
          <p:nvPr/>
        </p:nvSpPr>
        <p:spPr>
          <a:xfrm>
            <a:off x="1285920" y="1000080"/>
            <a:ext cx="62150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Заголовок 5"/>
          <p:cNvSpPr/>
          <p:nvPr/>
        </p:nvSpPr>
        <p:spPr>
          <a:xfrm>
            <a:off x="1928880" y="17146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000"/>
            </a:b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«Синквей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00080" y="2500200"/>
            <a:ext cx="3317760" cy="2214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36561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F:\1535501642_14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8840" y="1714320"/>
            <a:ext cx="62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Работа с родителями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Заголовок 5"/>
          <p:cNvSpPr/>
          <p:nvPr/>
        </p:nvSpPr>
        <p:spPr>
          <a:xfrm>
            <a:off x="1285920" y="78588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600"/>
            </a:br>
            <a:r>
              <a:rPr b="1" lang="ru-RU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 технологии  в театрализованной   деятельности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Заголовок 5"/>
          <p:cNvSpPr/>
          <p:nvPr/>
        </p:nvSpPr>
        <p:spPr>
          <a:xfrm>
            <a:off x="1928880" y="1571760"/>
            <a:ext cx="521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100"/>
            </a:b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«Синквейн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714680" y="250020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:\1535501642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Заголовок 5"/>
          <p:cNvSpPr/>
          <p:nvPr/>
        </p:nvSpPr>
        <p:spPr>
          <a:xfrm>
            <a:off x="1357200" y="928800"/>
            <a:ext cx="6215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ru-RU" sz="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новационные  технологии  в театрализованной  деятельности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Заголовок 5"/>
          <p:cNvSpPr/>
          <p:nvPr/>
        </p:nvSpPr>
        <p:spPr>
          <a:xfrm>
            <a:off x="2000160" y="157176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«Русские  народные сказ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1143000" y="2214720"/>
            <a:ext cx="342576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Заголовок 5"/>
          <p:cNvSpPr/>
          <p:nvPr/>
        </p:nvSpPr>
        <p:spPr>
          <a:xfrm>
            <a:off x="1143000" y="4643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Маша и медвед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4786200" y="3500280"/>
            <a:ext cx="3441960" cy="2297160"/>
          </a:xfrm>
          <a:prstGeom prst="rect">
            <a:avLst/>
          </a:prstGeom>
          <a:ln w="0">
            <a:noFill/>
          </a:ln>
        </p:spPr>
      </p:pic>
      <p:sp>
        <p:nvSpPr>
          <p:cNvPr id="390" name="Заголовок 5"/>
          <p:cNvSpPr/>
          <p:nvPr/>
        </p:nvSpPr>
        <p:spPr>
          <a:xfrm>
            <a:off x="4857840" y="5857920"/>
            <a:ext cx="335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«Гуси-леб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9T07:10:41Z</dcterms:created>
  <dc:creator>теремок</dc:creator>
  <dc:description/>
  <dc:language>en-US</dc:language>
  <cp:lastModifiedBy>Теремок1</cp:lastModifiedBy>
  <dcterms:modified xsi:type="dcterms:W3CDTF">2021-06-10T07:05:12Z</dcterms:modified>
  <cp:revision>28</cp:revision>
  <dc:subject/>
  <dc:title>Слайд 1</dc:title>
</cp:coreProperties>
</file>